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B357-C278-47BE-8CB7-F93A3B92D6F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FE93-7F21-44F9-B182-7E8093F7987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DDBA-F6B8-4973-A108-621A4107990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553D-22A0-47E9-B6ED-1C17BD77A12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77AB-C11F-4D9C-8AD3-030BC4A4233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26F1-F368-480A-9F86-EC928F278ED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4E7-6E7D-41FD-8AD6-3C1E6C12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B77-B9FD-4474-913F-3416D788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F213-2582-42A8-AD6C-2BFAC55D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E3B-AC3E-42E4-927F-3FB94575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C2CF-CDB8-459C-8F69-B4E55F32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9446-299A-45EB-8CEC-02F0C0F7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0FA2-1C5F-40F4-8D48-6387097E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4888-6AAC-434E-98EC-7FE2D464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913A-E4BA-4FBB-9477-71694DF3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C0C7-8BBC-49D2-9647-1DB8DD76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8529-259E-4D0F-ABB3-057AEAEC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592-B457-482F-A1AA-2D2EFA92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91DA-D03B-4770-BAB6-C0CAB3C6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6FC8-C921-478E-A1F4-68BF88BD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8787-6ECF-4117-A60D-64E2F04C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A48C-D85C-4027-A092-6586BF04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E8C5-454B-434E-BD75-A2AFF8B5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EF4-DC5B-40D3-ACCE-53348B9F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335-5ADF-4558-8AB2-08A14B62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BBC-2042-4AFE-8311-D24AC9F5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53B-D2F1-483F-A475-7365D76F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3FC-5C00-4375-89A7-3051A4E2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056-E980-4495-AAD7-98D042B8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1E9-406F-40CB-9BEB-87D68E8A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BFF0-5102-42D1-9922-B9C764232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CBB8-5A72-426C-8481-5EBA76253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58920" y="260280"/>
                <a:ext cx="17874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258920" y="1773360"/>
                <a:ext cx="1692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58920" y="2924280"/>
                <a:ext cx="2663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258920" y="4292640"/>
                <a:ext cx="3132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58920" y="5589720"/>
                <a:ext cx="4886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03" name=""/>
          <p:cNvGrpSpPr/>
          <p:nvPr/>
        </p:nvGrpSpPr>
        <p:grpSpPr>
          <a:xfrm>
            <a:off x="7093080" y="692280"/>
            <a:ext cx="1317600" cy="5924520"/>
            <a:chOff x="7093080" y="692280"/>
            <a:chExt cx="1317600" cy="5924520"/>
          </a:xfrm>
        </p:grpSpPr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7380360" y="692280"/>
                  <a:ext cx="19692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7236000" y="1557360"/>
                  <a:ext cx="70632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7093080" y="2924280"/>
                  <a:ext cx="1217520" cy="95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7093080" y="4292640"/>
                  <a:ext cx="124596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7164360" y="5661000"/>
                  <a:ext cx="124632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42920" y="1484280"/>
            <a:ext cx="785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3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mělo reálnou složku kladnou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87280" y="260280"/>
                <a:ext cx="34149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87280" y="1484280"/>
                <a:ext cx="29451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87280" y="2708280"/>
                <a:ext cx="2913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187280" y="3789360"/>
                <a:ext cx="3195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187280" y="4869000"/>
                <a:ext cx="366588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258920" y="5950080"/>
                <a:ext cx="2600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6" name=""/>
          <p:cNvGrpSpPr/>
          <p:nvPr/>
        </p:nvGrpSpPr>
        <p:grpSpPr>
          <a:xfrm>
            <a:off x="5435640" y="476280"/>
            <a:ext cx="3708360" cy="5948280"/>
            <a:chOff x="5435640" y="476280"/>
            <a:chExt cx="3708360" cy="594828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435640" y="476280"/>
                  <a:ext cx="13460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5435640" y="1557360"/>
                  <a:ext cx="11588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5481720" y="2637000"/>
                  <a:ext cx="3662280" cy="64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5508720" y="3789360"/>
                  <a:ext cx="175392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  <m:r>
                        <m:t xml:space="preserve">−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5508720" y="4581360"/>
                  <a:ext cx="3255840" cy="115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580000" y="5950080"/>
                  <a:ext cx="100188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42920" y="1484280"/>
            <a:ext cx="785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4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mělo imaginární složku zápornou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87280" y="549360"/>
                <a:ext cx="2851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187280" y="1628640"/>
                <a:ext cx="39466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187280" y="3213000"/>
                <a:ext cx="2694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187280" y="4437000"/>
                <a:ext cx="3478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171440" y="5661000"/>
                <a:ext cx="3697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5342040" y="549360"/>
            <a:ext cx="3801960" cy="5689440"/>
            <a:chOff x="5342040" y="549360"/>
            <a:chExt cx="3801960" cy="568944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5342040" y="549360"/>
                  <a:ext cx="15336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</m:t>
                          </m:r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5364000" y="1773360"/>
                  <a:ext cx="20037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5508720" y="5661000"/>
                  <a:ext cx="16272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"/>
            <p:cNvSpPr/>
            <p:nvPr/>
          </p:nvSpPr>
          <p:spPr>
            <a:xfrm>
              <a:off x="5364000" y="3068640"/>
              <a:ext cx="378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tabLst>
                  <a:tab algn="l" pos="0"/>
                  <a:tab algn="l" pos="135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úloha nemá řešení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5435640" y="4437000"/>
                  <a:ext cx="300492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42920" y="1484280"/>
            <a:ext cx="81010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5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mělo reálnou složku zápornou a současně imaginární složku nezápornou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187280" y="620640"/>
                <a:ext cx="2883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187280" y="1628640"/>
                <a:ext cx="37911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187280" y="3213000"/>
                <a:ext cx="332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187280" y="4437000"/>
                <a:ext cx="3197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187280" y="5445000"/>
                <a:ext cx="466884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1" name=""/>
          <p:cNvGrpSpPr/>
          <p:nvPr/>
        </p:nvGrpSpPr>
        <p:grpSpPr>
          <a:xfrm>
            <a:off x="5232240" y="498600"/>
            <a:ext cx="3911760" cy="5771880"/>
            <a:chOff x="5232240" y="498600"/>
            <a:chExt cx="3911760" cy="5771880"/>
          </a:xfrm>
        </p:grpSpPr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5232240" y="498600"/>
                  <a:ext cx="175284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⟨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6170760" y="5589720"/>
                  <a:ext cx="297324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2</m:t>
                      </m:r>
                      <m:r>
                        <m:t xml:space="preserve">⟩</m:t>
                      </m:r>
                      <m:r>
                        <m:t xml:space="preserve">∪</m:t>
                      </m:r>
                      <m:r>
                        <m:t xml:space="preserve">⟨</m:t>
                      </m:r>
                      <m:r>
                        <m:t xml:space="preserve">3</m:t>
                      </m:r>
                      <m:r>
                        <m:t xml:space="preserve">;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5364000" y="3068640"/>
              <a:ext cx="378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tabLst>
                  <a:tab algn="l" pos="0"/>
                  <a:tab algn="l" pos="135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úloha nemá řešení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5292720" y="1557360"/>
                  <a:ext cx="178452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⟨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92720" y="4365720"/>
                  <a:ext cx="175248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⟨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42920" y="1484280"/>
            <a:ext cx="81010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6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tak, aby KČ bylo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) ryze imaginární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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) reálné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03480" y="620640"/>
                <a:ext cx="44481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187280" y="2205000"/>
                <a:ext cx="4918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187280" y="3645000"/>
                <a:ext cx="36957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58920" y="5157720"/>
                <a:ext cx="43545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6746760" y="620640"/>
            <a:ext cx="1936800" cy="5837400"/>
            <a:chOff x="6746760" y="620640"/>
            <a:chExt cx="1936800" cy="5837400"/>
          </a:xfrm>
        </p:grpSpPr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6775560" y="620640"/>
                  <a:ext cx="187956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6761160" y="2205000"/>
                  <a:ext cx="1908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2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6746760" y="3789360"/>
                  <a:ext cx="16146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6775560" y="5373720"/>
                  <a:ext cx="1908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16000" y="234936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7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Pro která reálná čísla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x, y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platí rovnost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705440" cy="5315040"/>
        </p:xfrm>
        <a:graphic>
          <a:graphicData uri="http://schemas.openxmlformats.org/drawingml/2006/table">
            <a:tbl>
              <a:tblPr/>
              <a:tblGrid>
                <a:gridCol w="2834640"/>
                <a:gridCol w="487080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vičení - algebraický tvar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říklady (zadání a výsledky), které jsou vybrány průřezově z celé kapitol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a znázornění komplexního čísla; Reálná a imaginární část komplexního čísla; Číslo opačné a komplexně sdružené ke komplexnímu číslu; Vzdálenost komplexního čísla od počátku; Početní úkony s komplexními čísly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187280" y="692280"/>
                <a:ext cx="3759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187280" y="1916280"/>
                <a:ext cx="4480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187280" y="3213000"/>
                <a:ext cx="40420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187280" y="4508640"/>
                <a:ext cx="7394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6877080" y="620640"/>
            <a:ext cx="1166760" cy="5692680"/>
            <a:chOff x="6877080" y="620640"/>
            <a:chExt cx="1166760" cy="569268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6877080" y="620640"/>
                  <a:ext cx="9381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6948360" y="1916280"/>
                  <a:ext cx="109548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6948360" y="3213000"/>
                  <a:ext cx="9399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020000" y="5157720"/>
                  <a:ext cx="90792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116000" y="765000"/>
                <a:ext cx="5450040" cy="5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187280" y="2421000"/>
                <a:ext cx="4040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y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116000" y="4437000"/>
                <a:ext cx="617220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7236000" y="1197000"/>
            <a:ext cx="1282680" cy="4970520"/>
            <a:chOff x="7236000" y="1197000"/>
            <a:chExt cx="1282680" cy="497052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236000" y="1197000"/>
                  <a:ext cx="9698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±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7236000" y="2852640"/>
                  <a:ext cx="1282680" cy="115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7308720" y="5589720"/>
                  <a:ext cx="9399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8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absolutní hodnotu KČ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187280" y="404640"/>
                <a:ext cx="1816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187280" y="1844640"/>
                <a:ext cx="1785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141720"/>
                <a:ext cx="4449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187280" y="4365720"/>
                <a:ext cx="419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258920" y="5373720"/>
                <a:ext cx="2851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0" name=""/>
          <p:cNvGrpSpPr/>
          <p:nvPr/>
        </p:nvGrpSpPr>
        <p:grpSpPr>
          <a:xfrm>
            <a:off x="6372360" y="333360"/>
            <a:ext cx="1627200" cy="5897520"/>
            <a:chOff x="6372360" y="333360"/>
            <a:chExt cx="1627200" cy="5897520"/>
          </a:xfrm>
        </p:grpSpPr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6372360" y="333360"/>
                  <a:ext cx="131436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6372360" y="1844640"/>
                  <a:ext cx="125244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6372360" y="3068640"/>
                  <a:ext cx="15969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6372360" y="4221000"/>
                  <a:ext cx="162720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6443640" y="5516640"/>
                  <a:ext cx="125244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042920" y="234936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9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KČ opačné a komplexně sdružené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187280" y="620640"/>
                <a:ext cx="40071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258920" y="2492280"/>
                <a:ext cx="29448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263600" y="4581360"/>
                <a:ext cx="269568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0" name=""/>
          <p:cNvGrpSpPr/>
          <p:nvPr/>
        </p:nvGrpSpPr>
        <p:grpSpPr>
          <a:xfrm>
            <a:off x="6084720" y="620640"/>
            <a:ext cx="1971720" cy="5192640"/>
            <a:chOff x="6084720" y="620640"/>
            <a:chExt cx="1971720" cy="5192640"/>
          </a:xfrm>
        </p:grpSpPr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6084720" y="620640"/>
                  <a:ext cx="197172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6084720" y="2637000"/>
                  <a:ext cx="178452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6227640" y="4724280"/>
                  <a:ext cx="150336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187280" y="1125360"/>
                <a:ext cx="4418280" cy="5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87280" y="3284640"/>
                <a:ext cx="26006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6084720" y="1197000"/>
            <a:ext cx="2294280" cy="4265640"/>
            <a:chOff x="6084720" y="1197000"/>
            <a:chExt cx="2294280" cy="426564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6156360" y="1197000"/>
                  <a:ext cx="222264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084720" y="3284640"/>
                  <a:ext cx="2192400" cy="21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42920" y="234936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10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byla komplexní jednotka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258920" y="692280"/>
                <a:ext cx="20970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258920" y="2708280"/>
                <a:ext cx="20988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332000" y="4508640"/>
                <a:ext cx="22543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3" name=""/>
          <p:cNvGrpSpPr/>
          <p:nvPr/>
        </p:nvGrpSpPr>
        <p:grpSpPr>
          <a:xfrm>
            <a:off x="5364000" y="907920"/>
            <a:ext cx="3780000" cy="4365720"/>
            <a:chOff x="5364000" y="907920"/>
            <a:chExt cx="3780000" cy="4365720"/>
          </a:xfrm>
        </p:grpSpPr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435640" y="907920"/>
                  <a:ext cx="1469880" cy="57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5364000" y="2852640"/>
              <a:ext cx="378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tabLst>
                  <a:tab algn="l" pos="0"/>
                  <a:tab algn="l" pos="135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úloha nemá řešení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5508720" y="4797360"/>
                  <a:ext cx="11570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19280" y="4114800"/>
            <a:ext cx="752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Algebraický tvar komplexního čísla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1197000"/>
            <a:ext cx="8101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Zapište dané KČ v AT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sestrojte jeho obraz v Gaussově rovině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vypočtěte jeho vzdálenost od počátku, určete KČ opačné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určete KČ komplexně sdružené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2987640" y="1312920"/>
            <a:ext cx="5818320" cy="1569960"/>
            <a:chOff x="2987640" y="1312920"/>
            <a:chExt cx="5818320" cy="156996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3272040" y="1412640"/>
                  <a:ext cx="132228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7535880" y="1312920"/>
                  <a:ext cx="127008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5705640" y="1441440"/>
                  <a:ext cx="8985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987640" y="2421000"/>
                  <a:ext cx="174636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776920" y="2449440"/>
                  <a:ext cx="13222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187280" y="3500280"/>
                <a:ext cx="30704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2987640" y="4581360"/>
            <a:ext cx="5127480" cy="1974960"/>
            <a:chOff x="2987640" y="4581360"/>
            <a:chExt cx="5127480" cy="197496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3071520" y="4654440"/>
                  <a:ext cx="169416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6897600" y="4581360"/>
                  <a:ext cx="121752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5209920" y="4654440"/>
                  <a:ext cx="142884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2987640" y="5662440"/>
                  <a:ext cx="171900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5333760" y="5662440"/>
                  <a:ext cx="169380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187280" y="404640"/>
                <a:ext cx="510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z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187280" y="333360"/>
                <a:ext cx="1943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3132000" y="1528920"/>
            <a:ext cx="5592960" cy="1282680"/>
            <a:chOff x="3132000" y="1528920"/>
            <a:chExt cx="5592960" cy="1282680"/>
          </a:xfrm>
        </p:grpSpPr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254400" y="1628640"/>
                  <a:ext cx="134928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610400" y="1528920"/>
                  <a:ext cx="11145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5595840" y="1657440"/>
                  <a:ext cx="11113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3132000" y="2349360"/>
                  <a:ext cx="140364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737320" y="2378160"/>
                  <a:ext cx="13492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258920" y="3645000"/>
                <a:ext cx="18493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6" name=""/>
          <p:cNvGrpSpPr/>
          <p:nvPr/>
        </p:nvGrpSpPr>
        <p:grpSpPr>
          <a:xfrm>
            <a:off x="3132000" y="4840200"/>
            <a:ext cx="4929480" cy="1282680"/>
            <a:chOff x="3132000" y="4840200"/>
            <a:chExt cx="4929480" cy="12826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3176640" y="4941720"/>
                  <a:ext cx="148284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950160" y="4840200"/>
                  <a:ext cx="11113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5473800" y="4970520"/>
                  <a:ext cx="90000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132000" y="5661000"/>
                  <a:ext cx="150840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478480" y="5689440"/>
                  <a:ext cx="1482840" cy="4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187280" y="404640"/>
                <a:ext cx="41356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3000240" y="1528920"/>
            <a:ext cx="5870880" cy="1282680"/>
            <a:chOff x="3000240" y="1528920"/>
            <a:chExt cx="5870880" cy="128268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3122640" y="1628640"/>
                  <a:ext cx="16146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7464600" y="1528920"/>
                  <a:ext cx="14065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516640" y="1657440"/>
                  <a:ext cx="1270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3000240" y="2349360"/>
                  <a:ext cx="166860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5605560" y="2378160"/>
                  <a:ext cx="161280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58920" y="3716280"/>
                <a:ext cx="4138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040200" y="4840200"/>
            <a:ext cx="5180040" cy="1282680"/>
            <a:chOff x="3040200" y="4840200"/>
            <a:chExt cx="5180040" cy="1282680"/>
          </a:xfrm>
        </p:grpSpPr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3097080" y="4941720"/>
                  <a:ext cx="16416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6792840" y="4840200"/>
                  <a:ext cx="142740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49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5381640" y="4970520"/>
                  <a:ext cx="10857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3040200" y="5661000"/>
                  <a:ext cx="169380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5411880" y="5689440"/>
                  <a:ext cx="1616040" cy="4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1484280"/>
            <a:ext cx="785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2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Zapište KČ v AT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116000" y="1341360"/>
                <a:ext cx="667404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042920" y="3068640"/>
                <a:ext cx="679932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116000" y="4869000"/>
                <a:ext cx="281952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6000" y="5734080"/>
                <a:ext cx="3602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91" name=""/>
          <p:cNvGrpSpPr/>
          <p:nvPr/>
        </p:nvGrpSpPr>
        <p:grpSpPr>
          <a:xfrm>
            <a:off x="7164360" y="260280"/>
            <a:ext cx="1812960" cy="6121440"/>
            <a:chOff x="7164360" y="260280"/>
            <a:chExt cx="1812960" cy="6121440"/>
          </a:xfrm>
        </p:grpSpPr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7164360" y="260280"/>
                  <a:ext cx="175248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7451640" y="2492280"/>
                  <a:ext cx="152568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7524720" y="4149720"/>
                  <a:ext cx="8208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7524720" y="5013360"/>
                  <a:ext cx="6224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7667640" y="5950080"/>
                  <a:ext cx="2826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16000" y="260280"/>
                <a:ext cx="37908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2:33Z</dcterms:modified>
  <cp:revision>298</cp:revision>
  <dc:subject/>
  <dc:title>KČ</dc:title>
</cp:coreProperties>
</file>