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61F2D-627A-4BB5-B782-AD1774F8179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317A0-84A6-4A16-B596-716C19918D3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A1F4F-F4D8-41C9-892B-93258BC692F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E5FBC-D7AD-4E75-80B1-9F286FB00E4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D29E3-65AC-481C-820B-A24459C3495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5BD7-8BD7-42EA-B64E-C0058630B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4C59-04E4-400E-8B08-594C05F45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7675-5324-47AE-8073-7BD067D55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6DAC-AFD7-48B7-9E6C-4BD5AE8D8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68551-F6CE-4E85-961D-7E42C8EFF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CB885-2DA5-4E60-834C-C4AABF261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5267B-AF21-41EF-90EA-838AFBD77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81B06-C88A-40E0-A73C-76FF04B71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D2533-85CE-43FE-B195-E01732865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EDF2A-7AD9-43BF-86FE-AF57F2820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B9F41-31C2-462A-8DE7-271F07D5E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BDCC-000B-4A50-815B-9D530491D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F05B9-9E7E-4E9B-AA50-F9B95EB72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3C1DA-F95D-46E6-9BF4-310F3F07E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E85BD-A76A-4736-A700-5473783B2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E07DE-0F55-4D15-9B33-D8BBACF2C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EAA06-152C-4D81-B535-D74F74D96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9EE3-71ED-4CA8-9C9F-6268FB9F3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CEA5-6070-4E1C-B155-F64A4D299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717F-5456-4A77-980F-9EBFF5C5B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93DA-8342-4124-AC4D-CCA50915C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D58F-C07B-42AD-ABB6-79731A9C3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D70E-2851-45C4-B65D-D73751E74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3377-BAD9-41EC-8E60-FED5BDDBE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4AF9A-0F09-43E4-8524-D550580948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1880A-342B-41DB-B41E-E015164415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79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1187280" y="836640"/>
                <a:ext cx="152424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8" name=""/>
          <p:cNvSpPr/>
          <p:nvPr/>
        </p:nvSpPr>
        <p:spPr>
          <a:xfrm>
            <a:off x="1116000" y="189000"/>
            <a:ext cx="8028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Řešení rovnice v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1763640" y="1555920"/>
                <a:ext cx="104616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4917960" y="1555920"/>
                <a:ext cx="110664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4356000" y="836640"/>
                <a:ext cx="158436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2627280" y="2421000"/>
                <a:ext cx="514044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⇒</m:t>
                    </m:r>
                    <m:r>
                      <m:t xml:space="preserve">a</m:t>
                    </m:r>
                    <m:r>
                      <m:t xml:space="preserve">∈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→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1150920" y="3500280"/>
                <a:ext cx="781380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</m:ra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…</m:t>
                    </m:r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1116000" y="4726080"/>
                <a:ext cx="781380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8</m:t>
                        </m:r>
                      </m:e>
                    </m:ra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1187280" y="6021360"/>
                <a:ext cx="767736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°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56" name=""/>
          <p:cNvGrpSpPr/>
          <p:nvPr/>
        </p:nvGrpSpPr>
        <p:grpSpPr>
          <a:xfrm>
            <a:off x="2484360" y="1627200"/>
            <a:ext cx="3598920" cy="749520"/>
            <a:chOff x="2484360" y="1627200"/>
            <a:chExt cx="3598920" cy="749520"/>
          </a:xfrm>
        </p:grpSpPr>
        <p:sp>
          <p:nvSpPr>
            <p:cNvPr id="257" name=""/>
            <p:cNvSpPr/>
            <p:nvPr/>
          </p:nvSpPr>
          <p:spPr>
            <a:xfrm>
              <a:off x="2484360" y="1627200"/>
              <a:ext cx="358560" cy="504720"/>
            </a:xfrm>
            <a:prstGeom prst="ellipse">
              <a:avLst/>
            </a:prstGeom>
            <a:noFill/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651280" y="1700280"/>
              <a:ext cx="432000" cy="430200"/>
            </a:xfrm>
            <a:prstGeom prst="ellipse">
              <a:avLst/>
            </a:prstGeom>
            <a:noFill/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7" idx="5"/>
              <a:endCxn id="258" idx="3"/>
            </p:cNvCxnSpPr>
            <p:nvPr/>
          </p:nvCxnSpPr>
          <p:spPr>
            <a:xfrm flipH="1" rot="16200000">
              <a:off x="4247640" y="618840"/>
              <a:ext cx="10440" cy="2924640"/>
            </a:xfrm>
            <a:prstGeom prst="curvedConnector5">
              <a:avLst>
                <a:gd name="adj1" fmla="val 2982142"/>
                <a:gd name="adj2" fmla="val 49993"/>
                <a:gd name="adj3" fmla="val 2982142"/>
              </a:avLst>
            </a:prstGeom>
            <a:ln w="2844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</p:cxnSp>
      </p:grpSp>
      <p:grpSp>
        <p:nvGrpSpPr>
          <p:cNvPr id="260" name=""/>
          <p:cNvGrpSpPr/>
          <p:nvPr/>
        </p:nvGrpSpPr>
        <p:grpSpPr>
          <a:xfrm>
            <a:off x="1908000" y="1184760"/>
            <a:ext cx="3454200" cy="731160"/>
            <a:chOff x="1908000" y="1184760"/>
            <a:chExt cx="3454200" cy="731160"/>
          </a:xfrm>
        </p:grpSpPr>
        <p:sp>
          <p:nvSpPr>
            <p:cNvPr id="261" name=""/>
            <p:cNvSpPr/>
            <p:nvPr/>
          </p:nvSpPr>
          <p:spPr>
            <a:xfrm>
              <a:off x="1908000" y="1555920"/>
              <a:ext cx="287280" cy="360000"/>
            </a:xfrm>
            <a:prstGeom prst="ellipse">
              <a:avLst/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074920" y="1555920"/>
              <a:ext cx="287280" cy="360000"/>
            </a:xfrm>
            <a:prstGeom prst="ellipse">
              <a:avLst/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1" idx="7"/>
              <a:endCxn id="262" idx="1"/>
            </p:cNvCxnSpPr>
            <p:nvPr/>
          </p:nvCxnSpPr>
          <p:spPr>
            <a:xfrm flipH="1" rot="16200000">
              <a:off x="3633840" y="103680"/>
              <a:ext cx="2880" cy="2966040"/>
            </a:xfrm>
            <a:prstGeom prst="curvedConnector5">
              <a:avLst>
                <a:gd name="adj1" fmla="val -15900000"/>
                <a:gd name="adj2" fmla="val 50000"/>
                <a:gd name="adj3" fmla="val -15900000"/>
              </a:avLst>
            </a:prstGeom>
            <a:ln w="28440">
              <a:solidFill>
                <a:srgbClr val="ff9900"/>
              </a:solidFill>
              <a:miter/>
              <a:headEnd len="med" type="triangle" w="med"/>
              <a:tailEnd len="med" type="triangle" w="med"/>
            </a:ln>
          </p:spPr>
        </p:cxnSp>
      </p:grp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7678800" y="2519280"/>
                <a:ext cx="107640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5" name=""/>
          <p:cNvSpPr/>
          <p:nvPr/>
        </p:nvSpPr>
        <p:spPr>
          <a:xfrm>
            <a:off x="7812000" y="299736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vzorec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917800" y="4749840"/>
            <a:ext cx="1150920" cy="865080"/>
          </a:xfrm>
          <a:custGeom>
            <a:avLst/>
            <a:gdLst/>
            <a:ahLst/>
            <a:rect l="l" t="t" r="r" b="b"/>
            <a:pathLst>
              <a:path w="664" h="476">
                <a:moveTo>
                  <a:pt x="45" y="38"/>
                </a:moveTo>
                <a:cubicBezTo>
                  <a:pt x="7" y="61"/>
                  <a:pt x="0" y="136"/>
                  <a:pt x="45" y="174"/>
                </a:cubicBezTo>
                <a:cubicBezTo>
                  <a:pt x="90" y="212"/>
                  <a:pt x="257" y="220"/>
                  <a:pt x="317" y="265"/>
                </a:cubicBezTo>
                <a:cubicBezTo>
                  <a:pt x="377" y="310"/>
                  <a:pt x="355" y="416"/>
                  <a:pt x="408" y="446"/>
                </a:cubicBezTo>
                <a:cubicBezTo>
                  <a:pt x="461" y="476"/>
                  <a:pt x="604" y="476"/>
                  <a:pt x="634" y="446"/>
                </a:cubicBezTo>
                <a:cubicBezTo>
                  <a:pt x="664" y="416"/>
                  <a:pt x="642" y="303"/>
                  <a:pt x="589" y="265"/>
                </a:cubicBezTo>
                <a:cubicBezTo>
                  <a:pt x="536" y="227"/>
                  <a:pt x="370" y="258"/>
                  <a:pt x="317" y="220"/>
                </a:cubicBezTo>
                <a:cubicBezTo>
                  <a:pt x="264" y="182"/>
                  <a:pt x="317" y="76"/>
                  <a:pt x="272" y="38"/>
                </a:cubicBezTo>
                <a:cubicBezTo>
                  <a:pt x="227" y="0"/>
                  <a:pt x="83" y="15"/>
                  <a:pt x="45" y="38"/>
                </a:cubicBezTo>
                <a:close/>
              </a:path>
            </a:pathLst>
          </a:custGeom>
          <a:noFill/>
          <a:ln w="284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252960" y="4654440"/>
            <a:ext cx="1536480" cy="1150920"/>
          </a:xfrm>
          <a:custGeom>
            <a:avLst/>
            <a:gdLst/>
            <a:ahLst/>
            <a:rect l="l" t="t" r="r" b="b"/>
            <a:pathLst>
              <a:path w="968" h="725">
                <a:moveTo>
                  <a:pt x="106" y="106"/>
                </a:moveTo>
                <a:cubicBezTo>
                  <a:pt x="46" y="212"/>
                  <a:pt x="0" y="575"/>
                  <a:pt x="106" y="650"/>
                </a:cubicBezTo>
                <a:cubicBezTo>
                  <a:pt x="212" y="725"/>
                  <a:pt x="605" y="650"/>
                  <a:pt x="741" y="559"/>
                </a:cubicBezTo>
                <a:cubicBezTo>
                  <a:pt x="877" y="468"/>
                  <a:pt x="968" y="197"/>
                  <a:pt x="923" y="106"/>
                </a:cubicBezTo>
                <a:cubicBezTo>
                  <a:pt x="878" y="15"/>
                  <a:pt x="605" y="23"/>
                  <a:pt x="469" y="15"/>
                </a:cubicBezTo>
                <a:cubicBezTo>
                  <a:pt x="333" y="7"/>
                  <a:pt x="166" y="0"/>
                  <a:pt x="106" y="106"/>
                </a:cubicBezTo>
                <a:close/>
              </a:path>
            </a:pathLst>
          </a:custGeom>
          <a:noFill/>
          <a:ln w="28440">
            <a:solidFill>
              <a:srgbClr val="ff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4356000" y="1341360"/>
                <a:ext cx="195732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6300720" y="1341360"/>
                <a:ext cx="58284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2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5076720" y="2637000"/>
                <a:ext cx="238788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7451640" y="2924280"/>
                <a:ext cx="150660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5148360" y="4365720"/>
                <a:ext cx="2549520" cy="11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7667640" y="4653000"/>
                <a:ext cx="147960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74" name=""/>
          <p:cNvSpPr/>
          <p:nvPr/>
        </p:nvSpPr>
        <p:spPr>
          <a:xfrm>
            <a:off x="1042920" y="5734080"/>
            <a:ext cx="810108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lnSpc>
                <a:spcPct val="110000"/>
              </a:lnSpc>
              <a:buClr>
                <a:srgbClr val="0099cc"/>
              </a:buClr>
              <a:buSzPct val="150000"/>
              <a:buFont typeface="Wingdings" charset="2"/>
              <a:buChar char="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Vycházeli jsme z AT (zadání rovnice), tudíž výsledky x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0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 opět převedeme z GT na AT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971640" y="692280"/>
            <a:ext cx="8172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973440" y="83664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0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106640" y="1341360"/>
            <a:ext cx="3282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2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(cos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sin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973440" y="242100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1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105560" y="2924280"/>
            <a:ext cx="399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2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(cos12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sin12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973440" y="414972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2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105560" y="4654440"/>
            <a:ext cx="399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2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(cos24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sin24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068840" y="115920"/>
            <a:ext cx="7910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i="1" lang="cs-CZ" sz="2800" spc="-1" strike="noStrike" baseline="-25000">
                <a:solidFill>
                  <a:srgbClr val="ffff00"/>
                </a:solidFill>
                <a:latin typeface="Times New Roman"/>
              </a:rPr>
              <a:t>k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2</a:t>
            </a:r>
            <a:r>
              <a:rPr b="0" lang="cs-CZ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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cos(0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k </a:t>
            </a:r>
            <a:r>
              <a:rPr b="0" lang="cs-CZ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20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) +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sin(0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k </a:t>
            </a:r>
            <a:r>
              <a:rPr b="0" lang="cs-CZ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20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)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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= 0, 1, 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466720" y="836640"/>
            <a:ext cx="19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(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2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383000" y="836640"/>
            <a:ext cx="73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= 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466720" y="2421000"/>
            <a:ext cx="19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(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2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382280" y="2421000"/>
            <a:ext cx="109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= 12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466720" y="4149720"/>
            <a:ext cx="19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(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2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382280" y="4149720"/>
            <a:ext cx="109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= 24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1000"/>
                            </p:stCondLst>
                            <p:childTnLst>
                              <p:par>
                                <p:cTn id="5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500"/>
                            </p:stCondLst>
                            <p:childTnLst>
                              <p:par>
                                <p:cTn id="5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1000"/>
                            </p:stCondLst>
                            <p:childTnLst>
                              <p:par>
                                <p:cTn id="5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500"/>
                            </p:stCondLst>
                            <p:childTnLst>
                              <p:par>
                                <p:cTn id="5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000"/>
                            </p:stCondLst>
                            <p:childTnLst>
                              <p:par>
                                <p:cTn id="5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500"/>
                            </p:stCondLst>
                            <p:childTnLst>
                              <p:par>
                                <p:cTn id="5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1116000" y="981000"/>
            <a:ext cx="802800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lnSpc>
                <a:spcPct val="11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dddddd"/>
                </a:solidFill>
                <a:uFillTx/>
                <a:latin typeface="Times New Roman"/>
              </a:rPr>
              <a:t>Závěr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55680" indent="-355680">
              <a:lnSpc>
                <a:spcPct val="110000"/>
              </a:lnSpc>
              <a:spcBef>
                <a:spcPts val="850"/>
              </a:spcBef>
              <a:tabLst>
                <a:tab algn="l" pos="0"/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400" spc="-1" strike="noStrike">
                <a:solidFill>
                  <a:srgbClr val="dddddd"/>
                </a:solidFill>
                <a:latin typeface="Times New Roman"/>
              </a:rPr>
              <a:t>V oboru komplexních čísel jsme nalezli všechny tři kořeny zadané rovnice:</a:t>
            </a:r>
            <a:endParaRPr b="0" lang="en-US" sz="34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447840">
              <a:lnSpc>
                <a:spcPct val="110000"/>
              </a:lnSpc>
              <a:spcBef>
                <a:spcPts val="751"/>
              </a:spcBef>
              <a:buClr>
                <a:srgbClr val="dddddd"/>
              </a:buClr>
              <a:buFont typeface="Times New Roman"/>
              <a:buChar char="–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první z kořenů je reálný,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447840">
              <a:lnSpc>
                <a:spcPct val="110000"/>
              </a:lnSpc>
              <a:spcBef>
                <a:spcPts val="751"/>
              </a:spcBef>
              <a:buClr>
                <a:srgbClr val="dddddd"/>
              </a:buClr>
              <a:buFont typeface="Times New Roman"/>
              <a:buChar char="–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další dva imaginární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900000" y="189000"/>
            <a:ext cx="82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ecff"/>
                </a:solidFill>
                <a:latin typeface="Times New Roman"/>
              </a:rPr>
              <a:t>Znázornění kořenů  </a:t>
            </a:r>
            <a:r>
              <a:rPr b="0" i="1" lang="cs-CZ" sz="3200" spc="-1" strike="noStrike">
                <a:solidFill>
                  <a:srgbClr val="ccecff"/>
                </a:solidFill>
                <a:latin typeface="Times New Roman"/>
              </a:rPr>
              <a:t>x</a:t>
            </a:r>
            <a:r>
              <a:rPr b="0" lang="cs-CZ" sz="3200" spc="-1" strike="noStrike" baseline="-25000">
                <a:solidFill>
                  <a:srgbClr val="ccecff"/>
                </a:solidFill>
                <a:latin typeface="Times New Roman"/>
              </a:rPr>
              <a:t>0</a:t>
            </a:r>
            <a:r>
              <a:rPr b="0" lang="cs-CZ" sz="3200" spc="-1" strike="noStrike">
                <a:solidFill>
                  <a:srgbClr val="ccecff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ccecff"/>
                </a:solidFill>
                <a:latin typeface="Times New Roman"/>
              </a:rPr>
              <a:t>x</a:t>
            </a:r>
            <a:r>
              <a:rPr b="0" lang="cs-CZ" sz="3200" spc="-1" strike="noStrike" baseline="-25000">
                <a:solidFill>
                  <a:srgbClr val="ccecff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ccecff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ccecff"/>
                </a:solidFill>
                <a:latin typeface="Times New Roman"/>
              </a:rPr>
              <a:t>x</a:t>
            </a:r>
            <a:r>
              <a:rPr b="0" lang="cs-CZ" sz="3200" spc="-1" strike="noStrike" baseline="-25000">
                <a:solidFill>
                  <a:srgbClr val="ccecff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ccecff"/>
                </a:solidFill>
                <a:latin typeface="Times New Roman"/>
              </a:rPr>
              <a:t> v Gaussově rovině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971640" y="1413000"/>
            <a:ext cx="8172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3635280" y="4437000"/>
                <a:ext cx="79236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4716360" y="4869000"/>
                <a:ext cx="79380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4932360" y="3645000"/>
                <a:ext cx="79380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2700360" y="4005360"/>
                <a:ext cx="70956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6" name=""/>
          <p:cNvSpPr/>
          <p:nvPr/>
        </p:nvSpPr>
        <p:spPr>
          <a:xfrm>
            <a:off x="1116000" y="4365720"/>
            <a:ext cx="684072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4716360" y="1458720"/>
            <a:ext cx="0" cy="539892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702920" y="424008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751280" y="4311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959880" y="364500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484360" y="2133720"/>
            <a:ext cx="4464000" cy="4464000"/>
          </a:xfrm>
          <a:prstGeom prst="ellipse">
            <a:avLst/>
          </a:prstGeom>
          <a:noFill/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 flipV="1">
            <a:off x="3203640" y="1844640"/>
            <a:ext cx="1512720" cy="249408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2484360" y="4365720"/>
            <a:ext cx="22320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2268360" y="4437000"/>
                <a:ext cx="503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5" name=""/>
          <p:cNvSpPr/>
          <p:nvPr/>
        </p:nvSpPr>
        <p:spPr>
          <a:xfrm flipH="1" flipV="1" rot="10800000">
            <a:off x="3023280" y="2711880"/>
            <a:ext cx="3323880" cy="3253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613" y="1327"/>
                </a:moveTo>
                <a:arcTo wR="10800" hR="10800" stAng="-7122267" swAng="7169642"/>
                <a:lnTo>
                  <a:pt x="10800" y="10800"/>
                </a:lnTo>
                <a:close/>
              </a:path>
              <a:path fill="none" w="21600" h="21600">
                <a:moveTo>
                  <a:pt x="5613" y="1327"/>
                </a:moveTo>
                <a:arcTo wR="10800" hR="10800" stAng="-7122267" swAng="7169642"/>
              </a:path>
            </a:pathLst>
          </a:custGeom>
          <a:noFill/>
          <a:ln w="28440">
            <a:solidFill>
              <a:srgbClr val="66ff33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4788000" y="6308640"/>
                <a:ext cx="503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6804000" y="4508640"/>
                <a:ext cx="2635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4788000" y="1916280"/>
                <a:ext cx="264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9" name=""/>
          <p:cNvSpPr/>
          <p:nvPr/>
        </p:nvSpPr>
        <p:spPr>
          <a:xfrm flipH="1" flipV="1" rot="10800000">
            <a:off x="3026520" y="2698560"/>
            <a:ext cx="3321000" cy="3248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246" y="20063"/>
                </a:moveTo>
                <a:arcTo wR="10800" hR="10800" stAng="7256701" swAng="7084064"/>
                <a:lnTo>
                  <a:pt x="10800" y="10800"/>
                </a:lnTo>
                <a:close/>
              </a:path>
              <a:path fill="none" w="21600" h="21600">
                <a:moveTo>
                  <a:pt x="5246" y="20063"/>
                </a:moveTo>
                <a:arcTo wR="10800" hR="10800" stAng="7256701" swAng="7084064"/>
              </a:path>
            </a:pathLst>
          </a:custGeom>
          <a:noFill/>
          <a:ln w="28440">
            <a:solidFill>
              <a:srgbClr val="ff99ff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3276360" y="4365720"/>
            <a:ext cx="1439640" cy="230328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359520" y="155736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854800" y="587700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 flipV="1" rot="10800000">
            <a:off x="3028320" y="2725200"/>
            <a:ext cx="3317400" cy="325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9" y="10954"/>
                </a:moveTo>
                <a:arcTo wR="10800" hR="10800" stAng="49171" swAng="7160381"/>
                <a:lnTo>
                  <a:pt x="10800" y="10800"/>
                </a:lnTo>
                <a:close/>
              </a:path>
              <a:path fill="none" w="21600" h="21600">
                <a:moveTo>
                  <a:pt x="21599" y="10954"/>
                </a:moveTo>
                <a:arcTo wR="10800" hR="10800" stAng="49171" swAng="7160381"/>
              </a:path>
            </a:pathLst>
          </a:custGeom>
          <a:noFill/>
          <a:ln w="28440">
            <a:solidFill>
              <a:srgbClr val="ff99ff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564000" y="2421000"/>
            <a:ext cx="3384360" cy="1944720"/>
          </a:xfrm>
          <a:prstGeom prst="line">
            <a:avLst/>
          </a:prstGeom>
          <a:ln w="76320">
            <a:solidFill>
              <a:srgbClr val="ff99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564000" y="2421000"/>
            <a:ext cx="0" cy="3816360"/>
          </a:xfrm>
          <a:prstGeom prst="line">
            <a:avLst/>
          </a:prstGeom>
          <a:ln w="76320">
            <a:solidFill>
              <a:srgbClr val="ff99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3564000" y="4365360"/>
            <a:ext cx="3384360" cy="1871640"/>
          </a:xfrm>
          <a:prstGeom prst="line">
            <a:avLst/>
          </a:prstGeom>
          <a:ln w="76320">
            <a:solidFill>
              <a:srgbClr val="ff99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789800" y="126828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6876720" y="4292640"/>
            <a:ext cx="144720" cy="142920"/>
            <a:chOff x="6876720" y="4292640"/>
            <a:chExt cx="144720" cy="142920"/>
          </a:xfrm>
        </p:grpSpPr>
        <p:sp>
          <p:nvSpPr>
            <p:cNvPr id="319" name=""/>
            <p:cNvSpPr/>
            <p:nvPr/>
          </p:nvSpPr>
          <p:spPr>
            <a:xfrm>
              <a:off x="6877080" y="429264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6876720" y="429264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92360" y="2349360"/>
            <a:ext cx="144720" cy="142920"/>
            <a:chOff x="3492360" y="2349360"/>
            <a:chExt cx="144720" cy="142920"/>
          </a:xfrm>
        </p:grpSpPr>
        <p:sp>
          <p:nvSpPr>
            <p:cNvPr id="322" name=""/>
            <p:cNvSpPr/>
            <p:nvPr/>
          </p:nvSpPr>
          <p:spPr>
            <a:xfrm>
              <a:off x="3492360" y="234936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3492360" y="234936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3492360" y="6165720"/>
            <a:ext cx="144720" cy="142920"/>
            <a:chOff x="3492360" y="6165720"/>
            <a:chExt cx="144720" cy="142920"/>
          </a:xfrm>
        </p:grpSpPr>
        <p:sp>
          <p:nvSpPr>
            <p:cNvPr id="325" name=""/>
            <p:cNvSpPr/>
            <p:nvPr/>
          </p:nvSpPr>
          <p:spPr>
            <a:xfrm>
              <a:off x="3492360" y="616572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3492360" y="616572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1041840" y="765000"/>
            <a:ext cx="7910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k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cs-CZ" sz="2800" spc="-1" strike="noStrike">
                <a:solidFill>
                  <a:srgbClr val="00ffff"/>
                </a:solidFill>
                <a:latin typeface="Times New Roman"/>
              </a:rPr>
              <a:t>2</a:t>
            </a:r>
            <a:r>
              <a:rPr b="0" lang="cs-CZ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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cos(</a:t>
            </a:r>
            <a:r>
              <a:rPr b="0" lang="cs-CZ" sz="2800" spc="-1" strike="noStrike">
                <a:solidFill>
                  <a:srgbClr val="66ff33"/>
                </a:solidFill>
                <a:latin typeface="Times New Roman"/>
              </a:rPr>
              <a:t>0</a:t>
            </a:r>
            <a:r>
              <a:rPr b="0" lang="cs-CZ" sz="2800" spc="-1" strike="noStrike">
                <a:solidFill>
                  <a:srgbClr val="66ff33"/>
                </a:solidFill>
                <a:latin typeface="Symbol"/>
                <a:ea typeface="Symbol"/>
              </a:rPr>
              <a:t>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k </a:t>
            </a:r>
            <a:r>
              <a:rPr b="0" lang="cs-CZ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99ff"/>
                </a:solidFill>
                <a:latin typeface="Times New Roman"/>
              </a:rPr>
              <a:t>120</a:t>
            </a:r>
            <a:r>
              <a:rPr b="0" lang="cs-CZ" sz="2800" spc="-1" strike="noStrike">
                <a:solidFill>
                  <a:srgbClr val="ff99ff"/>
                </a:solidFill>
                <a:latin typeface="Symbol"/>
                <a:ea typeface="Symbol"/>
              </a:rPr>
              <a:t>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) +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sin(</a:t>
            </a:r>
            <a:r>
              <a:rPr b="0" lang="cs-CZ" sz="2800" spc="-1" strike="noStrike">
                <a:solidFill>
                  <a:srgbClr val="66ff33"/>
                </a:solidFill>
                <a:latin typeface="Times New Roman"/>
              </a:rPr>
              <a:t>0</a:t>
            </a:r>
            <a:r>
              <a:rPr b="0" lang="cs-CZ" sz="2800" spc="-1" strike="noStrike">
                <a:solidFill>
                  <a:srgbClr val="66ff33"/>
                </a:solidFill>
                <a:latin typeface="Symbol"/>
                <a:ea typeface="Symbol"/>
              </a:rPr>
              <a:t>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k </a:t>
            </a:r>
            <a:r>
              <a:rPr b="0" lang="cs-CZ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99ff"/>
                </a:solidFill>
                <a:latin typeface="Times New Roman"/>
              </a:rPr>
              <a:t>120</a:t>
            </a:r>
            <a:r>
              <a:rPr b="0" lang="cs-CZ" sz="2800" spc="-1" strike="noStrike">
                <a:solidFill>
                  <a:srgbClr val="ff99ff"/>
                </a:solidFill>
                <a:latin typeface="Symbol"/>
                <a:ea typeface="Symbol"/>
              </a:rPr>
              <a:t>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)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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k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0, 1, 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500"/>
                            </p:stCondLst>
                            <p:childTnLst>
                              <p:par>
                                <p:cTn id="6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1000"/>
                            </p:stCondLst>
                            <p:childTnLst>
                              <p:par>
                                <p:cTn id="6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500"/>
                            </p:stCondLst>
                            <p:childTnLst>
                              <p:par>
                                <p:cTn id="6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500"/>
                            </p:stCondLst>
                            <p:childTnLst>
                              <p:par>
                                <p:cTn id="6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1000"/>
                            </p:stCondLst>
                            <p:childTnLst>
                              <p:par>
                                <p:cTn id="6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500"/>
                            </p:stCondLst>
                            <p:childTnLst>
                              <p:par>
                                <p:cTn id="7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1000"/>
                            </p:stCondLst>
                            <p:childTnLst>
                              <p:par>
                                <p:cTn id="7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1116000" y="981000"/>
            <a:ext cx="80280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lnSpc>
                <a:spcPct val="110000"/>
              </a:lnSpc>
              <a:spcBef>
                <a:spcPts val="7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dddddd"/>
                </a:solidFill>
                <a:uFillTx/>
                <a:latin typeface="Times New Roman"/>
              </a:rPr>
              <a:t>poznámka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355680" indent="-3556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K řešení binomické rovnice dospějete, když 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447840">
              <a:lnSpc>
                <a:spcPct val="110000"/>
              </a:lnSpc>
              <a:spcBef>
                <a:spcPts val="751"/>
              </a:spcBef>
              <a:buClr>
                <a:srgbClr val="dddddd"/>
              </a:buClr>
              <a:buFont typeface="Wingdings" charset="2"/>
              <a:buChar char="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dddddd"/>
                </a:solidFill>
                <a:uFillTx/>
                <a:latin typeface="Times New Roman"/>
              </a:rPr>
              <a:t>dodržíte postup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, který jsme uplatnili při odvození vztahu (vzorce) pro kořeny binomické rovnice 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44784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nebo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447840">
              <a:lnSpc>
                <a:spcPct val="110000"/>
              </a:lnSpc>
              <a:spcBef>
                <a:spcPts val="751"/>
              </a:spcBef>
              <a:buClr>
                <a:srgbClr val="dddddd"/>
              </a:buClr>
              <a:buFont typeface="Wingdings" charset="2"/>
              <a:buChar char="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dddddd"/>
                </a:solidFill>
                <a:uFillTx/>
                <a:latin typeface="Times New Roman"/>
              </a:rPr>
              <a:t>přímo dosadíte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do odvozeného </a:t>
            </a:r>
            <a:r>
              <a:rPr b="0" lang="en-US" sz="3000" spc="-1" strike="noStrike" u="sng">
                <a:solidFill>
                  <a:srgbClr val="dddddd"/>
                </a:solidFill>
                <a:uFillTx/>
                <a:latin typeface="Times New Roman"/>
              </a:rPr>
              <a:t>vzorce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(vztahu) pro kořeny binomické rovnice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ETRÁNEK, O.; CALDA, E.; HEBÁK, P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 4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5. vyd. Praha : Prometheus, 2004. ISBN 8071960403. Kapitola 1, s. 9–4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1, s. 11–4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484280"/>
          <a:ext cx="7416720" cy="514980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plexní čís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nomická rovnice – odvození řeš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odvození obecného vztahu a znázornění kořenů binomické rovnice jako vrcholů pravidelných rovinných útvarů. Rozdíl řeše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í v oboru reálných a komplexních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čísel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nomická rovnice; Kořeny binomické rovnice; Grafické znázornění kořenů binomické rovni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484360" y="189000"/>
            <a:ext cx="529596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16000" y="220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Binomická rovnic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187280" y="333360"/>
            <a:ext cx="77011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Binomickou rovnicí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87280" y="1125360"/>
            <a:ext cx="795672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2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528920"/>
                <a:tab algn="l" pos="20606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 nazývá rovnice tvaru:                       ,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tabLst>
                <a:tab algn="l" pos="0"/>
                <a:tab algn="l" pos="1528920"/>
                <a:tab algn="l" pos="20606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3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400" spc="-1" strike="noStrike">
                <a:solidFill>
                  <a:srgbClr val="dddddd"/>
                </a:solidFill>
                <a:latin typeface="Times New Roman"/>
              </a:rPr>
              <a:t>kde </a:t>
            </a:r>
            <a:endParaRPr b="0" lang="en-US" sz="3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5867280" y="1031760"/>
                <a:ext cx="216072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5" name=""/>
          <p:cNvGrpSpPr/>
          <p:nvPr/>
        </p:nvGrpSpPr>
        <p:grpSpPr>
          <a:xfrm>
            <a:off x="2556000" y="1833480"/>
            <a:ext cx="3884400" cy="604800"/>
            <a:chOff x="2556000" y="1833480"/>
            <a:chExt cx="3884400" cy="604800"/>
          </a:xfrm>
        </p:grpSpPr>
        <mc:AlternateContent>
          <mc:Choice xmlns:a14="http://schemas.microsoft.com/office/drawing/2010/main" Requires="a14">
            <p:sp>
              <p:nvSpPr>
                <p:cNvPr id="146" name=""/>
                <p:cNvSpPr txBox="1"/>
                <p:nvPr/>
              </p:nvSpPr>
              <p:spPr>
                <a:xfrm>
                  <a:off x="2556000" y="1833480"/>
                  <a:ext cx="1251000" cy="588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∈</m:t>
                      </m:r>
                      <m:r>
                        <m:t xml:space="preserve">C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7" name=""/>
                <p:cNvSpPr txBox="1"/>
                <p:nvPr/>
              </p:nvSpPr>
              <p:spPr>
                <a:xfrm>
                  <a:off x="3851280" y="1846080"/>
                  <a:ext cx="1176480" cy="58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≠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8" name=""/>
                <p:cNvSpPr txBox="1"/>
                <p:nvPr/>
              </p:nvSpPr>
              <p:spPr>
                <a:xfrm>
                  <a:off x="5076720" y="1846080"/>
                  <a:ext cx="1363680" cy="59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∈</m:t>
                      </m:r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9" name=""/>
          <p:cNvSpPr/>
          <p:nvPr/>
        </p:nvSpPr>
        <p:spPr>
          <a:xfrm>
            <a:off x="1187280" y="2421000"/>
            <a:ext cx="795672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2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postup řešení (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nepište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95400" indent="-365040">
              <a:lnSpc>
                <a:spcPct val="105000"/>
              </a:lnSpc>
              <a:spcBef>
                <a:spcPts val="300"/>
              </a:spcBef>
              <a:buClr>
                <a:srgbClr val="dddddd"/>
              </a:buClr>
              <a:buFont typeface="Times New Roman"/>
              <a:buAutoNum type="arabicParenR"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Uvědomíme si, že rovnice má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kořenů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1" marL="995400" indent="-365040">
              <a:lnSpc>
                <a:spcPct val="105000"/>
              </a:lnSpc>
              <a:buClr>
                <a:srgbClr val="dddddd"/>
              </a:buClr>
              <a:buFont typeface="Times New Roman"/>
              <a:buAutoNum type="arabicParenR"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Separujeme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-tou mocninu proměnné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1" marL="995400" indent="-365040">
              <a:lnSpc>
                <a:spcPct val="105000"/>
              </a:lnSpc>
              <a:buClr>
                <a:srgbClr val="dddddd"/>
              </a:buClr>
              <a:buFont typeface="Times New Roman"/>
              <a:buAutoNum type="arabicParenR"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KČ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převedeme z AT na GT – včetně period funkcí sinus a kosinus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1" marL="995400" indent="-365040">
              <a:lnSpc>
                <a:spcPct val="105000"/>
              </a:lnSpc>
              <a:buClr>
                <a:srgbClr val="dddddd"/>
              </a:buClr>
              <a:buFont typeface="Times New Roman"/>
              <a:buAutoNum type="arabicParenR"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Rovnici odmocníme – opakem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-té mocniny je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-tá odmocnina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2" marL="1528920" indent="-354240">
              <a:lnSpc>
                <a:spcPct val="105000"/>
              </a:lnSpc>
              <a:buClr>
                <a:srgbClr val="dddddd"/>
              </a:buClr>
              <a:buFont typeface="Times New Roman"/>
              <a:buAutoNum type="alphaLcParenR"/>
              <a:tabLst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na levé straně získáme hodnotu proměnné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2" marL="1528920" indent="-354240">
              <a:lnSpc>
                <a:spcPct val="105000"/>
              </a:lnSpc>
              <a:buClr>
                <a:srgbClr val="dddddd"/>
              </a:buClr>
              <a:buFont typeface="Times New Roman"/>
              <a:buAutoNum type="alphaLcParenR"/>
              <a:tabLst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na pravé straně odmocníme KČ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pomocí Moivreovy věty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250920" y="404640"/>
                <a:ext cx="176688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826920" y="1341360"/>
                <a:ext cx="98748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1835280" y="2133720"/>
                <a:ext cx="605304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  <m:r>
                              <m:t xml:space="preserve">°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900000" y="3284640"/>
                <a:ext cx="648180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b>
                                    <m:r>
                                      <m:t xml:space="preserve">Z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6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b>
                                    <m:r>
                                      <m:t xml:space="preserve">Z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6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1055520" y="4233960"/>
                <a:ext cx="669780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</m:rad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b>
                                    <m:r>
                                      <m:t xml:space="preserve">Z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6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b>
                                    <m:r>
                                      <m:t xml:space="preserve">Z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6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d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179280" y="5445000"/>
                <a:ext cx="87854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</m:ra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d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2</m:t>
                    </m:r>
                    <m:r>
                      <m:t xml:space="preserve">,</m:t>
                    </m:r>
                    <m:r>
                      <m:t xml:space="preserve">…</m:t>
                    </m:r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1835280" y="1384200"/>
                <a:ext cx="136836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826920" y="2133720"/>
                <a:ext cx="98748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2771640" y="549360"/>
            <a:ext cx="6372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481320" indent="-481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rovnice má 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 kořenů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68360" y="212760"/>
            <a:ext cx="4464000" cy="839520"/>
            <a:chOff x="468360" y="212760"/>
            <a:chExt cx="4464000" cy="839520"/>
          </a:xfrm>
        </p:grpSpPr>
        <p:sp>
          <p:nvSpPr>
            <p:cNvPr id="161" name=""/>
            <p:cNvSpPr/>
            <p:nvPr/>
          </p:nvSpPr>
          <p:spPr>
            <a:xfrm>
              <a:off x="468360" y="476280"/>
              <a:ext cx="287280" cy="330840"/>
            </a:xfrm>
            <a:prstGeom prst="ellipse">
              <a:avLst/>
            </a:prstGeom>
            <a:noFill/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72000" y="639720"/>
              <a:ext cx="360360" cy="412560"/>
            </a:xfrm>
            <a:prstGeom prst="ellipse">
              <a:avLst/>
            </a:prstGeom>
            <a:noFill/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163" name=""/>
            <p:cNvCxnSpPr>
              <a:stCxn id="161" idx="7"/>
              <a:endCxn id="162" idx="1"/>
            </p:cNvCxnSpPr>
            <p:nvPr/>
          </p:nvCxnSpPr>
          <p:spPr>
            <a:xfrm flipH="1" rot="16200000">
              <a:off x="2581200" y="-1366560"/>
              <a:ext cx="175320" cy="3912480"/>
            </a:xfrm>
            <a:prstGeom prst="curvedConnector5">
              <a:avLst>
                <a:gd name="adj1" fmla="val -165432"/>
                <a:gd name="adj2" fmla="val 49995"/>
                <a:gd name="adj3" fmla="val -165432"/>
              </a:avLst>
            </a:prstGeom>
            <a:ln w="38160">
              <a:solidFill>
                <a:srgbClr val="dddddd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164" name=""/>
          <p:cNvSpPr/>
          <p:nvPr/>
        </p:nvSpPr>
        <p:spPr>
          <a:xfrm>
            <a:off x="3851280" y="1312920"/>
            <a:ext cx="529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C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lze zapsat v A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71640" y="1312920"/>
            <a:ext cx="6372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osamostatníme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x</a:t>
            </a:r>
            <a:r>
              <a:rPr b="0" i="1" lang="cs-CZ" sz="2800" spc="-1" strike="noStrike" baseline="30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740720" y="1312920"/>
            <a:ext cx="1403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, G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050920" y="1341360"/>
            <a:ext cx="1225800" cy="5749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308720" y="1341360"/>
            <a:ext cx="505080" cy="574920"/>
          </a:xfrm>
          <a:custGeom>
            <a:avLst/>
            <a:gdLst>
              <a:gd name="textAreaLeft" fmla="*/ 24480 w 505080"/>
              <a:gd name="textAreaRight" fmla="*/ 480600 w 505080"/>
              <a:gd name="textAreaTop" fmla="*/ 24480 h 574920"/>
              <a:gd name="textAreaBottom" fmla="*/ 550440 h 574920"/>
            </a:gdLst>
            <a:ahLst/>
            <a:rect l="textAreaLeft" t="textAreaTop" r="textAreaRight" b="textAreaBottom"/>
            <a:pathLst>
              <a:path w="21600" h="24585">
                <a:moveTo>
                  <a:pt x="3600" y="0"/>
                </a:moveTo>
                <a:arcTo wR="3600" hR="3600" stAng="16200000" swAng="-5400000"/>
                <a:lnTo>
                  <a:pt x="0" y="20985"/>
                </a:lnTo>
                <a:arcTo wR="3600" hR="3600" stAng="10800000" swAng="-5400000"/>
                <a:lnTo>
                  <a:pt x="18000" y="24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050920" y="2133720"/>
            <a:ext cx="5761080" cy="5745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956720" y="1341360"/>
            <a:ext cx="576000" cy="5749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8172360" y="2133720"/>
                <a:ext cx="65736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n</m:t>
                        </m:r>
                      </m:deg>
                      <m:e/>
                    </m:rad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1835280" y="2781360"/>
            <a:ext cx="73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opakem </a:t>
            </a: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-té mocniny je </a:t>
            </a: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-tá odmocnina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835280" y="3860640"/>
            <a:ext cx="7308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umocňujeme-li součin, umocňujeme každého z činitelů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35280" y="4941720"/>
            <a:ext cx="7308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užijeme Moivreovu větu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19280" y="3284640"/>
            <a:ext cx="360360" cy="57600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576000"/>
              <a:gd name="textAreaBottom" fmla="*/ 558720 h 576000"/>
            </a:gdLst>
            <a:ahLst/>
            <a:rect l="textAreaLeft" t="textAreaTop" r="textAreaRight" b="textAreaBottom"/>
            <a:pathLst>
              <a:path w="21600" h="34513">
                <a:moveTo>
                  <a:pt x="3600" y="0"/>
                </a:moveTo>
                <a:arcTo wR="3600" hR="3600" stAng="16200000" swAng="-5400000"/>
                <a:lnTo>
                  <a:pt x="0" y="30913"/>
                </a:lnTo>
                <a:arcTo wR="3600" hR="3600" stAng="10800000" swAng="-5400000"/>
                <a:lnTo>
                  <a:pt x="18000" y="345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24000" y="3284640"/>
            <a:ext cx="5256360" cy="576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79640" y="5445000"/>
            <a:ext cx="1368360" cy="936720"/>
          </a:xfrm>
          <a:custGeom>
            <a:avLst/>
            <a:gdLst/>
            <a:ahLst/>
            <a:rect l="l" t="t" r="r" b="b"/>
            <a:pathLst>
              <a:path w="664" h="476">
                <a:moveTo>
                  <a:pt x="45" y="38"/>
                </a:moveTo>
                <a:cubicBezTo>
                  <a:pt x="7" y="61"/>
                  <a:pt x="0" y="136"/>
                  <a:pt x="45" y="174"/>
                </a:cubicBezTo>
                <a:cubicBezTo>
                  <a:pt x="90" y="212"/>
                  <a:pt x="257" y="220"/>
                  <a:pt x="317" y="265"/>
                </a:cubicBezTo>
                <a:cubicBezTo>
                  <a:pt x="377" y="310"/>
                  <a:pt x="355" y="416"/>
                  <a:pt x="408" y="446"/>
                </a:cubicBezTo>
                <a:cubicBezTo>
                  <a:pt x="461" y="476"/>
                  <a:pt x="604" y="476"/>
                  <a:pt x="634" y="446"/>
                </a:cubicBezTo>
                <a:cubicBezTo>
                  <a:pt x="664" y="416"/>
                  <a:pt x="642" y="303"/>
                  <a:pt x="589" y="265"/>
                </a:cubicBezTo>
                <a:cubicBezTo>
                  <a:pt x="536" y="227"/>
                  <a:pt x="370" y="258"/>
                  <a:pt x="317" y="220"/>
                </a:cubicBezTo>
                <a:cubicBezTo>
                  <a:pt x="264" y="182"/>
                  <a:pt x="317" y="76"/>
                  <a:pt x="272" y="38"/>
                </a:cubicBezTo>
                <a:cubicBezTo>
                  <a:pt x="227" y="0"/>
                  <a:pt x="83" y="15"/>
                  <a:pt x="45" y="38"/>
                </a:cubicBezTo>
                <a:close/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56000" y="5445000"/>
            <a:ext cx="1392120" cy="936720"/>
          </a:xfrm>
          <a:custGeom>
            <a:avLst/>
            <a:gdLst/>
            <a:ahLst/>
            <a:rect l="l" t="t" r="r" b="b"/>
            <a:pathLst>
              <a:path w="968" h="725">
                <a:moveTo>
                  <a:pt x="106" y="106"/>
                </a:moveTo>
                <a:cubicBezTo>
                  <a:pt x="46" y="212"/>
                  <a:pt x="0" y="575"/>
                  <a:pt x="106" y="650"/>
                </a:cubicBezTo>
                <a:cubicBezTo>
                  <a:pt x="212" y="725"/>
                  <a:pt x="605" y="650"/>
                  <a:pt x="741" y="559"/>
                </a:cubicBezTo>
                <a:cubicBezTo>
                  <a:pt x="877" y="468"/>
                  <a:pt x="968" y="197"/>
                  <a:pt x="923" y="106"/>
                </a:cubicBezTo>
                <a:cubicBezTo>
                  <a:pt x="878" y="15"/>
                  <a:pt x="605" y="23"/>
                  <a:pt x="469" y="15"/>
                </a:cubicBezTo>
                <a:cubicBezTo>
                  <a:pt x="333" y="7"/>
                  <a:pt x="166" y="0"/>
                  <a:pt x="106" y="106"/>
                </a:cubicBezTo>
                <a:close/>
              </a:path>
            </a:pathLst>
          </a:custGeom>
          <a:noFill/>
          <a:ln w="5724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5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50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" dur="5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500"/>
                            </p:stCondLst>
                            <p:childTnLst>
                              <p:par>
                                <p:cTn id="1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116000" y="260280"/>
            <a:ext cx="8028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 u="sng">
                <a:solidFill>
                  <a:srgbClr val="ccecff"/>
                </a:solidFill>
                <a:uFillTx/>
                <a:latin typeface="Times New Roman"/>
              </a:rPr>
              <a:t>Znázornění čísla </a:t>
            </a:r>
            <a:r>
              <a:rPr b="0" i="1" lang="cs-CZ" sz="4000" spc="-1" strike="noStrike" u="sng">
                <a:solidFill>
                  <a:srgbClr val="ccecff"/>
                </a:solidFill>
                <a:uFillTx/>
                <a:latin typeface="Times New Roman"/>
              </a:rPr>
              <a:t>x</a:t>
            </a:r>
            <a:r>
              <a:rPr b="0" i="1" lang="cs-CZ" sz="4000" spc="-1" strike="noStrike" u="sng" baseline="-25000">
                <a:solidFill>
                  <a:srgbClr val="ccecff"/>
                </a:solidFill>
                <a:uFillTx/>
                <a:latin typeface="Times New Roman"/>
              </a:rPr>
              <a:t>k</a:t>
            </a:r>
            <a:r>
              <a:rPr b="0" lang="cs-CZ" sz="4000" spc="-1" strike="noStrike" u="sng">
                <a:solidFill>
                  <a:srgbClr val="ccecff"/>
                </a:solidFill>
                <a:uFillTx/>
                <a:latin typeface="Times New Roman"/>
              </a:rPr>
              <a:t> v Gaussově rovině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116000" y="4508640"/>
            <a:ext cx="802800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441360" indent="-441360">
              <a:lnSpc>
                <a:spcPct val="12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528920"/>
                <a:tab algn="l" pos="20606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ravidelným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-úhelníkem je pro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63000" indent="-345240">
              <a:lnSpc>
                <a:spcPct val="120000"/>
              </a:lnSpc>
              <a:buClr>
                <a:srgbClr val="dddddd"/>
              </a:buClr>
              <a:buFont typeface="Times New Roman"/>
              <a:buChar char="•"/>
              <a:tabLst>
                <a:tab algn="l" pos="1528920"/>
                <a:tab algn="l" pos="20606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= 3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63000" indent="-345240">
              <a:lnSpc>
                <a:spcPct val="120000"/>
              </a:lnSpc>
              <a:buClr>
                <a:srgbClr val="dddddd"/>
              </a:buClr>
              <a:buFont typeface="Times New Roman"/>
              <a:buChar char="•"/>
              <a:tabLst>
                <a:tab algn="l" pos="1528920"/>
                <a:tab algn="l" pos="20606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= 4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63000" indent="-345240">
              <a:lnSpc>
                <a:spcPct val="120000"/>
              </a:lnSpc>
              <a:buClr>
                <a:srgbClr val="dddddd"/>
              </a:buClr>
              <a:buFont typeface="Times New Roman"/>
              <a:buChar char="•"/>
              <a:tabLst>
                <a:tab algn="l" pos="1528920"/>
                <a:tab algn="l" pos="20606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= 5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240000" y="5040360"/>
            <a:ext cx="590400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20000"/>
              </a:lnSpc>
              <a:tabLst>
                <a:tab algn="l" pos="0"/>
                <a:tab algn="l" pos="1528920"/>
                <a:tab algn="l" pos="20606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rovnostranný trojúhelník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40000" y="5543640"/>
            <a:ext cx="590400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20000"/>
              </a:lnSpc>
              <a:tabLst>
                <a:tab algn="l" pos="0"/>
                <a:tab algn="l" pos="1528920"/>
                <a:tab algn="l" pos="20606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čtverec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76720" y="6048360"/>
            <a:ext cx="5867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423360" indent="-423360">
              <a:lnSpc>
                <a:spcPct val="120000"/>
              </a:lnSpc>
              <a:tabLst>
                <a:tab algn="l" pos="0"/>
                <a:tab algn="l" pos="1528920"/>
                <a:tab algn="l" pos="20606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pravidelný pětiúhelník, ..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116000" y="981000"/>
            <a:ext cx="802800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2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528920"/>
                <a:tab algn="l" pos="20606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Kořeny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cs-CZ" sz="28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cs-CZ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cs-CZ" sz="28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, ...,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i="1" lang="cs-CZ" sz="2800" spc="-1" strike="noStrike" baseline="-25000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cs-CZ" sz="2800" spc="-1" strike="noStrike" baseline="-25000">
                <a:solidFill>
                  <a:srgbClr val="ffff00"/>
                </a:solidFill>
                <a:latin typeface="Times New Roman"/>
              </a:rPr>
              <a:t> – 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binomické rovnice </a:t>
            </a:r>
            <a:r>
              <a:rPr b="0" lang="cs-CZ" sz="2800" spc="-1" strike="noStrike" u="sng">
                <a:solidFill>
                  <a:srgbClr val="ffff00"/>
                </a:solidFill>
                <a:uFillTx/>
                <a:latin typeface="Times New Roman"/>
              </a:rPr>
              <a:t>leží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pro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&gt;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2 v Gaussově rovině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tabLst>
                <a:tab algn="l" pos="0"/>
                <a:tab algn="l" pos="1528920"/>
                <a:tab algn="l" pos="20606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ve vrcholech pravidelného </a:t>
            </a:r>
            <a:r>
              <a:rPr b="0" i="1" lang="cs-CZ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n</a:t>
            </a:r>
            <a:r>
              <a:rPr b="0" lang="cs-CZ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-úhelníku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vepsaného do kružnice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20000"/>
              </a:lnSpc>
              <a:buClr>
                <a:srgbClr val="dddddd"/>
              </a:buClr>
              <a:buFont typeface="Times New Roman"/>
              <a:buChar char="•"/>
              <a:tabLst>
                <a:tab algn="l" pos="1528920"/>
                <a:tab algn="l" pos="20606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se středem v počátku               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20000"/>
              </a:lnSpc>
              <a:buClr>
                <a:srgbClr val="dddddd"/>
              </a:buClr>
              <a:buFont typeface="Times New Roman"/>
              <a:buChar char="•"/>
              <a:tabLst>
                <a:tab algn="l" pos="1528920"/>
                <a:tab algn="l" pos="20606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s poloměrem              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5292720" y="3141720"/>
                <a:ext cx="122400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4140360" y="3573360"/>
                <a:ext cx="116172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4140360" y="2565360"/>
                <a:ext cx="8665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3492360" y="3068640"/>
                <a:ext cx="86688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5148360" y="2924280"/>
                <a:ext cx="8665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5940360" y="3357720"/>
                <a:ext cx="461880" cy="70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3348000" y="4076640"/>
                <a:ext cx="103824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92" name=""/>
          <p:cNvSpPr/>
          <p:nvPr/>
        </p:nvSpPr>
        <p:spPr>
          <a:xfrm>
            <a:off x="1116000" y="4076640"/>
            <a:ext cx="684072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4716360" y="1196640"/>
            <a:ext cx="0" cy="539892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702920" y="397836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789800" y="98100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751280" y="4049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971640" y="260280"/>
                <a:ext cx="817236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</m:rad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b>
                                    <m:r>
                                      <m:t xml:space="preserve">Z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60</m:t>
                                </m:r>
                                <m:r>
                                  <m:t xml:space="preserve">°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b>
                                    <m:r>
                                      <m:t xml:space="preserve">Z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60</m:t>
                                </m:r>
                                <m:r>
                                  <m:t xml:space="preserve">°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d>
                      </m:e>
                    </m:d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2</m:t>
                    </m:r>
                    <m:r>
                      <m:t xml:space="preserve">,</m:t>
                    </m:r>
                    <m:r>
                      <m:t xml:space="preserve">…</m:t>
                    </m:r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8" name=""/>
          <p:cNvSpPr/>
          <p:nvPr/>
        </p:nvSpPr>
        <p:spPr>
          <a:xfrm>
            <a:off x="6671160" y="234936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484360" y="1844640"/>
            <a:ext cx="4464000" cy="4464000"/>
          </a:xfrm>
          <a:prstGeom prst="ellipse">
            <a:avLst/>
          </a:prstGeom>
          <a:noFill/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16360" y="2781360"/>
            <a:ext cx="2735280" cy="129528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6659280" y="3068640"/>
            <a:ext cx="144720" cy="142920"/>
            <a:chOff x="6659280" y="3068640"/>
            <a:chExt cx="144720" cy="142920"/>
          </a:xfrm>
        </p:grpSpPr>
        <p:sp>
          <p:nvSpPr>
            <p:cNvPr id="202" name=""/>
            <p:cNvSpPr/>
            <p:nvPr/>
          </p:nvSpPr>
          <p:spPr>
            <a:xfrm>
              <a:off x="6659640" y="306864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659280" y="306864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 flipH="1">
            <a:off x="2484360" y="4076640"/>
            <a:ext cx="22320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2157480" y="4121280"/>
                <a:ext cx="8478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06" name=""/>
          <p:cNvSpPr/>
          <p:nvPr/>
        </p:nvSpPr>
        <p:spPr>
          <a:xfrm flipH="1" flipV="1" rot="10800000">
            <a:off x="3121920" y="2486160"/>
            <a:ext cx="3324960" cy="3253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353" y="5762"/>
                </a:moveTo>
                <a:arcTo wR="10800" hR="10800" stAng="-1668277" swAng="1571075"/>
                <a:lnTo>
                  <a:pt x="10800" y="10800"/>
                </a:lnTo>
                <a:close/>
              </a:path>
              <a:path fill="none" w="21600" h="21600">
                <a:moveTo>
                  <a:pt x="20353" y="5762"/>
                </a:moveTo>
                <a:arcTo wR="10800" hR="10800" stAng="-1668277" swAng="1571075"/>
              </a:path>
            </a:pathLst>
          </a:custGeom>
          <a:noFill/>
          <a:ln w="28440">
            <a:solidFill>
              <a:srgbClr val="66ff33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4821120" y="5921280"/>
                <a:ext cx="8478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6669000" y="4121280"/>
                <a:ext cx="60984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n</m:t>
                        </m:r>
                      </m:deg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4788000" y="1484280"/>
                <a:ext cx="60948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n</m:t>
                        </m:r>
                      </m:deg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1835280" y="1052640"/>
            <a:ext cx="1800000" cy="3168360"/>
          </a:xfrm>
          <a:prstGeom prst="line">
            <a:avLst/>
          </a:prstGeom>
          <a:ln w="28440">
            <a:solidFill>
              <a:srgbClr val="00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47640" y="333360"/>
            <a:ext cx="505080" cy="717480"/>
          </a:xfrm>
          <a:custGeom>
            <a:avLst/>
            <a:gdLst>
              <a:gd name="textAreaLeft" fmla="*/ 24480 w 505080"/>
              <a:gd name="textAreaRight" fmla="*/ 480600 w 505080"/>
              <a:gd name="textAreaTop" fmla="*/ 24480 h 717480"/>
              <a:gd name="textAreaBottom" fmla="*/ 693000 h 717480"/>
            </a:gdLst>
            <a:ahLst/>
            <a:rect l="textAreaLeft" t="textAreaTop" r="textAreaRight" b="textAreaBottom"/>
            <a:pathLst>
              <a:path w="21600" h="30677">
                <a:moveTo>
                  <a:pt x="3600" y="0"/>
                </a:moveTo>
                <a:arcTo wR="3600" hR="3600" stAng="16200000" swAng="-5400000"/>
                <a:lnTo>
                  <a:pt x="0" y="27077"/>
                </a:lnTo>
                <a:arcTo wR="3600" hR="3600" stAng="10800000" swAng="-5400000"/>
                <a:lnTo>
                  <a:pt x="18000" y="306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700360" y="333360"/>
            <a:ext cx="504720" cy="717480"/>
          </a:xfrm>
          <a:custGeom>
            <a:avLst/>
            <a:gdLst>
              <a:gd name="textAreaLeft" fmla="*/ 24480 w 504720"/>
              <a:gd name="textAreaRight" fmla="*/ 480240 w 504720"/>
              <a:gd name="textAreaTop" fmla="*/ 24480 h 717480"/>
              <a:gd name="textAreaBottom" fmla="*/ 693000 h 717480"/>
            </a:gdLst>
            <a:ahLst/>
            <a:rect l="textAreaLeft" t="textAreaTop" r="textAreaRight" b="textAreaBottom"/>
            <a:pathLst>
              <a:path w="21600" h="30699">
                <a:moveTo>
                  <a:pt x="3600" y="0"/>
                </a:moveTo>
                <a:arcTo wR="3600" hR="3600" stAng="16200000" swAng="-5400000"/>
                <a:lnTo>
                  <a:pt x="0" y="27099"/>
                </a:lnTo>
                <a:arcTo wR="3600" hR="3600" stAng="10800000" swAng="-5400000"/>
                <a:lnTo>
                  <a:pt x="18000" y="306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987640" y="1052640"/>
            <a:ext cx="2521080" cy="2808000"/>
          </a:xfrm>
          <a:prstGeom prst="line">
            <a:avLst/>
          </a:prstGeom>
          <a:ln w="28440">
            <a:solidFill>
              <a:srgbClr val="66ff33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 rot="10800000">
            <a:off x="3127320" y="2477160"/>
            <a:ext cx="3320640" cy="324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241" y="563"/>
                </a:moveTo>
                <a:arcTo wR="10800" hR="10800" stAng="-4285414" swAng="2586779"/>
                <a:lnTo>
                  <a:pt x="10800" y="10800"/>
                </a:lnTo>
                <a:close/>
              </a:path>
              <a:path fill="none" w="21600" h="21600">
                <a:moveTo>
                  <a:pt x="14241" y="563"/>
                </a:moveTo>
                <a:arcTo wR="10800" hR="10800" stAng="-4285414" swAng="2586779"/>
              </a:path>
            </a:pathLst>
          </a:custGeom>
          <a:noFill/>
          <a:ln w="28440">
            <a:solidFill>
              <a:srgbClr val="ff99ff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4716360" y="1267920"/>
            <a:ext cx="1079640" cy="280836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591520" y="141300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35280" y="1916280"/>
            <a:ext cx="144720" cy="142560"/>
            <a:chOff x="5435280" y="1916280"/>
            <a:chExt cx="144720" cy="142560"/>
          </a:xfrm>
        </p:grpSpPr>
        <p:sp>
          <p:nvSpPr>
            <p:cNvPr id="218" name=""/>
            <p:cNvSpPr/>
            <p:nvPr/>
          </p:nvSpPr>
          <p:spPr>
            <a:xfrm>
              <a:off x="5435640" y="1916280"/>
              <a:ext cx="144360" cy="1425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5435280" y="1916280"/>
              <a:ext cx="144360" cy="1425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3419640" y="333360"/>
            <a:ext cx="865080" cy="7174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51280" y="1052640"/>
            <a:ext cx="1584360" cy="1871640"/>
          </a:xfrm>
          <a:prstGeom prst="line">
            <a:avLst/>
          </a:prstGeom>
          <a:ln w="28440">
            <a:solidFill>
              <a:srgbClr val="ff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 flipV="1">
            <a:off x="3492360" y="1412640"/>
            <a:ext cx="1224000" cy="266364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646800" y="126828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3708000" y="1989000"/>
            <a:ext cx="144720" cy="142920"/>
            <a:chOff x="3708000" y="1989000"/>
            <a:chExt cx="144720" cy="142920"/>
          </a:xfrm>
        </p:grpSpPr>
        <p:sp>
          <p:nvSpPr>
            <p:cNvPr id="225" name=""/>
            <p:cNvSpPr/>
            <p:nvPr/>
          </p:nvSpPr>
          <p:spPr>
            <a:xfrm>
              <a:off x="3708360" y="198900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3708000" y="198900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 flipH="1" flipV="1" rot="10800000">
            <a:off x="3128040" y="2498400"/>
            <a:ext cx="3318840" cy="325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098" y="1077"/>
                </a:moveTo>
                <a:arcTo wR="10800" hR="10800" stAng="-6948455" swAng="2620919"/>
                <a:lnTo>
                  <a:pt x="10800" y="10800"/>
                </a:lnTo>
                <a:close/>
              </a:path>
              <a:path fill="none" w="21600" h="21600">
                <a:moveTo>
                  <a:pt x="6098" y="1077"/>
                </a:moveTo>
                <a:arcTo wR="10800" hR="10800" stAng="-6948455" swAng="2620919"/>
              </a:path>
            </a:pathLst>
          </a:custGeom>
          <a:noFill/>
          <a:ln w="28440">
            <a:solidFill>
              <a:srgbClr val="ff99ff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1618920" y="2923920"/>
            <a:ext cx="3097080" cy="115236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207160" y="249228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2555640" y="3213000"/>
            <a:ext cx="144720" cy="142920"/>
            <a:chOff x="2555640" y="3213000"/>
            <a:chExt cx="144720" cy="142920"/>
          </a:xfrm>
        </p:grpSpPr>
        <p:sp>
          <p:nvSpPr>
            <p:cNvPr id="231" name=""/>
            <p:cNvSpPr/>
            <p:nvPr/>
          </p:nvSpPr>
          <p:spPr>
            <a:xfrm>
              <a:off x="2556000" y="321300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2555640" y="321300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 flipH="1" flipV="1" rot="10800000">
            <a:off x="3125160" y="2498760"/>
            <a:ext cx="3324960" cy="325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67" y="6804"/>
                </a:moveTo>
                <a:arcTo wR="10800" hR="10800" stAng="-9496899" swAng="2548875"/>
                <a:lnTo>
                  <a:pt x="10800" y="10800"/>
                </a:lnTo>
                <a:close/>
              </a:path>
              <a:path fill="none" w="21600" h="21600">
                <a:moveTo>
                  <a:pt x="767" y="6804"/>
                </a:moveTo>
                <a:arcTo wR="10800" hR="10800" stAng="-9496899" swAng="2548875"/>
              </a:path>
            </a:pathLst>
          </a:custGeom>
          <a:noFill/>
          <a:ln w="28440">
            <a:solidFill>
              <a:srgbClr val="ff99ff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 flipV="1" rot="10800000">
            <a:off x="2048400" y="1347120"/>
            <a:ext cx="5182200" cy="5267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5" y="9373"/>
                </a:moveTo>
                <a:arcTo wR="10800" hR="10800" stAng="-10344417" swAng="536284"/>
                <a:lnTo>
                  <a:pt x="10800" y="10800"/>
                </a:lnTo>
                <a:close/>
              </a:path>
              <a:path fill="none" w="21600" h="21600">
                <a:moveTo>
                  <a:pt x="95" y="9373"/>
                </a:moveTo>
                <a:arcTo wR="10800" hR="10800" stAng="-10344417" swAng="536284"/>
              </a:path>
            </a:pathLst>
          </a:custGeom>
          <a:noFill/>
          <a:ln cap="rnd" w="28440">
            <a:solidFill>
              <a:srgbClr val="ffff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55640" y="357336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další kořen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0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3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6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000"/>
                            </p:stCondLst>
                            <p:childTnLst>
                              <p:par>
                                <p:cTn id="3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258920" y="1484280"/>
            <a:ext cx="748980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Porovnejte řešení rovnice: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0099cc"/>
              </a:buClr>
              <a:buSzPct val="80000"/>
              <a:buFont typeface="Times New Roman"/>
              <a:buChar char="•"/>
              <a:tabLst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v oboru čísel reálných: </a:t>
            </a: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R,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99cc"/>
              </a:buClr>
              <a:buSzPct val="80000"/>
              <a:buFont typeface="Times New Roman"/>
              <a:buChar char="•"/>
              <a:tabLst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v oboru čísel komplexních: </a:t>
            </a: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C.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6227640" y="1341360"/>
                <a:ext cx="220356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1979640" y="1052640"/>
                <a:ext cx="200484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9" name=""/>
          <p:cNvSpPr/>
          <p:nvPr/>
        </p:nvSpPr>
        <p:spPr>
          <a:xfrm>
            <a:off x="1116000" y="333360"/>
            <a:ext cx="8028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Řešení rovnice v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R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2627280" y="1989000"/>
                <a:ext cx="136836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5435640" y="1125360"/>
            <a:ext cx="3708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rovnice má 3 kořen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4859280" y="1989000"/>
                <a:ext cx="78732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ad>
                          <m:deg>
                            <m:r>
                              <m:t xml:space="preserve">3</m:t>
                            </m:r>
                          </m:deg>
                          <m:e/>
                        </m:rad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2916360" y="2997360"/>
                <a:ext cx="114120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44" name=""/>
          <p:cNvSpPr/>
          <p:nvPr/>
        </p:nvSpPr>
        <p:spPr>
          <a:xfrm>
            <a:off x="1042920" y="4076640"/>
            <a:ext cx="8101080" cy="24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lnSpc>
                <a:spcPct val="11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dddddd"/>
                </a:solidFill>
                <a:uFillTx/>
                <a:latin typeface="Times New Roman"/>
              </a:rPr>
              <a:t>Závěr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804960" indent="-270000">
              <a:lnSpc>
                <a:spcPct val="110000"/>
              </a:lnSpc>
              <a:spcBef>
                <a:spcPts val="751"/>
              </a:spcBef>
              <a:buClr>
                <a:srgbClr val="dddddd"/>
              </a:buClr>
              <a:buFont typeface="Times New Roman"/>
              <a:buChar char="–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Nalezli jsme pouze jeden ze tří kořenů dané rovnice, který je reálný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lvl="1" marL="804960" indent="-270000">
              <a:lnSpc>
                <a:spcPct val="110000"/>
              </a:lnSpc>
              <a:spcBef>
                <a:spcPts val="751"/>
              </a:spcBef>
              <a:buClr>
                <a:srgbClr val="dddddd"/>
              </a:buClr>
              <a:buFont typeface="Times New Roman"/>
              <a:buChar char="–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Zbývající dva kořeny zřejmě nejsou reálné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195640" y="1052640"/>
            <a:ext cx="360360" cy="50472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246" name=""/>
          <p:cNvCxnSpPr>
            <a:stCxn id="245" idx="7"/>
            <a:endCxn id="241" idx="1"/>
          </p:cNvCxnSpPr>
          <p:nvPr/>
        </p:nvCxnSpPr>
        <p:spPr>
          <a:xfrm flipH="1" rot="16200000">
            <a:off x="3782520" y="-167760"/>
            <a:ext cx="374040" cy="2932920"/>
          </a:xfrm>
          <a:prstGeom prst="curvedConnector5">
            <a:avLst>
              <a:gd name="adj1" fmla="val -19556"/>
              <a:gd name="adj2" fmla="val 30603"/>
              <a:gd name="adj3" fmla="val -19556"/>
            </a:avLst>
          </a:prstGeom>
          <a:ln w="28440">
            <a:solidFill>
              <a:srgbClr val="ffff00"/>
            </a:solidFill>
            <a:miter/>
            <a:tailEnd len="med" type="triangle" w="med"/>
          </a:ln>
        </p:spPr>
      </p:cxnSp>
    </p:spTree>
  </p:cSld>
  <p:transition>
    <p:pull dir="l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46:12Z</dcterms:modified>
  <cp:revision>296</cp:revision>
  <dc:subject/>
  <dc:title>KČ</dc:title>
</cp:coreProperties>
</file>