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86B-6228-4B4F-A4D0-64DE973CDB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E39B-81CE-4E4D-9166-42C80F0910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05F-4B72-494B-8B39-471EB14FCD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73E-3E9C-4E35-A0B7-37369006BC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8C4-6CE6-4127-AE2C-3BAB80AC9E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C89-87D6-4C40-BC04-148A0512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318-EB38-4AB5-BB83-15EADF66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10D-8C4B-4EE4-8C2D-53132C90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A95-59B4-4476-A83F-49E2AE3E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54FF-FC2B-4E2E-90AE-52AB44C7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D2F-C26B-42BF-B337-12CBC83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ED5E-3FB5-49DC-9655-BD140B0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9595-2414-4A47-B954-7D7E405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2178-A57C-42A9-ACBA-8B81A383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518-208B-4F75-984D-B08946CD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C880-4C78-46BF-BBAC-7389A46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94C-CA03-4576-B58F-AF29FD3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43F-9E59-4E24-953F-123AC2B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525B-8676-4A2D-B20F-CB94E9A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AA81-1F08-46EB-A972-F1C7CF5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B48-2C76-41F8-80C9-782BB337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8A6-117F-4F34-8225-7D9FF658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D1A-51AC-468A-8107-FB0F8BE0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690-DCD2-40CC-BE89-8CE0A809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3A8-30CF-4859-BA0F-382E619B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73E-F0CF-46B7-938E-E1B1D82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089-9137-4B94-88D6-FD206A2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940-00FF-43D0-85F0-D6BC291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CA6-5C8A-42F3-803B-97E7110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331-3E9A-4E86-B6DF-085C1067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3337-A37F-43A1-A765-2223728A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042920" y="981000"/>
                <a:ext cx="496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A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2421000"/>
                <a:ext cx="45007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42920" y="3762360"/>
                <a:ext cx="4033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5229360"/>
                <a:ext cx="49341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110280" y="907920"/>
            <a:ext cx="3033720" cy="5519880"/>
            <a:chOff x="6110280" y="907920"/>
            <a:chExt cx="3033720" cy="551988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110280" y="907920"/>
                  <a:ext cx="30337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156360" y="2781360"/>
                  <a:ext cx="12859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6227640" y="3795840"/>
                  <a:ext cx="12859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227640" y="530064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42920" y="549360"/>
                <a:ext cx="510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2920" y="1700280"/>
                <a:ext cx="4200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42920" y="3429000"/>
                <a:ext cx="642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6000" y="5157720"/>
                <a:ext cx="4734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732720" y="549360"/>
            <a:ext cx="2411280" cy="5735520"/>
            <a:chOff x="6732720" y="549360"/>
            <a:chExt cx="2411280" cy="57355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732720" y="549360"/>
                  <a:ext cx="21096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5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754680" y="1779480"/>
                  <a:ext cx="13845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804000" y="4149720"/>
                  <a:ext cx="2340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7</m:t>
                      </m:r>
                      <m:r>
                        <m:t xml:space="preserve">+</m:t>
                      </m:r>
                      <m:r>
                        <m:t xml:space="preserve">4,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804000" y="515772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87280" y="260280"/>
                <a:ext cx="4434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1484280"/>
                <a:ext cx="5257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16000" y="3141720"/>
                <a:ext cx="4751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4869000"/>
                <a:ext cx="6100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6659640" y="476280"/>
            <a:ext cx="2484360" cy="5715000"/>
            <a:chOff x="6659640" y="476280"/>
            <a:chExt cx="2484360" cy="571500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659640" y="476280"/>
                  <a:ext cx="13507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732720" y="1773360"/>
                  <a:ext cx="18460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659640" y="3141720"/>
                  <a:ext cx="22748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770520" y="5661000"/>
                  <a:ext cx="2373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r>
                        <m:t xml:space="preserve">+</m:t>
                      </m:r>
                      <m:r>
                        <m:t xml:space="preserve">5,8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77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goniometrického tvaru na tvar algebraick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GT na 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tu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80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gument KČ převeďte z obloukové míry na stupňovou pro lepší srozumitelnos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hodnoty goniometrických funkcí kosinus a sinus pomo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abulek – pro hodnoty argumentu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6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jejich násobk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lkulátoru – pro zbylé hodnoty argumen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násobte tyto hodnoty vzdáleností KČ od počátk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2494080"/>
                <a:ext cx="338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71640" y="1125360"/>
            <a:ext cx="360360" cy="93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5280"/>
              <a:gd name="textAreaBottom" fmla="*/ 918000 h 935280"/>
            </a:gdLst>
            <a:ahLst/>
            <a:rect l="textAreaLeft" t="textAreaTop" r="textAreaRight" b="textAreaBottom"/>
            <a:pathLst>
              <a:path w="21600" h="56026">
                <a:moveTo>
                  <a:pt x="3600" y="0"/>
                </a:moveTo>
                <a:arcTo wR="3600" hR="3600" stAng="16200000" swAng="-5400000"/>
                <a:lnTo>
                  <a:pt x="0" y="52426"/>
                </a:lnTo>
                <a:arcTo wR="3600" hR="3600" stAng="10800000" swAng="-5400000"/>
                <a:lnTo>
                  <a:pt x="18000" y="56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494080"/>
            <a:ext cx="64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060640"/>
            <a:ext cx="0" cy="431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349360"/>
            <a:ext cx="1152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349360"/>
            <a:ext cx="1079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141720"/>
            <a:ext cx="431640" cy="12240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900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40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52360" y="1066680"/>
                <a:ext cx="3630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484360" y="350028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6560" y="4367160"/>
                <a:ext cx="22240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43320" y="4367160"/>
                <a:ext cx="14191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59360" y="4727520"/>
                <a:ext cx="177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9564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365720"/>
            <a:ext cx="431640" cy="115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636">
                <a:moveTo>
                  <a:pt x="3600" y="0"/>
                </a:moveTo>
                <a:arcTo wR="3600" hR="3600" stAng="16200000" swAng="-5400000"/>
                <a:lnTo>
                  <a:pt x="0" y="54036"/>
                </a:lnTo>
                <a:arcTo wR="3600" hR="3600" stAng="10800000" swAng="-5400000"/>
                <a:lnTo>
                  <a:pt x="18000" y="57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71640" y="189000"/>
                <a:ext cx="4290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63640" y="1557360"/>
                <a:ext cx="3997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63640" y="2924280"/>
                <a:ext cx="2028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03640" y="2852640"/>
                <a:ext cx="77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987640" y="26028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55736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2682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413000"/>
            <a:ext cx="1152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220500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3000"/>
            <a:ext cx="1152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5280" y="2205000"/>
            <a:ext cx="72072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23493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924280"/>
                <a:ext cx="1287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5229360"/>
                <a:ext cx="5062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3</m:t>
                            </m:r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4005360"/>
                <a:ext cx="5483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987640" y="407664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300640"/>
            <a:ext cx="1296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58136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076640"/>
            <a:ext cx="129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300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4581360"/>
            <a:ext cx="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0160" y="46530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není tabulková hodnota – kalkulá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6093000"/>
                <a:ext cx="27417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6019920"/>
                <a:ext cx="20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,2</m:t>
                            </m:r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16000" y="3429000"/>
                <a:ext cx="460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35280" y="4437000"/>
                <a:ext cx="4235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189000"/>
                <a:ext cx="4516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35280" y="1246320"/>
                <a:ext cx="4235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03240" y="1712880"/>
                <a:ext cx="38592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6000" y="2046240"/>
                <a:ext cx="151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5300640"/>
                <a:ext cx="3216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48360" y="5353200"/>
                <a:ext cx="1855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451640" y="2158920"/>
                <a:ext cx="1692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202520" y="5661000"/>
                <a:ext cx="1941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16000" y="3141720"/>
                <a:ext cx="4886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4221000"/>
                <a:ext cx="4545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35280" y="5300640"/>
                <a:ext cx="3828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651640" y="5445000"/>
                <a:ext cx="17128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51640" y="5445000"/>
                <a:ext cx="1368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116000" y="260280"/>
                <a:ext cx="4079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549360"/>
                <a:ext cx="3579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8000" y="1197000"/>
                <a:ext cx="2830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88000" y="1197000"/>
                <a:ext cx="1536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77080" y="155736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544500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53172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 příkladů je zřejmé, že je mnohem snadnější převést zápis KČ z AT na GT než-li naopak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652840"/>
                <a:ext cx="54007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645000"/>
                <a:ext cx="4829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16000" y="260280"/>
                <a:ext cx="5710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1341360"/>
                <a:ext cx="396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1</m:t>
                        </m:r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867280" y="1341360"/>
                <a:ext cx="2544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i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4149720"/>
                <a:ext cx="40672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84720" y="4149720"/>
                <a:ext cx="2067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916280"/>
                <a:ext cx="1773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,8</m:t>
                            </m:r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35280" y="765000"/>
                <a:ext cx="4741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21Z</dcterms:modified>
  <cp:revision>295</cp:revision>
  <dc:subject/>
  <dc:title>KČ</dc:title>
</cp:coreProperties>
</file>