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2BD8-E969-4960-9A53-887F09610A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6A24-BBE8-4943-BDAE-D4F874DD194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9D2-E4CB-422C-8050-7155230F7E2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DC66-3DFA-4DD2-82E2-019BAC8EDC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D678-0C9A-4B20-91E9-6525194BBB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B44-E2D6-4DE6-AC56-7C3B42D9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362-C1EE-4573-A74C-9F2BA9F9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BBB-745E-4B47-BC58-958023D5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E49-0CDA-4682-A4DD-4D8DE96D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98D5-10AC-44B1-AF5F-3F73F9A2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112A-547D-42C1-8A0F-F0746EA8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EF9D-ED33-4C28-A607-FBA457E7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5846-90EF-4C37-B38D-1851A91C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547A-25F2-4D6D-9B89-FD43F50E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D5AA-FF63-4BBE-9898-A2316225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E2F6-9420-4116-AB9B-942B18E3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6CE-38A8-4B3C-8188-E6B389D5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5C6A-9BB5-413A-A9A8-4FB89CF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2D17-38F0-4572-BD47-6334A61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0194-3000-4A8C-BC9E-E9125992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8D0F-ABC1-4ADD-9D51-C7D8266E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06D2-E06A-4EE8-B8C0-71ED8A91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D40-B8D3-4E4D-9BDE-73EA3DE6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00D-B648-4FA1-82A6-6A66DF12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A4F-7D9E-4C5D-95E1-5A5A01B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948-17E4-43AD-8BA1-F817D5A6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12F-FF25-4028-8DEC-B1991577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098-B33B-4D69-9F4D-21F1BA4D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A0A-A740-479F-BB6C-1FF2F4D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498C-4E5D-4B74-8223-5ECAC9727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79E0-289C-440C-B849-1285C1071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ncip porovnávání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942840" y="692280"/>
                <a:ext cx="319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2008080" y="1916280"/>
                <a:ext cx="4730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4"/>
              <p:cNvSpPr txBox="1"/>
              <p:nvPr/>
            </p:nvSpPr>
            <p:spPr>
              <a:xfrm>
                <a:off x="6300720" y="696960"/>
                <a:ext cx="1943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5"/>
              <p:cNvSpPr txBox="1"/>
              <p:nvPr/>
            </p:nvSpPr>
            <p:spPr>
              <a:xfrm>
                <a:off x="1101600" y="2341440"/>
                <a:ext cx="56595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6"/>
              <p:cNvSpPr txBox="1"/>
              <p:nvPr/>
            </p:nvSpPr>
            <p:spPr>
              <a:xfrm>
                <a:off x="1389240" y="2989440"/>
                <a:ext cx="539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7"/>
              <p:cNvSpPr txBox="1"/>
              <p:nvPr/>
            </p:nvSpPr>
            <p:spPr>
              <a:xfrm>
                <a:off x="2743200" y="3492360"/>
                <a:ext cx="4530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9"/>
              <p:cNvSpPr txBox="1"/>
              <p:nvPr/>
            </p:nvSpPr>
            <p:spPr>
              <a:xfrm>
                <a:off x="4226040" y="5373720"/>
                <a:ext cx="1479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Group 34"/>
          <p:cNvGrpSpPr/>
          <p:nvPr/>
        </p:nvGrpSpPr>
        <p:grpSpPr>
          <a:xfrm>
            <a:off x="1258920" y="4218120"/>
            <a:ext cx="2316240" cy="1085760"/>
            <a:chOff x="1258920" y="4218120"/>
            <a:chExt cx="2316240" cy="1085760"/>
          </a:xfrm>
        </p:grpSpPr>
        <p:sp>
          <p:nvSpPr>
            <p:cNvPr id="223" name="Line 25"/>
            <p:cNvSpPr/>
            <p:nvPr/>
          </p:nvSpPr>
          <p:spPr>
            <a:xfrm>
              <a:off x="1258920" y="5302080"/>
              <a:ext cx="231624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31"/>
                <p:cNvSpPr txBox="1"/>
                <p:nvPr/>
              </p:nvSpPr>
              <p:spPr>
                <a:xfrm>
                  <a:off x="1360440" y="4218120"/>
                  <a:ext cx="211608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7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5" name="Object 19"/>
              <p:cNvSpPr txBox="1"/>
              <p:nvPr/>
            </p:nvSpPr>
            <p:spPr>
              <a:xfrm>
                <a:off x="3651120" y="4284720"/>
                <a:ext cx="432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2"/>
              <p:cNvSpPr txBox="1"/>
              <p:nvPr/>
            </p:nvSpPr>
            <p:spPr>
              <a:xfrm>
                <a:off x="1332000" y="5373720"/>
                <a:ext cx="21477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3"/>
              <p:cNvSpPr txBox="1"/>
              <p:nvPr/>
            </p:nvSpPr>
            <p:spPr>
              <a:xfrm>
                <a:off x="6716880" y="5805360"/>
                <a:ext cx="14713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871720" y="3484440"/>
            <a:ext cx="1297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29440" y="3500280"/>
            <a:ext cx="287280" cy="50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5080"/>
              <a:gd name="textAreaBottom" fmla="*/ 491040 h 505080"/>
            </a:gdLst>
            <a:ahLst/>
            <a:rect l="textAreaLeft" t="textAreaTop" r="textAreaRight" b="textAreaBottom"/>
            <a:pathLst>
              <a:path w="21600" h="37955">
                <a:moveTo>
                  <a:pt x="3600" y="0"/>
                </a:moveTo>
                <a:arcTo wR="3600" hR="3600" stAng="16200000" swAng="-5400000"/>
                <a:lnTo>
                  <a:pt x="0" y="34355"/>
                </a:lnTo>
                <a:arcTo wR="3600" hR="3600" stAng="10800000" swAng="-5400000"/>
                <a:lnTo>
                  <a:pt x="18000" y="37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8800" y="3484440"/>
            <a:ext cx="1584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16720" y="3500280"/>
            <a:ext cx="576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4221000"/>
            <a:ext cx="2087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724280"/>
            <a:ext cx="2087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3"/>
              <p:cNvSpPr txBox="1"/>
              <p:nvPr/>
            </p:nvSpPr>
            <p:spPr>
              <a:xfrm>
                <a:off x="6762600" y="5259240"/>
                <a:ext cx="1814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30400" y="1908000"/>
            <a:ext cx="115092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57680" y="1908000"/>
            <a:ext cx="115092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981000"/>
            <a:ext cx="288720" cy="43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306">
                <a:moveTo>
                  <a:pt x="3600" y="0"/>
                </a:moveTo>
                <a:arcTo wR="3600" hR="3600" stAng="16200000" swAng="-5400000"/>
                <a:lnTo>
                  <a:pt x="0" y="28706"/>
                </a:lnTo>
                <a:arcTo wR="3600" hR="3600" stAng="10800000" swAng="-5400000"/>
                <a:lnTo>
                  <a:pt x="18000" y="32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98100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27280" y="1484280"/>
            <a:ext cx="36036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9640" y="1413000"/>
            <a:ext cx="1223640" cy="43164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067280" y="4436640"/>
            <a:ext cx="433440" cy="576720"/>
            <a:chOff x="4067280" y="4436640"/>
            <a:chExt cx="433440" cy="576720"/>
          </a:xfrm>
        </p:grpSpPr>
        <p:cxnSp>
          <p:nvCxnSpPr>
            <p:cNvPr id="242" name=""/>
            <p:cNvCxnSpPr/>
            <p:nvPr/>
          </p:nvCxnSpPr>
          <p:spPr>
            <a:xfrm rot="5400000">
              <a:off x="3923640" y="4724280"/>
              <a:ext cx="577080" cy="2160"/>
            </a:xfrm>
            <a:prstGeom prst="bentConnector3">
              <a:avLst>
                <a:gd name="adj1" fmla="val 49812"/>
              </a:avLst>
            </a:prstGeom>
            <a:ln w="9360">
              <a:solidFill>
                <a:srgbClr val="dddddd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4067280" y="4437000"/>
              <a:ext cx="14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7280" y="5013360"/>
              <a:ext cx="14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45" name="Group 40"/>
            <p:cNvGrpSpPr/>
            <p:nvPr/>
          </p:nvGrpSpPr>
          <p:grpSpPr>
            <a:xfrm>
              <a:off x="4284720" y="4581360"/>
              <a:ext cx="216000" cy="217800"/>
              <a:chOff x="4284720" y="4581360"/>
              <a:chExt cx="216000" cy="217800"/>
            </a:xfrm>
          </p:grpSpPr>
          <p:sp>
            <p:nvSpPr>
              <p:cNvPr id="246" name="Line 41"/>
              <p:cNvSpPr/>
              <p:nvPr/>
            </p:nvSpPr>
            <p:spPr>
              <a:xfrm>
                <a:off x="4392720" y="4581360"/>
                <a:ext cx="0" cy="2178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2"/>
              <p:cNvSpPr/>
              <p:nvPr/>
            </p:nvSpPr>
            <p:spPr>
              <a:xfrm>
                <a:off x="4284720" y="469080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8" name="Object 32"/>
              <p:cNvSpPr txBox="1"/>
              <p:nvPr/>
            </p:nvSpPr>
            <p:spPr>
              <a:xfrm>
                <a:off x="2354400" y="5877000"/>
                <a:ext cx="869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9"/>
              <p:cNvSpPr txBox="1"/>
              <p:nvPr/>
            </p:nvSpPr>
            <p:spPr>
              <a:xfrm>
                <a:off x="4716360" y="5877000"/>
                <a:ext cx="1187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1087560" y="476280"/>
                <a:ext cx="4038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2786040" y="1341360"/>
                <a:ext cx="5748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1112760" y="1976400"/>
                <a:ext cx="7402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052880" y="5518080"/>
                <a:ext cx="18572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4" name="Group 10"/>
          <p:cNvGrpSpPr/>
          <p:nvPr/>
        </p:nvGrpSpPr>
        <p:grpSpPr>
          <a:xfrm>
            <a:off x="1547640" y="4365720"/>
            <a:ext cx="2316240" cy="1085760"/>
            <a:chOff x="1547640" y="4365720"/>
            <a:chExt cx="2316240" cy="1085760"/>
          </a:xfrm>
        </p:grpSpPr>
        <p:sp>
          <p:nvSpPr>
            <p:cNvPr id="255" name="Line 11"/>
            <p:cNvSpPr/>
            <p:nvPr/>
          </p:nvSpPr>
          <p:spPr>
            <a:xfrm>
              <a:off x="1547640" y="5449680"/>
              <a:ext cx="231624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12"/>
                <p:cNvSpPr txBox="1"/>
                <p:nvPr/>
              </p:nvSpPr>
              <p:spPr>
                <a:xfrm>
                  <a:off x="1620720" y="4365720"/>
                  <a:ext cx="21733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Object 15"/>
              <p:cNvSpPr txBox="1"/>
              <p:nvPr/>
            </p:nvSpPr>
            <p:spPr>
              <a:xfrm>
                <a:off x="2685960" y="5519880"/>
                <a:ext cx="9255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6"/>
              <p:cNvSpPr txBox="1"/>
              <p:nvPr/>
            </p:nvSpPr>
            <p:spPr>
              <a:xfrm>
                <a:off x="6988320" y="5878440"/>
                <a:ext cx="1503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8"/>
              <p:cNvSpPr txBox="1"/>
              <p:nvPr/>
            </p:nvSpPr>
            <p:spPr>
              <a:xfrm>
                <a:off x="1647720" y="2652840"/>
                <a:ext cx="69087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9"/>
              <p:cNvSpPr txBox="1"/>
              <p:nvPr/>
            </p:nvSpPr>
            <p:spPr>
              <a:xfrm>
                <a:off x="1862280" y="3286080"/>
                <a:ext cx="67053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0"/>
              <p:cNvSpPr txBox="1"/>
              <p:nvPr/>
            </p:nvSpPr>
            <p:spPr>
              <a:xfrm>
                <a:off x="4786200" y="3933720"/>
                <a:ext cx="3684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1144440" y="461880"/>
                <a:ext cx="3106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3" name="Group 6"/>
          <p:cNvGrpSpPr/>
          <p:nvPr/>
        </p:nvGrpSpPr>
        <p:grpSpPr>
          <a:xfrm>
            <a:off x="1579680" y="3960720"/>
            <a:ext cx="2315880" cy="1085760"/>
            <a:chOff x="1579680" y="3960720"/>
            <a:chExt cx="2315880" cy="1085760"/>
          </a:xfrm>
        </p:grpSpPr>
        <p:sp>
          <p:nvSpPr>
            <p:cNvPr id="264" name="Line 7"/>
            <p:cNvSpPr/>
            <p:nvPr/>
          </p:nvSpPr>
          <p:spPr>
            <a:xfrm>
              <a:off x="1579680" y="5044680"/>
              <a:ext cx="231588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8"/>
                <p:cNvSpPr txBox="1"/>
                <p:nvPr/>
              </p:nvSpPr>
              <p:spPr>
                <a:xfrm>
                  <a:off x="1854000" y="3960720"/>
                  <a:ext cx="176976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6" name="Object 9"/>
              <p:cNvSpPr txBox="1"/>
              <p:nvPr/>
            </p:nvSpPr>
            <p:spPr>
              <a:xfrm>
                <a:off x="2414520" y="5256360"/>
                <a:ext cx="1160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72160" y="5229360"/>
                <a:ext cx="15350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576440" y="1268280"/>
                <a:ext cx="4674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5"/>
              <p:cNvSpPr txBox="1"/>
              <p:nvPr/>
            </p:nvSpPr>
            <p:spPr>
              <a:xfrm>
                <a:off x="1446120" y="1917720"/>
                <a:ext cx="4618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6"/>
              <p:cNvSpPr txBox="1"/>
              <p:nvPr/>
            </p:nvSpPr>
            <p:spPr>
              <a:xfrm>
                <a:off x="3002040" y="2565360"/>
                <a:ext cx="2616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971640" y="318960"/>
                <a:ext cx="3484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098720" y="1693800"/>
                <a:ext cx="79898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373040" y="1111320"/>
                <a:ext cx="438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1171440" y="2392200"/>
                <a:ext cx="7917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1173240" y="3716280"/>
                <a:ext cx="6883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2038320" y="4508640"/>
                <a:ext cx="66801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1763640" y="5359320"/>
            <a:ext cx="4248360" cy="1094040"/>
            <a:chOff x="1763640" y="5359320"/>
            <a:chExt cx="4248360" cy="1094040"/>
          </a:xfrm>
        </p:grpSpPr>
        <mc:AlternateContent>
          <mc:Choice xmlns:a14="http://schemas.microsoft.com/office/drawing/2010/main" Requires="a14">
            <p:sp>
              <p:nvSpPr>
                <p:cNvPr id="278" name="Object 13"/>
                <p:cNvSpPr txBox="1"/>
                <p:nvPr/>
              </p:nvSpPr>
              <p:spPr>
                <a:xfrm>
                  <a:off x="1879560" y="5359320"/>
                  <a:ext cx="39816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r>
                        <m:t xml:space="preserve">6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14"/>
                <p:cNvSpPr txBox="1"/>
                <p:nvPr/>
              </p:nvSpPr>
              <p:spPr>
                <a:xfrm>
                  <a:off x="3722760" y="5950080"/>
                  <a:ext cx="19746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6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Line 15"/>
            <p:cNvSpPr/>
            <p:nvPr/>
          </p:nvSpPr>
          <p:spPr>
            <a:xfrm>
              <a:off x="1763640" y="6453360"/>
              <a:ext cx="4248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15"/>
              <p:cNvSpPr txBox="1"/>
              <p:nvPr/>
            </p:nvSpPr>
            <p:spPr>
              <a:xfrm>
                <a:off x="1576440" y="907920"/>
                <a:ext cx="39783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7"/>
              <p:cNvSpPr txBox="1"/>
              <p:nvPr/>
            </p:nvSpPr>
            <p:spPr>
              <a:xfrm>
                <a:off x="6602400" y="1052640"/>
                <a:ext cx="19764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8"/>
              <p:cNvSpPr txBox="1"/>
              <p:nvPr/>
            </p:nvSpPr>
            <p:spPr>
              <a:xfrm>
                <a:off x="2152800" y="1628640"/>
                <a:ext cx="342720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9"/>
              <p:cNvSpPr txBox="1"/>
              <p:nvPr/>
            </p:nvSpPr>
            <p:spPr>
              <a:xfrm>
                <a:off x="7626240" y="1773360"/>
                <a:ext cx="12207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1633680" y="3270240"/>
                <a:ext cx="2500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1"/>
              <p:cNvSpPr txBox="1"/>
              <p:nvPr/>
            </p:nvSpPr>
            <p:spPr>
              <a:xfrm>
                <a:off x="1144440" y="2349360"/>
                <a:ext cx="44722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2"/>
              <p:cNvSpPr txBox="1"/>
              <p:nvPr/>
            </p:nvSpPr>
            <p:spPr>
              <a:xfrm>
                <a:off x="1706400" y="3933720"/>
                <a:ext cx="24670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2139840" y="4781520"/>
                <a:ext cx="2003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4"/>
              <p:cNvSpPr txBox="1"/>
              <p:nvPr/>
            </p:nvSpPr>
            <p:spPr>
              <a:xfrm>
                <a:off x="3117960" y="5734080"/>
                <a:ext cx="1162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5"/>
              <p:cNvSpPr txBox="1"/>
              <p:nvPr/>
            </p:nvSpPr>
            <p:spPr>
              <a:xfrm>
                <a:off x="4456080" y="5734080"/>
                <a:ext cx="10159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Rectangle 26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 pokračování…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72000" y="4005360"/>
            <a:ext cx="457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vás nenapadne algebraický vzorec, použijte vzorec pro kořeny s diskriminante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8"/>
              <p:cNvSpPr txBox="1"/>
              <p:nvPr/>
            </p:nvSpPr>
            <p:spPr>
              <a:xfrm>
                <a:off x="6769080" y="5700600"/>
                <a:ext cx="17226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155600" y="549360"/>
                <a:ext cx="39625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227240" y="2852640"/>
                <a:ext cx="2536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227240" y="4869000"/>
                <a:ext cx="3423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7" name="Group 11"/>
          <p:cNvGrpSpPr/>
          <p:nvPr/>
        </p:nvGrpSpPr>
        <p:grpSpPr>
          <a:xfrm>
            <a:off x="6284880" y="836640"/>
            <a:ext cx="1724040" cy="4594320"/>
            <a:chOff x="6284880" y="836640"/>
            <a:chExt cx="1724040" cy="4594320"/>
          </a:xfrm>
        </p:grpSpPr>
        <mc:AlternateContent>
          <mc:Choice xmlns:a14="http://schemas.microsoft.com/office/drawing/2010/main" Requires="a14">
            <p:sp>
              <p:nvSpPr>
                <p:cNvPr id="298" name="Object 7"/>
                <p:cNvSpPr txBox="1"/>
                <p:nvPr/>
              </p:nvSpPr>
              <p:spPr>
                <a:xfrm>
                  <a:off x="6284880" y="836640"/>
                  <a:ext cx="140004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8"/>
                <p:cNvSpPr txBox="1"/>
                <p:nvPr/>
              </p:nvSpPr>
              <p:spPr>
                <a:xfrm>
                  <a:off x="6338880" y="2565360"/>
                  <a:ext cx="167004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Object 9"/>
                <p:cNvSpPr txBox="1"/>
                <p:nvPr/>
              </p:nvSpPr>
              <p:spPr>
                <a:xfrm>
                  <a:off x="6427800" y="4924440"/>
                  <a:ext cx="13669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5010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rovnice (rovnosti) s imaginárními koeficient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rovnice (rovnosti) s imaginárními koeficienty; Separace proměnné; Porovnávání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Lineární rovnice s imaginárními koeficienty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116000" y="1125360"/>
                <a:ext cx="20289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 17"/>
          <p:cNvGrpSpPr/>
          <p:nvPr/>
        </p:nvGrpSpPr>
        <p:grpSpPr>
          <a:xfrm>
            <a:off x="5867280" y="2565360"/>
            <a:ext cx="1368360" cy="1294920"/>
            <a:chOff x="5867280" y="2565360"/>
            <a:chExt cx="1368360" cy="1294920"/>
          </a:xfrm>
        </p:grpSpPr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5867280" y="2565360"/>
                  <a:ext cx="1230120" cy="38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6"/>
                <p:cNvSpPr txBox="1"/>
                <p:nvPr/>
              </p:nvSpPr>
              <p:spPr>
                <a:xfrm>
                  <a:off x="6065280" y="2995920"/>
                  <a:ext cx="1170360" cy="86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" name="Group 9"/>
          <p:cNvGrpSpPr/>
          <p:nvPr/>
        </p:nvGrpSpPr>
        <p:grpSpPr>
          <a:xfrm>
            <a:off x="3564000" y="1197000"/>
            <a:ext cx="2592000" cy="501480"/>
            <a:chOff x="3564000" y="1197000"/>
            <a:chExt cx="2592000" cy="501480"/>
          </a:xfrm>
        </p:grpSpPr>
        <mc:AlternateContent>
          <mc:Choice xmlns:a14="http://schemas.microsoft.com/office/drawing/2010/main" Requires="a14">
            <p:sp>
              <p:nvSpPr>
                <p:cNvPr id="147" name="Object 7"/>
                <p:cNvSpPr txBox="1"/>
                <p:nvPr/>
              </p:nvSpPr>
              <p:spPr>
                <a:xfrm>
                  <a:off x="3564000" y="1197000"/>
                  <a:ext cx="149796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;</m:t>
                      </m:r>
                      <m:r>
                        <m:t xml:space="preserve">b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8"/>
                <p:cNvSpPr txBox="1"/>
                <p:nvPr/>
              </p:nvSpPr>
              <p:spPr>
                <a:xfrm>
                  <a:off x="5169600" y="1197000"/>
                  <a:ext cx="986400" cy="43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Rectangle 10"/>
          <p:cNvSpPr/>
          <p:nvPr/>
        </p:nvSpPr>
        <p:spPr>
          <a:xfrm>
            <a:off x="1187280" y="1773360"/>
            <a:ext cx="795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ncip separace proměnné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187280" y="3933720"/>
            <a:ext cx="79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ncip porovnávání KČ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stliže je v zadání kromě hledané proměnné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také číslo k němu komplexně sdruže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6"/>
          <p:cNvGrpSpPr/>
          <p:nvPr/>
        </p:nvGrpSpPr>
        <p:grpSpPr>
          <a:xfrm>
            <a:off x="2340000" y="5589720"/>
            <a:ext cx="3573000" cy="1008000"/>
            <a:chOff x="2340000" y="5589720"/>
            <a:chExt cx="3573000" cy="1008000"/>
          </a:xfrm>
        </p:grpSpPr>
        <mc:AlternateContent>
          <mc:Choice xmlns:a14="http://schemas.microsoft.com/office/drawing/2010/main" Requires="a14">
            <p:sp>
              <p:nvSpPr>
                <p:cNvPr id="152" name="Object 11"/>
                <p:cNvSpPr txBox="1"/>
                <p:nvPr/>
              </p:nvSpPr>
              <p:spPr>
                <a:xfrm>
                  <a:off x="2340000" y="5774760"/>
                  <a:ext cx="891360" cy="39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12"/>
                <p:cNvSpPr txBox="1"/>
                <p:nvPr/>
              </p:nvSpPr>
              <p:spPr>
                <a:xfrm>
                  <a:off x="3517920" y="5837400"/>
                  <a:ext cx="445680" cy="33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15"/>
                <p:cNvSpPr txBox="1"/>
                <p:nvPr/>
              </p:nvSpPr>
              <p:spPr>
                <a:xfrm>
                  <a:off x="4127760" y="5589720"/>
                  <a:ext cx="17852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i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ncip separace proměn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Najděte všechna KČ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(resp.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, pro která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1187280" y="1459080"/>
                <a:ext cx="206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1763640" y="2178000"/>
                <a:ext cx="15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1763640" y="3186000"/>
                <a:ext cx="16383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4859280" y="1459080"/>
                <a:ext cx="206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5219640" y="2133720"/>
                <a:ext cx="17607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6156360" y="6021360"/>
                <a:ext cx="1244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6013440" y="2781360"/>
                <a:ext cx="1305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7308720" y="2781360"/>
                <a:ext cx="851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6012000" y="3789360"/>
                <a:ext cx="1879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7"/>
              <p:cNvSpPr txBox="1"/>
              <p:nvPr/>
            </p:nvSpPr>
            <p:spPr>
              <a:xfrm>
                <a:off x="6084720" y="5013360"/>
                <a:ext cx="1548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419640" y="1484280"/>
                <a:ext cx="637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451640" y="2133720"/>
                <a:ext cx="12445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1189080" y="333360"/>
                <a:ext cx="2808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2556000" y="2349360"/>
                <a:ext cx="1628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2627280" y="5661000"/>
                <a:ext cx="3168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8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1692360" y="981000"/>
                <a:ext cx="2442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1619280" y="1773360"/>
                <a:ext cx="2500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4211640" y="2421000"/>
                <a:ext cx="1012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2556000" y="3429000"/>
                <a:ext cx="3465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2556000" y="4653000"/>
                <a:ext cx="3465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651640" y="260280"/>
                <a:ext cx="19587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6877080" y="1413000"/>
                <a:ext cx="777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4500720" y="1844640"/>
                <a:ext cx="1401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812000" y="476280"/>
                <a:ext cx="1332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116000" y="260280"/>
                <a:ext cx="20448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2268360" y="3429000"/>
                <a:ext cx="2159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2050920" y="1413000"/>
                <a:ext cx="20433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+</m:t>
                    </m:r>
                    <m:r>
                      <m:t xml:space="preserve">0,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268360" y="2276640"/>
                <a:ext cx="19004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3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9"/>
              <p:cNvSpPr txBox="1"/>
              <p:nvPr/>
            </p:nvSpPr>
            <p:spPr>
              <a:xfrm>
                <a:off x="4932360" y="260280"/>
                <a:ext cx="25351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7524720" y="260280"/>
                <a:ext cx="9921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4"/>
              <p:cNvSpPr txBox="1"/>
              <p:nvPr/>
            </p:nvSpPr>
            <p:spPr>
              <a:xfrm>
                <a:off x="5364000" y="1268280"/>
                <a:ext cx="26463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5"/>
              <p:cNvSpPr txBox="1"/>
              <p:nvPr/>
            </p:nvSpPr>
            <p:spPr>
              <a:xfrm>
                <a:off x="5435640" y="2421000"/>
                <a:ext cx="2395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6"/>
              <p:cNvSpPr txBox="1"/>
              <p:nvPr/>
            </p:nvSpPr>
            <p:spPr>
              <a:xfrm>
                <a:off x="6156360" y="3429000"/>
                <a:ext cx="16984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7"/>
              <p:cNvSpPr txBox="1"/>
              <p:nvPr/>
            </p:nvSpPr>
            <p:spPr>
              <a:xfrm>
                <a:off x="7812000" y="3429000"/>
                <a:ext cx="80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8"/>
              <p:cNvSpPr txBox="1"/>
              <p:nvPr/>
            </p:nvSpPr>
            <p:spPr>
              <a:xfrm>
                <a:off x="5364000" y="4508640"/>
                <a:ext cx="337032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9"/>
              <p:cNvSpPr txBox="1"/>
              <p:nvPr/>
            </p:nvSpPr>
            <p:spPr>
              <a:xfrm>
                <a:off x="6156360" y="5661000"/>
                <a:ext cx="24796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1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10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3348000" y="476280"/>
                <a:ext cx="12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7888320" y="2637000"/>
                <a:ext cx="12556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1476360" y="765000"/>
                <a:ext cx="2028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1476360" y="2276640"/>
                <a:ext cx="26002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476360" y="3860640"/>
                <a:ext cx="22510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1258920" y="5445000"/>
                <a:ext cx="3079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9" name=""/>
          <p:cNvGrpSpPr/>
          <p:nvPr/>
        </p:nvGrpSpPr>
        <p:grpSpPr>
          <a:xfrm>
            <a:off x="5364000" y="476280"/>
            <a:ext cx="2378160" cy="5762520"/>
            <a:chOff x="5364000" y="476280"/>
            <a:chExt cx="2378160" cy="5762520"/>
          </a:xfrm>
        </p:grpSpPr>
        <mc:AlternateContent>
          <mc:Choice xmlns:a14="http://schemas.microsoft.com/office/drawing/2010/main" Requires="a14">
            <p:sp>
              <p:nvSpPr>
                <p:cNvPr id="200" name="Object 7"/>
                <p:cNvSpPr txBox="1"/>
                <p:nvPr/>
              </p:nvSpPr>
              <p:spPr>
                <a:xfrm>
                  <a:off x="5364000" y="476280"/>
                  <a:ext cx="170352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12"/>
                <p:cNvSpPr txBox="1"/>
                <p:nvPr/>
              </p:nvSpPr>
              <p:spPr>
                <a:xfrm>
                  <a:off x="5364000" y="1987560"/>
                  <a:ext cx="183528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Object 13"/>
                <p:cNvSpPr txBox="1"/>
                <p:nvPr/>
              </p:nvSpPr>
              <p:spPr>
                <a:xfrm>
                  <a:off x="5364000" y="3573360"/>
                  <a:ext cx="1413000" cy="10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Object 14"/>
                <p:cNvSpPr txBox="1"/>
                <p:nvPr/>
              </p:nvSpPr>
              <p:spPr>
                <a:xfrm>
                  <a:off x="5364000" y="5157720"/>
                  <a:ext cx="237816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332000" y="763560"/>
                <a:ext cx="24415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1309680" y="2276640"/>
                <a:ext cx="3267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332000" y="3860640"/>
                <a:ext cx="3074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5"/>
              <p:cNvSpPr txBox="1"/>
              <p:nvPr/>
            </p:nvSpPr>
            <p:spPr>
              <a:xfrm>
                <a:off x="1332000" y="5445000"/>
                <a:ext cx="2762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" name="Group 11"/>
          <p:cNvGrpSpPr/>
          <p:nvPr/>
        </p:nvGrpSpPr>
        <p:grpSpPr>
          <a:xfrm>
            <a:off x="5435640" y="476280"/>
            <a:ext cx="2193840" cy="5455800"/>
            <a:chOff x="5435640" y="476280"/>
            <a:chExt cx="2193840" cy="5455800"/>
          </a:xfrm>
        </p:grpSpPr>
        <mc:AlternateContent>
          <mc:Choice xmlns:a14="http://schemas.microsoft.com/office/drawing/2010/main" Requires="a14">
            <p:sp>
              <p:nvSpPr>
                <p:cNvPr id="209" name="Object 7"/>
                <p:cNvSpPr txBox="1"/>
                <p:nvPr/>
              </p:nvSpPr>
              <p:spPr>
                <a:xfrm>
                  <a:off x="5435640" y="476280"/>
                  <a:ext cx="199224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8"/>
                <p:cNvSpPr txBox="1"/>
                <p:nvPr/>
              </p:nvSpPr>
              <p:spPr>
                <a:xfrm>
                  <a:off x="5508720" y="2276280"/>
                  <a:ext cx="15462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9"/>
                <p:cNvSpPr txBox="1"/>
                <p:nvPr/>
              </p:nvSpPr>
              <p:spPr>
                <a:xfrm>
                  <a:off x="5508720" y="3571560"/>
                  <a:ext cx="212076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10"/>
                <p:cNvSpPr txBox="1"/>
                <p:nvPr/>
              </p:nvSpPr>
              <p:spPr>
                <a:xfrm>
                  <a:off x="5508720" y="5445000"/>
                  <a:ext cx="135072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49Z</dcterms:modified>
  <cp:revision>297</cp:revision>
  <dc:subject/>
  <dc:title>KČ</dc:title>
</cp:coreProperties>
</file>