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FADE-9330-4F9F-AA3C-4F742AF78A3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812A-2A87-4632-8D05-39EA6DEAFB4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35B5-E16B-45F9-BFAE-FB94B7B7ACF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2735-AC91-4788-82EC-23777C7CC94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7665-D216-48DA-9C18-49DE7ED38FB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94AC-73D7-4341-AB66-E5677DC4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E2EF-5BEA-4753-8DA0-8D91E36E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52A0-12C0-454C-AD7A-A52257D6B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86B4-BA8C-422A-B5EA-2613F20B4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CA4F-98D6-4ED4-98E8-D8E8C3DA5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8F52-EC8B-4F60-9739-C2502ED2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51BA-8F9C-4A63-B34F-0195436C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DB2E-99FE-4238-80B6-7BB5243F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0C04-6B9A-4295-B064-5004095D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5617-4308-4D07-9F2A-AA7BAA5B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989B-7683-4864-9644-A80D8CC4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88ED-207B-471A-8119-FD811C00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E55E-A368-49D0-8B3B-0256CA17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E246-65AC-4F23-8E70-104A0A31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37D0-81C0-4483-B531-C7F24DDC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55C0-6F2C-490D-B7B9-FAFD79B06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7645-48DA-48AE-8394-D26998D7E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B31C-F91D-46C6-833B-78143C95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3B0F-F4A1-4B76-B85D-641ED359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42A8-F1B2-478B-9C42-822A3BFD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C4BA-94C9-44C8-A3C0-808CBED6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3228-A732-40EC-BD30-FC502D7A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07E2-CF97-4E6A-8C3D-7D789015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E85F-040F-421F-B89B-AD0B2FD1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F1DA-7EE4-4A3C-BCAD-FE1F96DF4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70A8-06B0-45BE-B50F-4F11DE13D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7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116000" y="260280"/>
            <a:ext cx="8028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20000"/>
              </a:lnSpc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apište dané KČ pomocí hodnoty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ákladního argumentu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162080" y="1989000"/>
                <a:ext cx="56037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440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440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37" name=""/>
          <p:cNvGrpSpPr/>
          <p:nvPr/>
        </p:nvGrpSpPr>
        <p:grpSpPr>
          <a:xfrm>
            <a:off x="1258920" y="4005360"/>
            <a:ext cx="7885080" cy="721440"/>
            <a:chOff x="1258920" y="4005360"/>
            <a:chExt cx="7885080" cy="721440"/>
          </a:xfrm>
        </p:grpSpPr>
        <p:sp>
          <p:nvSpPr>
            <p:cNvPr id="238" name=""/>
            <p:cNvSpPr/>
            <p:nvPr/>
          </p:nvSpPr>
          <p:spPr>
            <a:xfrm>
              <a:off x="1258920" y="4005360"/>
              <a:ext cx="78850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94160" y="4078440"/>
              <a:ext cx="510480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„</a:t>
              </a: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1 440 : 360 = 4 – 4 = 0 . 360 = 0“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908000" y="2997360"/>
                <a:ext cx="3467160" cy="70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5580000" y="1989000"/>
            <a:ext cx="1081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19640" y="1989000"/>
            <a:ext cx="1081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08720" y="1916280"/>
            <a:ext cx="18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gt;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360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3635280" y="3428640"/>
            <a:ext cx="2665440" cy="86364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4932000" y="3428640"/>
            <a:ext cx="1368360" cy="86364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187280" y="333360"/>
                <a:ext cx="55375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 900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 900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47" name=""/>
          <p:cNvGrpSpPr/>
          <p:nvPr/>
        </p:nvGrpSpPr>
        <p:grpSpPr>
          <a:xfrm>
            <a:off x="1258920" y="2062080"/>
            <a:ext cx="7885080" cy="719640"/>
            <a:chOff x="1258920" y="2062080"/>
            <a:chExt cx="7885080" cy="719640"/>
          </a:xfrm>
        </p:grpSpPr>
        <p:sp>
          <p:nvSpPr>
            <p:cNvPr id="248" name=""/>
            <p:cNvSpPr/>
            <p:nvPr/>
          </p:nvSpPr>
          <p:spPr>
            <a:xfrm>
              <a:off x="1258920" y="2062080"/>
              <a:ext cx="78850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619280" y="2133360"/>
              <a:ext cx="594684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„</a:t>
              </a: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900 : 360 = 2,5 – 2 = 0,5 . 360 = 180“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050920" y="1125360"/>
                <a:ext cx="4467240" cy="77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7308720" y="333360"/>
            <a:ext cx="18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gt;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360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187280" y="3573360"/>
                <a:ext cx="530100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 380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 380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53" name=""/>
          <p:cNvGrpSpPr/>
          <p:nvPr/>
        </p:nvGrpSpPr>
        <p:grpSpPr>
          <a:xfrm>
            <a:off x="1258920" y="5877000"/>
            <a:ext cx="7885080" cy="721440"/>
            <a:chOff x="1258920" y="5877000"/>
            <a:chExt cx="7885080" cy="721440"/>
          </a:xfrm>
        </p:grpSpPr>
        <p:sp>
          <p:nvSpPr>
            <p:cNvPr id="254" name=""/>
            <p:cNvSpPr/>
            <p:nvPr/>
          </p:nvSpPr>
          <p:spPr>
            <a:xfrm>
              <a:off x="1258920" y="5877000"/>
              <a:ext cx="78850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76360" y="5950080"/>
              <a:ext cx="701820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„</a:t>
              </a: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380 : 360 = 1,0556 – 1 = 0,0556 . 360 = 20“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979640" y="4581360"/>
                <a:ext cx="3933720" cy="11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5724360" y="404640"/>
            <a:ext cx="86364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80000" y="404640"/>
            <a:ext cx="863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308720" y="3716280"/>
            <a:ext cx="18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gt;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360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508720" y="3787920"/>
            <a:ext cx="792000" cy="502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64000" y="3787920"/>
            <a:ext cx="790560" cy="502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4427640" y="1628640"/>
            <a:ext cx="2232000" cy="7207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5866920" y="1628640"/>
            <a:ext cx="792360" cy="7207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3995640" y="5229000"/>
            <a:ext cx="3672000" cy="93636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5508360" y="5229000"/>
            <a:ext cx="2158920" cy="93636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116000" y="404640"/>
                <a:ext cx="5637240" cy="122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908000" y="1844640"/>
                <a:ext cx="445644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547640" y="5156280"/>
                <a:ext cx="234648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3851280" y="476280"/>
            <a:ext cx="792000" cy="1081080"/>
          </a:xfrm>
          <a:custGeom>
            <a:avLst/>
            <a:gdLst>
              <a:gd name="textAreaLeft" fmla="*/ 38520 w 792000"/>
              <a:gd name="textAreaRight" fmla="*/ 753480 w 792000"/>
              <a:gd name="textAreaTop" fmla="*/ 38520 h 1081080"/>
              <a:gd name="textAreaBottom" fmla="*/ 1042560 h 1081080"/>
            </a:gdLst>
            <a:ahLst/>
            <a:rect l="textAreaLeft" t="textAreaTop" r="textAreaRight" b="textAreaBottom"/>
            <a:pathLst>
              <a:path w="21600" h="29480">
                <a:moveTo>
                  <a:pt x="3600" y="0"/>
                </a:moveTo>
                <a:arcTo wR="3600" hR="3600" stAng="16200000" swAng="-5400000"/>
                <a:lnTo>
                  <a:pt x="0" y="25880"/>
                </a:lnTo>
                <a:arcTo wR="3600" hR="3600" stAng="10800000" swAng="-5400000"/>
                <a:lnTo>
                  <a:pt x="18000" y="294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236000" y="76500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gt;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2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24360" y="476280"/>
            <a:ext cx="792360" cy="1081080"/>
          </a:xfrm>
          <a:custGeom>
            <a:avLst/>
            <a:gdLst>
              <a:gd name="textAreaLeft" fmla="*/ 38520 w 792360"/>
              <a:gd name="textAreaRight" fmla="*/ 753840 w 792360"/>
              <a:gd name="textAreaTop" fmla="*/ 38520 h 1081080"/>
              <a:gd name="textAreaBottom" fmla="*/ 1042560 h 1081080"/>
            </a:gdLst>
            <a:ahLst/>
            <a:rect l="textAreaLeft" t="textAreaTop" r="textAreaRight" b="textAreaBottom"/>
            <a:pathLst>
              <a:path w="21600" h="29467">
                <a:moveTo>
                  <a:pt x="3600" y="0"/>
                </a:moveTo>
                <a:arcTo wR="3600" hR="3600" stAng="16200000" swAng="-5400000"/>
                <a:lnTo>
                  <a:pt x="0" y="25867"/>
                </a:lnTo>
                <a:arcTo wR="3600" hR="3600" stAng="10800000" swAng="-5400000"/>
                <a:lnTo>
                  <a:pt x="18000" y="294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258920" y="3645000"/>
            <a:ext cx="7885080" cy="1015920"/>
            <a:chOff x="1258920" y="3645000"/>
            <a:chExt cx="7885080" cy="1015920"/>
          </a:xfrm>
        </p:grpSpPr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1563840" y="3789360"/>
                  <a:ext cx="7310160" cy="87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,  násobky jsou:  </m:t>
                      </m:r>
                      <m:f>
                        <m:num>
                          <m:r>
                            <m:t xml:space="preserve">4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f>
                        <m:num>
                          <m:r>
                            <m:t xml:space="preserve">8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4" name=""/>
            <p:cNvSpPr/>
            <p:nvPr/>
          </p:nvSpPr>
          <p:spPr>
            <a:xfrm>
              <a:off x="1258920" y="3645000"/>
              <a:ext cx="7885080" cy="14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7020000" y="3716280"/>
            <a:ext cx="718920" cy="93672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936720"/>
              <a:gd name="textAreaBottom" fmla="*/ 901800 h 936720"/>
            </a:gdLst>
            <a:ahLst/>
            <a:rect l="textAreaLeft" t="textAreaTop" r="textAreaRight" b="textAreaBottom"/>
            <a:pathLst>
              <a:path w="21600" h="28141">
                <a:moveTo>
                  <a:pt x="3600" y="0"/>
                </a:moveTo>
                <a:arcTo wR="3600" hR="3600" stAng="16200000" swAng="-5400000"/>
                <a:lnTo>
                  <a:pt x="0" y="24541"/>
                </a:lnTo>
                <a:arcTo wR="3600" hR="3600" stAng="10800000" swAng="-5400000"/>
                <a:lnTo>
                  <a:pt x="18000" y="281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851280" y="2997000"/>
            <a:ext cx="289080" cy="21589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851280" y="2997000"/>
            <a:ext cx="1873080" cy="21589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187280" y="476280"/>
                <a:ext cx="448956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1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908000" y="1844640"/>
                <a:ext cx="330840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1604880" y="4941720"/>
                <a:ext cx="23749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81" name=""/>
          <p:cNvGrpSpPr/>
          <p:nvPr/>
        </p:nvGrpSpPr>
        <p:grpSpPr>
          <a:xfrm>
            <a:off x="1258920" y="3645000"/>
            <a:ext cx="7885080" cy="942840"/>
            <a:chOff x="1258920" y="3645000"/>
            <a:chExt cx="7885080" cy="942840"/>
          </a:xfrm>
        </p:grpSpPr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1619280" y="3716280"/>
                  <a:ext cx="5526000" cy="87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,  násobky jsou: 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;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;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3" name=""/>
            <p:cNvSpPr/>
            <p:nvPr/>
          </p:nvSpPr>
          <p:spPr>
            <a:xfrm>
              <a:off x="1258920" y="3645000"/>
              <a:ext cx="7885080" cy="14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987640" y="404640"/>
            <a:ext cx="720720" cy="115272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152720"/>
              <a:gd name="textAreaBottom" fmla="*/ 1117800 h 1152720"/>
            </a:gdLst>
            <a:ahLst/>
            <a:rect l="textAreaLeft" t="textAreaTop" r="textAreaRight" b="textAreaBottom"/>
            <a:pathLst>
              <a:path w="21600" h="34541">
                <a:moveTo>
                  <a:pt x="3600" y="0"/>
                </a:moveTo>
                <a:arcTo wR="3600" hR="3600" stAng="16200000" swAng="-5400000"/>
                <a:lnTo>
                  <a:pt x="0" y="30941"/>
                </a:lnTo>
                <a:arcTo wR="3600" hR="3600" stAng="10800000" swAng="-5400000"/>
                <a:lnTo>
                  <a:pt x="18000" y="345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948360" y="692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gt;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2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59280" y="404640"/>
            <a:ext cx="792360" cy="1152720"/>
          </a:xfrm>
          <a:custGeom>
            <a:avLst/>
            <a:gdLst>
              <a:gd name="textAreaLeft" fmla="*/ 38520 w 792360"/>
              <a:gd name="textAreaRight" fmla="*/ 753840 w 792360"/>
              <a:gd name="textAreaTop" fmla="*/ 38520 h 1152720"/>
              <a:gd name="textAreaBottom" fmla="*/ 1114200 h 1152720"/>
            </a:gdLst>
            <a:ahLst/>
            <a:rect l="textAreaLeft" t="textAreaTop" r="textAreaRight" b="textAreaBottom"/>
            <a:pathLst>
              <a:path w="21600" h="31419">
                <a:moveTo>
                  <a:pt x="3600" y="0"/>
                </a:moveTo>
                <a:arcTo wR="3600" hR="3600" stAng="16200000" swAng="-5400000"/>
                <a:lnTo>
                  <a:pt x="0" y="27819"/>
                </a:lnTo>
                <a:arcTo wR="3600" hR="3600" stAng="10800000" swAng="-5400000"/>
                <a:lnTo>
                  <a:pt x="18000" y="314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292720" y="3716280"/>
            <a:ext cx="574560" cy="93672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936720"/>
              <a:gd name="textAreaBottom" fmla="*/ 909000 h 936720"/>
            </a:gdLst>
            <a:ahLst/>
            <a:rect l="textAreaLeft" t="textAreaTop" r="textAreaRight" b="textAreaBottom"/>
            <a:pathLst>
              <a:path w="21600" h="35207">
                <a:moveTo>
                  <a:pt x="3600" y="0"/>
                </a:moveTo>
                <a:arcTo wR="3600" hR="3600" stAng="16200000" swAng="-5400000"/>
                <a:lnTo>
                  <a:pt x="0" y="31607"/>
                </a:lnTo>
                <a:arcTo wR="3600" hR="3600" stAng="10800000" swAng="-5400000"/>
                <a:lnTo>
                  <a:pt x="18000" y="352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3276360" y="2781000"/>
            <a:ext cx="431640" cy="21589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3708360" y="2781000"/>
            <a:ext cx="1079640" cy="21589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235160" y="693720"/>
                <a:ext cx="5400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7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7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2144880" y="1773360"/>
                <a:ext cx="39830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π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1692360" y="4348080"/>
                <a:ext cx="17604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π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3" name=""/>
          <p:cNvGrpSpPr/>
          <p:nvPr/>
        </p:nvGrpSpPr>
        <p:grpSpPr>
          <a:xfrm>
            <a:off x="1258920" y="3268800"/>
            <a:ext cx="7885080" cy="750600"/>
            <a:chOff x="1258920" y="3268800"/>
            <a:chExt cx="7885080" cy="750600"/>
          </a:xfrm>
        </p:grpSpPr>
        <mc:AlternateContent>
          <mc:Choice xmlns:a14="http://schemas.microsoft.com/office/drawing/2010/main" Requires="a14">
            <p:sp>
              <p:nvSpPr>
                <p:cNvPr id="294" name=""/>
                <p:cNvSpPr txBox="1"/>
                <p:nvPr/>
              </p:nvSpPr>
              <p:spPr>
                <a:xfrm>
                  <a:off x="1706400" y="3556080"/>
                  <a:ext cx="4507200" cy="46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  <m:r>
                        <m:rPr>
                          <m:lit/>
                          <m:nor/>
                        </m:rPr>
                        <m:t xml:space="preserve">,  násobky jsou: </m:t>
                      </m:r>
                      <m:r>
                        <m:t xml:space="preserve">4</m:t>
                      </m:r>
                      <m:r>
                        <m:t xml:space="preserve">π</m:t>
                      </m:r>
                      <m:r>
                        <m:t xml:space="preserve">;</m:t>
                      </m:r>
                      <m:r>
                        <m:t xml:space="preserve">6</m:t>
                      </m:r>
                      <m:r>
                        <m:t xml:space="preserve">π</m:t>
                      </m:r>
                      <m:r>
                        <m:t xml:space="preserve">;</m:t>
                      </m:r>
                      <m:r>
                        <m:t xml:space="preserve">8</m:t>
                      </m:r>
                      <m:r>
                        <m:t xml:space="preserve">π</m:t>
                      </m:r>
                      <m:r>
                        <m:t xml:space="preserve">;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5" name=""/>
            <p:cNvSpPr/>
            <p:nvPr/>
          </p:nvSpPr>
          <p:spPr>
            <a:xfrm>
              <a:off x="1258920" y="3268800"/>
              <a:ext cx="7885080" cy="14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4067280" y="765000"/>
            <a:ext cx="576000" cy="57636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576360"/>
              <a:gd name="textAreaBottom" fmla="*/ 548280 h 57636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164360" y="765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gt;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2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796000" y="765000"/>
            <a:ext cx="6476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59280" y="3573360"/>
            <a:ext cx="504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419640" y="2349360"/>
            <a:ext cx="865080" cy="194328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3419640" y="2349360"/>
            <a:ext cx="2232000" cy="194328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187280" y="549360"/>
                <a:ext cx="60073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,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64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640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1187280" y="2637000"/>
                <a:ext cx="44546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45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04" name=""/>
          <p:cNvGrpSpPr/>
          <p:nvPr/>
        </p:nvGrpSpPr>
        <p:grpSpPr>
          <a:xfrm>
            <a:off x="3851280" y="1197000"/>
            <a:ext cx="5292720" cy="5262480"/>
            <a:chOff x="3851280" y="1197000"/>
            <a:chExt cx="5292720" cy="5262480"/>
          </a:xfrm>
        </p:grpSpPr>
        <mc:AlternateContent>
          <mc:Choice xmlns:a14="http://schemas.microsoft.com/office/drawing/2010/main" Requires="a14">
            <p:sp>
              <p:nvSpPr>
                <p:cNvPr id="305" name=""/>
                <p:cNvSpPr txBox="1"/>
                <p:nvPr/>
              </p:nvSpPr>
              <p:spPr>
                <a:xfrm>
                  <a:off x="3924360" y="1197000"/>
                  <a:ext cx="4937040" cy="60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1,4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6" name=""/>
                <p:cNvSpPr txBox="1"/>
                <p:nvPr/>
              </p:nvSpPr>
              <p:spPr>
                <a:xfrm>
                  <a:off x="3984480" y="5302080"/>
                  <a:ext cx="5159520" cy="11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rad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315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315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3851280" y="3284640"/>
                  <a:ext cx="3641760" cy="49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rPr>
                          <m:lit/>
                          <m:nor/>
                        </m:rPr>
                        <m:t xml:space="preserve">°+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1187280" y="4365720"/>
                <a:ext cx="614232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395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395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1116000" y="549360"/>
                <a:ext cx="53658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39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390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1085760" y="2384280"/>
                <a:ext cx="46576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69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11" name=""/>
          <p:cNvGrpSpPr/>
          <p:nvPr/>
        </p:nvGrpSpPr>
        <p:grpSpPr>
          <a:xfrm>
            <a:off x="4284720" y="1197000"/>
            <a:ext cx="4859280" cy="5111640"/>
            <a:chOff x="4284720" y="1197000"/>
            <a:chExt cx="4859280" cy="5111640"/>
          </a:xfrm>
        </p:grpSpPr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4284720" y="1197000"/>
                  <a:ext cx="4306680" cy="60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3" name=""/>
                <p:cNvSpPr txBox="1"/>
                <p:nvPr/>
              </p:nvSpPr>
              <p:spPr>
                <a:xfrm>
                  <a:off x="4289400" y="5661000"/>
                  <a:ext cx="48546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7</m:t>
                          </m:r>
                        </m:e>
                      </m:ra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150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150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4" name=""/>
                <p:cNvSpPr txBox="1"/>
                <p:nvPr/>
              </p:nvSpPr>
              <p:spPr>
                <a:xfrm>
                  <a:off x="4311720" y="3284640"/>
                  <a:ext cx="4832280" cy="10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330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330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1116000" y="4869000"/>
                <a:ext cx="566892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87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870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116000" y="260280"/>
                <a:ext cx="445464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1042920" y="2565360"/>
                <a:ext cx="560232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18" name=""/>
          <p:cNvGrpSpPr/>
          <p:nvPr/>
        </p:nvGrpSpPr>
        <p:grpSpPr>
          <a:xfrm>
            <a:off x="4416480" y="1197000"/>
            <a:ext cx="4727520" cy="5256360"/>
            <a:chOff x="4416480" y="1197000"/>
            <a:chExt cx="4727520" cy="5256360"/>
          </a:xfrm>
        </p:grpSpPr>
        <mc:AlternateContent>
          <mc:Choice xmlns:a14="http://schemas.microsoft.com/office/drawing/2010/main" Requires="a14">
            <p:sp>
              <p:nvSpPr>
                <p:cNvPr id="319" name=""/>
                <p:cNvSpPr txBox="1"/>
                <p:nvPr/>
              </p:nvSpPr>
              <p:spPr>
                <a:xfrm>
                  <a:off x="4427640" y="1197000"/>
                  <a:ext cx="3186000" cy="109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4500720" y="5805360"/>
                  <a:ext cx="400500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1" name=""/>
                <p:cNvSpPr txBox="1"/>
                <p:nvPr/>
              </p:nvSpPr>
              <p:spPr>
                <a:xfrm>
                  <a:off x="4416480" y="3645000"/>
                  <a:ext cx="4727520" cy="11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f>
                            <m:num>
                              <m:r>
                                <m:t xml:space="preserve">5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t xml:space="preserve">5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1116000" y="5084640"/>
                <a:ext cx="52293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8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8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1116000" y="404640"/>
                <a:ext cx="52642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,8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1116000" y="1916280"/>
                <a:ext cx="5703840" cy="12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25" name=""/>
          <p:cNvGrpSpPr/>
          <p:nvPr/>
        </p:nvGrpSpPr>
        <p:grpSpPr>
          <a:xfrm>
            <a:off x="4356000" y="1054080"/>
            <a:ext cx="4788000" cy="5803920"/>
            <a:chOff x="4356000" y="1054080"/>
            <a:chExt cx="4788000" cy="5803920"/>
          </a:xfrm>
        </p:grpSpPr>
        <mc:AlternateContent>
          <mc:Choice xmlns:a14="http://schemas.microsoft.com/office/drawing/2010/main" Requires="a14">
            <p:sp>
              <p:nvSpPr>
                <p:cNvPr id="326" name=""/>
                <p:cNvSpPr txBox="1"/>
                <p:nvPr/>
              </p:nvSpPr>
              <p:spPr>
                <a:xfrm>
                  <a:off x="4356000" y="1054080"/>
                  <a:ext cx="4025880" cy="60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π</m:t>
                          </m:r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π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4427640" y="5699160"/>
                  <a:ext cx="4481280" cy="115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7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8" name=""/>
                <p:cNvSpPr txBox="1"/>
                <p:nvPr/>
              </p:nvSpPr>
              <p:spPr>
                <a:xfrm>
                  <a:off x="4381560" y="2997360"/>
                  <a:ext cx="4762440" cy="12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5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116000" y="4581360"/>
                <a:ext cx="5195880" cy="11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628640"/>
          <a:ext cx="7416720" cy="45403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gument komplexního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ou teoretickou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ást, ale také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gument a základní argument komplexního čísla; Orientovaný úhel; Stupňová a oblouková mír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11280" y="18900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258920" y="2349360"/>
            <a:ext cx="788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Argument KČ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042920" y="404640"/>
            <a:ext cx="78454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Orientovaný úhel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42920" y="1268280"/>
            <a:ext cx="8101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2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představuje v rovině uspořádanou dvojici polopřímek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lvl="1" marL="1339920" indent="-533520">
              <a:lnSpc>
                <a:spcPct val="12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spořádanou dvojici polopřímek chápeme tak, že jedna z nich je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976400" indent="-457200">
              <a:lnSpc>
                <a:spcPct val="12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AutoNum type="alphaLcParenR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rvní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nazýváme ji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čátečním ramenem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orientovaného úhlu, a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976400" indent="-457200">
              <a:lnSpc>
                <a:spcPct val="12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AutoNum type="alphaLcParenR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druhou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nazýváme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koncovým ramenem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orientovaného úhl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336840" y="3141720"/>
            <a:ext cx="1379520" cy="2106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64000" y="4653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03240" y="4392720"/>
            <a:ext cx="1508040" cy="171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232" y="1465"/>
                </a:moveTo>
                <a:arcTo wR="10800" hR="10800" stAng="-3588369" swAng="3588369"/>
                <a:lnTo>
                  <a:pt x="10800" y="10800"/>
                </a:lnTo>
                <a:close/>
              </a:path>
              <a:path fill="none" w="21600" h="21600">
                <a:moveTo>
                  <a:pt x="16232" y="1465"/>
                </a:moveTo>
                <a:arcTo wR="10800" hR="10800" stAng="-3588369" swAng="3588369"/>
              </a:path>
            </a:pathLst>
          </a:custGeom>
          <a:noFill/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619280" y="2205000"/>
            <a:ext cx="4613400" cy="4464000"/>
            <a:chOff x="1619280" y="2205000"/>
            <a:chExt cx="4613400" cy="4464000"/>
          </a:xfrm>
        </p:grpSpPr>
        <p:sp>
          <p:nvSpPr>
            <p:cNvPr id="148" name=""/>
            <p:cNvSpPr/>
            <p:nvPr/>
          </p:nvSpPr>
          <p:spPr>
            <a:xfrm>
              <a:off x="1619280" y="5229360"/>
              <a:ext cx="452592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3348000" y="2421000"/>
              <a:ext cx="0" cy="4248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49440" y="22050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70520" y="51354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7800" y="5229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3348000" y="5229360"/>
            <a:ext cx="280836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4" name="Skupina 110"/>
          <p:cNvGrpSpPr/>
          <p:nvPr/>
        </p:nvGrpSpPr>
        <p:grpSpPr>
          <a:xfrm>
            <a:off x="4932360" y="4076640"/>
            <a:ext cx="358920" cy="358920"/>
            <a:chOff x="4932360" y="4076640"/>
            <a:chExt cx="358920" cy="358920"/>
          </a:xfrm>
        </p:grpSpPr>
        <p:sp>
          <p:nvSpPr>
            <p:cNvPr id="155" name="Elipsa 109"/>
            <p:cNvSpPr/>
            <p:nvPr/>
          </p:nvSpPr>
          <p:spPr>
            <a:xfrm>
              <a:off x="4932360" y="4076640"/>
              <a:ext cx="358920" cy="358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6" name="Line 33"/>
            <p:cNvSpPr/>
            <p:nvPr/>
          </p:nvSpPr>
          <p:spPr>
            <a:xfrm>
              <a:off x="5022000" y="4255920"/>
              <a:ext cx="18144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7" name="Line 34"/>
            <p:cNvSpPr/>
            <p:nvPr/>
          </p:nvSpPr>
          <p:spPr>
            <a:xfrm flipV="1">
              <a:off x="5112000" y="4166280"/>
              <a:ext cx="0" cy="17928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 rot="20847600">
            <a:off x="4194360" y="3673080"/>
            <a:ext cx="1508040" cy="171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232" y="1465"/>
                </a:moveTo>
                <a:arcTo wR="10800" hR="10800" stAng="-3588369" swAng="3588369"/>
                <a:lnTo>
                  <a:pt x="10800" y="10800"/>
                </a:lnTo>
                <a:close/>
              </a:path>
              <a:path fill="none" w="21600" h="21600">
                <a:moveTo>
                  <a:pt x="16232" y="1465"/>
                </a:moveTo>
                <a:arcTo wR="10800" hR="10800" stAng="-3588369" swAng="3588369"/>
              </a:path>
            </a:pathLst>
          </a:custGeom>
          <a:noFill/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42040" y="5661000"/>
            <a:ext cx="560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ff66ff"/>
                </a:solidFill>
                <a:uFillTx/>
                <a:latin typeface="Times New Roman"/>
              </a:rPr>
              <a:t>počáteční rameno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orientovaného úhl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!!!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vždy kladná část souřadné osy 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60560" y="2637000"/>
            <a:ext cx="538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koncové rameno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 orientovaného úhl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69080" y="479592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66ff33"/>
                </a:solidFill>
                <a:latin typeface="Times New Roman"/>
              </a:rPr>
              <a:t>vrchol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276360" y="5156280"/>
            <a:ext cx="144720" cy="142920"/>
            <a:chOff x="3276360" y="5156280"/>
            <a:chExt cx="144720" cy="142920"/>
          </a:xfrm>
        </p:grpSpPr>
        <p:sp>
          <p:nvSpPr>
            <p:cNvPr id="163" name=""/>
            <p:cNvSpPr/>
            <p:nvPr/>
          </p:nvSpPr>
          <p:spPr>
            <a:xfrm>
              <a:off x="3276720" y="515628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3276360" y="515628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7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042920" y="333360"/>
            <a:ext cx="78454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Velikost orientovaného úhlu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42920" y="1197000"/>
            <a:ext cx="810108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uvádíme v míř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436760" indent="-533520">
              <a:lnSpc>
                <a:spcPct val="110000"/>
              </a:lnSpc>
              <a:spcBef>
                <a:spcPts val="2001"/>
              </a:spcBef>
              <a:buClr>
                <a:srgbClr val="dddddd"/>
              </a:buClr>
              <a:buFont typeface="Times New Roman"/>
              <a:buAutoNum type="alphaLcParenR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stupňové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2073240" indent="-4572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dnotka je 1 stupeň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2073240" indent="-4572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úhel nejčastěji označen </a:t>
            </a:r>
            <a:r>
              <a:rPr b="0" i="1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l-G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β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, </a:t>
            </a:r>
            <a:r>
              <a:rPr b="0" i="1" lang="el-GR" sz="2800" spc="-1" strike="noStrike">
                <a:solidFill>
                  <a:srgbClr val="dddddd"/>
                </a:solidFill>
                <a:latin typeface="Symbol"/>
                <a:ea typeface="Symbol"/>
              </a:rPr>
              <a:t>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, 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2073240" indent="-4572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trigonometrie pravoúhlého trojúhelník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436760" indent="-533520">
              <a:lnSpc>
                <a:spcPct val="110000"/>
              </a:lnSpc>
              <a:spcBef>
                <a:spcPts val="2001"/>
              </a:spcBef>
              <a:buClr>
                <a:srgbClr val="dddddd"/>
              </a:buClr>
              <a:buFont typeface="Times New Roman"/>
              <a:buAutoNum type="alphaLcParenR" startAt="2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obloukové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2073240" indent="-4572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dnotka 1 radiá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2073240" indent="-4572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úhel nejčastěji označen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2073240" indent="-4572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oniometrické funkce obecného úhl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16000" y="333360"/>
            <a:ext cx="802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Základní argument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16000" y="1341360"/>
            <a:ext cx="78487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410040" indent="-410040">
              <a:lnSpc>
                <a:spcPct val="13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528920"/>
                <a:tab algn="l" pos="241632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elikost každého orientovaného úhlu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lze vyjádřit pomocí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základní velikosti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úhlu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77760" indent="-40392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1528920"/>
                <a:tab algn="l" pos="241632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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360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ro stupňovou míru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77760" indent="-40392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1528920"/>
                <a:tab algn="l" pos="241632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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2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ro obloukovou míru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10040" indent="-41004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1528920"/>
                <a:tab algn="l" pos="241632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  pro každé celé číslo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plat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619280" y="5373720"/>
                <a:ext cx="56167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π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042920" y="189000"/>
            <a:ext cx="810108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172e"/>
                </a:solidFill>
                <a:latin typeface="Symbol"/>
                <a:ea typeface="Symbol"/>
              </a:rPr>
              <a:t></a:t>
            </a:r>
            <a:r>
              <a:rPr b="1" lang="cs-CZ" sz="40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~</a:t>
            </a:r>
            <a:r>
              <a:rPr b="1" lang="cs-CZ" sz="40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172e"/>
                </a:solidFill>
                <a:latin typeface="Symbol"/>
                <a:ea typeface="Symbol"/>
              </a:rPr>
              <a:t></a:t>
            </a:r>
            <a:r>
              <a:rPr b="1" lang="cs-CZ" sz="4000" spc="-1" strike="noStrike" baseline="-25000">
                <a:solidFill>
                  <a:srgbClr val="00172e"/>
                </a:solidFill>
                <a:latin typeface="Times New Roman"/>
              </a:rPr>
              <a:t>Z</a:t>
            </a:r>
            <a:br>
              <a:rPr sz="4000"/>
            </a:br>
            <a:r>
              <a:rPr b="1" lang="cs-CZ" sz="2800" spc="-1" strike="noStrike">
                <a:solidFill>
                  <a:srgbClr val="00172e"/>
                </a:solidFill>
                <a:latin typeface="Times New Roman"/>
              </a:rPr>
              <a:t>k vyjádření KČ lze vždy použít základní argumen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32000" y="5589720"/>
            <a:ext cx="6012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ozice počátečního a koncového ramene obou úhlů je stejná: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~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42920" y="1268280"/>
            <a:ext cx="8101080" cy="0"/>
          </a:xfrm>
          <a:prstGeom prst="line">
            <a:avLst/>
          </a:prstGeom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48000" y="3214800"/>
            <a:ext cx="758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α</a:t>
            </a:r>
            <a:r>
              <a:rPr b="0" lang="cs-CZ" sz="3200" spc="-1" strike="noStrike" baseline="-25000">
                <a:solidFill>
                  <a:srgbClr val="ff9900"/>
                </a:solidFill>
                <a:latin typeface="Times New Roman"/>
                <a:ea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71640" y="838080"/>
            <a:ext cx="6340320" cy="5472000"/>
            <a:chOff x="971640" y="838080"/>
            <a:chExt cx="6340320" cy="5472000"/>
          </a:xfrm>
        </p:grpSpPr>
        <p:sp>
          <p:nvSpPr>
            <p:cNvPr id="175" name=""/>
            <p:cNvSpPr/>
            <p:nvPr/>
          </p:nvSpPr>
          <p:spPr>
            <a:xfrm>
              <a:off x="971640" y="3862440"/>
              <a:ext cx="6264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3059280" y="1053720"/>
              <a:ext cx="1440" cy="5256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62160" y="838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949800" y="378936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88720" y="3789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5219640" y="3357720"/>
            <a:ext cx="27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66ff"/>
                </a:solidFill>
                <a:latin typeface="Times New Roman"/>
              </a:rPr>
              <a:t>počáteční rameno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09440" y="836640"/>
            <a:ext cx="25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oncové rameno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47280" y="2494080"/>
            <a:ext cx="3024360" cy="29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" y="10201"/>
                </a:moveTo>
                <a:arcTo wR="10800" hR="10800" stAng="-10609385" swAng="10337190"/>
                <a:lnTo>
                  <a:pt x="10800" y="10800"/>
                </a:lnTo>
                <a:close/>
              </a:path>
              <a:path fill="none" w="21600" h="21600">
                <a:moveTo>
                  <a:pt x="17" y="10201"/>
                </a:moveTo>
                <a:arcTo wR="10800" hR="10800" stAng="-10609385" swAng="10337190"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060720" y="1269720"/>
            <a:ext cx="1727280" cy="2609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17880" y="2996640"/>
            <a:ext cx="1901160" cy="181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7" y="1612"/>
                </a:moveTo>
                <a:arcTo wR="10800" hR="10800" stAng="-3497382" swAng="3301881"/>
                <a:lnTo>
                  <a:pt x="10800" y="10800"/>
                </a:lnTo>
                <a:close/>
              </a:path>
              <a:path fill="none" w="21600" h="21600">
                <a:moveTo>
                  <a:pt x="16477" y="1612"/>
                </a:moveTo>
                <a:arcTo wR="10800" hR="10800" stAng="-3497382" swAng="3301881"/>
              </a:path>
            </a:pathLst>
          </a:custGeom>
          <a:noFill/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29257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545480" y="2059560"/>
            <a:ext cx="3172680" cy="345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" y="10201"/>
                </a:moveTo>
                <a:arcTo wR="10800" hR="10800" stAng="-10609385" swAng="10427361"/>
                <a:lnTo>
                  <a:pt x="10800" y="10800"/>
                </a:lnTo>
                <a:close/>
              </a:path>
              <a:path fill="none" w="21600" h="21600">
                <a:moveTo>
                  <a:pt x="17" y="10201"/>
                </a:moveTo>
                <a:arcTo wR="10800" hR="10800" stAng="-10609385" swAng="10427361"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400760" y="1915200"/>
            <a:ext cx="3462480" cy="374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" y="10201"/>
                </a:moveTo>
                <a:arcTo wR="10800" hR="10800" stAng="-10609385" swAng="10427361"/>
                <a:lnTo>
                  <a:pt x="10800" y="10800"/>
                </a:lnTo>
                <a:close/>
              </a:path>
              <a:path fill="none" w="21600" h="21600">
                <a:moveTo>
                  <a:pt x="17" y="10201"/>
                </a:moveTo>
                <a:arcTo wR="10800" hR="10800" stAng="-10609385" swAng="10427361"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16000" y="189000"/>
            <a:ext cx="8028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KČ vyjadřujeme vždy pomocí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ecff"/>
                </a:solidFill>
                <a:latin typeface="Symbol"/>
                <a:ea typeface="Symbol"/>
              </a:rPr>
              <a:t>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Times New Roman"/>
              </a:rPr>
              <a:t>Z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60720" y="3862440"/>
            <a:ext cx="417528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00760" y="2349360"/>
            <a:ext cx="3317400" cy="331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" y="10201"/>
                </a:moveTo>
                <a:arcTo wR="10800" hR="10800" stAng="-10609385" swAng="10427361"/>
                <a:lnTo>
                  <a:pt x="10800" y="10800"/>
                </a:lnTo>
                <a:close/>
              </a:path>
              <a:path fill="none" w="21600" h="21600">
                <a:moveTo>
                  <a:pt x="17" y="10201"/>
                </a:moveTo>
                <a:arcTo wR="10800" hR="10800" stAng="-10609385" swAng="10427361"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57840" y="2206800"/>
            <a:ext cx="3605400" cy="359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27" y="1582"/>
                </a:moveTo>
                <a:arcTo wR="10800" hR="10800" stAng="-3515867" swAng="3333842"/>
                <a:lnTo>
                  <a:pt x="10800" y="10800"/>
                </a:lnTo>
                <a:close/>
              </a:path>
              <a:path fill="none" w="21600" h="21600">
                <a:moveTo>
                  <a:pt x="16427" y="1582"/>
                </a:moveTo>
                <a:arcTo wR="10800" hR="10800" stAng="-3515867" swAng="3333842"/>
              </a:path>
            </a:pathLst>
          </a:custGeom>
          <a:noFill/>
          <a:ln w="28440">
            <a:solidFill>
              <a:srgbClr val="66ff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8000"/>
                            </p:stCondLst>
                            <p:childTnLst>
                              <p:par>
                                <p:cTn id="1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971640" y="189000"/>
            <a:ext cx="79167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+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k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. 360</a:t>
            </a:r>
            <a:r>
              <a:rPr b="0" lang="en-US" sz="36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42920" y="1125360"/>
            <a:ext cx="810108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7120" indent="-6271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627120" indent="-627120">
              <a:lnSpc>
                <a:spcPct val="150000"/>
              </a:lnSpc>
              <a:spcBef>
                <a:spcPts val="799"/>
              </a:spcBef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1 500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Symbol"/>
                <a:ea typeface="Symbol"/>
              </a:rPr>
              <a:t>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~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 6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0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Symbol"/>
                <a:ea typeface="Symbol"/>
              </a:rPr>
              <a:t>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627120" indent="-62712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rotože 1 500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= 6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+ 4</a:t>
            </a:r>
            <a:r>
              <a:rPr b="0" lang="cs-CZ" sz="32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360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627120" indent="-62712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 500 : 360 = 4,1667 – 4 = 0,1667 . 360 = 60“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627120" indent="-627120">
              <a:lnSpc>
                <a:spcPct val="150000"/>
              </a:lnSpc>
              <a:spcBef>
                <a:spcPts val="2001"/>
              </a:spcBef>
              <a:buClr>
                <a:srgbClr val="dddddd"/>
              </a:buClr>
              <a:buSzPct val="80000"/>
              <a:buFont typeface="Times New Roman"/>
              <a:buAutoNum type="arabicParenR" startAt="2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2 040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Symbol"/>
                <a:ea typeface="Symbol"/>
              </a:rPr>
              <a:t>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~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 24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0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Symbol"/>
                <a:ea typeface="Symbol"/>
              </a:rPr>
              <a:t>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627120" indent="-62712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rotože 2 040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= 24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+ 5.360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627120" indent="-62712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 040 : 360 = 5,6667 – 5 = 0,6667 . 360 = 240“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42920" y="1052640"/>
            <a:ext cx="777708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076720" y="3213000"/>
            <a:ext cx="2735280" cy="43200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3635280" y="2565360"/>
            <a:ext cx="935280" cy="21600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148360" y="5661000"/>
            <a:ext cx="2735280" cy="43200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3706560" y="5013360"/>
            <a:ext cx="934920" cy="21600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971640" y="189000"/>
            <a:ext cx="79167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+ 2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i="1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+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k 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i="1" lang="en-US" sz="3600" spc="-1" strike="noStrike">
                <a:solidFill>
                  <a:srgbClr val="ccec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311120" y="5805360"/>
                <a:ext cx="78328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,  násobky jsou:  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1042920" y="1052640"/>
            <a:ext cx="777708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42920" y="1125360"/>
            <a:ext cx="8101080" cy="1727280"/>
            <a:chOff x="1042920" y="1125360"/>
            <a:chExt cx="8101080" cy="1727280"/>
          </a:xfrm>
        </p:grpSpPr>
        <p:sp>
          <p:nvSpPr>
            <p:cNvPr id="203" name=""/>
            <p:cNvSpPr/>
            <p:nvPr/>
          </p:nvSpPr>
          <p:spPr>
            <a:xfrm>
              <a:off x="1042920" y="1125360"/>
              <a:ext cx="8101080" cy="17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27120" indent="-627120">
                <a:lnSpc>
                  <a:spcPct val="110000"/>
                </a:lnSpc>
                <a:spcBef>
                  <a:spcPts val="799"/>
                </a:spcBef>
                <a:tabLst>
                  <a:tab algn="l" pos="0"/>
                  <a:tab algn="l" pos="67197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například: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  <a:p>
              <a:pPr marL="627120" indent="-627120">
                <a:lnSpc>
                  <a:spcPct val="150000"/>
                </a:lnSpc>
                <a:spcBef>
                  <a:spcPts val="799"/>
                </a:spcBef>
                <a:buClr>
                  <a:srgbClr val="dddddd"/>
                </a:buClr>
                <a:buSzPct val="80000"/>
                <a:buFont typeface="Times New Roman"/>
                <a:buAutoNum type="arabicParenR"/>
                <a:tabLst>
                  <a:tab algn="l" pos="67197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       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~</a:t>
              </a: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       ,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1692360" y="1773360"/>
                  <a:ext cx="750960" cy="97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1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2771640" y="1773360"/>
                  <a:ext cx="594000" cy="97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3600360" y="1844640"/>
                  <a:ext cx="5529240" cy="89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rotože 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1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8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⋅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7" name=""/>
            <p:cNvSpPr/>
            <p:nvPr/>
          </p:nvSpPr>
          <p:spPr>
            <a:xfrm>
              <a:off x="1763640" y="2781360"/>
              <a:ext cx="158436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1042920" y="4483080"/>
            <a:ext cx="8101080" cy="1177920"/>
            <a:chOff x="1042920" y="4483080"/>
            <a:chExt cx="8101080" cy="1177920"/>
          </a:xfrm>
        </p:grpSpPr>
        <p:sp>
          <p:nvSpPr>
            <p:cNvPr id="209" name=""/>
            <p:cNvSpPr/>
            <p:nvPr/>
          </p:nvSpPr>
          <p:spPr>
            <a:xfrm>
              <a:off x="1042920" y="4483080"/>
              <a:ext cx="8101080" cy="11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27120" indent="-627120">
                <a:lnSpc>
                  <a:spcPct val="150000"/>
                </a:lnSpc>
                <a:spcBef>
                  <a:spcPts val="2001"/>
                </a:spcBef>
                <a:buClr>
                  <a:srgbClr val="dddddd"/>
                </a:buClr>
                <a:buSzPct val="80000"/>
                <a:buFont typeface="Times New Roman"/>
                <a:buAutoNum type="arabicParenR" startAt="2"/>
                <a:tabLst>
                  <a:tab algn="l" pos="67197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~</a:t>
              </a: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 , 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0" name=""/>
                <p:cNvSpPr txBox="1"/>
                <p:nvPr/>
              </p:nvSpPr>
              <p:spPr>
                <a:xfrm>
                  <a:off x="1692360" y="4554360"/>
                  <a:ext cx="750960" cy="97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2843280" y="4554360"/>
                  <a:ext cx="593640" cy="97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3622680" y="4627440"/>
                  <a:ext cx="5521320" cy="89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rotože 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3" name=""/>
            <p:cNvSpPr/>
            <p:nvPr/>
          </p:nvSpPr>
          <p:spPr>
            <a:xfrm>
              <a:off x="1692360" y="5589360"/>
              <a:ext cx="1727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355760" y="3068640"/>
                <a:ext cx="77882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,  násobky jsou:  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7451640" y="2924280"/>
            <a:ext cx="649440" cy="93636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59280" y="5661000"/>
            <a:ext cx="576360" cy="93672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08000" y="2276640"/>
            <a:ext cx="360360" cy="504720"/>
          </a:xfrm>
          <a:prstGeom prst="flowChartAlternateProcess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50920" y="3500280"/>
            <a:ext cx="360360" cy="360360"/>
          </a:xfrm>
          <a:prstGeom prst="flowChartAlternateProcess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08000" y="5086440"/>
            <a:ext cx="360360" cy="504720"/>
          </a:xfrm>
          <a:prstGeom prst="flowChartAlternateProcess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79640" y="6237360"/>
            <a:ext cx="360360" cy="360360"/>
          </a:xfrm>
          <a:prstGeom prst="flowChartAlternateProcess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16720" y="1844640"/>
            <a:ext cx="649080" cy="93672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24720" y="1844640"/>
            <a:ext cx="503280" cy="936720"/>
          </a:xfrm>
          <a:prstGeom prst="flowChartAlternateProcess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71640" y="1773360"/>
            <a:ext cx="505080" cy="936360"/>
          </a:xfrm>
          <a:prstGeom prst="flowChartAlternateProcess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059280" y="1484280"/>
            <a:ext cx="4681440" cy="287280"/>
            <a:chOff x="3059280" y="1484280"/>
            <a:chExt cx="4681440" cy="287280"/>
          </a:xfrm>
        </p:grpSpPr>
        <p:sp>
          <p:nvSpPr>
            <p:cNvPr id="225" name=""/>
            <p:cNvSpPr/>
            <p:nvPr/>
          </p:nvSpPr>
          <p:spPr>
            <a:xfrm flipV="1">
              <a:off x="7740720" y="1484280"/>
              <a:ext cx="0" cy="28728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059280" y="1484280"/>
              <a:ext cx="4681440" cy="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59280" y="1484280"/>
              <a:ext cx="0" cy="21600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588000" y="4581360"/>
            <a:ext cx="576360" cy="93672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24720" y="4581360"/>
            <a:ext cx="503280" cy="936720"/>
          </a:xfrm>
          <a:prstGeom prst="flowChartAlternateProcess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43280" y="4581360"/>
            <a:ext cx="503280" cy="936720"/>
          </a:xfrm>
          <a:prstGeom prst="flowChartAlternateProcess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059280" y="4221000"/>
            <a:ext cx="4681440" cy="287280"/>
            <a:chOff x="3059280" y="4221000"/>
            <a:chExt cx="4681440" cy="287280"/>
          </a:xfrm>
        </p:grpSpPr>
        <p:sp>
          <p:nvSpPr>
            <p:cNvPr id="232" name=""/>
            <p:cNvSpPr/>
            <p:nvPr/>
          </p:nvSpPr>
          <p:spPr>
            <a:xfrm flipV="1">
              <a:off x="7740720" y="4221000"/>
              <a:ext cx="0" cy="28728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3059280" y="4221000"/>
              <a:ext cx="4681440" cy="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059280" y="4221000"/>
              <a:ext cx="0" cy="21600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4:12Z</dcterms:modified>
  <cp:revision>295</cp:revision>
  <dc:subject/>
  <dc:title>KČ</dc:title>
</cp:coreProperties>
</file>