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1A9C-F1F0-44D2-853F-109F4ADF62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2990-32BB-4851-8C27-C8F581A9C5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65A4-E9D6-4669-8C6E-3D3AF6049E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F990-AC7B-4937-A612-9EE6BF14F26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FC7-4AA0-4134-8474-5BC558DFAA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42B-4767-4F2F-AB42-F6EF8C52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F3B-3C89-47FC-86E2-C54519A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158-FB51-4DAE-9815-495F8EF0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7D7-6F12-45E3-B25A-30534B28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ECFF-0392-4254-A7C5-DF51C4E0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305C-F865-4455-9190-7284441A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7F37-03B0-4F9F-A44D-92C7859E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37FD-7A65-40E0-86A7-05F3AF6B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D2C6-C948-4E55-A7B2-460C95B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8A96-D569-4407-B88D-B3CB23F0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B7F7-FE41-4265-949A-C455018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F75-6C22-4BED-A8F0-DC46D6DE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2CB3-5C47-42DA-BC42-65D2F2C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BD71-0D63-483D-8BC3-77B668E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681-7752-4BF7-8DFB-5C3C178B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8421-37C3-487C-943E-362B9E86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8A9-6EE9-44FD-8B13-0A9C44C3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8FF-07B1-4880-B57D-31118202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603-6550-4AB2-B606-62B0A158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D08-55E7-4CA3-B8B3-2B1E5F2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2F9-90B8-4457-9258-5FE4BD79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24A-7852-45B4-904C-C867283E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7A8-C866-47AB-9070-1743D86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069-FEA6-496A-BF7D-15AF4D6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650F-C983-493B-9102-BD9222A6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9298-2588-47FD-B8DE-40B53FD6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189000"/>
                <a:ext cx="31003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20920" y="1843200"/>
                <a:ext cx="2733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36760" y="3571920"/>
                <a:ext cx="2700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92120" y="4724280"/>
                <a:ext cx="293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5364000" y="765000"/>
            <a:ext cx="1710000" cy="5226120"/>
            <a:chOff x="5364000" y="765000"/>
            <a:chExt cx="1710000" cy="522612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364000" y="1987560"/>
                  <a:ext cx="171000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435640" y="3645000"/>
                  <a:ext cx="1052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sup>
                      </m:sSup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364000" y="4869000"/>
                  <a:ext cx="17100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506920" y="765000"/>
                  <a:ext cx="525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476280"/>
                <a:ext cx="2166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65200" y="2060640"/>
                <a:ext cx="2100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65200" y="3284640"/>
                <a:ext cx="306720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5292720" y="620640"/>
            <a:ext cx="2192400" cy="5483160"/>
            <a:chOff x="5292720" y="620640"/>
            <a:chExt cx="2192400" cy="54831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292720" y="620640"/>
                  <a:ext cx="21700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348160" y="1741320"/>
                  <a:ext cx="213696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508720" y="3357720"/>
                  <a:ext cx="17748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764320" y="4981680"/>
                  <a:ext cx="144612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476360" y="4941720"/>
                <a:ext cx="2467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niny imaginárních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šší mocniny dvojčlenu; Algebraický tvar a goniometrický tvar komplexního čísla;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89000"/>
            <a:ext cx="7916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v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05264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početní operace, které jsme odvodili a procvičili v AT lze odvodit také pro GT, ale sčítat, odečítat, násobit či dělit je mnohem jednodušší v 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95520" y="5307120"/>
                <a:ext cx="704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umocníme: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Moivreova  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052640"/>
            <a:ext cx="81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0040" indent="-320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 GT se soustředíme pouze na </a:t>
            </a:r>
            <a:r>
              <a:rPr b="0" lang="cs-CZ" sz="3000" spc="-1" strike="noStrike" u="sng">
                <a:solidFill>
                  <a:srgbClr val="dddddd"/>
                </a:solidFill>
                <a:uFillTx/>
                <a:latin typeface="Times New Roman"/>
              </a:rPr>
              <a:t>mocniny KČ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(cos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in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0040" indent="-320040"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známk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;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…algebraické vzorce: AT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4,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5, 6, ...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.. Moivreova věta: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65300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3944880"/>
                <a:tab algn="l" pos="511812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ostup úpravy zapíšeme schematicky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765000"/>
                <a:ext cx="233352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64000" y="836640"/>
                <a:ext cx="503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92360" y="2421000"/>
                <a:ext cx="5472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3141720"/>
                <a:ext cx="5126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2360" y="1628640"/>
                <a:ext cx="5067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92360" y="3645000"/>
                <a:ext cx="4336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12000" y="3933720"/>
                <a:ext cx="2859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877000"/>
                <a:ext cx="22478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08720" y="6093000"/>
                <a:ext cx="1633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58920" y="5300640"/>
                <a:ext cx="1673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692360" y="907920"/>
            <a:ext cx="1439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5227560"/>
            <a:ext cx="1657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32000" y="5300640"/>
                <a:ext cx="274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6021360"/>
                <a:ext cx="3240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908000" y="1484280"/>
            <a:ext cx="0" cy="3745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602136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90792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11640" y="1483920"/>
            <a:ext cx="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08360" y="1483920"/>
            <a:ext cx="295092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380360" y="1483920"/>
            <a:ext cx="107928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602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907920"/>
            <a:ext cx="792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90792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765000"/>
            <a:ext cx="43200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83664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8440" y="1916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Moivreova v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2708280"/>
            <a:ext cx="18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 baseline="-25000">
                <a:solidFill>
                  <a:srgbClr val="66ff33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360</a:t>
            </a: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16000" y="404640"/>
                <a:ext cx="183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9280" y="333360"/>
                <a:ext cx="5262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59280" y="2292480"/>
                <a:ext cx="5079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059280" y="3213000"/>
                <a:ext cx="4698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258920" y="501336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03280" y="5145120"/>
                <a:ext cx="229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92400" y="1357200"/>
                <a:ext cx="5500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59280" y="4076640"/>
                <a:ext cx="2825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40360" y="4076640"/>
                <a:ext cx="1249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32000" y="5877000"/>
                <a:ext cx="2408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067280" y="5157720"/>
                <a:ext cx="2149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11640" y="5661000"/>
                <a:ext cx="28098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4360" y="5935680"/>
                <a:ext cx="1719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549360"/>
            <a:ext cx="7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08464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981000"/>
            <a:ext cx="0" cy="403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87844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7628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19640" y="1052280"/>
            <a:ext cx="50472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219280" y="1052280"/>
            <a:ext cx="331308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948000" y="1052280"/>
            <a:ext cx="158436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587700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04640"/>
            <a:ext cx="43164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33336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40360" y="549360"/>
                <a:ext cx="4478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0360" y="2421000"/>
                <a:ext cx="383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4365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03280" y="4437000"/>
                <a:ext cx="29322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77080" y="3357720"/>
                <a:ext cx="1444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388360" y="3357720"/>
                <a:ext cx="560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1484280"/>
                <a:ext cx="3987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40360" y="3284640"/>
                <a:ext cx="275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47640" y="5661000"/>
                <a:ext cx="2382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284720" y="5229360"/>
                <a:ext cx="282096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80360" y="5950080"/>
                <a:ext cx="15969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92360" y="333360"/>
            <a:ext cx="1871640" cy="115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1484280"/>
            <a:ext cx="0" cy="309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18900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56720" y="54936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87700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620640"/>
            <a:ext cx="216000" cy="57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76360"/>
              <a:gd name="textAreaBottom" fmla="*/ 565920 h 576360"/>
            </a:gdLst>
            <a:ahLst/>
            <a:rect l="textAreaLeft" t="textAreaTop" r="textAreaRight" b="textAreaBottom"/>
            <a:pathLst>
              <a:path w="21600" h="57576">
                <a:moveTo>
                  <a:pt x="3600" y="0"/>
                </a:moveTo>
                <a:arcTo wR="3600" hR="3600" stAng="16200000" swAng="-5400000"/>
                <a:lnTo>
                  <a:pt x="0" y="53976"/>
                </a:lnTo>
                <a:arcTo wR="3600" hR="3600" stAng="10800000" swAng="-5400000"/>
                <a:lnTo>
                  <a:pt x="18000" y="57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08360" y="1197000"/>
            <a:ext cx="93492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6920" y="1197000"/>
            <a:ext cx="273708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596360" y="1197000"/>
            <a:ext cx="100800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877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35280" y="549360"/>
                <a:ext cx="4900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2565360"/>
                <a:ext cx="4262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58920" y="450864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4513320"/>
                <a:ext cx="28800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74000" y="3068640"/>
                <a:ext cx="2070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484280"/>
                <a:ext cx="4314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3429000"/>
                <a:ext cx="353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76360" y="5664240"/>
                <a:ext cx="2409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11640" y="5234040"/>
                <a:ext cx="3085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43640" y="5950080"/>
                <a:ext cx="1792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476280"/>
                <a:ext cx="1533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700360" y="404640"/>
                <a:ext cx="4707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00360" y="2276640"/>
                <a:ext cx="531000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700360" y="3213000"/>
                <a:ext cx="4305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76360" y="5229360"/>
                <a:ext cx="151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700360" y="1197000"/>
                <a:ext cx="47671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700360" y="4076640"/>
                <a:ext cx="2630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9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76360" y="5805360"/>
                <a:ext cx="248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56000" y="5589720"/>
                <a:ext cx="28130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308720" y="5877000"/>
                <a:ext cx="1630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71640" y="404640"/>
                <a:ext cx="2300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492360" y="476280"/>
                <a:ext cx="4740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92360" y="2349360"/>
                <a:ext cx="4424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92360" y="3284640"/>
                <a:ext cx="410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16000" y="515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16000" y="5300640"/>
                <a:ext cx="2266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92360" y="1197000"/>
                <a:ext cx="5167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492360" y="4076640"/>
                <a:ext cx="28940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7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6000" y="5948280"/>
                <a:ext cx="3492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88000" y="5732640"/>
                <a:ext cx="2840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553160" y="6019920"/>
                <a:ext cx="159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56Z</dcterms:modified>
  <cp:revision>300</cp:revision>
  <dc:subject/>
  <dc:title>KČ</dc:title>
</cp:coreProperties>
</file>