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52AA-69D4-4DF7-A5B0-A235BA44B3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15D9-89E8-4814-9F72-137ABB20F0B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449B-4F9C-4A62-8E35-1A81E38351F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2C62-DBB2-4114-BF92-581748CDE98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ACE3-0050-4563-8BD2-6D08692EFDC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E4E-3802-4465-BE28-CA513E54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EB4-6795-4C96-AA86-B775C9C9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870-5AC8-4CF7-B670-897A79A7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DCB-54B6-47CA-8E11-9C49BF6A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BB31-5806-4554-ABE5-C689E69E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3984-2AD3-47FF-A897-B05080A6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B6DD-7A88-4AD0-A8F9-177D58E1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AC52-97FF-40BA-BEED-FA669813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AC6D-72B7-46B1-A645-E140C022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0772-3B14-4935-84FC-74E757BD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B504-C0FD-48A3-BB25-28603F50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8B2-B333-4C02-B60E-00177013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99F6-1A41-45EB-8D0F-C8D03C25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8A16-1CFA-42AA-92E6-B5A60BAB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163A-C282-46AD-B0A6-FE6B9291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7A52-15BB-4887-8577-2A58B91D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3FBE-58D7-4E9F-82DA-97E440A7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452-A077-4A52-B608-3316A282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A39-3DF5-4A1A-BC43-5E529042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B1C2-80AC-4DAA-9382-7AEC3BAE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877-49B9-4CCA-A6BB-77CAD53A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0D3-3DF0-48E0-A4BB-2E59C029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50D-5AD9-415B-B220-4ED18B4C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AB99-D82E-4562-B7CA-82193830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22EB-A8F2-48D4-A590-847533ED7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D89E-D721-4228-8CE2-F55C2500C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476280"/>
                <a:ext cx="5900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87640" y="2349360"/>
                <a:ext cx="4840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987640" y="3502080"/>
                <a:ext cx="59482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059280" y="4941720"/>
                <a:ext cx="380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987640" y="1557360"/>
                <a:ext cx="5934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60280"/>
                <a:ext cx="54007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03640" y="2781360"/>
                <a:ext cx="48085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203640" y="4005360"/>
                <a:ext cx="568476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203640" y="5300640"/>
                <a:ext cx="38671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203640" y="1514520"/>
                <a:ext cx="53290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971640" y="549360"/>
                <a:ext cx="64339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8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8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268360" y="1700280"/>
                <a:ext cx="58071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  <m:r>
                              <m:t xml:space="preserve">°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  <m:r>
                              <m:t xml:space="preserve">°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268360" y="4005360"/>
                <a:ext cx="6080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340000" y="5157720"/>
                <a:ext cx="5383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305080" y="2900520"/>
                <a:ext cx="6773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92240" y="189000"/>
                <a:ext cx="460044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900600" y="1052640"/>
                <a:ext cx="42336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933720" y="1844640"/>
                <a:ext cx="44672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940200" y="2637000"/>
                <a:ext cx="304020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8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116000" y="3500280"/>
                <a:ext cx="46753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486240" y="4365720"/>
                <a:ext cx="45673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419640" y="5157720"/>
                <a:ext cx="53006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492360" y="5877000"/>
                <a:ext cx="3900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165320" y="260280"/>
                <a:ext cx="473400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851280" y="1557360"/>
                <a:ext cx="430056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51280" y="2924280"/>
                <a:ext cx="482436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51280" y="4292640"/>
                <a:ext cx="4129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851280" y="5300640"/>
                <a:ext cx="32702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165320" y="189000"/>
                <a:ext cx="516708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419640" y="1484280"/>
                <a:ext cx="51004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19640" y="2852640"/>
                <a:ext cx="525456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419640" y="4149720"/>
                <a:ext cx="462564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419640" y="5373720"/>
                <a:ext cx="39304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092240" y="189000"/>
                <a:ext cx="566748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916360" y="1484280"/>
                <a:ext cx="54720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916360" y="2781360"/>
                <a:ext cx="5949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987640" y="4076640"/>
                <a:ext cx="59468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059280" y="5300640"/>
                <a:ext cx="485424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4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7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7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187280" y="260280"/>
                <a:ext cx="49341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635280" y="1484280"/>
                <a:ext cx="439920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564000" y="4076640"/>
                <a:ext cx="542124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564000" y="5300640"/>
                <a:ext cx="37972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564000" y="2565360"/>
                <a:ext cx="46911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171440" y="260280"/>
                <a:ext cx="466740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211640" y="1484280"/>
                <a:ext cx="4138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226040" y="4091040"/>
                <a:ext cx="45370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191120" y="5334120"/>
                <a:ext cx="343368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154400" y="2565360"/>
                <a:ext cx="39085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027080" y="260280"/>
                <a:ext cx="54673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635280" y="1549440"/>
                <a:ext cx="4608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736800" y="4076640"/>
                <a:ext cx="49896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736800" y="5300640"/>
                <a:ext cx="343404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664080" y="2565360"/>
                <a:ext cx="42987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3243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ivreova vět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ivreova věta; Goniometrický tvar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187280" y="260280"/>
                <a:ext cx="4967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116000" y="1773360"/>
                <a:ext cx="5234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116000" y="2997360"/>
                <a:ext cx="520056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187280" y="5084640"/>
                <a:ext cx="63342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1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1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4200480" y="1052640"/>
            <a:ext cx="4943520" cy="5557680"/>
            <a:chOff x="4200480" y="1052640"/>
            <a:chExt cx="4943520" cy="5557680"/>
          </a:xfrm>
        </p:grpSpPr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4211640" y="1052640"/>
                  <a:ext cx="375588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4211640" y="2492280"/>
                  <a:ext cx="454644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00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211640" y="4076640"/>
                  <a:ext cx="4052880" cy="102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200480" y="5950080"/>
                  <a:ext cx="49435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26</m:t>
                          </m:r>
                          <m:r>
                            <m:t xml:space="preserve">°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26</m:t>
                          </m:r>
                          <m:r>
                            <m:t xml:space="preserve">°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38240" y="260280"/>
                <a:ext cx="5267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773360"/>
                <a:ext cx="5467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042920" y="3284640"/>
                <a:ext cx="5567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09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042920" y="4724280"/>
                <a:ext cx="526752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3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73" name=""/>
          <p:cNvGrpSpPr/>
          <p:nvPr/>
        </p:nvGrpSpPr>
        <p:grpSpPr>
          <a:xfrm>
            <a:off x="4970520" y="907920"/>
            <a:ext cx="3921120" cy="5705640"/>
            <a:chOff x="4970520" y="907920"/>
            <a:chExt cx="3921120" cy="57056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5003640" y="907920"/>
                  <a:ext cx="388800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35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35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4970520" y="2492280"/>
                  <a:ext cx="375768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5148360" y="4005360"/>
                  <a:ext cx="342720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55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55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148360" y="5589720"/>
                  <a:ext cx="346068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042920" y="260280"/>
                <a:ext cx="420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971640" y="1341360"/>
                <a:ext cx="4267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971640" y="2852640"/>
                <a:ext cx="4267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81" name=""/>
          <p:cNvGrpSpPr/>
          <p:nvPr/>
        </p:nvGrpSpPr>
        <p:grpSpPr>
          <a:xfrm>
            <a:off x="4727520" y="404640"/>
            <a:ext cx="4416480" cy="6307200"/>
            <a:chOff x="4727520" y="404640"/>
            <a:chExt cx="4416480" cy="630720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5783400" y="404640"/>
                  <a:ext cx="336060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02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5867280" y="1484280"/>
                  <a:ext cx="2405160" cy="102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584680" y="2924280"/>
                  <a:ext cx="3559320" cy="11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4727520" y="5589720"/>
                  <a:ext cx="441648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62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042920" y="4292640"/>
                <a:ext cx="543420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260280"/>
            <a:ext cx="7916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ivreova vět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98100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 všechna přirozená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587600" y="1701720"/>
                <a:ext cx="7291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042920" y="2708280"/>
            <a:ext cx="81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809960" y="3429000"/>
                <a:ext cx="4334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62080" y="4740120"/>
                <a:ext cx="35845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16000" y="3284640"/>
                <a:ext cx="3700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859280" y="4005360"/>
                <a:ext cx="36003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88000" y="4869000"/>
                <a:ext cx="415116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41680" y="5948280"/>
                <a:ext cx="28861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516720" y="5877000"/>
                <a:ext cx="24591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427640" y="177336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0360" y="1989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198900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3284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4724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724360" y="3429000"/>
                <a:ext cx="3002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7740720" y="3429000"/>
                <a:ext cx="299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9" name=""/>
          <p:cNvCxnSpPr>
            <a:endCxn id="154" idx="0"/>
          </p:cNvCxnSpPr>
          <p:nvPr/>
        </p:nvCxnSpPr>
        <p:spPr>
          <a:xfrm>
            <a:off x="4788000" y="1773360"/>
            <a:ext cx="3350160" cy="202320"/>
          </a:xfrm>
          <a:prstGeom prst="curvedConnector2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</p:cxnSp>
      <p:cxnSp>
        <p:nvCxnSpPr>
          <p:cNvPr id="160" name=""/>
          <p:cNvCxnSpPr>
            <a:endCxn id="153" idx="0"/>
          </p:cNvCxnSpPr>
          <p:nvPr/>
        </p:nvCxnSpPr>
        <p:spPr>
          <a:xfrm>
            <a:off x="4788000" y="1773360"/>
            <a:ext cx="1297440" cy="202320"/>
          </a:xfrm>
          <a:prstGeom prst="curvedConnector2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651640" y="4869000"/>
                <a:ext cx="37764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596360" y="4869000"/>
                <a:ext cx="37764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427640" y="5948280"/>
            <a:ext cx="5047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28360" y="64008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 2</a:t>
            </a:r>
            <a:r>
              <a:rPr b="0" lang="cs-CZ" sz="2400" spc="-1" strike="noStrike">
                <a:solidFill>
                  <a:srgbClr val="99ff33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16000" y="836640"/>
                <a:ext cx="4800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64000" y="1557360"/>
                <a:ext cx="4667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564000" y="2278080"/>
                <a:ext cx="5267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92360" y="3078000"/>
                <a:ext cx="453564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1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187280" y="3933720"/>
                <a:ext cx="47340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35280" y="4653000"/>
                <a:ext cx="45007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35280" y="5373720"/>
                <a:ext cx="5100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635280" y="6168960"/>
                <a:ext cx="4249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042920" y="189000"/>
                <a:ext cx="5400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19640" y="981000"/>
                <a:ext cx="52336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19640" y="1628640"/>
                <a:ext cx="55339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564000" y="3003480"/>
                <a:ext cx="4392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116000" y="3730680"/>
                <a:ext cx="49687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132000" y="4508640"/>
                <a:ext cx="4867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110040" y="5229360"/>
                <a:ext cx="6033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132000" y="5950080"/>
                <a:ext cx="473400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492360" y="2355840"/>
                <a:ext cx="4680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6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6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042920" y="189000"/>
                <a:ext cx="54673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203640" y="1444680"/>
                <a:ext cx="53290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203640" y="2708280"/>
                <a:ext cx="57006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03640" y="5084640"/>
                <a:ext cx="43336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203640" y="3933720"/>
                <a:ext cx="46339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116000" y="3068640"/>
                <a:ext cx="5545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22680" y="3860640"/>
                <a:ext cx="5700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700360" y="4653000"/>
                <a:ext cx="62341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843280" y="6099120"/>
                <a:ext cx="50022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88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16000" y="260280"/>
                <a:ext cx="48006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492360" y="907920"/>
                <a:ext cx="4567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492360" y="1628640"/>
                <a:ext cx="5256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492360" y="2303640"/>
                <a:ext cx="439272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71640" y="5373720"/>
                <a:ext cx="5900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16000" y="404640"/>
                <a:ext cx="4834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564000" y="2133720"/>
                <a:ext cx="43210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564000" y="3286080"/>
                <a:ext cx="52228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564000" y="4653000"/>
                <a:ext cx="380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564000" y="1341360"/>
                <a:ext cx="4967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01680" y="476280"/>
                <a:ext cx="5234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529080" y="2205000"/>
                <a:ext cx="47098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525840" y="3357720"/>
                <a:ext cx="561816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578400" y="4724280"/>
                <a:ext cx="380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540240" y="1413000"/>
                <a:ext cx="5333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39Z</dcterms:modified>
  <cp:revision>299</cp:revision>
  <dc:subject/>
  <dc:title>KČ</dc:title>
</cp:coreProperties>
</file>