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760-74F7-45A4-8F93-3EE4CD4714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119-8BC7-41B6-BF5A-4EB26F5204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43F-62B5-45CE-8AC4-8CFAF55C1C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C24F-0E16-4E58-A742-2C9767D7D1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DF7-52A6-453A-A079-78F4D032FE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277-B2D7-40C1-8B69-9CC447AF6C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8CD-7FDB-42FA-ACA3-35E2323C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843-FAA6-4833-828D-130D5D13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A4D-C3CC-4CEB-8DC5-57719188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C70-D724-41F2-BB43-C8B5170B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6F92-7D52-4A63-A450-24113654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7271-6922-4554-92BB-2F5B03B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245-59D4-45AF-8702-FE109AB4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664-1F75-4860-A0BF-DE33EB2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A28-B54C-46C2-9FC7-47B59F94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ACBC-5B16-46F7-A6C2-A77CE26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BBE-9336-4E5F-8176-C577B17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06F-F206-448E-AA8B-E52C289D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622-DA7B-419C-93C7-4019C2B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4C3-9885-43EC-BA83-17E2518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186F-8BEC-49C3-9587-F734E578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161-AE19-4075-A779-465FF03F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2BDE-B19F-4C3A-A07A-358E9D2B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58F-7152-43A3-8367-69A8555D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FE4-9DDB-4E59-B2E1-9851FE8F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029-37A6-46FF-BA90-5F2872F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CF9-5C97-4020-974D-BACB5A6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E78-57DD-4641-8E68-151BB5F2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A94-9597-46A3-848A-654897BF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99F-F48B-4173-BEA5-26CDBB9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4B6F-4294-4F5B-A587-364339B4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E45B-4314-4D6D-B503-3EDB918B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a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eálná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333360"/>
            <a:ext cx="52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reálnou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reálné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42920" y="1773360"/>
            <a:ext cx="5693040" cy="4938480"/>
            <a:chOff x="1042920" y="1773360"/>
            <a:chExt cx="5693040" cy="4938480"/>
          </a:xfrm>
        </p:grpSpPr>
        <p:sp>
          <p:nvSpPr>
            <p:cNvPr id="365" name=""/>
            <p:cNvSpPr/>
            <p:nvPr/>
          </p:nvSpPr>
          <p:spPr>
            <a:xfrm>
              <a:off x="4703760" y="2859120"/>
              <a:ext cx="0" cy="1827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5360" y="2859120"/>
              <a:ext cx="9684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9920" y="241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643280" y="2803680"/>
              <a:ext cx="120960" cy="110880"/>
              <a:chOff x="4643280" y="2803680"/>
              <a:chExt cx="120960" cy="11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42920" y="4686480"/>
              <a:ext cx="558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40040" y="1940040"/>
              <a:ext cx="5040" cy="468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784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9520" y="462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5080" y="274788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232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36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328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24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52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682800" y="64562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682800" y="601200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682800" y="55706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2800" y="51292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82800" y="418788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682800" y="37450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82800" y="33019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82800" y="241632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82800" y="28591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978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784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63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6800" y="4076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6800" y="363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6800" y="319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230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4720" y="63435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4720" y="59022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4720" y="5460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4720" y="5019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2400" y="47401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496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580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3640" y="3745080"/>
              <a:ext cx="0" cy="93960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3640" y="3745080"/>
              <a:ext cx="14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242800" y="3689280"/>
              <a:ext cx="120960" cy="109440"/>
              <a:chOff x="2242800" y="3689280"/>
              <a:chExt cx="120960" cy="109440"/>
            </a:xfrm>
          </p:grpSpPr>
          <p:sp>
            <p:nvSpPr>
              <p:cNvPr id="417" name=""/>
              <p:cNvSpPr/>
              <p:nvPr/>
            </p:nvSpPr>
            <p:spPr>
              <a:xfrm>
                <a:off x="224316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24280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022840" y="3301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3160" y="4686480"/>
              <a:ext cx="0" cy="8841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3160" y="5570640"/>
              <a:ext cx="23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5600" y="56260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283760" y="5514840"/>
              <a:ext cx="119520" cy="109800"/>
              <a:chOff x="1283760" y="5514840"/>
              <a:chExt cx="119520" cy="109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28412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8376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183280" y="4686480"/>
              <a:ext cx="0" cy="132552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5080" y="6012000"/>
              <a:ext cx="1438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124600" y="5958000"/>
              <a:ext cx="118800" cy="109440"/>
              <a:chOff x="5124600" y="5958000"/>
              <a:chExt cx="118800" cy="109440"/>
            </a:xfrm>
          </p:grpSpPr>
          <p:sp>
            <p:nvSpPr>
              <p:cNvPr id="429" name=""/>
              <p:cNvSpPr/>
              <p:nvPr/>
            </p:nvSpPr>
            <p:spPr>
              <a:xfrm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896720" y="60688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682800" y="4130640"/>
              <a:ext cx="120960" cy="109440"/>
              <a:chOff x="3682800" y="4130640"/>
              <a:chExt cx="120960" cy="109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6831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68280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227400" y="39654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82920" y="4629240"/>
              <a:ext cx="120960" cy="109440"/>
              <a:chOff x="6082920" y="4629240"/>
              <a:chExt cx="120960" cy="109440"/>
            </a:xfrm>
          </p:grpSpPr>
          <p:sp>
            <p:nvSpPr>
              <p:cNvPr id="437" name=""/>
              <p:cNvSpPr/>
              <p:nvPr/>
            </p:nvSpPr>
            <p:spPr>
              <a:xfrm>
                <a:off x="608328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0829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803200" y="41832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3440" y="307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82800" y="3246480"/>
              <a:ext cx="120960" cy="109440"/>
              <a:chOff x="3682800" y="3246480"/>
              <a:chExt cx="120960" cy="109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68316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68280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3760" y="4629240"/>
              <a:ext cx="120960" cy="109440"/>
              <a:chOff x="2723760" y="4629240"/>
              <a:chExt cx="120960" cy="10944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1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2376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625120" y="424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4187880"/>
              <a:ext cx="0" cy="55224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744720" y="4187880"/>
              <a:ext cx="47772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920" y="368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163760" y="4130640"/>
              <a:ext cx="120960" cy="109440"/>
              <a:chOff x="4163760" y="4130640"/>
              <a:chExt cx="120960" cy="10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416412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1637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3132000" y="49417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82800" y="5072040"/>
              <a:ext cx="120960" cy="111240"/>
              <a:chOff x="3682800" y="5072040"/>
              <a:chExt cx="120960" cy="111240"/>
            </a:xfrm>
          </p:grpSpPr>
          <p:sp>
            <p:nvSpPr>
              <p:cNvPr id="456" name=""/>
              <p:cNvSpPr/>
              <p:nvPr/>
            </p:nvSpPr>
            <p:spPr>
              <a:xfrm>
                <a:off x="368316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68280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782800" y="2416320"/>
              <a:ext cx="0" cy="2268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2416320"/>
              <a:ext cx="95256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41960" y="1973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723760" y="2360520"/>
              <a:ext cx="120960" cy="109800"/>
              <a:chOff x="2723760" y="2360520"/>
              <a:chExt cx="120960" cy="109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72412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72376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63760" y="4686480"/>
              <a:ext cx="0" cy="17697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3760" y="6456240"/>
              <a:ext cx="47304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2880" y="61657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03280" y="6400800"/>
              <a:ext cx="120960" cy="109440"/>
              <a:chOff x="3203280" y="6400800"/>
              <a:chExt cx="120960" cy="1094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0364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20328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27280" y="4149720"/>
            <a:ext cx="504720" cy="100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123">
                <a:moveTo>
                  <a:pt x="3600" y="0"/>
                </a:moveTo>
                <a:arcTo wR="3600" hR="3600" stAng="16200000" swAng="-5400000"/>
                <a:lnTo>
                  <a:pt x="0" y="39523"/>
                </a:lnTo>
                <a:arcTo wR="3600" hR="3600" stAng="10800000" swAng="-5400000"/>
                <a:lnTo>
                  <a:pt x="18000" y="43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414972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55600" y="26028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–2,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765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yze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83664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imaginární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49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8000" y="400536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1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600" y="76500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1341360"/>
            <a:ext cx="45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obě část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mimo os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7640" y="2421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3213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44500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5877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5640" y="37162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1989000"/>
            <a:ext cx="505080" cy="64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08">
                <a:moveTo>
                  <a:pt x="3600" y="0"/>
                </a:moveTo>
                <a:arcTo wR="3600" hR="3600" stAng="16200000" swAng="-5400000"/>
                <a:lnTo>
                  <a:pt x="0" y="24108"/>
                </a:lnTo>
                <a:arcTo wR="3600" hR="3600" stAng="10800000" swAng="-5400000"/>
                <a:lnTo>
                  <a:pt x="18000" y="27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1640" y="6165720"/>
            <a:ext cx="649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1268280"/>
            <a:ext cx="7988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2 +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3 +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5 –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3 –3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1 +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, m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2 + 5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1 –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1268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bylo a) reálné, b) ryze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258920" y="1092240"/>
                <a:ext cx="375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690560" y="2676600"/>
                <a:ext cx="213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89360" y="3119400"/>
                <a:ext cx="1033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364000" y="2421000"/>
                <a:ext cx="2067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938920" y="3573360"/>
                <a:ext cx="1503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515280" y="4216320"/>
                <a:ext cx="971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258920" y="981000"/>
                <a:ext cx="360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05640" y="2365200"/>
                <a:ext cx="2662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651640" y="3284640"/>
                <a:ext cx="2725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92360" y="2276640"/>
                <a:ext cx="2035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27440" y="3468600"/>
                <a:ext cx="876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451640" y="4149720"/>
                <a:ext cx="1158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836720" y="404352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187280" y="1125360"/>
                <a:ext cx="422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87840" y="2349360"/>
                <a:ext cx="222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692360" y="2421000"/>
                <a:ext cx="24732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984320" y="3473280"/>
                <a:ext cx="222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796000" y="537372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013120" y="4292640"/>
                <a:ext cx="2471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435640" y="321300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lze rozložit na souč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5640" y="378936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řeny neexistuj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011240" y="906480"/>
                <a:ext cx="4919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05480" y="2130480"/>
                <a:ext cx="2189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659640" y="5300640"/>
                <a:ext cx="11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347840" y="2421000"/>
                <a:ext cx="3162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547640" y="3429000"/>
                <a:ext cx="294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920960" y="4292640"/>
                <a:ext cx="2655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443640" y="4292640"/>
                <a:ext cx="13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6012000" y="3357720"/>
                <a:ext cx="1657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042920" y="765000"/>
                <a:ext cx="4919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987800" y="1917720"/>
                <a:ext cx="322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403280" y="2060640"/>
                <a:ext cx="2129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27280" y="3933720"/>
                <a:ext cx="96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433600" y="2997360"/>
                <a:ext cx="115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508720" y="29973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580000" y="3860640"/>
                <a:ext cx="1908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526000" y="4979880"/>
                <a:ext cx="2532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58920" y="260280"/>
                <a:ext cx="5923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35280" y="4768920"/>
                <a:ext cx="322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92360" y="1268280"/>
                <a:ext cx="3162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268360" y="5634000"/>
                <a:ext cx="3848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95640" y="3357720"/>
                <a:ext cx="2752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;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989000"/>
                <a:ext cx="375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2565360"/>
                <a:ext cx="2220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2195640" y="61372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KČ měl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reálnou složku nezáporno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imaginární složku kladn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187280" y="549360"/>
                <a:ext cx="3759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430280" y="1916280"/>
                <a:ext cx="197316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484360" y="3933720"/>
                <a:ext cx="939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359320" y="2171880"/>
                <a:ext cx="213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195640" y="4724280"/>
                <a:ext cx="156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08000" y="3141720"/>
                <a:ext cx="147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659640" y="2997360"/>
                <a:ext cx="1128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659640" y="3645000"/>
                <a:ext cx="10033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84720" y="4941720"/>
                <a:ext cx="2035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634160" cy="5149800"/>
        </p:xfrm>
        <a:graphic>
          <a:graphicData uri="http://schemas.openxmlformats.org/drawingml/2006/table">
            <a:tbl>
              <a:tblPr/>
              <a:tblGrid>
                <a:gridCol w="3097080"/>
                <a:gridCol w="453708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ický tvar komplexníh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 Příklady jsou sestaveny tak, aby si žáci procvičili novou látku, ale také zopakovali řešení rovnic a nerovnic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ický tvar komplexního čísla – reálná a imaginární část; Komplexní číslo – ryze imaginární, imaginární, reáln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260280"/>
                <a:ext cx="4103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187280" y="1557360"/>
                <a:ext cx="2160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84720" y="1700280"/>
                <a:ext cx="2381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763640" y="5373720"/>
                <a:ext cx="181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495440" y="2637000"/>
                <a:ext cx="168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438960" y="234936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614920" y="5516640"/>
                <a:ext cx="3194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54" name=""/>
          <p:cNvGrpSpPr/>
          <p:nvPr/>
        </p:nvGrpSpPr>
        <p:grpSpPr>
          <a:xfrm>
            <a:off x="1332000" y="4076640"/>
            <a:ext cx="3095640" cy="1150920"/>
            <a:chOff x="1332000" y="4076640"/>
            <a:chExt cx="3095640" cy="1150920"/>
          </a:xfrm>
        </p:grpSpPr>
        <p:sp>
          <p:nvSpPr>
            <p:cNvPr id="555" name=""/>
            <p:cNvSpPr/>
            <p:nvPr/>
          </p:nvSpPr>
          <p:spPr>
            <a:xfrm>
              <a:off x="1332000" y="421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1979640" y="4508280"/>
                  <a:ext cx="4082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3132360" y="44352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26872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4836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836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072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00360" y="3787920"/>
            <a:ext cx="289080" cy="288720"/>
            <a:chOff x="2700360" y="3787920"/>
            <a:chExt cx="289080" cy="288720"/>
          </a:xfrm>
        </p:grpSpPr>
        <p:sp>
          <p:nvSpPr>
            <p:cNvPr id="563" name=""/>
            <p:cNvSpPr/>
            <p:nvPr/>
          </p:nvSpPr>
          <p:spPr>
            <a:xfrm>
              <a:off x="2700360" y="393228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44720" y="3787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924360" y="1628640"/>
                <a:ext cx="888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516720" y="3141720"/>
                <a:ext cx="14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7" name=""/>
          <p:cNvGrpSpPr/>
          <p:nvPr/>
        </p:nvGrpSpPr>
        <p:grpSpPr>
          <a:xfrm>
            <a:off x="5796000" y="4076640"/>
            <a:ext cx="3095640" cy="824040"/>
            <a:chOff x="5796000" y="4076640"/>
            <a:chExt cx="3095640" cy="824040"/>
          </a:xfrm>
        </p:grpSpPr>
        <p:sp>
          <p:nvSpPr>
            <p:cNvPr id="568" name=""/>
            <p:cNvSpPr/>
            <p:nvPr/>
          </p:nvSpPr>
          <p:spPr>
            <a:xfrm>
              <a:off x="5796000" y="421956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443640" y="450864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73272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1200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7667640" y="4508640"/>
                  <a:ext cx="2808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093080" y="393372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244000" y="3789360"/>
            <a:ext cx="288720" cy="288720"/>
            <a:chOff x="8244000" y="3789360"/>
            <a:chExt cx="288720" cy="288720"/>
          </a:xfrm>
        </p:grpSpPr>
        <p:sp>
          <p:nvSpPr>
            <p:cNvPr id="575" name=""/>
            <p:cNvSpPr/>
            <p:nvPr/>
          </p:nvSpPr>
          <p:spPr>
            <a:xfrm>
              <a:off x="8244000" y="393372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800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084720" y="3789360"/>
            <a:ext cx="289080" cy="288720"/>
            <a:chOff x="6084720" y="3789360"/>
            <a:chExt cx="289080" cy="288720"/>
          </a:xfrm>
        </p:grpSpPr>
        <p:sp>
          <p:nvSpPr>
            <p:cNvPr id="578" name=""/>
            <p:cNvSpPr/>
            <p:nvPr/>
          </p:nvSpPr>
          <p:spPr>
            <a:xfrm>
              <a:off x="6084720" y="393372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700360" y="1628640"/>
            <a:ext cx="289080" cy="288720"/>
            <a:chOff x="2700360" y="1628640"/>
            <a:chExt cx="289080" cy="288720"/>
          </a:xfrm>
        </p:grpSpPr>
        <p:sp>
          <p:nvSpPr>
            <p:cNvPr id="581" name=""/>
            <p:cNvSpPr/>
            <p:nvPr/>
          </p:nvSpPr>
          <p:spPr>
            <a:xfrm>
              <a:off x="270036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472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885080" y="1628640"/>
            <a:ext cx="289080" cy="288720"/>
            <a:chOff x="7885080" y="1628640"/>
            <a:chExt cx="289080" cy="288720"/>
          </a:xfrm>
        </p:grpSpPr>
        <p:sp>
          <p:nvSpPr>
            <p:cNvPr id="584" name=""/>
            <p:cNvSpPr/>
            <p:nvPr/>
          </p:nvSpPr>
          <p:spPr>
            <a:xfrm>
              <a:off x="788508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2944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042920" y="260280"/>
                <a:ext cx="551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258920" y="1125360"/>
                <a:ext cx="3036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651640" y="1052640"/>
                <a:ext cx="288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57480" y="5475240"/>
                <a:ext cx="33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940360" y="1773360"/>
                <a:ext cx="263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796000" y="486900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888160" y="2492280"/>
                <a:ext cx="163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5867280" y="3716280"/>
            <a:ext cx="3095640" cy="824040"/>
            <a:chOff x="5867280" y="3716280"/>
            <a:chExt cx="3095640" cy="824040"/>
          </a:xfrm>
        </p:grpSpPr>
        <p:sp>
          <p:nvSpPr>
            <p:cNvPr id="594" name=""/>
            <p:cNvSpPr/>
            <p:nvPr/>
          </p:nvSpPr>
          <p:spPr>
            <a:xfrm>
              <a:off x="5867280" y="385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6514920" y="414828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328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81760" y="4160880"/>
                  <a:ext cx="195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315280" y="3429000"/>
            <a:ext cx="289080" cy="288720"/>
            <a:chOff x="8315280" y="3429000"/>
            <a:chExt cx="289080" cy="288720"/>
          </a:xfrm>
        </p:grpSpPr>
        <p:sp>
          <p:nvSpPr>
            <p:cNvPr id="601" name=""/>
            <p:cNvSpPr/>
            <p:nvPr/>
          </p:nvSpPr>
          <p:spPr>
            <a:xfrm>
              <a:off x="8315280" y="357336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964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56360" y="3429000"/>
            <a:ext cx="288720" cy="288720"/>
            <a:chOff x="6156360" y="3429000"/>
            <a:chExt cx="288720" cy="288720"/>
          </a:xfrm>
        </p:grpSpPr>
        <p:sp>
          <p:nvSpPr>
            <p:cNvPr id="604" name=""/>
            <p:cNvSpPr/>
            <p:nvPr/>
          </p:nvSpPr>
          <p:spPr>
            <a:xfrm>
              <a:off x="6156360" y="357336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1619280" y="2060640"/>
                <a:ext cx="3024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619280" y="2708280"/>
                <a:ext cx="255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1546200" y="4435560"/>
            <a:ext cx="3095640" cy="1009080"/>
            <a:chOff x="1546200" y="4435560"/>
            <a:chExt cx="3095640" cy="1009080"/>
          </a:xfrm>
        </p:grpSpPr>
        <p:sp>
          <p:nvSpPr>
            <p:cNvPr id="609" name=""/>
            <p:cNvSpPr/>
            <p:nvPr/>
          </p:nvSpPr>
          <p:spPr>
            <a:xfrm>
              <a:off x="1546200" y="457812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2194200" y="4724280"/>
                  <a:ext cx="465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248292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256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418200" y="4868640"/>
                  <a:ext cx="2808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4" name=""/>
          <p:cNvSpPr/>
          <p:nvPr/>
        </p:nvSpPr>
        <p:spPr>
          <a:xfrm>
            <a:off x="2843280" y="429264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994200" y="4148280"/>
            <a:ext cx="288720" cy="288720"/>
            <a:chOff x="3994200" y="4148280"/>
            <a:chExt cx="288720" cy="288720"/>
          </a:xfrm>
        </p:grpSpPr>
        <p:sp>
          <p:nvSpPr>
            <p:cNvPr id="616" name=""/>
            <p:cNvSpPr/>
            <p:nvPr/>
          </p:nvSpPr>
          <p:spPr>
            <a:xfrm>
              <a:off x="399420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3820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35280" y="4148280"/>
            <a:ext cx="288720" cy="288720"/>
            <a:chOff x="1835280" y="4148280"/>
            <a:chExt cx="288720" cy="288720"/>
          </a:xfrm>
        </p:grpSpPr>
        <p:sp>
          <p:nvSpPr>
            <p:cNvPr id="619" name=""/>
            <p:cNvSpPr/>
            <p:nvPr/>
          </p:nvSpPr>
          <p:spPr>
            <a:xfrm>
              <a:off x="183528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7928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780000" y="981000"/>
            <a:ext cx="288720" cy="288720"/>
            <a:chOff x="3780000" y="981000"/>
            <a:chExt cx="288720" cy="288720"/>
          </a:xfrm>
        </p:grpSpPr>
        <p:sp>
          <p:nvSpPr>
            <p:cNvPr id="622" name=""/>
            <p:cNvSpPr/>
            <p:nvPr/>
          </p:nvSpPr>
          <p:spPr>
            <a:xfrm>
              <a:off x="378000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400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956720" y="981000"/>
            <a:ext cx="288720" cy="288720"/>
            <a:chOff x="7956720" y="981000"/>
            <a:chExt cx="288720" cy="288720"/>
          </a:xfrm>
        </p:grpSpPr>
        <p:sp>
          <p:nvSpPr>
            <p:cNvPr id="625" name=""/>
            <p:cNvSpPr/>
            <p:nvPr/>
          </p:nvSpPr>
          <p:spPr>
            <a:xfrm>
              <a:off x="795672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072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lgebra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lgebra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A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7280" y="1341360"/>
            <a:ext cx="7701120" cy="792360"/>
            <a:chOff x="1187280" y="1341360"/>
            <a:chExt cx="7701120" cy="792360"/>
          </a:xfrm>
        </p:grpSpPr>
        <p:sp>
          <p:nvSpPr>
            <p:cNvPr id="144" name=""/>
            <p:cNvSpPr/>
            <p:nvPr/>
          </p:nvSpPr>
          <p:spPr>
            <a:xfrm>
              <a:off x="1187280" y="1341360"/>
              <a:ext cx="7701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se nazývá zápis:                           , kde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140360" y="1341360"/>
                  <a:ext cx="23763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47640" y="2349360"/>
            <a:ext cx="7452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álná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aginární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774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 slova latinského původu překlád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omplex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že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maginár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yslné, zdánlivé, neskuteč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620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30000"/>
              </a:lnSpc>
              <a:tabLst>
                <a:tab algn="l" pos="0"/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em KČ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a = 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 Gaussově rovině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bod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763560"/>
            <a:ext cx="433440" cy="576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reálná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76356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8560" y="260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maginární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341360"/>
            <a:ext cx="722520" cy="439128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8560" y="551664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= reálná os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1280" y="1341360"/>
            <a:ext cx="647640" cy="230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220500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maginární osa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3816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27640" y="2421000"/>
            <a:ext cx="0" cy="39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51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00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8606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84720" y="3860640"/>
            <a:ext cx="11397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33680" y="3213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72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3789360"/>
            <a:ext cx="144720" cy="142920"/>
            <a:chOff x="5364000" y="3789360"/>
            <a:chExt cx="144720" cy="142920"/>
          </a:xfrm>
        </p:grpSpPr>
        <p:sp>
          <p:nvSpPr>
            <p:cNvPr id="168" name=""/>
            <p:cNvSpPr/>
            <p:nvPr/>
          </p:nvSpPr>
          <p:spPr>
            <a:xfrm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ozlišujeme a v AT zapisujem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197000"/>
            <a:ext cx="8028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eálná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5; ...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yze imaginární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imaginární: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+ i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...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, které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eleží na souřadných osá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421000"/>
            <a:ext cx="8028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) Sestrojte v Gaussově rovině obrazy KČ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 Vyberte, která ze zadaných KČ jsou            a) reálná, b) ryze imaginární, c)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6000" y="4005360"/>
            <a:ext cx="802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1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4005360"/>
            <a:ext cx="60120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5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1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–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5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1; –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052640"/>
            <a:ext cx="302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183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186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234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44880" y="20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189000"/>
            <a:ext cx="813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668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052640"/>
            <a:ext cx="2017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 2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052640"/>
            <a:ext cx="190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2;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3;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5; –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3; –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378900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4941720"/>
            <a:ext cx="29415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243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003280" y="5516640"/>
            <a:ext cx="1800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249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5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400536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05360"/>
            <a:ext cx="18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258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261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309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61080" y="1989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5640" y="378936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941720"/>
            <a:ext cx="2869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0160" y="501336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316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5516640"/>
            <a:ext cx="1727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321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09520" y="5589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3068640"/>
            <a:ext cx="144720" cy="142920"/>
            <a:chOff x="5003640" y="306864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02880" y="28526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329" name="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742520" y="3213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17002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03640" y="1916280"/>
            <a:ext cx="144720" cy="142560"/>
            <a:chOff x="5003640" y="191628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0920" y="3716280"/>
            <a:ext cx="144720" cy="142920"/>
            <a:chOff x="3850920" y="3716280"/>
            <a:chExt cx="144720" cy="142920"/>
          </a:xfrm>
        </p:grpSpPr>
        <p:sp>
          <p:nvSpPr>
            <p:cNvPr id="337" name=""/>
            <p:cNvSpPr/>
            <p:nvPr/>
          </p:nvSpPr>
          <p:spPr>
            <a:xfrm>
              <a:off x="3851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50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85344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141720"/>
            <a:ext cx="0" cy="718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76360" y="3141720"/>
            <a:ext cx="57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5760" y="249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79640" y="3068640"/>
            <a:ext cx="144720" cy="142920"/>
            <a:chOff x="5579640" y="3068640"/>
            <a:chExt cx="144720" cy="142920"/>
          </a:xfrm>
        </p:grpSpPr>
        <p:sp>
          <p:nvSpPr>
            <p:cNvPr id="344" name=""/>
            <p:cNvSpPr/>
            <p:nvPr/>
          </p:nvSpPr>
          <p:spPr>
            <a:xfrm>
              <a:off x="558000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7964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2880" y="4076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03640" y="4292640"/>
            <a:ext cx="144720" cy="142920"/>
            <a:chOff x="5003640" y="4292640"/>
            <a:chExt cx="144720" cy="142920"/>
          </a:xfrm>
        </p:grpSpPr>
        <p:sp>
          <p:nvSpPr>
            <p:cNvPr id="348" name=""/>
            <p:cNvSpPr/>
            <p:nvPr/>
          </p:nvSpPr>
          <p:spPr>
            <a:xfrm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924360" y="836640"/>
            <a:ext cx="0" cy="2951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24360" y="836640"/>
            <a:ext cx="1141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1720" y="26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52720" y="765000"/>
            <a:ext cx="144720" cy="142920"/>
            <a:chOff x="3852720" y="765000"/>
            <a:chExt cx="144720" cy="142920"/>
          </a:xfrm>
        </p:grpSpPr>
        <p:sp>
          <p:nvSpPr>
            <p:cNvPr id="354" name=""/>
            <p:cNvSpPr/>
            <p:nvPr/>
          </p:nvSpPr>
          <p:spPr>
            <a:xfrm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00720" y="3789360"/>
            <a:ext cx="0" cy="230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6093000"/>
            <a:ext cx="566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6880" y="580536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427280" y="6021360"/>
            <a:ext cx="144720" cy="142920"/>
            <a:chOff x="4427280" y="6021360"/>
            <a:chExt cx="144720" cy="142920"/>
          </a:xfrm>
        </p:grpSpPr>
        <p:sp>
          <p:nvSpPr>
            <p:cNvPr id="360" name=""/>
            <p:cNvSpPr/>
            <p:nvPr/>
          </p:nvSpPr>
          <p:spPr>
            <a:xfrm>
              <a:off x="442764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2728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14Z</dcterms:modified>
  <cp:revision>296</cp:revision>
  <dc:subject/>
  <dc:title>KČ</dc:title>
</cp:coreProperties>
</file>