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C30C-BD08-4CE7-B7B5-B5BC950D624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502C-ACA7-4A13-BDBE-C5ED20C836A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38EA-608A-4522-B4C0-2A6A76AB656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9C08-55B4-4B4C-8DB9-A7A63BDDBFC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E198-98E3-4303-B931-19DDB4DA644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35FB-B6FB-419D-AB16-C69046025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8DFB-0391-4FAF-8CBD-29281586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B13E-4254-45C6-A323-9965E41C0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FD55-1B20-46E5-81EB-264DA6CFD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2972-F757-41E7-A46E-D7B2655F5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9658-1E7E-4879-BAEF-23D71E65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3431-8437-4843-B025-C511B798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45BC-0586-4E5E-8FB7-8A0D8041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EEEB-AC90-45C1-B72F-E18B04B5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9A90-A8D5-4C6C-BF93-FBBF5A2F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0F32-E919-41CF-8CB9-7826D72A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84BA-5920-44DB-8677-BAE94630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0BA5-5EC2-405B-A6E5-9B5D0021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78F0-CF62-48B2-A17E-A2655B7A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B936-C13C-42F3-BC33-DACFD2E2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C4FD-82A4-41C6-8CF0-ADCFFCD06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89D1-23ED-4F70-AA14-AD4C007C8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ADEF-B74C-421F-B861-B622FBCF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F251-F661-4357-806C-2928B5D2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84FE-74B1-45EE-AE08-F28C7E83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FEB1-961C-4498-BF0D-9544D935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5509-9D0E-4FA6-B84D-5A603BF1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A5FC-99AF-4548-B729-34597FFC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4167-E307-430F-BD3F-F7EB673B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64CE-ABCF-466C-B708-E1786942F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7929-740D-41AA-BF37-E38551C20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74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1476360" y="620640"/>
                <a:ext cx="177480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301760" y="1946160"/>
                <a:ext cx="187632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1332000" y="3789360"/>
                <a:ext cx="245736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1332000" y="5157720"/>
                <a:ext cx="201276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489560" y="3571920"/>
                <a:ext cx="46544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500720" y="5157720"/>
                <a:ext cx="375912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4500720" y="620640"/>
                <a:ext cx="38862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4489560" y="1916280"/>
                <a:ext cx="3868560" cy="11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332000" y="692280"/>
                <a:ext cx="214956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,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332000" y="2205000"/>
                <a:ext cx="22176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,1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1332000" y="3860640"/>
                <a:ext cx="19112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6,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332000" y="5415120"/>
                <a:ext cx="201276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,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4427640" y="1916280"/>
                <a:ext cx="43844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5,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427640" y="620640"/>
                <a:ext cx="39700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0,8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4427640" y="3824280"/>
                <a:ext cx="38862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6,8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4427640" y="5084640"/>
                <a:ext cx="4073400" cy="11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,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628640"/>
          <a:ext cx="7416720" cy="481500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vod zápisu komplexního čísla z algebraického tvaru na tvar goniometrický – komplexní čísla reálná a ryze imaginár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pis komplexního čísla – reálného, ryze imaginárního; Souřadná os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258920" y="2349360"/>
            <a:ext cx="788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Převod AT na G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3200" y="3789360"/>
            <a:ext cx="6400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13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KČ reálná a ryze imaginární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042920" y="187200"/>
            <a:ext cx="810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KČ reálné kladné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42920" y="981000"/>
            <a:ext cx="81010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6040" indent="-44604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obrazy těchto KČ leží v kladné části osy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400" spc="-1" strike="noStrike" baseline="-25000">
                <a:solidFill>
                  <a:srgbClr val="dddddd"/>
                </a:solidFill>
                <a:latin typeface="Times New Roman"/>
              </a:rPr>
              <a:t>Z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= 0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= 0 rad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40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 </a:t>
            </a:r>
            <a:r>
              <a:rPr b="0" i="1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+ 4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476360" y="5516640"/>
                <a:ext cx="71928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146" name=""/>
          <p:cNvGrpSpPr/>
          <p:nvPr/>
        </p:nvGrpSpPr>
        <p:grpSpPr>
          <a:xfrm>
            <a:off x="4572000" y="1628640"/>
            <a:ext cx="3868560" cy="3743280"/>
            <a:chOff x="4572000" y="1628640"/>
            <a:chExt cx="3868560" cy="3743280"/>
          </a:xfrm>
        </p:grpSpPr>
        <p:sp>
          <p:nvSpPr>
            <p:cNvPr id="147" name=""/>
            <p:cNvSpPr/>
            <p:nvPr/>
          </p:nvSpPr>
          <p:spPr>
            <a:xfrm>
              <a:off x="4572000" y="3571560"/>
              <a:ext cx="3816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6443640" y="1844640"/>
              <a:ext cx="0" cy="35272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16720" y="162864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02880" y="35002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45080" y="3500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52" name="Group 63"/>
          <p:cNvGrpSpPr/>
          <p:nvPr/>
        </p:nvGrpSpPr>
        <p:grpSpPr>
          <a:xfrm>
            <a:off x="7453080" y="3500280"/>
            <a:ext cx="144720" cy="142920"/>
            <a:chOff x="7453080" y="3500280"/>
            <a:chExt cx="144720" cy="142920"/>
          </a:xfrm>
        </p:grpSpPr>
        <p:sp>
          <p:nvSpPr>
            <p:cNvPr id="153" name="Line 64"/>
            <p:cNvSpPr/>
            <p:nvPr/>
          </p:nvSpPr>
          <p:spPr>
            <a:xfrm>
              <a:off x="7453440" y="3500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4" name="Line 65"/>
            <p:cNvSpPr/>
            <p:nvPr/>
          </p:nvSpPr>
          <p:spPr>
            <a:xfrm flipH="1">
              <a:off x="7453080" y="3500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7310160" y="364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3571920"/>
            <a:ext cx="194472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45080" y="3573360"/>
            <a:ext cx="19447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6907680" y="2891520"/>
            <a:ext cx="152280" cy="1081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35240" y="277956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|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2720" y="5445000"/>
            <a:ext cx="360360" cy="7923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792360"/>
              <a:gd name="textAreaBottom" fmla="*/ 775080 h 792360"/>
            </a:gdLst>
            <a:ahLst/>
            <a:rect l="textAreaLeft" t="textAreaTop" r="textAreaRight" b="textAreaBottom"/>
            <a:pathLst>
              <a:path w="21600" h="47468">
                <a:moveTo>
                  <a:pt x="3600" y="0"/>
                </a:moveTo>
                <a:arcTo wR="3600" hR="3600" stAng="16200000" swAng="-5400000"/>
                <a:lnTo>
                  <a:pt x="0" y="43868"/>
                </a:lnTo>
                <a:arcTo wR="3600" hR="3600" stAng="10800000" swAng="-5400000"/>
                <a:lnTo>
                  <a:pt x="18000" y="474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00360" y="5445000"/>
            <a:ext cx="597708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08000" y="619452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A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52680" y="619452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92720" y="4221000"/>
            <a:ext cx="54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počáteční rameno</a:t>
            </a:r>
            <a:r>
              <a:rPr b="0" lang="cs-CZ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=</a:t>
            </a:r>
            <a:r>
              <a:rPr b="0" lang="cs-CZ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ncové rameno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1628640"/>
            <a:ext cx="288144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4859280" y="2421000"/>
            <a:ext cx="1441440" cy="194472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187280" y="5516640"/>
                <a:ext cx="781560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π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1042920" y="189000"/>
            <a:ext cx="810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KČ reálné záporné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42920" y="981000"/>
            <a:ext cx="81010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6040" indent="-44604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obrazy těchto KČ leží v záporné části osy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400" spc="-1" strike="noStrike" baseline="-25000">
                <a:solidFill>
                  <a:srgbClr val="dddddd"/>
                </a:solidFill>
                <a:latin typeface="Times New Roman"/>
              </a:rPr>
              <a:t>Z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= 180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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rad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40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 </a:t>
            </a:r>
            <a:r>
              <a:rPr b="0" i="1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+ 2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572000" y="1628640"/>
            <a:ext cx="3868560" cy="3743280"/>
            <a:chOff x="4572000" y="1628640"/>
            <a:chExt cx="3868560" cy="3743280"/>
          </a:xfrm>
        </p:grpSpPr>
        <p:sp>
          <p:nvSpPr>
            <p:cNvPr id="171" name=""/>
            <p:cNvSpPr/>
            <p:nvPr/>
          </p:nvSpPr>
          <p:spPr>
            <a:xfrm>
              <a:off x="4572000" y="3571560"/>
              <a:ext cx="3816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6443640" y="1844640"/>
              <a:ext cx="0" cy="35272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16720" y="162864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02880" y="35002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45080" y="3500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76" name="Group 63"/>
          <p:cNvGrpSpPr/>
          <p:nvPr/>
        </p:nvGrpSpPr>
        <p:grpSpPr>
          <a:xfrm>
            <a:off x="5435280" y="3500280"/>
            <a:ext cx="144720" cy="142920"/>
            <a:chOff x="5435280" y="3500280"/>
            <a:chExt cx="144720" cy="142920"/>
          </a:xfrm>
        </p:grpSpPr>
        <p:sp>
          <p:nvSpPr>
            <p:cNvPr id="177" name="Line 64"/>
            <p:cNvSpPr/>
            <p:nvPr/>
          </p:nvSpPr>
          <p:spPr>
            <a:xfrm>
              <a:off x="5435640" y="3500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8" name="Line 65"/>
            <p:cNvSpPr/>
            <p:nvPr/>
          </p:nvSpPr>
          <p:spPr>
            <a:xfrm flipH="1">
              <a:off x="5435280" y="3500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5149440" y="378936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43640" y="3573360"/>
            <a:ext cx="194472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4500360" y="3573360"/>
            <a:ext cx="19443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 rot="16200000">
            <a:off x="5899680" y="3324240"/>
            <a:ext cx="152280" cy="934920"/>
          </a:xfrm>
          <a:custGeom>
            <a:avLst/>
            <a:gdLst>
              <a:gd name="textAreaLeft" fmla="*/ 97200 w 152280"/>
              <a:gd name="textAreaRight" fmla="*/ 152640 w 15228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25800" y="378936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|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63640" y="5445000"/>
            <a:ext cx="504720" cy="79236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792360"/>
              <a:gd name="textAreaBottom" fmla="*/ 767880 h 792360"/>
            </a:gdLst>
            <a:ahLst/>
            <a:rect l="textAreaLeft" t="textAreaTop" r="textAreaRight" b="textAreaBottom"/>
            <a:pathLst>
              <a:path w="21600" h="33901">
                <a:moveTo>
                  <a:pt x="3600" y="0"/>
                </a:moveTo>
                <a:arcTo wR="3600" hR="3600" stAng="16200000" swAng="-5400000"/>
                <a:lnTo>
                  <a:pt x="0" y="30301"/>
                </a:lnTo>
                <a:arcTo wR="3600" hR="3600" stAng="10800000" swAng="-5400000"/>
                <a:lnTo>
                  <a:pt x="18000" y="339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84360" y="5445000"/>
            <a:ext cx="665964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77520" y="6165720"/>
            <a:ext cx="7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A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38520" y="616572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50920" y="1628640"/>
            <a:ext cx="324180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5292360" y="2420640"/>
            <a:ext cx="934920" cy="64764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96000" y="2924280"/>
            <a:ext cx="1294920" cy="1272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1011"/>
                </a:moveTo>
                <a:arcTo wR="10800" hR="10800" stAng="10732961" swAng="10867039"/>
                <a:lnTo>
                  <a:pt x="10800" y="10800"/>
                </a:lnTo>
                <a:close/>
              </a:path>
              <a:path fill="none" w="21600" h="21600">
                <a:moveTo>
                  <a:pt x="2" y="11011"/>
                </a:moveTo>
                <a:arcTo wR="10800" hR="10800" stAng="10732961" swAng="10867039"/>
              </a:path>
            </a:pathLst>
          </a:custGeom>
          <a:noFill/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05880" y="2990880"/>
            <a:ext cx="80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180</a:t>
            </a:r>
            <a:r>
              <a:rPr b="0" lang="cs-CZ" sz="2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332000" y="5084640"/>
                <a:ext cx="7654680" cy="119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1042920" y="189000"/>
            <a:ext cx="810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KČ ryze imaginární kladné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042920" y="981000"/>
            <a:ext cx="81010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6040" indent="-44604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obrazy těchto KČ leží v kladné části osy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400" spc="-1" strike="noStrike" baseline="-25000">
                <a:solidFill>
                  <a:srgbClr val="dddddd"/>
                </a:solidFill>
                <a:latin typeface="Times New Roman"/>
              </a:rPr>
              <a:t>Z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= 90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=     rad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40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3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 </a:t>
            </a:r>
            <a:r>
              <a:rPr b="0" i="1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+ 3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572000" y="1628640"/>
            <a:ext cx="3868560" cy="3743280"/>
            <a:chOff x="4572000" y="1628640"/>
            <a:chExt cx="3868560" cy="3743280"/>
          </a:xfrm>
        </p:grpSpPr>
        <p:sp>
          <p:nvSpPr>
            <p:cNvPr id="196" name=""/>
            <p:cNvSpPr/>
            <p:nvPr/>
          </p:nvSpPr>
          <p:spPr>
            <a:xfrm>
              <a:off x="4572000" y="3571560"/>
              <a:ext cx="3816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443640" y="1844640"/>
              <a:ext cx="0" cy="35272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516720" y="162864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102880" y="35002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445080" y="3500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1" name="Group 63"/>
          <p:cNvGrpSpPr/>
          <p:nvPr/>
        </p:nvGrpSpPr>
        <p:grpSpPr>
          <a:xfrm>
            <a:off x="6372000" y="2349360"/>
            <a:ext cx="144720" cy="142920"/>
            <a:chOff x="6372000" y="2349360"/>
            <a:chExt cx="144720" cy="142920"/>
          </a:xfrm>
        </p:grpSpPr>
        <p:sp>
          <p:nvSpPr>
            <p:cNvPr id="202" name="Line 64"/>
            <p:cNvSpPr/>
            <p:nvPr/>
          </p:nvSpPr>
          <p:spPr>
            <a:xfrm>
              <a:off x="6372360" y="234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Line 65"/>
            <p:cNvSpPr/>
            <p:nvPr/>
          </p:nvSpPr>
          <p:spPr>
            <a:xfrm flipH="1">
              <a:off x="6372000" y="234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6517800" y="213372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43640" y="3573360"/>
            <a:ext cx="194472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6443640" y="1844640"/>
            <a:ext cx="1440" cy="17287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6156360" y="2420280"/>
            <a:ext cx="144360" cy="1152360"/>
          </a:xfrm>
          <a:custGeom>
            <a:avLst/>
            <a:gdLst>
              <a:gd name="textAreaLeft" fmla="*/ 92160 w 144360"/>
              <a:gd name="textAreaRight" fmla="*/ 144360 w 1443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81080" y="270828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|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08000" y="5084640"/>
            <a:ext cx="360360" cy="122400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1224000"/>
              <a:gd name="textAreaBottom" fmla="*/ 1206720 h 1224000"/>
            </a:gdLst>
            <a:ahLst/>
            <a:rect l="textAreaLeft" t="textAreaTop" r="textAreaRight" b="textAreaBottom"/>
            <a:pathLst>
              <a:path w="21600" h="73315">
                <a:moveTo>
                  <a:pt x="3600" y="0"/>
                </a:moveTo>
                <a:arcTo wR="3600" hR="3600" stAng="16200000" swAng="-5400000"/>
                <a:lnTo>
                  <a:pt x="0" y="69715"/>
                </a:lnTo>
                <a:arcTo wR="3600" hR="3600" stAng="10800000" swAng="-5400000"/>
                <a:lnTo>
                  <a:pt x="18000" y="73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56000" y="5084640"/>
            <a:ext cx="6408720" cy="1224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66520" y="633888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A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38520" y="633888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1628640"/>
            <a:ext cx="324180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5292720" y="2420640"/>
            <a:ext cx="1295280" cy="64764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23280" y="2852640"/>
            <a:ext cx="1440720" cy="141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540000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5400001"/>
              </a:path>
            </a:pathLst>
          </a:custGeom>
          <a:noFill/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398280" y="2997360"/>
            <a:ext cx="6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90</a:t>
            </a:r>
            <a:r>
              <a:rPr b="0" lang="cs-CZ" sz="2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067280" y="1557360"/>
                <a:ext cx="3618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5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258920" y="5157720"/>
                <a:ext cx="77184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1042920" y="189000"/>
            <a:ext cx="810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KČ ryze imaginární záporné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42920" y="981000"/>
            <a:ext cx="81010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6040" indent="-44604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obrazy těchto KČ leží v záporné části osy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400" spc="-1" strike="noStrike" baseline="-25000">
                <a:solidFill>
                  <a:srgbClr val="dddddd"/>
                </a:solidFill>
                <a:latin typeface="Times New Roman"/>
              </a:rPr>
              <a:t>Z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= 270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=      rad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40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 = 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 </a:t>
            </a:r>
            <a:r>
              <a:rPr b="0" i="1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+ 2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0" y="1628640"/>
            <a:ext cx="3868560" cy="3743280"/>
            <a:chOff x="4572000" y="1628640"/>
            <a:chExt cx="3868560" cy="3743280"/>
          </a:xfrm>
        </p:grpSpPr>
        <p:sp>
          <p:nvSpPr>
            <p:cNvPr id="222" name=""/>
            <p:cNvSpPr/>
            <p:nvPr/>
          </p:nvSpPr>
          <p:spPr>
            <a:xfrm>
              <a:off x="4572000" y="3571560"/>
              <a:ext cx="3816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6443640" y="1844640"/>
              <a:ext cx="0" cy="35272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16720" y="162864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02880" y="35002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45080" y="3500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27" name="Group 63"/>
          <p:cNvGrpSpPr/>
          <p:nvPr/>
        </p:nvGrpSpPr>
        <p:grpSpPr>
          <a:xfrm>
            <a:off x="6372000" y="4508640"/>
            <a:ext cx="144720" cy="142560"/>
            <a:chOff x="6372000" y="4508640"/>
            <a:chExt cx="144720" cy="142560"/>
          </a:xfrm>
        </p:grpSpPr>
        <p:sp>
          <p:nvSpPr>
            <p:cNvPr id="228" name="Line 64"/>
            <p:cNvSpPr/>
            <p:nvPr/>
          </p:nvSpPr>
          <p:spPr>
            <a:xfrm>
              <a:off x="6372360" y="4508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9" name="Line 65"/>
            <p:cNvSpPr/>
            <p:nvPr/>
          </p:nvSpPr>
          <p:spPr>
            <a:xfrm flipH="1">
              <a:off x="6372000" y="4508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5725440" y="4292640"/>
            <a:ext cx="6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43640" y="3573360"/>
            <a:ext cx="194472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443640" y="3573360"/>
            <a:ext cx="1440" cy="1440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6515280" y="3573360"/>
            <a:ext cx="142560" cy="1008000"/>
          </a:xfrm>
          <a:custGeom>
            <a:avLst/>
            <a:gdLst>
              <a:gd name="textAreaLeft" fmla="*/ 91080 w 142560"/>
              <a:gd name="textAreaRight" fmla="*/ 142920 w 1425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660720" y="378936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|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763640" y="5084640"/>
            <a:ext cx="576360" cy="122400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224000"/>
              <a:gd name="textAreaBottom" fmla="*/ 1195920 h 1224000"/>
            </a:gdLst>
            <a:ahLst/>
            <a:rect l="textAreaLeft" t="textAreaTop" r="textAreaRight" b="textAreaBottom"/>
            <a:pathLst>
              <a:path w="21600" h="45856">
                <a:moveTo>
                  <a:pt x="3600" y="0"/>
                </a:moveTo>
                <a:arcTo wR="3600" hR="3600" stAng="16200000" swAng="-5400000"/>
                <a:lnTo>
                  <a:pt x="0" y="42256"/>
                </a:lnTo>
                <a:arcTo wR="3600" hR="3600" stAng="10800000" swAng="-5400000"/>
                <a:lnTo>
                  <a:pt x="18000" y="458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56000" y="5084640"/>
            <a:ext cx="6408720" cy="1224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95240" y="633888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A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38520" y="633888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050920" y="1628640"/>
            <a:ext cx="345780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5292720" y="2421000"/>
            <a:ext cx="574560" cy="72072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651640" y="2781360"/>
            <a:ext cx="1588680" cy="156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43"/>
                </a:moveTo>
                <a:arcTo wR="10800" hR="10800" stAng="10786231" swAng="10813769"/>
                <a:lnTo>
                  <a:pt x="10800" y="10800"/>
                </a:lnTo>
                <a:close/>
              </a:path>
              <a:path fill="none" w="21600" h="21600">
                <a:moveTo>
                  <a:pt x="0" y="10843"/>
                </a:moveTo>
                <a:arcTo wR="10800" hR="10800" stAng="10786231" swAng="10813769"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77560" y="3068640"/>
            <a:ext cx="80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270</a:t>
            </a:r>
            <a:r>
              <a:rPr b="0" lang="cs-CZ" sz="2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4284720" y="1557360"/>
                <a:ext cx="5014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 flipH="1" flipV="1">
            <a:off x="5653080" y="2793600"/>
            <a:ext cx="1560960" cy="156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5" y="0"/>
                </a:moveTo>
                <a:arcTo wR="10800" hR="10800" stAng="-5414387" swAng="5602805"/>
                <a:lnTo>
                  <a:pt x="10800" y="10800"/>
                </a:lnTo>
                <a:close/>
              </a:path>
              <a:path fill="none" w="21600" h="21600">
                <a:moveTo>
                  <a:pt x="10755" y="0"/>
                </a:moveTo>
                <a:arcTo wR="10800" hR="10800" stAng="-5414387" swAng="5602805"/>
              </a:path>
            </a:pathLst>
          </a:custGeom>
          <a:noFill/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5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5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500"/>
                            </p:stCondLst>
                            <p:childTnLst>
                              <p:par>
                                <p:cTn id="3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0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16000" y="189000"/>
            <a:ext cx="8028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Zapište daná KČ v G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258920" y="1197000"/>
                <a:ext cx="13669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187280" y="2349360"/>
                <a:ext cx="17179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258920" y="3645000"/>
                <a:ext cx="14018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258920" y="5086440"/>
                <a:ext cx="16826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643280" y="1197000"/>
                <a:ext cx="30243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643280" y="2276640"/>
                <a:ext cx="311004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4643280" y="3357720"/>
                <a:ext cx="311004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643280" y="4797360"/>
                <a:ext cx="348624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1332000" y="981000"/>
                <a:ext cx="18079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332000" y="2492280"/>
                <a:ext cx="17064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403280" y="3933720"/>
                <a:ext cx="16383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1403280" y="5373720"/>
                <a:ext cx="15699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4427640" y="620640"/>
                <a:ext cx="424980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4427640" y="2421000"/>
                <a:ext cx="37242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532400" y="3860640"/>
                <a:ext cx="3781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4498920" y="5084640"/>
                <a:ext cx="3903840" cy="11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4:45Z</dcterms:modified>
  <cp:revision>298</cp:revision>
  <dc:subject/>
  <dc:title>KČ</dc:title>
</cp:coreProperties>
</file>