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BA37-03B9-4996-AEE7-1C033D1A9C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AD2-B85A-4F9A-8DE6-47772CA363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22C-CE43-4972-B17B-CC7D5E1D9C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D609-F1D1-4BC5-AD06-9237660337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239-3315-401D-82D2-68620D1844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666-1381-4BC7-BF60-7EC39BB8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77F-D4B5-4755-8F06-0D4C3C7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EED-C969-4711-86B5-8793787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5C0-EC8F-49CB-85F3-17DA4FE7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E32-9702-4916-8F53-416288D6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898-4E46-487A-A1A5-C8B508F3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A8B-C3E5-4E51-9100-FF31548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09B-3F6F-439A-8FD8-AB10B9A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47AA-55EA-4BB9-8BEC-25BE330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75ED-647B-45DD-879A-2E618013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9EB-2E46-4073-862F-21E85FA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755-E813-4030-8EA7-D217E61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9545-A6E3-48FE-8B9E-F88F1F49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DF76-7C7C-4640-BE75-50A1F37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ACD-4B64-49DC-9C47-3B87801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F05-D3DB-4B48-8D9D-AC5D672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22F-D4C0-4B24-951F-B9349031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AE6-E31D-46A0-A901-FCD1BB08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1EC-D430-43FE-A307-8BEA4F7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82C-F9B6-46CF-9AFD-0353FAA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8E5-D15F-4B12-B86F-4D4CAC1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92B-6741-4045-A6B8-0F95BF8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2A3-492C-4B2F-B1AB-48D6DF0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946-3DA4-4B48-85B8-4597785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F9E-AD89-499C-B877-A264F0A2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4BD-BAE5-4110-822F-B33F117C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29520" y="1844640"/>
            <a:ext cx="158436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33336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8308800" y="227664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91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308800" y="1916280"/>
                <a:ext cx="365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0800" y="549360"/>
                <a:ext cx="506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0800" y="2781360"/>
                <a:ext cx="549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16440" y="1916280"/>
                <a:ext cx="54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61920" y="3502080"/>
                <a:ext cx="47674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8237160" y="2276640"/>
            <a:ext cx="144720" cy="142560"/>
            <a:chOff x="8237160" y="227664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823752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23716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24800" y="62784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6680" y="4122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2120" y="5273640"/>
            <a:ext cx="3598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227360" y="357156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2612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35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29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8381880" y="5373720"/>
                <a:ext cx="241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286760" y="6165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789520" y="5373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7157880" y="6381720"/>
            <a:ext cx="144720" cy="142920"/>
            <a:chOff x="7157880" y="6381720"/>
            <a:chExt cx="144720" cy="142920"/>
          </a:xfrm>
        </p:grpSpPr>
        <p:sp>
          <p:nvSpPr>
            <p:cNvPr id="347" name=""/>
            <p:cNvSpPr/>
            <p:nvPr/>
          </p:nvSpPr>
          <p:spPr>
            <a:xfrm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437160" y="1055520"/>
            <a:ext cx="158580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12" y="15525"/>
                </a:moveTo>
                <a:arcTo wR="10800" hR="10800" stAng="1556655" swAng="20002691"/>
                <a:lnTo>
                  <a:pt x="10800" y="10800"/>
                </a:lnTo>
                <a:close/>
              </a:path>
              <a:path fill="none" w="21600" h="21600">
                <a:moveTo>
                  <a:pt x="20512" y="15525"/>
                </a:moveTo>
                <a:arcTo wR="10800" hR="10800" stAng="1556655" swAng="200026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81880" y="170028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367320" y="4440240"/>
            <a:ext cx="1776240" cy="16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4" y="21596"/>
                </a:moveTo>
                <a:arcTo wR="10800" hR="10800" stAng="5487855" swAng="16071491"/>
                <a:lnTo>
                  <a:pt x="10800" y="10800"/>
                </a:lnTo>
                <a:close/>
              </a:path>
              <a:path fill="none" w="21600" h="21600">
                <a:moveTo>
                  <a:pt x="10524" y="21596"/>
                </a:moveTo>
                <a:arcTo wR="10800" hR="10800" stAng="5487855" swAng="160714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81880" y="5084640"/>
                <a:ext cx="561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3738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 flipV="1">
            <a:off x="6508800" y="549360"/>
            <a:ext cx="7207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29520" y="3862080"/>
            <a:ext cx="1008000" cy="1366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71640" y="333360"/>
                <a:ext cx="52005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581880" y="189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21760" y="1905120"/>
                <a:ext cx="23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86480" y="463680"/>
                <a:ext cx="238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300800" y="2768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88080" y="1905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71640" y="3789360"/>
                <a:ext cx="4533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6581520" y="765000"/>
            <a:ext cx="144720" cy="142920"/>
            <a:chOff x="6581520" y="765000"/>
            <a:chExt cx="144720" cy="142920"/>
          </a:xfrm>
        </p:grpSpPr>
        <p:sp>
          <p:nvSpPr>
            <p:cNvPr id="370" name=""/>
            <p:cNvSpPr/>
            <p:nvPr/>
          </p:nvSpPr>
          <p:spPr>
            <a:xfrm>
              <a:off x="658188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8152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732800" y="3645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7876800" y="4221000"/>
            <a:ext cx="144720" cy="142920"/>
            <a:chOff x="7876800" y="4221000"/>
            <a:chExt cx="144720" cy="142920"/>
          </a:xfrm>
        </p:grpSpPr>
        <p:sp>
          <p:nvSpPr>
            <p:cNvPr id="384" name=""/>
            <p:cNvSpPr/>
            <p:nvPr/>
          </p:nvSpPr>
          <p:spPr>
            <a:xfrm>
              <a:off x="787716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87680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409080" y="1125360"/>
            <a:ext cx="154080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38" y="1058"/>
                </a:moveTo>
                <a:arcTo wR="10800" hR="10800" stAng="-6934561" swAng="6893907"/>
                <a:lnTo>
                  <a:pt x="10800" y="10800"/>
                </a:lnTo>
                <a:close/>
              </a:path>
              <a:path fill="none" w="21600" h="21600">
                <a:moveTo>
                  <a:pt x="6138" y="1058"/>
                </a:moveTo>
                <a:arcTo wR="10800" hR="10800" stAng="-6934561" swAng="689390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246800" y="1407960"/>
                <a:ext cx="5400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6365880" y="4365360"/>
            <a:ext cx="1704600" cy="16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10" y="2418"/>
                </a:moveTo>
                <a:arcTo wR="10800" hR="10800" stAng="-3054528" swAng="3013874"/>
                <a:lnTo>
                  <a:pt x="10800" y="10800"/>
                </a:lnTo>
                <a:close/>
              </a:path>
              <a:path fill="none" w="21600" h="21600">
                <a:moveTo>
                  <a:pt x="17610" y="2418"/>
                </a:moveTo>
                <a:arcTo wR="10800" hR="10800" stAng="-3054528" swAng="301387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510320" y="4797360"/>
                <a:ext cx="430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29520" y="1844640"/>
            <a:ext cx="12301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04000" y="5229360"/>
            <a:ext cx="4255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971640" y="404640"/>
                <a:ext cx="5040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44000" y="227664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01080" y="1916280"/>
                <a:ext cx="662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308720" y="40464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308720" y="2781360"/>
                <a:ext cx="9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76760" y="1865160"/>
                <a:ext cx="9003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16000" y="3789360"/>
                <a:ext cx="4873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8027640" y="2565360"/>
            <a:ext cx="144720" cy="142920"/>
            <a:chOff x="8027640" y="2565360"/>
            <a:chExt cx="144720" cy="142920"/>
          </a:xfrm>
        </p:grpSpPr>
        <p:sp>
          <p:nvSpPr>
            <p:cNvPr id="406" name=""/>
            <p:cNvSpPr/>
            <p:nvPr/>
          </p:nvSpPr>
          <p:spPr>
            <a:xfrm>
              <a:off x="802800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02764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43640" y="609300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9" name=""/>
          <p:cNvGrpSpPr/>
          <p:nvPr/>
        </p:nvGrpSpPr>
        <p:grpSpPr>
          <a:xfrm>
            <a:off x="6803640" y="6237360"/>
            <a:ext cx="144720" cy="142920"/>
            <a:chOff x="6803640" y="6237360"/>
            <a:chExt cx="144720" cy="142920"/>
          </a:xfrm>
        </p:grpSpPr>
        <p:sp>
          <p:nvSpPr>
            <p:cNvPr id="420" name=""/>
            <p:cNvSpPr/>
            <p:nvPr/>
          </p:nvSpPr>
          <p:spPr>
            <a:xfrm>
              <a:off x="680400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0364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410160" y="1125360"/>
            <a:ext cx="154116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84" y="18390"/>
                </a:moveTo>
                <a:arcTo wR="10800" hR="10800" stAng="2678890" swAng="18880456"/>
                <a:lnTo>
                  <a:pt x="10800" y="10800"/>
                </a:lnTo>
                <a:close/>
              </a:path>
              <a:path fill="none" w="21600" h="21600">
                <a:moveTo>
                  <a:pt x="18484" y="18390"/>
                </a:moveTo>
                <a:arcTo wR="10800" hR="10800" stAng="2678890" swAng="1888045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1700280"/>
                <a:ext cx="560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365880" y="4367160"/>
            <a:ext cx="1704600" cy="16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7" y="21023"/>
                </a:moveTo>
                <a:arcTo wR="10800" hR="10800" stAng="6528932" swAng="15030414"/>
                <a:lnTo>
                  <a:pt x="10800" y="10800"/>
                </a:lnTo>
                <a:close/>
              </a:path>
              <a:path fill="none" w="21600" h="21600">
                <a:moveTo>
                  <a:pt x="7317" y="21023"/>
                </a:moveTo>
                <a:arcTo wR="10800" hR="10800" stAng="6528932" swAng="1503041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659640" y="4797360"/>
                <a:ext cx="753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73360"/>
          <a:ext cx="7416720" cy="3951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ázornění komplexních čísel pomocí charakteristik goniometrického tvar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fické znázorně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9596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98900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Znázornění KČ pomocí charakteristik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názorněte graficky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58920" y="836640"/>
                <a:ext cx="4267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258920" y="198900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2276640"/>
                <a:ext cx="1076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2421000"/>
                <a:ext cx="110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588080" y="2585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3673800" cy="352908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3360" y="3649680"/>
            <a:ext cx="2021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8" y="2400"/>
                </a:moveTo>
                <a:arcTo wR="10800" hR="10800" stAng="-3063571" swAng="2749941"/>
                <a:lnTo>
                  <a:pt x="10800" y="10800"/>
                </a:lnTo>
                <a:close/>
              </a:path>
              <a:path fill="none" w="21600" h="21600">
                <a:moveTo>
                  <a:pt x="17588" y="2400"/>
                </a:moveTo>
                <a:arcTo wR="10800" hR="10800" stAng="-3063571" swAng="2749941"/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852640"/>
            <a:ext cx="172872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67280" y="3213000"/>
            <a:ext cx="144720" cy="142920"/>
            <a:chOff x="7667280" y="3213000"/>
            <a:chExt cx="144720" cy="142920"/>
          </a:xfrm>
        </p:grpSpPr>
        <p:sp>
          <p:nvSpPr>
            <p:cNvPr id="153" name=""/>
            <p:cNvSpPr/>
            <p:nvPr/>
          </p:nvSpPr>
          <p:spPr>
            <a:xfrm>
              <a:off x="7667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6728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72360" y="4581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602136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7440" y="4581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407844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700280"/>
            <a:ext cx="0" cy="720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916280"/>
            <a:ext cx="21564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67280" y="1844640"/>
            <a:ext cx="1009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008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356000" y="2060640"/>
            <a:ext cx="4637160" cy="4681080"/>
            <a:chOff x="4356000" y="2060640"/>
            <a:chExt cx="4637160" cy="4681080"/>
          </a:xfrm>
        </p:grpSpPr>
        <p:sp>
          <p:nvSpPr>
            <p:cNvPr id="165" name=""/>
            <p:cNvSpPr/>
            <p:nvPr/>
          </p:nvSpPr>
          <p:spPr>
            <a:xfrm>
              <a:off x="4356000" y="451008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43640" y="220464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767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72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47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4642920" y="4510080"/>
            <a:ext cx="180036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26028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92360" y="1773360"/>
                <a:ext cx="1366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763640" y="2637000"/>
                <a:ext cx="13003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717800" y="5013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1680" y="30700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9669"/>
                </a:moveTo>
                <a:arcTo wR="10800" hR="10800" stAng="-10439254" swAng="10216813"/>
                <a:lnTo>
                  <a:pt x="10800" y="10800"/>
                </a:lnTo>
                <a:close/>
              </a:path>
              <a:path fill="none" w="21600" h="21600">
                <a:moveTo>
                  <a:pt x="59" y="9669"/>
                </a:moveTo>
                <a:arcTo wR="10800" hR="10800" stAng="-10439254" swAng="1021681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5640" y="4148280"/>
            <a:ext cx="2087640" cy="1296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58920" y="5013360"/>
            <a:ext cx="144720" cy="142920"/>
            <a:chOff x="4858920" y="5013360"/>
            <a:chExt cx="144720" cy="142920"/>
          </a:xfrm>
        </p:grpSpPr>
        <p:sp>
          <p:nvSpPr>
            <p:cNvPr id="181" name=""/>
            <p:cNvSpPr/>
            <p:nvPr/>
          </p:nvSpPr>
          <p:spPr>
            <a:xfrm>
              <a:off x="485928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5892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184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642920" y="4149720"/>
            <a:ext cx="180036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59280" y="1916280"/>
                <a:ext cx="86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9280" y="2924280"/>
                <a:ext cx="11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028000" y="4221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2205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566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84720" y="422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9280" y="3645000"/>
                <a:ext cx="93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 flipV="1">
            <a:off x="5431680" y="2997360"/>
            <a:ext cx="2052720" cy="21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6" y="5104"/>
                </a:moveTo>
                <a:arcTo wR="10800" hR="10800" stAng="-1909853" swAng="1596224"/>
                <a:lnTo>
                  <a:pt x="10800" y="10800"/>
                </a:lnTo>
                <a:close/>
              </a:path>
              <a:path fill="none" w="21600" h="21600">
                <a:moveTo>
                  <a:pt x="19976" y="5104"/>
                </a:moveTo>
                <a:arcTo wR="10800" hR="10800" stAng="-1909853" swAng="159622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1628640"/>
                <a:ext cx="1133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2781360"/>
                <a:ext cx="2000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222880" y="2278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709720"/>
            <a:ext cx="367344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25,4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280" y="3213000"/>
            <a:ext cx="2382120" cy="25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51" y="2212"/>
                </a:moveTo>
                <a:arcTo wR="10800" hR="10800" stAng="-7639634" swAng="7417193"/>
                <a:lnTo>
                  <a:pt x="10800" y="10800"/>
                </a:lnTo>
                <a:close/>
              </a:path>
              <a:path fill="none" w="21600" h="21600">
                <a:moveTo>
                  <a:pt x="4251" y="2212"/>
                </a:moveTo>
                <a:arcTo wR="10800" hR="10800" stAng="-7639634" swAng="741719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05080" y="2493720"/>
            <a:ext cx="1366920" cy="1942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92360" y="2925720"/>
            <a:ext cx="144720" cy="142920"/>
            <a:chOff x="5292360" y="2925720"/>
            <a:chExt cx="144720" cy="142920"/>
          </a:xfrm>
        </p:grpSpPr>
        <p:sp>
          <p:nvSpPr>
            <p:cNvPr id="207" name=""/>
            <p:cNvSpPr/>
            <p:nvPr/>
          </p:nvSpPr>
          <p:spPr>
            <a:xfrm>
              <a:off x="529272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9236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84720" y="1989000"/>
            <a:ext cx="4637160" cy="4681080"/>
            <a:chOff x="4284720" y="1989000"/>
            <a:chExt cx="4637160" cy="4681080"/>
          </a:xfrm>
        </p:grpSpPr>
        <p:sp>
          <p:nvSpPr>
            <p:cNvPr id="210" name=""/>
            <p:cNvSpPr/>
            <p:nvPr/>
          </p:nvSpPr>
          <p:spPr>
            <a:xfrm>
              <a:off x="4284720" y="443844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72360" y="213300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5440" y="436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344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344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698920" y="191628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781360"/>
                <a:ext cx="1466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029440" y="4510080"/>
                <a:ext cx="317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234936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45080" y="5805360"/>
                <a:ext cx="555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84720" y="4510080"/>
                <a:ext cx="557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318960"/>
                <a:ext cx="6121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22400" y="260280"/>
                <a:ext cx="486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03280" y="1916280"/>
                <a:ext cx="9669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03280" y="2708280"/>
                <a:ext cx="1567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35280" y="907920"/>
                <a:ext cx="4167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940360" y="26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260280"/>
            <a:ext cx="1079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60280"/>
            <a:ext cx="1008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14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0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1680" y="30718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23"/>
                </a:moveTo>
                <a:arcTo wR="10800" hR="10800" stAng="-10648022" swAng="10425580"/>
                <a:lnTo>
                  <a:pt x="10800" y="10800"/>
                </a:lnTo>
                <a:close/>
              </a:path>
              <a:path fill="none" w="21600" h="21600">
                <a:moveTo>
                  <a:pt x="11" y="10323"/>
                </a:moveTo>
                <a:arcTo wR="10800" hR="10800" stAng="-10648022" swAng="10425580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4148280"/>
            <a:ext cx="1297080" cy="2233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308720" y="5661000"/>
            <a:ext cx="144720" cy="142920"/>
            <a:chOff x="7308720" y="5661000"/>
            <a:chExt cx="144720" cy="142920"/>
          </a:xfrm>
        </p:grpSpPr>
        <p:sp>
          <p:nvSpPr>
            <p:cNvPr id="235" name=""/>
            <p:cNvSpPr/>
            <p:nvPr/>
          </p:nvSpPr>
          <p:spPr>
            <a:xfrm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238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5432400" y="2999520"/>
            <a:ext cx="20523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9" y="1166"/>
                </a:moveTo>
                <a:arcTo wR="10800" hR="10800" stAng="-7011973" swAng="6698343"/>
                <a:lnTo>
                  <a:pt x="10800" y="10800"/>
                </a:lnTo>
                <a:close/>
              </a:path>
              <a:path fill="none" w="21600" h="21600">
                <a:moveTo>
                  <a:pt x="5919" y="1166"/>
                </a:moveTo>
                <a:arcTo wR="10800" hR="10800" stAng="-7011973" swAng="669834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72360" y="422100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8160" y="220500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66100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440" y="4221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5651640" y="5300640"/>
            <a:ext cx="12967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42920" y="333360"/>
                <a:ext cx="41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588000" y="14436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28000" y="191772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93080" y="47628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20000" y="2781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506920" y="191772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42920" y="3500280"/>
                <a:ext cx="4533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6875280" y="620640"/>
            <a:ext cx="144720" cy="142920"/>
            <a:chOff x="6875280" y="620640"/>
            <a:chExt cx="144720" cy="142920"/>
          </a:xfrm>
        </p:grpSpPr>
        <p:sp>
          <p:nvSpPr>
            <p:cNvPr id="264" name=""/>
            <p:cNvSpPr/>
            <p:nvPr/>
          </p:nvSpPr>
          <p:spPr>
            <a:xfrm>
              <a:off x="687564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7528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51640" y="57340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053560" y="5334120"/>
                <a:ext cx="23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3933720"/>
                <a:ext cx="236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32600" y="6197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19880" y="5334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6011640" y="6021360"/>
            <a:ext cx="144720" cy="142920"/>
            <a:chOff x="6011640" y="6021360"/>
            <a:chExt cx="144720" cy="142920"/>
          </a:xfrm>
        </p:grpSpPr>
        <p:sp>
          <p:nvSpPr>
            <p:cNvPr id="278" name=""/>
            <p:cNvSpPr/>
            <p:nvPr/>
          </p:nvSpPr>
          <p:spPr>
            <a:xfrm>
              <a:off x="601200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1164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964120" y="1052640"/>
            <a:ext cx="170460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178"/>
                </a:moveTo>
                <a:arcTo wR="10800" hR="10800" stAng="-4775587" swAng="4734933"/>
                <a:lnTo>
                  <a:pt x="10800" y="10800"/>
                </a:lnTo>
                <a:close/>
              </a:path>
              <a:path fill="none" w="21600" h="21600">
                <a:moveTo>
                  <a:pt x="12751" y="178"/>
                </a:moveTo>
                <a:arcTo wR="10800" hR="10800" stAng="-4775587" swAng="473493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20000" y="1407960"/>
                <a:ext cx="43164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084720" y="4437000"/>
            <a:ext cx="1704960" cy="164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1" y="18313"/>
                </a:moveTo>
                <a:arcTo wR="10800" hR="10800" stAng="8155378" swAng="13403968"/>
                <a:lnTo>
                  <a:pt x="10800" y="10800"/>
                </a:lnTo>
                <a:close/>
              </a:path>
              <a:path fill="none" w="21600" h="21600">
                <a:moveTo>
                  <a:pt x="3041" y="18313"/>
                </a:moveTo>
                <a:arcTo wR="10800" hR="10800" stAng="8155378" swAng="13403968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380280" y="479736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5435640" y="1125360"/>
            <a:ext cx="1512720" cy="719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42920" y="404640"/>
                <a:ext cx="3800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651640" y="6922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67600" y="1917720"/>
                <a:ext cx="184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020000" y="4762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47000" y="278136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33920" y="191772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573360"/>
                <a:ext cx="333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5795640" y="1268280"/>
            <a:ext cx="144720" cy="142920"/>
            <a:chOff x="5795640" y="1268280"/>
            <a:chExt cx="144720" cy="142920"/>
          </a:xfrm>
        </p:grpSpPr>
        <p:sp>
          <p:nvSpPr>
            <p:cNvPr id="299" name=""/>
            <p:cNvSpPr/>
            <p:nvPr/>
          </p:nvSpPr>
          <p:spPr>
            <a:xfrm>
              <a:off x="579600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564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64000" y="4724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101080" y="5373720"/>
                <a:ext cx="241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05600" y="6165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508720" y="5373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5651280" y="5229360"/>
            <a:ext cx="144720" cy="142920"/>
            <a:chOff x="5651280" y="5229360"/>
            <a:chExt cx="144720" cy="142920"/>
          </a:xfrm>
        </p:grpSpPr>
        <p:sp>
          <p:nvSpPr>
            <p:cNvPr id="312" name=""/>
            <p:cNvSpPr/>
            <p:nvPr/>
          </p:nvSpPr>
          <p:spPr>
            <a:xfrm>
              <a:off x="565164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65128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34320" y="1054080"/>
            <a:ext cx="170604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" y="5690"/>
                </a:moveTo>
                <a:arcTo wR="10800" hR="10800" stAng="-9105538" swAng="9064884"/>
                <a:lnTo>
                  <a:pt x="10800" y="10800"/>
                </a:lnTo>
                <a:close/>
              </a:path>
              <a:path fill="none" w="21600" h="21600">
                <a:moveTo>
                  <a:pt x="1286" y="5690"/>
                </a:moveTo>
                <a:arcTo wR="10800" hR="10800" stAng="-9105538" swAng="906488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59640" y="126828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084360" y="4437000"/>
            <a:ext cx="177660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" y="10446"/>
                </a:moveTo>
                <a:arcTo wR="10800" hR="10800" stAng="-10687143" swAng="10646489"/>
                <a:lnTo>
                  <a:pt x="10800" y="10800"/>
                </a:lnTo>
                <a:close/>
              </a:path>
              <a:path fill="none" w="21600" h="21600">
                <a:moveTo>
                  <a:pt x="6" y="10446"/>
                </a:moveTo>
                <a:arcTo wR="10800" hR="10800" stAng="-10687143" swAng="10646489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89640" y="479736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0930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29Z</dcterms:modified>
  <cp:revision>295</cp:revision>
  <dc:subject/>
  <dc:title>KČ</dc:title>
</cp:coreProperties>
</file>