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5BC-E63B-4007-ABE8-26C015D700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CAA-17D2-4C36-97D8-1562DACBE1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D1D-0B60-448D-AB07-A465FCDF75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987-6354-4C46-A8F6-32B0294B7B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8657-D47C-4FCF-929C-6C8782BDDF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DAD-96BF-4405-A3A9-8EA9191B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86D-CB02-4D88-A805-DEC1B53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190-6035-4F25-8BBA-7FA0016B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E09-392C-446F-AA94-26CB124A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3E7B-BE5B-46BA-946A-B99B77FD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D8C9-544E-43F5-ADEF-9920E138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1B5A-DD03-4F63-9206-DC4A1A6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A7E-E2E5-4D72-83B4-4079C135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3F03-1D32-40A9-AD7B-93FA4ABF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A421-8474-4C98-8A49-16B1186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0A7-BCBB-4191-A8A2-C87787B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2E0-5BE3-4EDE-8613-929A341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8963-3BA3-4450-9AC9-2F642D47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942-4EC4-4DFF-87E8-604FB52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B6F1-4F86-4E4C-858E-C162844A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0BF8-8AA0-442F-8FD1-2AFB7BE6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9FC2-31E3-4CAA-B2C3-57C3D035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3A9-3BF8-4436-9B68-4A9F86D4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004-E761-4A31-AF76-19F224D7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A37-40DC-47A7-A049-896EA03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778-B9C7-49A6-877A-AF31C95B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C41-3C83-405E-A3E0-38C6708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2B9-6E4A-4BC8-B8CD-407B3B0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7B5-29FA-4F55-AEF6-F8AFB594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472-A313-4855-AEBF-26E4C408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347-B162-4199-BE7B-E9BB3751D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opač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995640" y="1557360"/>
                <a:ext cx="2149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21200" y="2227320"/>
                <a:ext cx="1917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52880" y="2873520"/>
                <a:ext cx="1887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95640" y="3573360"/>
                <a:ext cx="21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67280" y="4221000"/>
                <a:ext cx="1355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24360" y="4797360"/>
                <a:ext cx="132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924360" y="5445000"/>
                <a:ext cx="194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81600" y="6146640"/>
                <a:ext cx="1914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844640"/>
          <a:ext cx="7416720" cy="45036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a komplexně sdružená a opač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ě sdružená a opačná komplexní čísla; Reálná a imaginární čás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, v jakém vzájemném vztahu jsou obrazy daných dvojic KČ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zobrazte je nejprve v Gaussově rovině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4 +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3 –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8900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765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3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765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počátku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341360"/>
            <a:ext cx="31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34136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720" y="4076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6960" y="4964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24000" y="3068640"/>
            <a:ext cx="1368360" cy="165564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84000" y="4797360"/>
            <a:ext cx="1366920" cy="158292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5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028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89000"/>
            <a:ext cx="3816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83664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765000"/>
            <a:ext cx="46814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97360"/>
            <a:ext cx="0" cy="18414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24000" y="299736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3080" y="32846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+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4740120"/>
            <a:ext cx="558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4760" y="2030040"/>
            <a:ext cx="4680" cy="4683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2200" y="186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9440" y="466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7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79576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50920" y="6453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50920" y="60357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50920" y="55897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51721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50920" y="430848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50920" y="387684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50920" y="344340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0920" y="256392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50920" y="2997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08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23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5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21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5800" y="40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5800" y="365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5800" y="322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25800" y="242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5800" y="63244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5800" y="58928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54594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5800" y="502776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308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380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872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860640"/>
            <a:ext cx="0" cy="8668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87684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97360"/>
            <a:ext cx="0" cy="1656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6453360"/>
            <a:ext cx="1455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724280"/>
            <a:ext cx="0" cy="8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558972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39640" y="6396120"/>
            <a:ext cx="120960" cy="109440"/>
            <a:chOff x="2339640" y="6396120"/>
            <a:chExt cx="120960" cy="109440"/>
          </a:xfrm>
        </p:grpSpPr>
        <p:sp>
          <p:nvSpPr>
            <p:cNvPr id="213" name=""/>
            <p:cNvSpPr/>
            <p:nvPr/>
          </p:nvSpPr>
          <p:spPr>
            <a:xfrm>
              <a:off x="234000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3964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859280" y="2579760"/>
            <a:ext cx="0" cy="21366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79760"/>
            <a:ext cx="0" cy="2197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563920"/>
            <a:ext cx="952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42920" y="2508120"/>
            <a:ext cx="119520" cy="109800"/>
            <a:chOff x="2842920" y="2508120"/>
            <a:chExt cx="119520" cy="109800"/>
          </a:xfrm>
        </p:grpSpPr>
        <p:sp>
          <p:nvSpPr>
            <p:cNvPr id="220" name=""/>
            <p:cNvSpPr/>
            <p:nvPr/>
          </p:nvSpPr>
          <p:spPr>
            <a:xfrm>
              <a:off x="284328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84292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87640" y="2508120"/>
            <a:ext cx="120960" cy="111240"/>
            <a:chOff x="4787640" y="2508120"/>
            <a:chExt cx="120960" cy="111240"/>
          </a:xfrm>
        </p:grpSpPr>
        <p:sp>
          <p:nvSpPr>
            <p:cNvPr id="223" name=""/>
            <p:cNvSpPr/>
            <p:nvPr/>
          </p:nvSpPr>
          <p:spPr>
            <a:xfrm>
              <a:off x="478800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78764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92360" y="2924280"/>
            <a:ext cx="120960" cy="110880"/>
            <a:chOff x="5292360" y="2924280"/>
            <a:chExt cx="120960" cy="110880"/>
          </a:xfrm>
        </p:grpSpPr>
        <p:sp>
          <p:nvSpPr>
            <p:cNvPr id="226" name=""/>
            <p:cNvSpPr/>
            <p:nvPr/>
          </p:nvSpPr>
          <p:spPr>
            <a:xfrm>
              <a:off x="529272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29236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95640" y="3803760"/>
            <a:ext cx="120960" cy="110880"/>
            <a:chOff x="5795640" y="3803760"/>
            <a:chExt cx="120960" cy="110880"/>
          </a:xfrm>
        </p:grpSpPr>
        <p:sp>
          <p:nvSpPr>
            <p:cNvPr id="229" name=""/>
            <p:cNvSpPr/>
            <p:nvPr/>
          </p:nvSpPr>
          <p:spPr>
            <a:xfrm>
              <a:off x="579600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79564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95640" y="5516640"/>
            <a:ext cx="120960" cy="110880"/>
            <a:chOff x="5795640" y="5516640"/>
            <a:chExt cx="120960" cy="110880"/>
          </a:xfrm>
        </p:grpSpPr>
        <p:sp>
          <p:nvSpPr>
            <p:cNvPr id="232" name=""/>
            <p:cNvSpPr/>
            <p:nvPr/>
          </p:nvSpPr>
          <p:spPr>
            <a:xfrm>
              <a:off x="579600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79564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65272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–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25653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+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8160" y="1989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9440" y="198900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720" y="61657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–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6920" y="3860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472428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6040" y="3213000"/>
            <a:ext cx="352296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Times New Roman"/>
              </a:rPr>
              <a:t>KČ opač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symetrická podle počátku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411280" y="2997360"/>
            <a:ext cx="2952720" cy="34560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8200" y="4005360"/>
            <a:ext cx="3025800" cy="14850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KČ komplexně sdruže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(symetrická podle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16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780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272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67280" y="3860280"/>
            <a:ext cx="0" cy="1729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omplexně sdruže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268280"/>
            <a:ext cx="7705800" cy="3168720"/>
            <a:chOff x="1187280" y="1268280"/>
            <a:chExt cx="7705800" cy="3168720"/>
          </a:xfrm>
        </p:grpSpPr>
        <p:sp>
          <p:nvSpPr>
            <p:cNvPr id="251" name=""/>
            <p:cNvSpPr/>
            <p:nvPr/>
          </p:nvSpPr>
          <p:spPr>
            <a:xfrm>
              <a:off x="1187280" y="1268280"/>
              <a:ext cx="770580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echť je dáno KČ: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    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 = 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1 </a:t>
              </a: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+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2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ak KČ k němu komplexně sdružené označujeme      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 lze je zapsat:                           .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284720" y="306864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4932360" y="3718080"/>
                  <a:ext cx="235908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1332000" y="5950080"/>
            <a:ext cx="7416720" cy="581400"/>
            <a:chOff x="1332000" y="5950080"/>
            <a:chExt cx="7416720" cy="581400"/>
          </a:xfrm>
        </p:grpSpPr>
        <p:sp>
          <p:nvSpPr>
            <p:cNvPr id="255" name=""/>
            <p:cNvSpPr/>
            <p:nvPr/>
          </p:nvSpPr>
          <p:spPr>
            <a:xfrm>
              <a:off x="1332000" y="595008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68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oznámk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.. čtěte „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s pruhem“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635280" y="602136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5724360" y="148608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486080"/>
            <a:ext cx="79236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8136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hodná čísl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458136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437000"/>
            <a:ext cx="28728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30560" y="4437000"/>
            <a:ext cx="28908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4360" y="364500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645000"/>
            <a:ext cx="8654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komplexně sdruže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48360" y="1557360"/>
                <a:ext cx="1687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6680" y="2195640"/>
                <a:ext cx="188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2873520"/>
                <a:ext cx="1854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076720" y="3521160"/>
                <a:ext cx="16542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148360" y="4241880"/>
                <a:ext cx="109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78520" y="47498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76720" y="5465880"/>
                <a:ext cx="1419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76720" y="6113520"/>
                <a:ext cx="1881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987640" y="6165720"/>
                <a:ext cx="15224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4221000"/>
                <a:ext cx="1054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556000" y="4797360"/>
                <a:ext cx="1555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kořeny kvadratických rovnic, jejichž diskriminant je záporný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54936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800280"/>
                <a:tab algn="l" pos="251460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oř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kvadratických rovnic, jejichž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porný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4292640"/>
            <a:ext cx="7956720" cy="1584000"/>
            <a:chOff x="1187280" y="4292640"/>
            <a:chExt cx="7956720" cy="1584000"/>
          </a:xfrm>
        </p:grpSpPr>
        <p:sp>
          <p:nvSpPr>
            <p:cNvPr id="290" name=""/>
            <p:cNvSpPr/>
            <p:nvPr/>
          </p:nvSpPr>
          <p:spPr>
            <a:xfrm>
              <a:off x="7020000" y="5300640"/>
              <a:ext cx="21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7280" y="4292640"/>
              <a:ext cx="795672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150000"/>
                </a:lnSpc>
                <a:buClr>
                  <a:srgbClr val="0099cc"/>
                </a:buClr>
                <a:buSzPct val="80000"/>
                <a:buFont typeface="Wingdings" charset="2"/>
                <a:buChar char=""/>
                <a:tabLst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apříklad, je-l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–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538200" indent="-538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otom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+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 = 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druhý kořen kvadratické rovnice, je-l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25600" y="1508040"/>
                <a:ext cx="17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403280" y="2133720"/>
                <a:ext cx="1720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03280" y="2781360"/>
                <a:ext cx="1689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03560" y="1508040"/>
                <a:ext cx="1819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97160" y="3500280"/>
                <a:ext cx="1590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03280" y="4149720"/>
                <a:ext cx="1425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415880" y="4781520"/>
                <a:ext cx="1060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403280" y="5445000"/>
                <a:ext cx="2021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403280" y="6093000"/>
                <a:ext cx="1093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27320" y="2133720"/>
                <a:ext cx="1754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95640" y="2781360"/>
                <a:ext cx="1984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995640" y="3500280"/>
                <a:ext cx="162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67280" y="4149720"/>
                <a:ext cx="1222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67280" y="5445000"/>
                <a:ext cx="2049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069800" y="472428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9800" y="602136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pač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155736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chť je dáno KČ: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    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 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k KČ k němu opačné označujeme  –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lze je zapsat: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1773360"/>
            <a:ext cx="79236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16720" y="1773360"/>
            <a:ext cx="79200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43880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458136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508720" y="4149360"/>
            <a:ext cx="35856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6804000" y="4149360"/>
            <a:ext cx="21600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3213000"/>
            <a:ext cx="79236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53080" y="184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213000"/>
            <a:ext cx="792000" cy="792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40Z</dcterms:modified>
  <cp:revision>295</cp:revision>
  <dc:subject/>
  <dc:title>KČ</dc:title>
</cp:coreProperties>
</file>