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3926-43E2-438B-A374-FCD918B5CE9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C91C-50DA-4884-B6CD-42934D32581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B01F-D9F6-40D7-90F4-D229204C567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C7FB-AA61-4758-BF71-2DFC255E641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D5DF-C6D5-4AEF-AB56-29B72CEB46D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53E4-55D2-4999-BF00-7A4657B78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F1CD-C363-4D03-A940-A009773D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61CF-E407-411F-A30F-0FC67E443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D9DA-98E6-4E8B-8FEB-8B328D70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4838-3917-4498-B4BB-0562EEA8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6A01-65FD-419D-80AB-AD7ACB11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7449-4E0F-4D44-9C5B-5D05257C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2FA3-8F96-4DFE-9C3C-1DCC57A5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B02B-EC57-4D50-91F9-6EF30DE8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B16C-2586-4BDA-A6E2-8CF75469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560A-2C75-44F3-8A3B-454D275F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1BBF-82C1-46CE-86B5-3E02CBE4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D290-07E0-48F5-9862-C2E52358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32C9-0B64-4624-8D1D-93CB384E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3999-14BF-485B-B3AE-71B1425E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4669-A515-4BF0-811D-A11250FF9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C621-9066-4F62-8F4D-F76A5D22B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D230-BFA4-4EA0-9A07-FACA355D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BD79-A09A-4E32-839E-15243933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DF6D-29AB-47E1-95A4-6FC3C8B8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3DD1-5F2E-4152-BACE-CB31A2DA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7E82-5FDD-4AB6-89BD-EF523514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780A-C68F-4607-91F0-591E0506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7687-97BE-4FC6-A1A6-049AD32A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9E63-6C93-44B7-A7BC-FC3B6C9C9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1DB7-174C-42C7-AAC7-186F8BEA8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4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9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1116000" y="189000"/>
            <a:ext cx="8028000" cy="6048360"/>
            <a:chOff x="1116000" y="189000"/>
            <a:chExt cx="8028000" cy="6048360"/>
          </a:xfrm>
        </p:grpSpPr>
        <p:sp>
          <p:nvSpPr>
            <p:cNvPr id="235" name=""/>
            <p:cNvSpPr/>
            <p:nvPr/>
          </p:nvSpPr>
          <p:spPr>
            <a:xfrm>
              <a:off x="1116000" y="189000"/>
              <a:ext cx="802800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ccecff"/>
                  </a:solidFill>
                  <a:latin typeface="Times New Roman"/>
                </a:rPr>
                <a:t>Příklad</a:t>
              </a:r>
              <a:r>
                <a:rPr b="0" lang="en-US" sz="3000" spc="-1" strike="noStrike">
                  <a:solidFill>
                    <a:srgbClr val="ccecff"/>
                  </a:solidFill>
                  <a:latin typeface="Times New Roman"/>
                </a:rPr>
                <a:t>: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Je-li 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= 1 – 2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i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, 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b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= – 3 + 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i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, 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c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= – 5 – 4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i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, 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= – 3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i, e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= 7,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vypočtěte: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16000" y="1773360"/>
              <a:ext cx="2664000" cy="44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+ b = 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a + c + d = 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a – b = 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b – a = 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c – a + d – e =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a + e – d – c = 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340000" y="1773360"/>
            <a:ext cx="680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+ (– 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64000" y="1773360"/>
            <a:ext cx="378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 2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7640" y="2349360"/>
            <a:ext cx="6156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+ (– 5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+ (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08720" y="2349360"/>
            <a:ext cx="1835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 4 – 9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68360" y="2997360"/>
            <a:ext cx="6875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– (– 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2997360"/>
            <a:ext cx="4067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3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96360" y="2997360"/>
            <a:ext cx="1547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4 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68360" y="3500280"/>
            <a:ext cx="687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4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–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– 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003640" y="3645000"/>
            <a:ext cx="414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–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1 +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524720" y="3645000"/>
            <a:ext cx="1619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–4 +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4292640"/>
            <a:ext cx="550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– 5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7 =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32000" y="4941720"/>
            <a:ext cx="601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 5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 –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1 +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 –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236000" y="4941720"/>
            <a:ext cx="190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– 13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35280" y="5589720"/>
            <a:ext cx="550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+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7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– 5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=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32000" y="6021360"/>
            <a:ext cx="601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4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1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 +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7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+ 5 +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020000" y="6165720"/>
            <a:ext cx="21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3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V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Součin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47640" y="981000"/>
            <a:ext cx="75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 . b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=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+ 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+ 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. (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1)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+ 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+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+ 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+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 + 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76360" y="5589720"/>
            <a:ext cx="7667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ýsledkem je opět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96360" y="2349360"/>
            <a:ext cx="360360" cy="28764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80360" y="1773360"/>
            <a:ext cx="358560" cy="57600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576000"/>
              <a:gd name="textAreaBottom" fmla="*/ 558720 h 576000"/>
            </a:gdLst>
            <a:ahLst/>
            <a:rect l="textAreaLeft" t="textAreaTop" r="textAreaRight" b="textAreaBottom"/>
            <a:pathLst>
              <a:path w="21600" h="34686">
                <a:moveTo>
                  <a:pt x="3600" y="0"/>
                </a:moveTo>
                <a:arcTo wR="3600" hR="3600" stAng="16200000" swAng="-5400000"/>
                <a:lnTo>
                  <a:pt x="0" y="31086"/>
                </a:lnTo>
                <a:arcTo wR="3600" hR="3600" stAng="10800000" swAng="-5400000"/>
                <a:lnTo>
                  <a:pt x="18000" y="346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71640" y="4724280"/>
            <a:ext cx="2232000" cy="5778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03640" y="4724280"/>
            <a:ext cx="2737080" cy="5778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59280" y="52293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reálná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92360" y="522936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imaginární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900000" y="189000"/>
            <a:ext cx="8244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Je-li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,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,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5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,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,  e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7,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vypočtěte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00000" y="1989000"/>
            <a:ext cx="266400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.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b =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 . c . d =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.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b – e . c =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79640" y="1989000"/>
            <a:ext cx="71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2784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(– 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6516000" y="1989000"/>
            <a:ext cx="86364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60720" y="15606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+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68360" y="2781360"/>
            <a:ext cx="687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40000"/>
              </a:lnSpc>
              <a:tabLst>
                <a:tab algn="l" pos="0"/>
                <a:tab algn="l" pos="272880"/>
                <a:tab algn="l" pos="355680"/>
                <a:tab algn="l" pos="2784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(– 5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(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59280" y="5229360"/>
            <a:ext cx="60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(– 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– 7(– 5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1989000"/>
            <a:ext cx="457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2784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 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6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1989000"/>
            <a:ext cx="183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2784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 1 + 7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50920" y="3645000"/>
            <a:ext cx="70930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40000"/>
              </a:lnSpc>
              <a:tabLst>
                <a:tab algn="l" pos="0"/>
                <a:tab algn="l" pos="272880"/>
                <a:tab algn="l" pos="355680"/>
                <a:tab algn="l" pos="2784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(1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 + 1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780000" y="2997360"/>
            <a:ext cx="223200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3440" y="3429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00720" y="3429000"/>
            <a:ext cx="0" cy="43344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08720" y="3645000"/>
            <a:ext cx="36352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40000"/>
              </a:lnSpc>
              <a:tabLst>
                <a:tab algn="l" pos="0"/>
                <a:tab algn="l" pos="272880"/>
                <a:tab algn="l" pos="355680"/>
                <a:tab algn="l" pos="2784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12 – 30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2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7236000" y="3789360"/>
            <a:ext cx="100944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53080" y="335772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+3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508720" y="4294080"/>
            <a:ext cx="36352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40000"/>
              </a:lnSpc>
              <a:tabLst>
                <a:tab algn="l" pos="0"/>
                <a:tab algn="l" pos="272880"/>
                <a:tab algn="l" pos="355680"/>
                <a:tab algn="l" pos="2784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8 + 39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627280" y="6021360"/>
            <a:ext cx="651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 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6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35 +28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164360" y="6021360"/>
            <a:ext cx="197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3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3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132000" y="5300640"/>
            <a:ext cx="237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508720" y="5300640"/>
            <a:ext cx="201600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059280" y="6093000"/>
            <a:ext cx="2520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580000" y="6093000"/>
            <a:ext cx="165600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284720" y="5732640"/>
            <a:ext cx="0" cy="3603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443640" y="5732640"/>
            <a:ext cx="0" cy="3603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788000" y="6093000"/>
            <a:ext cx="79200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005080" y="56610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+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564000" y="3860640"/>
            <a:ext cx="1944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284000" y="3860640"/>
            <a:ext cx="108108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9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9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2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042920" y="260280"/>
            <a:ext cx="756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Mocniny imaginárního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42920" y="1268280"/>
            <a:ext cx="810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žíváme algebraické vzorce známé již ze ZŠ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403280" y="2131920"/>
                <a:ext cx="40276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±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476360" y="2781360"/>
                <a:ext cx="5456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±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±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±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1258920" y="3716280"/>
            <a:ext cx="7885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Vypočtět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476360" y="4653000"/>
                <a:ext cx="1300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2771640" y="4653000"/>
                <a:ext cx="20797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788000" y="4653000"/>
                <a:ext cx="152712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3995640" y="4653000"/>
            <a:ext cx="792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68360" y="422100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573200" y="5965920"/>
                <a:ext cx="11048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2771640" y="5950080"/>
                <a:ext cx="2795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5586480" y="5942160"/>
                <a:ext cx="13968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4140360" y="5950080"/>
            <a:ext cx="79200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12720" y="551664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32360" y="5950080"/>
            <a:ext cx="64764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079960" y="5516640"/>
            <a:ext cx="47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580000" y="5589360"/>
            <a:ext cx="432000" cy="144360"/>
          </a:xfrm>
          <a:prstGeom prst="line">
            <a:avLst/>
          </a:prstGeom>
          <a:ln w="936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5992920" y="5300640"/>
                <a:ext cx="3151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1116000" y="981000"/>
                <a:ext cx="2592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1116000" y="2565360"/>
                <a:ext cx="24670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1116000" y="4076640"/>
                <a:ext cx="24400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116000" y="5516640"/>
                <a:ext cx="27147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14" name=""/>
          <p:cNvGrpSpPr/>
          <p:nvPr/>
        </p:nvGrpSpPr>
        <p:grpSpPr>
          <a:xfrm>
            <a:off x="2627280" y="1700280"/>
            <a:ext cx="1963800" cy="5013360"/>
            <a:chOff x="2627280" y="1700280"/>
            <a:chExt cx="1963800" cy="5013360"/>
          </a:xfrm>
        </p:grpSpPr>
        <mc:AlternateContent>
          <mc:Choice xmlns:a14="http://schemas.microsoft.com/office/drawing/2010/main" Requires="a14">
            <p:sp>
              <p:nvSpPr>
                <p:cNvPr id="315" name=""/>
                <p:cNvSpPr txBox="1"/>
                <p:nvPr/>
              </p:nvSpPr>
              <p:spPr>
                <a:xfrm>
                  <a:off x="2627280" y="1700280"/>
                  <a:ext cx="122076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+</m:t>
                      </m:r>
                      <m:r>
                        <m:t xml:space="preserve">5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6" name=""/>
                <p:cNvSpPr txBox="1"/>
                <p:nvPr/>
              </p:nvSpPr>
              <p:spPr>
                <a:xfrm>
                  <a:off x="2771640" y="3284640"/>
                  <a:ext cx="125568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7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7" name=""/>
                <p:cNvSpPr txBox="1"/>
                <p:nvPr/>
              </p:nvSpPr>
              <p:spPr>
                <a:xfrm>
                  <a:off x="2771640" y="4724280"/>
                  <a:ext cx="181944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59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8" name=""/>
                <p:cNvSpPr txBox="1"/>
                <p:nvPr/>
              </p:nvSpPr>
              <p:spPr>
                <a:xfrm>
                  <a:off x="2771640" y="6237360"/>
                  <a:ext cx="166068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9" name=""/>
          <p:cNvSpPr/>
          <p:nvPr/>
        </p:nvSpPr>
        <p:spPr>
          <a:xfrm>
            <a:off x="1116000" y="189000"/>
            <a:ext cx="802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Vypočtěte (zapište v AT)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5197320" y="981000"/>
                <a:ext cx="34862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124600" y="2565360"/>
                <a:ext cx="3917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5197320" y="4076640"/>
                <a:ext cx="3456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268960" y="5445000"/>
                <a:ext cx="29620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24" name=""/>
          <p:cNvGrpSpPr/>
          <p:nvPr/>
        </p:nvGrpSpPr>
        <p:grpSpPr>
          <a:xfrm>
            <a:off x="7093080" y="1700280"/>
            <a:ext cx="1858320" cy="5005440"/>
            <a:chOff x="7093080" y="1700280"/>
            <a:chExt cx="1858320" cy="5005440"/>
          </a:xfrm>
        </p:grpSpPr>
        <mc:AlternateContent>
          <mc:Choice xmlns:a14="http://schemas.microsoft.com/office/drawing/2010/main" Requires="a14">
            <p:sp>
              <p:nvSpPr>
                <p:cNvPr id="325" name=""/>
                <p:cNvSpPr txBox="1"/>
                <p:nvPr/>
              </p:nvSpPr>
              <p:spPr>
                <a:xfrm>
                  <a:off x="7093080" y="1700280"/>
                  <a:ext cx="159660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51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6" name=""/>
                <p:cNvSpPr txBox="1"/>
                <p:nvPr/>
              </p:nvSpPr>
              <p:spPr>
                <a:xfrm>
                  <a:off x="7135560" y="3284640"/>
                  <a:ext cx="125208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7165800" y="4797360"/>
                  <a:ext cx="178560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8" name=""/>
                <p:cNvSpPr txBox="1"/>
                <p:nvPr/>
              </p:nvSpPr>
              <p:spPr>
                <a:xfrm>
                  <a:off x="7165800" y="6093000"/>
                  <a:ext cx="17236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187280" y="981000"/>
                <a:ext cx="15130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1187280" y="2421000"/>
                <a:ext cx="15415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187280" y="3933720"/>
                <a:ext cx="15447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1187280" y="5373720"/>
                <a:ext cx="17290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1116000" y="189000"/>
            <a:ext cx="802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Určete a) reálnou, b) imaginární část KČ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593720" y="1700280"/>
            <a:ext cx="2246400" cy="4937040"/>
            <a:chOff x="1593720" y="1700280"/>
            <a:chExt cx="2246400" cy="4937040"/>
          </a:xfrm>
        </p:grpSpPr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1593720" y="1700280"/>
                  <a:ext cx="169092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0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6" name=""/>
                <p:cNvSpPr txBox="1"/>
                <p:nvPr/>
              </p:nvSpPr>
              <p:spPr>
                <a:xfrm>
                  <a:off x="1619280" y="3213000"/>
                  <a:ext cx="197172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7" name=""/>
                <p:cNvSpPr txBox="1"/>
                <p:nvPr/>
              </p:nvSpPr>
              <p:spPr>
                <a:xfrm>
                  <a:off x="1619280" y="4653000"/>
                  <a:ext cx="19400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8" name=""/>
                <p:cNvSpPr txBox="1"/>
                <p:nvPr/>
              </p:nvSpPr>
              <p:spPr>
                <a:xfrm>
                  <a:off x="1619280" y="6093000"/>
                  <a:ext cx="22208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5121360" y="981000"/>
                <a:ext cx="17604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5076720" y="2421000"/>
                <a:ext cx="15732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5076720" y="4005360"/>
                <a:ext cx="21621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5148360" y="5373720"/>
                <a:ext cx="27781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43" name=""/>
          <p:cNvGrpSpPr/>
          <p:nvPr/>
        </p:nvGrpSpPr>
        <p:grpSpPr>
          <a:xfrm>
            <a:off x="5580000" y="1700280"/>
            <a:ext cx="2379600" cy="4937040"/>
            <a:chOff x="5580000" y="1700280"/>
            <a:chExt cx="2379600" cy="4937040"/>
          </a:xfrm>
        </p:grpSpPr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>
                  <a:off x="5580000" y="1700280"/>
                  <a:ext cx="237960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5" name=""/>
                <p:cNvSpPr txBox="1"/>
                <p:nvPr/>
              </p:nvSpPr>
              <p:spPr>
                <a:xfrm>
                  <a:off x="5630760" y="3213000"/>
                  <a:ext cx="206532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5651640" y="4653000"/>
                  <a:ext cx="165888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5724360" y="6093000"/>
                  <a:ext cx="193860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332000" y="26028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Mocniny imaginární jednotky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32000" y="3573360"/>
            <a:ext cx="7272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Mocniny imaginární jednotky nabývají pouze </a:t>
            </a:r>
            <a:r>
              <a:rPr b="0" lang="en-US" sz="3000" spc="-1" strike="noStrike" u="sng">
                <a:solidFill>
                  <a:srgbClr val="dddddd"/>
                </a:solidFill>
                <a:uFillTx/>
                <a:latin typeface="Times New Roman"/>
              </a:rPr>
              <a:t>čtyř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různé hodnoty, které se opakují stále ve stejném pořadí: </a:t>
            </a:r>
            <a:r>
              <a:rPr b="0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+ 1, + </a:t>
            </a:r>
            <a:r>
              <a:rPr b="0" i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i, </a:t>
            </a:r>
            <a:r>
              <a:rPr b="0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–1</a:t>
            </a:r>
            <a:r>
              <a:rPr b="0" i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, </a:t>
            </a:r>
            <a:r>
              <a:rPr b="0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–</a:t>
            </a:r>
            <a:r>
              <a:rPr b="0" i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 i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1874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Pro úpravu lze užít dva postupy. Zvažte, který je pro vás jednodušší a ten si zapište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908000" y="1052640"/>
                <a:ext cx="1152720" cy="23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4140360" y="981000"/>
                <a:ext cx="3927240" cy="24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2556000" y="1052640"/>
            <a:ext cx="576000" cy="24476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2447640"/>
              <a:gd name="textAreaBottom" fmla="*/ 2419560 h 2447640"/>
            </a:gdLst>
            <a:ahLst/>
            <a:rect l="textAreaLeft" t="textAreaTop" r="textAreaRight" b="textAreaBottom"/>
            <a:pathLst>
              <a:path w="21600" h="91743">
                <a:moveTo>
                  <a:pt x="3600" y="0"/>
                </a:moveTo>
                <a:arcTo wR="3600" hR="3600" stAng="16200000" swAng="-5400000"/>
                <a:lnTo>
                  <a:pt x="0" y="88143"/>
                </a:lnTo>
                <a:arcTo wR="3600" hR="3600" stAng="10800000" swAng="-5400000"/>
                <a:lnTo>
                  <a:pt x="18000" y="917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187280" y="260280"/>
            <a:ext cx="727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88280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ecff"/>
                </a:solidFill>
                <a:uFillTx/>
                <a:latin typeface="Times New Roman"/>
              </a:rPr>
              <a:t>1. způsob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)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88280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b)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88280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)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3635280" y="1125360"/>
                <a:ext cx="11988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6602400" y="1844640"/>
                <a:ext cx="25416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3492360" y="333360"/>
                <a:ext cx="215604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r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1332000" y="2997360"/>
                <a:ext cx="55353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39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1332000" y="3933720"/>
                <a:ext cx="55702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26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359000" y="4869000"/>
                <a:ext cx="76406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1332000" y="5877000"/>
                <a:ext cx="732312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6443640" y="404640"/>
                <a:ext cx="243036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ichý 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6458040" y="1052640"/>
                <a:ext cx="24001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udý 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 flipV="1">
            <a:off x="2771640" y="980640"/>
            <a:ext cx="2448000" cy="2087640"/>
          </a:xfrm>
          <a:prstGeom prst="line">
            <a:avLst/>
          </a:prstGeom>
          <a:ln w="38160">
            <a:solidFill>
              <a:srgbClr val="66ff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95640" y="1052640"/>
            <a:ext cx="0" cy="1800000"/>
          </a:xfrm>
          <a:prstGeom prst="line">
            <a:avLst/>
          </a:prstGeom>
          <a:ln w="38160">
            <a:solidFill>
              <a:srgbClr val="66ff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3851280" y="1699920"/>
            <a:ext cx="0" cy="136836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716360" y="1700280"/>
            <a:ext cx="432000" cy="15127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5364000" y="981000"/>
            <a:ext cx="1513080" cy="2160720"/>
          </a:xfrm>
          <a:prstGeom prst="line">
            <a:avLst/>
          </a:prstGeom>
          <a:ln w="3816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6588000" y="981000"/>
            <a:ext cx="2051280" cy="2087640"/>
          </a:xfrm>
          <a:prstGeom prst="line">
            <a:avLst/>
          </a:prstGeom>
          <a:ln w="3816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987640" y="2491920"/>
            <a:ext cx="5327640" cy="252108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4284720" y="2492280"/>
            <a:ext cx="2806560" cy="252108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708360" y="1197000"/>
            <a:ext cx="287280" cy="2872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066920" y="1052640"/>
            <a:ext cx="865080" cy="0"/>
          </a:xfrm>
          <a:prstGeom prst="line">
            <a:avLst/>
          </a:prstGeom>
          <a:ln w="38160">
            <a:solidFill>
              <a:srgbClr val="66ff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411280" y="3141720"/>
            <a:ext cx="287640" cy="2872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24360" y="1700280"/>
            <a:ext cx="718920" cy="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195640" y="3068640"/>
            <a:ext cx="936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492360" y="2997360"/>
            <a:ext cx="93672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635280" y="3141720"/>
            <a:ext cx="360360" cy="503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03280"/>
              <a:gd name="textAreaBottom" fmla="*/ 486000 h 503280"/>
            </a:gdLst>
            <a:ahLst/>
            <a:rect l="textAreaLeft" t="textAreaTop" r="textAreaRight" b="textAreaBottom"/>
            <a:pathLst>
              <a:path w="21600" h="30158">
                <a:moveTo>
                  <a:pt x="3600" y="0"/>
                </a:moveTo>
                <a:arcTo wR="3600" hR="3600" stAng="16200000" swAng="-5400000"/>
                <a:lnTo>
                  <a:pt x="0" y="26558"/>
                </a:lnTo>
                <a:arcTo wR="3600" hR="3600" stAng="10800000" swAng="-5400000"/>
                <a:lnTo>
                  <a:pt x="18000" y="3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003640" y="3213000"/>
            <a:ext cx="505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932360" y="3141720"/>
            <a:ext cx="100800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72360" y="3068640"/>
            <a:ext cx="93636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948360" y="981000"/>
            <a:ext cx="1584360" cy="0"/>
          </a:xfrm>
          <a:prstGeom prst="line">
            <a:avLst/>
          </a:prstGeom>
          <a:ln w="3816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7235640" y="2492280"/>
            <a:ext cx="865080" cy="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95640" y="5013360"/>
            <a:ext cx="100800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492360" y="5013360"/>
            <a:ext cx="11509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500"/>
                            </p:stCondLst>
                            <p:childTnLst>
                              <p:par>
                                <p:cTn id="7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2000"/>
                            </p:stCondLst>
                            <p:childTnLst>
                              <p:par>
                                <p:cTn id="7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3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6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9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2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500"/>
                            </p:stCondLst>
                            <p:childTnLst>
                              <p:par>
                                <p:cTn id="8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00"/>
                            </p:stCondLst>
                            <p:childTnLst>
                              <p:par>
                                <p:cTn id="8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500"/>
                            </p:stCondLst>
                            <p:childTnLst>
                              <p:par>
                                <p:cTn id="8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1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4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0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3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500"/>
                            </p:stCondLst>
                            <p:childTnLst>
                              <p:par>
                                <p:cTn id="8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20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2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5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8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1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500"/>
                            </p:stCondLst>
                            <p:childTnLst>
                              <p:par>
                                <p:cTn id="9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500"/>
                            </p:stCondLst>
                            <p:childTnLst>
                              <p:par>
                                <p:cTn id="9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2000"/>
                            </p:stCondLst>
                            <p:childTnLst>
                              <p:par>
                                <p:cTn id="9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7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0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3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6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1187280" y="189000"/>
            <a:ext cx="7812360" cy="1653480"/>
            <a:chOff x="1187280" y="189000"/>
            <a:chExt cx="7812360" cy="1653480"/>
          </a:xfrm>
        </p:grpSpPr>
        <p:sp>
          <p:nvSpPr>
            <p:cNvPr id="386" name=""/>
            <p:cNvSpPr/>
            <p:nvPr/>
          </p:nvSpPr>
          <p:spPr>
            <a:xfrm>
              <a:off x="1187280" y="189000"/>
              <a:ext cx="7274160" cy="16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1884240"/>
                  <a:tab algn="l" pos="49370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ccecff"/>
                  </a:solidFill>
                  <a:uFillTx/>
                  <a:latin typeface="Times New Roman"/>
                </a:rPr>
                <a:t>2. způsob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a)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c)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1884240"/>
                  <a:tab algn="l" pos="49370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b) 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d)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	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7" name=""/>
                <p:cNvSpPr txBox="1"/>
                <p:nvPr/>
              </p:nvSpPr>
              <p:spPr>
                <a:xfrm>
                  <a:off x="3708360" y="1125360"/>
                  <a:ext cx="116676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i</m:t>
                          </m:r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=+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8" name=""/>
                <p:cNvSpPr txBox="1"/>
                <p:nvPr/>
              </p:nvSpPr>
              <p:spPr>
                <a:xfrm>
                  <a:off x="3708360" y="404640"/>
                  <a:ext cx="123048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i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=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9" name=""/>
                <p:cNvSpPr txBox="1"/>
                <p:nvPr/>
              </p:nvSpPr>
              <p:spPr>
                <a:xfrm>
                  <a:off x="6732720" y="404640"/>
                  <a:ext cx="123012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i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0" name=""/>
                <p:cNvSpPr txBox="1"/>
                <p:nvPr/>
              </p:nvSpPr>
              <p:spPr>
                <a:xfrm>
                  <a:off x="6732720" y="1125360"/>
                  <a:ext cx="226692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i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i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1258920" y="2349360"/>
                <a:ext cx="2725560" cy="184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78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t xml:space="preserve">: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e>
                        </m:d>
                      </m:e>
                      <m:e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8</m:t>
                                    </m:r>
                                  </m:sup>
                                </m:sSup>
                                <m:r>
                                  <m:t xml:space="preserve">=</m:t>
                                </m:r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ba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1258920" y="4581360"/>
                <a:ext cx="2695680" cy="18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: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</m:e>
                        </m:d>
                      </m:e>
                      <m:e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2</m:t>
                                    </m:r>
                                  </m:sup>
                                </m:sSup>
                                <m:r>
                                  <m:t xml:space="preserve">=</m:t>
                                </m:r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=+</m:t>
                                </m:r>
                                <m:r>
                                  <m:t xml:space="preserve">1</m:t>
                                </m:r>
                              </m:e>
                            </m:ba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5837400" y="2319480"/>
                <a:ext cx="2693880" cy="18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: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e>
                        </m:d>
                      </m:e>
                      <m:e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3</m:t>
                                    </m:r>
                                  </m:sup>
                                </m:sSup>
                                <m:r>
                                  <m:t xml:space="preserve">=</m:t>
                                </m:r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e>
                            </m:ba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5796000" y="4581360"/>
                <a:ext cx="2476440" cy="184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: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e>
                        </m:d>
                      </m:e>
                      <m:e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7</m:t>
                                    </m:r>
                                  </m:sup>
                                </m:sSup>
                                <m:r>
                                  <m:t xml:space="preserve">=</m:t>
                                </m:r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=+</m:t>
                                </m:r>
                                <m:r>
                                  <m:t xml:space="preserve">i</m:t>
                                </m:r>
                              </m:e>
                            </m:ba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2124000" y="3500280"/>
            <a:ext cx="360360" cy="360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64000" y="2997360"/>
            <a:ext cx="287280" cy="4316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441">
                <a:moveTo>
                  <a:pt x="3600" y="0"/>
                </a:moveTo>
                <a:arcTo wR="3600" hR="3600" stAng="16200000" swAng="-5400000"/>
                <a:lnTo>
                  <a:pt x="0" y="28841"/>
                </a:lnTo>
                <a:arcTo wR="3600" hR="3600" stAng="10800000" swAng="-5400000"/>
                <a:lnTo>
                  <a:pt x="18000" y="32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732720" y="3500280"/>
            <a:ext cx="360360" cy="360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124000" y="5805360"/>
            <a:ext cx="360360" cy="360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732720" y="5734080"/>
            <a:ext cx="360360" cy="360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101080" y="2997360"/>
            <a:ext cx="287280" cy="4316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441">
                <a:moveTo>
                  <a:pt x="3600" y="0"/>
                </a:moveTo>
                <a:arcTo wR="3600" hR="3600" stAng="16200000" swAng="-5400000"/>
                <a:lnTo>
                  <a:pt x="0" y="28841"/>
                </a:lnTo>
                <a:arcTo wR="3600" hR="3600" stAng="10800000" swAng="-5400000"/>
                <a:lnTo>
                  <a:pt x="18000" y="32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64000" y="5229360"/>
            <a:ext cx="287280" cy="433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3080"/>
              <a:gd name="textAreaBottom" fmla="*/ 419040 h 433080"/>
            </a:gdLst>
            <a:ahLst/>
            <a:rect l="textAreaLeft" t="textAreaTop" r="textAreaRight" b="textAreaBottom"/>
            <a:pathLst>
              <a:path w="21600" h="32549">
                <a:moveTo>
                  <a:pt x="3600" y="0"/>
                </a:moveTo>
                <a:arcTo wR="3600" hR="3600" stAng="16200000" swAng="-5400000"/>
                <a:lnTo>
                  <a:pt x="0" y="28949"/>
                </a:lnTo>
                <a:arcTo wR="3600" hR="3600" stAng="10800000" swAng="-5400000"/>
                <a:lnTo>
                  <a:pt x="18000" y="325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885080" y="5229360"/>
            <a:ext cx="287280" cy="433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3080"/>
              <a:gd name="textAreaBottom" fmla="*/ 419040 h 433080"/>
            </a:gdLst>
            <a:ahLst/>
            <a:rect l="textAreaLeft" t="textAreaTop" r="textAreaRight" b="textAreaBottom"/>
            <a:pathLst>
              <a:path w="21600" h="32549">
                <a:moveTo>
                  <a:pt x="3600" y="0"/>
                </a:moveTo>
                <a:arcTo wR="3600" hR="3600" stAng="16200000" swAng="-5400000"/>
                <a:lnTo>
                  <a:pt x="0" y="28949"/>
                </a:lnTo>
                <a:arcTo wR="3600" hR="3600" stAng="10800000" swAng="-5400000"/>
                <a:lnTo>
                  <a:pt x="18000" y="325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00"/>
                            </p:stCondLst>
                            <p:childTnLst>
                              <p:par>
                                <p:cTn id="9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1258920" y="907920"/>
            <a:ext cx="590400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23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17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85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323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40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96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54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86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60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405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35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7  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99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32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82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80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77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65  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00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8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484360" y="907920"/>
            <a:ext cx="590400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+ 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– 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+ 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– 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+ 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+ 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1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116000" y="189000"/>
            <a:ext cx="8028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Určete mocniny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46120"/>
          <a:ext cx="7416720" cy="51134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ní operace s komplexními čísl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, ale také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ní úkony s komplexními čísly: Rovnost komplexních čísel; Součet a rozdíl komplexních čísel; Součin a podíl komplexních čísel; Mocniny imaginární jednotk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258920" y="907920"/>
            <a:ext cx="7885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= – 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– 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– i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58920" y="907920"/>
            <a:ext cx="590400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3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3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33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43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.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.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...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99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116000" y="189000"/>
            <a:ext cx="8028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Vypočtěte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332000" y="2637000"/>
            <a:ext cx="78120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i="1" lang="en-US" sz="32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76360" y="4626000"/>
            <a:ext cx="7667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(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+ (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7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+ ..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.. +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97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98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99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596360" y="907920"/>
            <a:ext cx="15476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= – 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3640" y="2637000"/>
            <a:ext cx="41403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– 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476360" y="5950080"/>
            <a:ext cx="76676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25 . (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64000" y="5950080"/>
            <a:ext cx="3780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25 . 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32720" y="5950080"/>
            <a:ext cx="24112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VI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díl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979640" y="907920"/>
                <a:ext cx="384660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b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8" name=""/>
          <p:cNvSpPr/>
          <p:nvPr/>
        </p:nvSpPr>
        <p:spPr>
          <a:xfrm>
            <a:off x="1116000" y="2276640"/>
            <a:ext cx="8028000" cy="43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66ff33"/>
                </a:solidFill>
                <a:latin typeface="Times New Roman"/>
              </a:rPr>
              <a:t>POZOR!!!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Aby se jednalo o podíl KČ, musí být KČ (imag. jednotka) ve jmenovateli zlomku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20000"/>
              </a:lnSpc>
              <a:spcBef>
                <a:spcPts val="1874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Vyřešit podíl KČ znamená „odstranit imaginární jednotku ze jmenovatele zlomku“    – obdobná úprava jako u usměrňování zlomků (učivo 1. ročníku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20000"/>
              </a:lnSpc>
              <a:spcBef>
                <a:spcPts val="1874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Výsledkem je opět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2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971640" y="333360"/>
            <a:ext cx="8172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Vydělte KČ (zapište KČ v AT)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1116000" y="2349360"/>
                <a:ext cx="13827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2484360" y="2349360"/>
                <a:ext cx="52560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133640" y="3860640"/>
                <a:ext cx="125064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2340000" y="3860640"/>
                <a:ext cx="52560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1182600" y="5446800"/>
                <a:ext cx="125100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340000" y="5445000"/>
                <a:ext cx="5014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>
            <a:off x="2700360" y="2349360"/>
            <a:ext cx="360360" cy="1008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008360"/>
              <a:gd name="textAreaBottom" fmla="*/ 991080 h 1008360"/>
            </a:gdLst>
            <a:ahLst/>
            <a:rect l="textAreaLeft" t="textAreaTop" r="textAreaRight" b="textAreaBottom"/>
            <a:pathLst>
              <a:path w="21600" h="60402">
                <a:moveTo>
                  <a:pt x="3600" y="0"/>
                </a:moveTo>
                <a:arcTo wR="3600" hR="3600" stAng="16200000" swAng="-5400000"/>
                <a:lnTo>
                  <a:pt x="0" y="56802"/>
                </a:lnTo>
                <a:arcTo wR="3600" hR="3600" stAng="10800000" swAng="-5400000"/>
                <a:lnTo>
                  <a:pt x="18000" y="604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56000" y="3860640"/>
            <a:ext cx="360360" cy="1008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008360"/>
              <a:gd name="textAreaBottom" fmla="*/ 991080 h 1008360"/>
            </a:gdLst>
            <a:ahLst/>
            <a:rect l="textAreaLeft" t="textAreaTop" r="textAreaRight" b="textAreaBottom"/>
            <a:pathLst>
              <a:path w="21600" h="60402">
                <a:moveTo>
                  <a:pt x="3600" y="0"/>
                </a:moveTo>
                <a:arcTo wR="3600" hR="3600" stAng="16200000" swAng="-5400000"/>
                <a:lnTo>
                  <a:pt x="0" y="56802"/>
                </a:lnTo>
                <a:arcTo wR="3600" hR="3600" stAng="10800000" swAng="-5400000"/>
                <a:lnTo>
                  <a:pt x="18000" y="604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57440" y="5445000"/>
            <a:ext cx="360360" cy="1008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008360"/>
              <a:gd name="textAreaBottom" fmla="*/ 991080 h 1008360"/>
            </a:gdLst>
            <a:ahLst/>
            <a:rect l="textAreaLeft" t="textAreaTop" r="textAreaRight" b="textAreaBottom"/>
            <a:pathLst>
              <a:path w="21600" h="60402">
                <a:moveTo>
                  <a:pt x="3600" y="0"/>
                </a:moveTo>
                <a:arcTo wR="3600" hR="3600" stAng="16200000" swAng="-5400000"/>
                <a:lnTo>
                  <a:pt x="0" y="56802"/>
                </a:lnTo>
                <a:arcTo wR="3600" hR="3600" stAng="10800000" swAng="-5400000"/>
                <a:lnTo>
                  <a:pt x="18000" y="604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71640" y="1341360"/>
            <a:ext cx="7777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dělíme-li KČ ryze imaginárním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701800" y="1916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3132000" y="2349360"/>
                <a:ext cx="187344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4950000" y="2276640"/>
                <a:ext cx="151272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6443640" y="2349360"/>
                <a:ext cx="118440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7596360" y="2637000"/>
                <a:ext cx="13492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2987640" y="3860640"/>
                <a:ext cx="174312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4643280" y="3789360"/>
                <a:ext cx="151128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6156360" y="3860640"/>
                <a:ext cx="128124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7380360" y="3860640"/>
                <a:ext cx="151128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>
            <a:off x="1763640" y="2924280"/>
            <a:ext cx="432000" cy="43344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433440"/>
              <a:gd name="textAreaBottom" fmla="*/ 412560 h 433440"/>
            </a:gdLst>
            <a:ahLst/>
            <a:rect l="textAreaLeft" t="textAreaTop" r="textAreaRight" b="textAreaBottom"/>
            <a:pathLst>
              <a:path w="21600" h="21672">
                <a:moveTo>
                  <a:pt x="3600" y="0"/>
                </a:moveTo>
                <a:arcTo wR="3600" hR="3600" stAng="16200000" swAng="-5400000"/>
                <a:lnTo>
                  <a:pt x="0" y="18072"/>
                </a:lnTo>
                <a:arcTo wR="3600" hR="3600" stAng="10800000" swAng="-5400000"/>
                <a:lnTo>
                  <a:pt x="18000" y="216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763640" y="4437000"/>
            <a:ext cx="432000" cy="43344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433440"/>
              <a:gd name="textAreaBottom" fmla="*/ 412560 h 433440"/>
            </a:gdLst>
            <a:ahLst/>
            <a:rect l="textAreaLeft" t="textAreaTop" r="textAreaRight" b="textAreaBottom"/>
            <a:pathLst>
              <a:path w="21600" h="21672">
                <a:moveTo>
                  <a:pt x="3600" y="0"/>
                </a:moveTo>
                <a:arcTo wR="3600" hR="3600" stAng="16200000" swAng="-5400000"/>
                <a:lnTo>
                  <a:pt x="0" y="18072"/>
                </a:lnTo>
                <a:arcTo wR="3600" hR="3600" stAng="10800000" swAng="-5400000"/>
                <a:lnTo>
                  <a:pt x="18000" y="216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1619280" y="6021360"/>
            <a:ext cx="72072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2916360" y="5445000"/>
                <a:ext cx="16621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572000" y="5373720"/>
                <a:ext cx="144288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6012000" y="5445000"/>
                <a:ext cx="15364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7481880" y="5445000"/>
                <a:ext cx="16621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6" name=""/>
          <p:cNvSpPr/>
          <p:nvPr/>
        </p:nvSpPr>
        <p:spPr>
          <a:xfrm>
            <a:off x="971640" y="1341360"/>
            <a:ext cx="7777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dělíme-li KČ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ryze imaginárním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557440" y="342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557440" y="501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500"/>
                            </p:stCondLst>
                            <p:childTnLst>
                              <p:par>
                                <p:cTn id="10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554920" y="1341360"/>
            <a:ext cx="13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        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1042920" y="1484280"/>
                <a:ext cx="140040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484360" y="1484280"/>
                <a:ext cx="12430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7389720" y="1557360"/>
                <a:ext cx="175428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900000" y="260280"/>
            <a:ext cx="777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dělíme-li KČ imaginárním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1783080" y="2565360"/>
            <a:ext cx="3583440" cy="880920"/>
            <a:chOff x="1783080" y="2565360"/>
            <a:chExt cx="3583440" cy="880920"/>
          </a:xfrm>
        </p:grpSpPr>
        <p:sp>
          <p:nvSpPr>
            <p:cNvPr id="455" name=""/>
            <p:cNvSpPr/>
            <p:nvPr/>
          </p:nvSpPr>
          <p:spPr>
            <a:xfrm>
              <a:off x="2556000" y="2852640"/>
              <a:ext cx="223200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783080" y="2925720"/>
              <a:ext cx="358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cc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a </a:t>
              </a:r>
              <a:r>
                <a:rPr b="0" lang="en-US" sz="2400" spc="-1" strike="noStrike">
                  <a:solidFill>
                    <a:srgbClr val="ff99cc"/>
                  </a:solidFill>
                  <a:latin typeface="Times New Roman"/>
                </a:rPr>
                <a:t>+ 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ff99cc"/>
                  </a:solidFill>
                  <a:latin typeface="Times New Roman"/>
                </a:rPr>
                <a:t>).(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a </a:t>
              </a:r>
              <a:r>
                <a:rPr b="0" lang="en-US" sz="2400" spc="-1" strike="noStrike">
                  <a:solidFill>
                    <a:srgbClr val="ff99cc"/>
                  </a:solidFill>
                  <a:latin typeface="Times New Roman"/>
                </a:rPr>
                <a:t>– 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ff99cc"/>
                  </a:solidFill>
                  <a:latin typeface="Times New Roman"/>
                </a:rPr>
                <a:t>) =   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ff99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ff99cc"/>
                  </a:solidFill>
                  <a:latin typeface="Times New Roman"/>
                </a:rPr>
                <a:t> – 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ff99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2556000" y="2565360"/>
              <a:ext cx="0" cy="28080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4788000" y="2565360"/>
              <a:ext cx="0" cy="28080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771640" y="1484280"/>
            <a:ext cx="922320" cy="1008000"/>
          </a:xfrm>
          <a:custGeom>
            <a:avLst/>
            <a:gdLst>
              <a:gd name="textAreaLeft" fmla="*/ 45000 w 922320"/>
              <a:gd name="textAreaRight" fmla="*/ 877320 w 922320"/>
              <a:gd name="textAreaTop" fmla="*/ 45000 h 1008000"/>
              <a:gd name="textAreaBottom" fmla="*/ 963000 h 1008000"/>
            </a:gdLst>
            <a:ahLst/>
            <a:rect l="textAreaLeft" t="textAreaTop" r="textAreaRight" b="textAreaBottom"/>
            <a:pathLst>
              <a:path w="21600" h="23606">
                <a:moveTo>
                  <a:pt x="3600" y="0"/>
                </a:moveTo>
                <a:arcTo wR="3600" hR="3600" stAng="16200000" swAng="-5400000"/>
                <a:lnTo>
                  <a:pt x="0" y="20006"/>
                </a:lnTo>
                <a:arcTo wR="3600" hR="3600" stAng="10800000" swAng="-5400000"/>
                <a:lnTo>
                  <a:pt x="18000" y="236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257840" y="1916280"/>
            <a:ext cx="13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        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554920" y="1916280"/>
            <a:ext cx="13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        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060720" y="1052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00000" y="260280"/>
            <a:ext cx="777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dělíme-li KČ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imaginárním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1475640" y="2060640"/>
            <a:ext cx="93492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3851280" y="1413000"/>
                <a:ext cx="197496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5796000" y="1557360"/>
                <a:ext cx="165564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2554920" y="4149720"/>
            <a:ext cx="13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        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1058760" y="4292640"/>
                <a:ext cx="136836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2500200" y="4292640"/>
                <a:ext cx="12114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6877080" y="5445000"/>
                <a:ext cx="156348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1" name=""/>
          <p:cNvGrpSpPr/>
          <p:nvPr/>
        </p:nvGrpSpPr>
        <p:grpSpPr>
          <a:xfrm>
            <a:off x="1785240" y="5373720"/>
            <a:ext cx="4214520" cy="880920"/>
            <a:chOff x="1785240" y="5373720"/>
            <a:chExt cx="4214520" cy="880920"/>
          </a:xfrm>
        </p:grpSpPr>
        <p:sp>
          <p:nvSpPr>
            <p:cNvPr id="472" name=""/>
            <p:cNvSpPr/>
            <p:nvPr/>
          </p:nvSpPr>
          <p:spPr>
            <a:xfrm>
              <a:off x="2556000" y="5661000"/>
              <a:ext cx="309564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785240" y="5734080"/>
              <a:ext cx="421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cc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a </a:t>
              </a:r>
              <a:r>
                <a:rPr b="0" lang="en-US" sz="2400" spc="-1" strike="noStrike">
                  <a:solidFill>
                    <a:srgbClr val="ff99cc"/>
                  </a:solidFill>
                  <a:latin typeface="Times New Roman"/>
                </a:rPr>
                <a:t>– 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ff99cc"/>
                  </a:solidFill>
                  <a:latin typeface="Times New Roman"/>
                </a:rPr>
                <a:t>).(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a </a:t>
              </a:r>
              <a:r>
                <a:rPr b="0" lang="en-US" sz="2400" spc="-1" strike="noStrike">
                  <a:solidFill>
                    <a:srgbClr val="ff99cc"/>
                  </a:solidFill>
                  <a:latin typeface="Times New Roman"/>
                </a:rPr>
                <a:t>+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 b</a:t>
              </a:r>
              <a:r>
                <a:rPr b="0" lang="en-US" sz="2800" spc="-1" strike="noStrike">
                  <a:solidFill>
                    <a:srgbClr val="ff99cc"/>
                  </a:solidFill>
                  <a:latin typeface="Times New Roman"/>
                </a:rPr>
                <a:t>) =          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ff99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ff99cc"/>
                  </a:solidFill>
                  <a:latin typeface="Times New Roman"/>
                </a:rPr>
                <a:t> – 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ff99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2556000" y="5373720"/>
              <a:ext cx="0" cy="28080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5651640" y="5373720"/>
              <a:ext cx="0" cy="28080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2771640" y="4292640"/>
            <a:ext cx="922320" cy="1008000"/>
          </a:xfrm>
          <a:custGeom>
            <a:avLst/>
            <a:gdLst>
              <a:gd name="textAreaLeft" fmla="*/ 45000 w 922320"/>
              <a:gd name="textAreaRight" fmla="*/ 877320 w 922320"/>
              <a:gd name="textAreaTop" fmla="*/ 45000 h 1008000"/>
              <a:gd name="textAreaBottom" fmla="*/ 963000 h 1008000"/>
            </a:gdLst>
            <a:ahLst/>
            <a:rect l="textAreaLeft" t="textAreaTop" r="textAreaRight" b="textAreaBottom"/>
            <a:pathLst>
              <a:path w="21600" h="23606">
                <a:moveTo>
                  <a:pt x="3600" y="0"/>
                </a:moveTo>
                <a:arcTo wR="3600" hR="3600" stAng="16200000" swAng="-5400000"/>
                <a:lnTo>
                  <a:pt x="0" y="20006"/>
                </a:lnTo>
                <a:arcTo wR="3600" hR="3600" stAng="10800000" swAng="-5400000"/>
                <a:lnTo>
                  <a:pt x="18000" y="236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257840" y="4724280"/>
            <a:ext cx="13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        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554920" y="4724280"/>
            <a:ext cx="13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        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060720" y="386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1475640" y="4869000"/>
            <a:ext cx="934920" cy="433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3780000" y="4221000"/>
                <a:ext cx="29937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6804000" y="4365720"/>
                <a:ext cx="175104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3" name=""/>
          <p:cNvSpPr/>
          <p:nvPr/>
        </p:nvSpPr>
        <p:spPr>
          <a:xfrm flipH="1">
            <a:off x="4788000" y="1484280"/>
            <a:ext cx="93816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789080" y="105264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+1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5076720" y="4292640"/>
            <a:ext cx="93816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149800" y="38606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500"/>
                            </p:stCondLst>
                            <p:childTnLst>
                              <p:par>
                                <p:cTn id="1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1116000" y="404640"/>
                <a:ext cx="120348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1116000" y="1917720"/>
                <a:ext cx="144936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187280" y="3645000"/>
                <a:ext cx="129708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1168560" y="5302080"/>
                <a:ext cx="163512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91" name=""/>
          <p:cNvGrpSpPr/>
          <p:nvPr/>
        </p:nvGrpSpPr>
        <p:grpSpPr>
          <a:xfrm>
            <a:off x="2732040" y="404640"/>
            <a:ext cx="1762200" cy="5654880"/>
            <a:chOff x="2732040" y="404640"/>
            <a:chExt cx="1762200" cy="5654880"/>
          </a:xfrm>
        </p:grpSpPr>
        <mc:AlternateContent>
          <mc:Choice xmlns:a14="http://schemas.microsoft.com/office/drawing/2010/main" Requires="a14">
            <p:sp>
              <p:nvSpPr>
                <p:cNvPr id="492" name=""/>
                <p:cNvSpPr txBox="1"/>
                <p:nvPr/>
              </p:nvSpPr>
              <p:spPr>
                <a:xfrm>
                  <a:off x="2778120" y="404640"/>
                  <a:ext cx="166860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3" name=""/>
                <p:cNvSpPr txBox="1"/>
                <p:nvPr/>
              </p:nvSpPr>
              <p:spPr>
                <a:xfrm>
                  <a:off x="2771640" y="2205000"/>
                  <a:ext cx="1266840" cy="46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2732040" y="3645000"/>
                  <a:ext cx="176220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5" name=""/>
                <p:cNvSpPr txBox="1"/>
                <p:nvPr/>
              </p:nvSpPr>
              <p:spPr>
                <a:xfrm>
                  <a:off x="2962440" y="5589720"/>
                  <a:ext cx="1172880" cy="46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5095800" y="476280"/>
                <a:ext cx="145116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5265720" y="1989000"/>
                <a:ext cx="13572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5153040" y="3716280"/>
                <a:ext cx="157464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5348160" y="5373720"/>
                <a:ext cx="14814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00" name=""/>
          <p:cNvGrpSpPr/>
          <p:nvPr/>
        </p:nvGrpSpPr>
        <p:grpSpPr>
          <a:xfrm>
            <a:off x="6804000" y="476280"/>
            <a:ext cx="2082960" cy="5938920"/>
            <a:chOff x="6804000" y="476280"/>
            <a:chExt cx="2082960" cy="5938920"/>
          </a:xfrm>
        </p:grpSpPr>
        <mc:AlternateContent>
          <mc:Choice xmlns:a14="http://schemas.microsoft.com/office/drawing/2010/main" Requires="a14">
            <p:sp>
              <p:nvSpPr>
                <p:cNvPr id="501" name=""/>
                <p:cNvSpPr txBox="1"/>
                <p:nvPr/>
              </p:nvSpPr>
              <p:spPr>
                <a:xfrm>
                  <a:off x="6877080" y="1989000"/>
                  <a:ext cx="166860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2" name=""/>
                <p:cNvSpPr txBox="1"/>
                <p:nvPr/>
              </p:nvSpPr>
              <p:spPr>
                <a:xfrm>
                  <a:off x="6804000" y="476280"/>
                  <a:ext cx="204012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3" name=""/>
                <p:cNvSpPr txBox="1"/>
                <p:nvPr/>
              </p:nvSpPr>
              <p:spPr>
                <a:xfrm>
                  <a:off x="6877080" y="3716280"/>
                  <a:ext cx="200988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4" name=""/>
                <p:cNvSpPr txBox="1"/>
                <p:nvPr/>
              </p:nvSpPr>
              <p:spPr>
                <a:xfrm>
                  <a:off x="7020000" y="5373720"/>
                  <a:ext cx="163512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1403280" y="1052640"/>
                <a:ext cx="14209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1332000" y="2565360"/>
                <a:ext cx="145260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1403280" y="4005360"/>
                <a:ext cx="129708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8" name=""/>
          <p:cNvSpPr/>
          <p:nvPr/>
        </p:nvSpPr>
        <p:spPr>
          <a:xfrm>
            <a:off x="1116000" y="189000"/>
            <a:ext cx="802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Určete a) reálnou, b) imaginární část KČ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4788000" y="1054080"/>
            <a:ext cx="2441520" cy="5079960"/>
            <a:chOff x="4788000" y="1054080"/>
            <a:chExt cx="2441520" cy="5079960"/>
          </a:xfrm>
        </p:grpSpPr>
        <mc:AlternateContent>
          <mc:Choice xmlns:a14="http://schemas.microsoft.com/office/drawing/2010/main" Requires="a14">
            <p:sp>
              <p:nvSpPr>
                <p:cNvPr id="510" name=""/>
                <p:cNvSpPr txBox="1"/>
                <p:nvPr/>
              </p:nvSpPr>
              <p:spPr>
                <a:xfrm>
                  <a:off x="4807080" y="1054080"/>
                  <a:ext cx="1847880" cy="105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1" name=""/>
                <p:cNvSpPr txBox="1"/>
                <p:nvPr/>
              </p:nvSpPr>
              <p:spPr>
                <a:xfrm>
                  <a:off x="4788000" y="2565360"/>
                  <a:ext cx="2441520" cy="105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2" name=""/>
                <p:cNvSpPr txBox="1"/>
                <p:nvPr/>
              </p:nvSpPr>
              <p:spPr>
                <a:xfrm>
                  <a:off x="4788000" y="4005360"/>
                  <a:ext cx="2097000" cy="105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3" name=""/>
                <p:cNvSpPr txBox="1"/>
                <p:nvPr/>
              </p:nvSpPr>
              <p:spPr>
                <a:xfrm>
                  <a:off x="4859280" y="5589720"/>
                  <a:ext cx="159552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1403280" y="5373720"/>
                <a:ext cx="244008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332" dur="indefinite" restart="never" nodeType="tmRoot">
          <p:childTnLst>
            <p:seq>
              <p:cTn id="1333" dur="indefinite" nodeType="mainSeq">
                <p:childTnLst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1258920" y="549360"/>
                <a:ext cx="352116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1187280" y="2133720"/>
                <a:ext cx="3794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1187280" y="3573360"/>
                <a:ext cx="327348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258920" y="5300640"/>
                <a:ext cx="265428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19" name=""/>
          <p:cNvGrpSpPr/>
          <p:nvPr/>
        </p:nvGrpSpPr>
        <p:grpSpPr>
          <a:xfrm>
            <a:off x="5648400" y="549360"/>
            <a:ext cx="2693880" cy="5840280"/>
            <a:chOff x="5648400" y="549360"/>
            <a:chExt cx="2693880" cy="5840280"/>
          </a:xfrm>
        </p:grpSpPr>
        <mc:AlternateContent>
          <mc:Choice xmlns:a14="http://schemas.microsoft.com/office/drawing/2010/main" Requires="a14">
            <p:sp>
              <p:nvSpPr>
                <p:cNvPr id="520" name=""/>
                <p:cNvSpPr txBox="1"/>
                <p:nvPr/>
              </p:nvSpPr>
              <p:spPr>
                <a:xfrm>
                  <a:off x="5651640" y="549360"/>
                  <a:ext cx="2190600" cy="105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1" name=""/>
                <p:cNvSpPr txBox="1"/>
                <p:nvPr/>
              </p:nvSpPr>
              <p:spPr>
                <a:xfrm>
                  <a:off x="5651640" y="2133720"/>
                  <a:ext cx="2690640" cy="105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2" name=""/>
                <p:cNvSpPr txBox="1"/>
                <p:nvPr/>
              </p:nvSpPr>
              <p:spPr>
                <a:xfrm>
                  <a:off x="5648400" y="4005360"/>
                  <a:ext cx="209700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3" name=""/>
                <p:cNvSpPr txBox="1"/>
                <p:nvPr/>
              </p:nvSpPr>
              <p:spPr>
                <a:xfrm>
                  <a:off x="5740560" y="5334120"/>
                  <a:ext cx="1906560" cy="105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16000" y="404640"/>
            <a:ext cx="802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četní operace (úkony) s KČ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1484280"/>
            <a:ext cx="79567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5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ovnost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oučin KČ a čísla reálného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oučet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ozdíl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oučin KČ  (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četně mocnin imaginární jednotky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díl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16000" y="765000"/>
            <a:ext cx="802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Početní operace definujeme pro: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87280" y="1989000"/>
            <a:ext cx="7956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5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dvě komplexní čísla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 = 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, 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b = b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i   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, b </a:t>
            </a:r>
            <a:r>
              <a:rPr b="0" lang="en-US" sz="36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 C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reálné číslo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k   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en-US" sz="36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16000" y="189000"/>
            <a:ext cx="802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I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Rovnost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58920" y="981000"/>
            <a:ext cx="7488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412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12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rovnají se příslušné části KČ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58920" y="2709720"/>
            <a:ext cx="7885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Určete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x, y </a:t>
            </a: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 tak, aby platilo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629080" y="5734080"/>
                <a:ext cx="9363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771640" y="6237360"/>
                <a:ext cx="7383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0" name=""/>
          <p:cNvGrpSpPr/>
          <p:nvPr/>
        </p:nvGrpSpPr>
        <p:grpSpPr>
          <a:xfrm>
            <a:off x="1908000" y="4653000"/>
            <a:ext cx="1729080" cy="1008000"/>
            <a:chOff x="1908000" y="4653000"/>
            <a:chExt cx="1729080" cy="1008000"/>
          </a:xfrm>
        </p:grpSpPr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1908000" y="4653000"/>
                  <a:ext cx="1676520" cy="96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</m:e>
                        <m:e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2" name=""/>
            <p:cNvSpPr/>
            <p:nvPr/>
          </p:nvSpPr>
          <p:spPr>
            <a:xfrm>
              <a:off x="1908000" y="5661000"/>
              <a:ext cx="1729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500720" y="5156280"/>
                <a:ext cx="15062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219640" y="6164280"/>
                <a:ext cx="7668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" name=""/>
          <p:cNvGrpSpPr/>
          <p:nvPr/>
        </p:nvGrpSpPr>
        <p:grpSpPr>
          <a:xfrm>
            <a:off x="2411280" y="3716280"/>
            <a:ext cx="2810160" cy="579600"/>
            <a:chOff x="2411280" y="3716280"/>
            <a:chExt cx="2810160" cy="579600"/>
          </a:xfrm>
        </p:grpSpPr>
        <p:sp>
          <p:nvSpPr>
            <p:cNvPr id="156" name=""/>
            <p:cNvSpPr/>
            <p:nvPr/>
          </p:nvSpPr>
          <p:spPr>
            <a:xfrm>
              <a:off x="2411280" y="4292640"/>
              <a:ext cx="28083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46000" y="3716280"/>
              <a:ext cx="1121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= </a:t>
              </a:r>
              <a:r>
                <a:rPr b="0" i="1" lang="en-US" sz="28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5219640" y="3789360"/>
              <a:ext cx="1800" cy="4968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411280" y="3789360"/>
              <a:ext cx="1800" cy="4968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995640" y="3789360"/>
            <a:ext cx="1727280" cy="938520"/>
            <a:chOff x="3995640" y="3789360"/>
            <a:chExt cx="1727280" cy="938520"/>
          </a:xfrm>
        </p:grpSpPr>
        <p:sp>
          <p:nvSpPr>
            <p:cNvPr id="161" name=""/>
            <p:cNvSpPr/>
            <p:nvPr/>
          </p:nvSpPr>
          <p:spPr>
            <a:xfrm>
              <a:off x="3995640" y="4724280"/>
              <a:ext cx="172728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17640" y="4148280"/>
              <a:ext cx="1121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66ff33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66ff33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66ff33"/>
                  </a:solidFill>
                  <a:latin typeface="Times New Roman"/>
                </a:rPr>
                <a:t> = </a:t>
              </a:r>
              <a:r>
                <a:rPr b="0" i="1" lang="en-US" sz="2800" spc="-1" strike="noStrike">
                  <a:solidFill>
                    <a:srgbClr val="66ff33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66ff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995640" y="3789360"/>
              <a:ext cx="0" cy="93672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5722920" y="3789360"/>
              <a:ext cx="0" cy="93672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003640" y="5661000"/>
                <a:ext cx="10224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948360" y="5950080"/>
                <a:ext cx="19782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y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167" name=""/>
          <p:cNvGrpSpPr/>
          <p:nvPr/>
        </p:nvGrpSpPr>
        <p:grpSpPr>
          <a:xfrm>
            <a:off x="1260000" y="3068640"/>
            <a:ext cx="4692960" cy="825120"/>
            <a:chOff x="1260000" y="3068640"/>
            <a:chExt cx="4692960" cy="825120"/>
          </a:xfrm>
        </p:grpSpPr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1751040" y="3355920"/>
                  <a:ext cx="420192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y</m:t>
                          </m:r>
                        </m:e>
                      </m:d>
                      <m:r>
                        <m:t xml:space="preserve">+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y</m:t>
                          </m:r>
                        </m:e>
                      </m:d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"/>
            <p:cNvSpPr/>
            <p:nvPr/>
          </p:nvSpPr>
          <p:spPr>
            <a:xfrm>
              <a:off x="1260000" y="3068640"/>
              <a:ext cx="497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a)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635280" y="4797360"/>
            <a:ext cx="558360" cy="581400"/>
            <a:chOff x="3635280" y="4797360"/>
            <a:chExt cx="558360" cy="581400"/>
          </a:xfrm>
        </p:grpSpPr>
        <p:sp>
          <p:nvSpPr>
            <p:cNvPr id="171" name=""/>
            <p:cNvSpPr/>
            <p:nvPr/>
          </p:nvSpPr>
          <p:spPr>
            <a:xfrm flipV="1">
              <a:off x="3851280" y="4869000"/>
              <a:ext cx="0" cy="504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635280" y="4869000"/>
              <a:ext cx="216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635280" y="5373720"/>
              <a:ext cx="216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81440" y="4797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ddddd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093080" y="692280"/>
                <a:ext cx="73188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76" name=""/>
          <p:cNvGrpSpPr/>
          <p:nvPr/>
        </p:nvGrpSpPr>
        <p:grpSpPr>
          <a:xfrm>
            <a:off x="1332720" y="333360"/>
            <a:ext cx="5096520" cy="5936760"/>
            <a:chOff x="1332720" y="333360"/>
            <a:chExt cx="5096520" cy="5936760"/>
          </a:xfrm>
        </p:grpSpPr>
        <p:grpSp>
          <p:nvGrpSpPr>
            <p:cNvPr id="177" name=""/>
            <p:cNvGrpSpPr/>
            <p:nvPr/>
          </p:nvGrpSpPr>
          <p:grpSpPr>
            <a:xfrm>
              <a:off x="1332720" y="333360"/>
              <a:ext cx="4664880" cy="830160"/>
              <a:chOff x="1332720" y="333360"/>
              <a:chExt cx="4664880" cy="830160"/>
            </a:xfrm>
          </p:grpSpPr>
          <mc:AlternateContent>
            <mc:Choice xmlns:a14="http://schemas.microsoft.com/office/drawing/2010/main" Requires="a14">
              <p:sp>
                <p:nvSpPr>
                  <p:cNvPr id="178" name=""/>
                  <p:cNvSpPr txBox="1"/>
                  <p:nvPr/>
                </p:nvSpPr>
                <p:spPr>
                  <a:xfrm>
                    <a:off x="1979640" y="549360"/>
                    <a:ext cx="4017960" cy="614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79" name=""/>
              <p:cNvSpPr/>
              <p:nvPr/>
            </p:nvSpPr>
            <p:spPr>
              <a:xfrm>
                <a:off x="1332720" y="333360"/>
                <a:ext cx="5205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dddddd"/>
                    </a:solidFill>
                    <a:latin typeface="Times New Roman"/>
                  </a:rPr>
                  <a:t>b)</a:t>
                </a:r>
                <a:endParaRPr b="0" lang="en-US" sz="3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1333080" y="1557360"/>
              <a:ext cx="5058360" cy="830160"/>
              <a:chOff x="1333080" y="1557360"/>
              <a:chExt cx="5058360" cy="830160"/>
            </a:xfrm>
          </p:grpSpPr>
          <mc:AlternateContent>
            <mc:Choice xmlns:a14="http://schemas.microsoft.com/office/drawing/2010/main" Requires="a14">
              <p:sp>
                <p:nvSpPr>
                  <p:cNvPr id="181" name=""/>
                  <p:cNvSpPr txBox="1"/>
                  <p:nvPr/>
                </p:nvSpPr>
                <p:spPr>
                  <a:xfrm>
                    <a:off x="1908000" y="1773360"/>
                    <a:ext cx="4483440" cy="614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82" name=""/>
              <p:cNvSpPr/>
              <p:nvPr/>
            </p:nvSpPr>
            <p:spPr>
              <a:xfrm>
                <a:off x="1333080" y="1557360"/>
                <a:ext cx="497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dddddd"/>
                    </a:solidFill>
                    <a:latin typeface="Times New Roman"/>
                  </a:rPr>
                  <a:t>c)</a:t>
                </a:r>
                <a:endParaRPr b="0" lang="en-US" sz="3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1332720" y="2852640"/>
              <a:ext cx="5096520" cy="830520"/>
              <a:chOff x="1332720" y="2852640"/>
              <a:chExt cx="5096520" cy="830520"/>
            </a:xfrm>
          </p:grpSpPr>
          <mc:AlternateContent>
            <mc:Choice xmlns:a14="http://schemas.microsoft.com/office/drawing/2010/main" Requires="a14">
              <p:sp>
                <p:nvSpPr>
                  <p:cNvPr id="184" name=""/>
                  <p:cNvSpPr txBox="1"/>
                  <p:nvPr/>
                </p:nvSpPr>
                <p:spPr>
                  <a:xfrm>
                    <a:off x="1979640" y="3068640"/>
                    <a:ext cx="4449600" cy="614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85" name=""/>
              <p:cNvSpPr/>
              <p:nvPr/>
            </p:nvSpPr>
            <p:spPr>
              <a:xfrm>
                <a:off x="1332720" y="2852640"/>
                <a:ext cx="5205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dddddd"/>
                    </a:solidFill>
                    <a:latin typeface="Times New Roman"/>
                  </a:rPr>
                  <a:t>d)</a:t>
                </a:r>
                <a:endParaRPr b="0" lang="en-US" sz="3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1332720" y="4149720"/>
              <a:ext cx="4956480" cy="865080"/>
              <a:chOff x="1332720" y="4149720"/>
              <a:chExt cx="4956480" cy="865080"/>
            </a:xfrm>
          </p:grpSpPr>
          <mc:AlternateContent>
            <mc:Choice xmlns:a14="http://schemas.microsoft.com/office/drawing/2010/main" Requires="a14">
              <p:sp>
                <p:nvSpPr>
                  <p:cNvPr id="187" name=""/>
                  <p:cNvSpPr txBox="1"/>
                  <p:nvPr/>
                </p:nvSpPr>
                <p:spPr>
                  <a:xfrm>
                    <a:off x="1906200" y="4437000"/>
                    <a:ext cx="4383000" cy="577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x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yi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88" name=""/>
              <p:cNvSpPr/>
              <p:nvPr/>
            </p:nvSpPr>
            <p:spPr>
              <a:xfrm>
                <a:off x="1332720" y="4149720"/>
                <a:ext cx="497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dddddd"/>
                    </a:solidFill>
                    <a:latin typeface="Times New Roman"/>
                  </a:rPr>
                  <a:t>e)</a:t>
                </a:r>
                <a:endParaRPr b="0" lang="en-US" sz="3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1404000" y="5445000"/>
              <a:ext cx="4026960" cy="825120"/>
              <a:chOff x="1404000" y="5445000"/>
              <a:chExt cx="4026960" cy="825120"/>
            </a:xfrm>
          </p:grpSpPr>
          <mc:AlternateContent>
            <mc:Choice xmlns:a14="http://schemas.microsoft.com/office/drawing/2010/main" Requires="a14">
              <p:sp>
                <p:nvSpPr>
                  <p:cNvPr id="190" name=""/>
                  <p:cNvSpPr txBox="1"/>
                  <p:nvPr/>
                </p:nvSpPr>
                <p:spPr>
                  <a:xfrm>
                    <a:off x="1977840" y="5662440"/>
                    <a:ext cx="3453120" cy="577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x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yi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91" name=""/>
              <p:cNvSpPr/>
              <p:nvPr/>
            </p:nvSpPr>
            <p:spPr>
              <a:xfrm>
                <a:off x="1404000" y="5445000"/>
                <a:ext cx="452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dddddd"/>
                    </a:solidFill>
                    <a:latin typeface="Times New Roman"/>
                  </a:rPr>
                  <a:t>f)</a:t>
                </a:r>
                <a:endParaRPr b="0" lang="en-US" sz="3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093080" y="1916280"/>
                <a:ext cx="73188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7093080" y="3213000"/>
                <a:ext cx="9316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7093080" y="4581360"/>
                <a:ext cx="10317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093080" y="5805360"/>
                <a:ext cx="10983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00000" y="189000"/>
            <a:ext cx="82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II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Součin čísla reálného a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8000" y="981000"/>
            <a:ext cx="723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k . 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k .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k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k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258920" y="2660760"/>
            <a:ext cx="7885080" cy="930240"/>
            <a:chOff x="1258920" y="2660760"/>
            <a:chExt cx="7885080" cy="930240"/>
          </a:xfrm>
        </p:grpSpPr>
        <p:sp>
          <p:nvSpPr>
            <p:cNvPr id="199" name=""/>
            <p:cNvSpPr/>
            <p:nvPr/>
          </p:nvSpPr>
          <p:spPr>
            <a:xfrm>
              <a:off x="1258920" y="2709720"/>
              <a:ext cx="78850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ccecff"/>
                  </a:solidFill>
                  <a:latin typeface="Times New Roman"/>
                </a:rPr>
                <a:t>Příklad</a:t>
              </a:r>
              <a:r>
                <a:rPr b="0" lang="en-US" sz="3000" spc="-1" strike="noStrike">
                  <a:solidFill>
                    <a:srgbClr val="ccecff"/>
                  </a:solidFill>
                  <a:latin typeface="Times New Roman"/>
                </a:rPr>
                <a:t>: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Určete 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k . a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, je-li 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= 1 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2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i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,                     .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7020000" y="2660760"/>
                  <a:ext cx="1944720" cy="93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;</m:t>
                      </m:r>
                      <m:r>
                        <m:t xml:space="preserve">0</m:t>
                      </m:r>
                      <m:r>
                        <m:t xml:space="preserve">;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258920" y="3716280"/>
                <a:ext cx="8683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476360" y="4365720"/>
                <a:ext cx="658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403280" y="4941720"/>
                <a:ext cx="74772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476360" y="6021360"/>
                <a:ext cx="657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5508720" y="3571920"/>
            <a:ext cx="3635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... KČ opačné k daném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76360" y="1773360"/>
            <a:ext cx="7667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ýsledkem je opět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2268360" y="3716280"/>
                <a:ext cx="18860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140360" y="3716280"/>
                <a:ext cx="13762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268360" y="4365720"/>
                <a:ext cx="568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268360" y="4941720"/>
                <a:ext cx="17956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4067280" y="4941720"/>
                <a:ext cx="11970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292720" y="4941720"/>
                <a:ext cx="1076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2268360" y="6021360"/>
                <a:ext cx="17053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995640" y="6021360"/>
                <a:ext cx="11667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258920" y="3716280"/>
                <a:ext cx="8683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5580000" y="1125360"/>
            <a:ext cx="576360" cy="574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56360" y="1125360"/>
            <a:ext cx="936720" cy="574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16360" y="69228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reálná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27640" y="6922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imaginární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16000" y="549360"/>
            <a:ext cx="802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III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Součet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79640" y="1486080"/>
            <a:ext cx="716436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+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+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+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47640" y="4653000"/>
            <a:ext cx="7596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ýsledkem je opět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48000" y="3502080"/>
            <a:ext cx="1440000" cy="5745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88000" y="3500280"/>
            <a:ext cx="1944720" cy="574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76720" y="306864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reálná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58920" y="306864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imaginární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IV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Rozdíl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907920"/>
            <a:ext cx="766764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KČ opačné k danému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37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rozdíl KČ lze vnímat jako součet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 +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) =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+ (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=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+ (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=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+ (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76360" y="5805360"/>
            <a:ext cx="7667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výsledkem je opět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05080" y="4943520"/>
            <a:ext cx="1295640" cy="504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00720" y="4941720"/>
            <a:ext cx="1801800" cy="5050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60720" y="53737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reálná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43280" y="53737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imaginární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1:58Z</dcterms:modified>
  <cp:revision>295</cp:revision>
  <dc:subject/>
  <dc:title>KČ</dc:title>
</cp:coreProperties>
</file>