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8E84-2B40-46C9-994F-0E4FC5686D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3E65-7D93-4FDC-8E86-9D3D8667FF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C3A6-C9FA-4728-9A7B-049BB62ACF4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3FD8-95D4-4CB0-905A-B6952130CC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B421-8CC3-432B-9A34-65D7CBBBB04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835-0CF0-411A-86A2-65B14B54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6E2-EB15-4BC5-A7B6-2424F298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BEE-2A71-472A-B355-80670041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CED-3CFF-40F8-8B9B-2DE68DF2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5EFC-791B-4789-BDC1-13648B28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3656-671C-4061-A51D-BDDD226C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8CFD-DA45-402E-800E-A31AA75B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252F-DD6B-4AE3-A72D-DE5E71E6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0C70-4A8E-434D-BEC8-79150D2F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8A96-A215-4A05-B107-BEBBAD2E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C6D6-C758-490C-AEE3-9D11B7C3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E80-83F1-4E08-B5BD-FDD12CDD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36D4-6CB2-4CD0-8573-BBE630C1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60F8-95C8-4C96-9642-9E760A0C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C454-6A69-4F71-B1EC-9C7EDED1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CC38-7F61-4C78-9DC1-7BCB4965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4DED-B3F4-47E3-B1C4-783C9528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9DD-EB22-4DB0-80DD-3DF120D1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4AE-B62D-426B-9C2E-72ABE6C8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9CC-06BE-40A4-AB37-C9836242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037-F4D1-475C-A3B8-E42FF6D8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BA4-BB63-42D4-8DCC-5F75425A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CAF-9241-45D8-BFCA-C9BF1292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4F7-752F-4926-A5E3-2B0446E1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7C37-57FA-4655-8DEB-2655A9D6A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7AAD-8F2B-4921-B4B1-9D9C2F3F7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116000" y="260280"/>
                <a:ext cx="20667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318360" y="2387520"/>
                <a:ext cx="2624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24210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65280" y="3357720"/>
                <a:ext cx="20383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582560" y="4508640"/>
                <a:ext cx="23608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835280" y="5950080"/>
                <a:ext cx="2511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3724200" y="2387520"/>
            <a:ext cx="26053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35640" y="3068640"/>
            <a:ext cx="0" cy="115236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979640" y="1052640"/>
                <a:ext cx="4962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4680000" y="4221000"/>
            <a:ext cx="44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06920" y="4797360"/>
            <a:ext cx="23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3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26´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571640" y="4292640"/>
            <a:ext cx="576720" cy="503280"/>
            <a:chOff x="4571640" y="4292640"/>
            <a:chExt cx="576720" cy="503280"/>
          </a:xfrm>
        </p:grpSpPr>
        <p:sp>
          <p:nvSpPr>
            <p:cNvPr id="316" name=""/>
            <p:cNvSpPr/>
            <p:nvPr/>
          </p:nvSpPr>
          <p:spPr>
            <a:xfrm>
              <a:off x="4572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571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43280" y="4797360"/>
            <a:ext cx="360360" cy="4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890">
                <a:moveTo>
                  <a:pt x="3600" y="0"/>
                </a:moveTo>
                <a:arcTo wR="3600" hR="3600" stAng="16200000" swAng="-5400000"/>
                <a:lnTo>
                  <a:pt x="0" y="22290"/>
                </a:lnTo>
                <a:arcTo wR="3600" hR="3600" stAng="10800000" swAng="-5400000"/>
                <a:lnTo>
                  <a:pt x="18000" y="25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4365720"/>
            <a:ext cx="647640" cy="1152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24">
                <a:moveTo>
                  <a:pt x="3600" y="0"/>
                </a:moveTo>
                <a:arcTo wR="3600" hR="3600" stAng="16200000" swAng="-5400000"/>
                <a:lnTo>
                  <a:pt x="0" y="34824"/>
                </a:lnTo>
                <a:arcTo wR="3600" hR="3600" stAng="10800000" swAng="-5400000"/>
                <a:lnTo>
                  <a:pt x="18000" y="38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5157720"/>
            <a:ext cx="5745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8" idx="2"/>
          </p:cNvCxnSpPr>
          <p:nvPr/>
        </p:nvCxnSpPr>
        <p:spPr>
          <a:xfrm flipH="1" flipV="1" rot="5400000">
            <a:off x="3430440" y="4173480"/>
            <a:ext cx="662760" cy="1477080"/>
          </a:xfrm>
          <a:prstGeom prst="curvedConnector5">
            <a:avLst>
              <a:gd name="adj1" fmla="val -59945"/>
              <a:gd name="adj2" fmla="val 3912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116000" y="260280"/>
                <a:ext cx="2333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407280" y="2387520"/>
                <a:ext cx="2560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258920" y="2421000"/>
                <a:ext cx="242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03280" y="3357720"/>
                <a:ext cx="20750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403280" y="4508640"/>
                <a:ext cx="21798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877000"/>
                <a:ext cx="2548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3</m:t>
                    </m:r>
                    <m:r>
                      <m:t xml:space="preserve">°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3781440" y="238752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08720" y="2997360"/>
            <a:ext cx="0" cy="12967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08000" y="1125360"/>
                <a:ext cx="4743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00720" y="4797360"/>
            <a:ext cx="23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53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08´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940000" y="4292640"/>
            <a:ext cx="576720" cy="503280"/>
            <a:chOff x="5940000" y="4292640"/>
            <a:chExt cx="576720" cy="503280"/>
          </a:xfrm>
        </p:grpSpPr>
        <p:sp>
          <p:nvSpPr>
            <p:cNvPr id="335" name=""/>
            <p:cNvSpPr/>
            <p:nvPr/>
          </p:nvSpPr>
          <p:spPr>
            <a:xfrm>
              <a:off x="594036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940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7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042920" y="260280"/>
                <a:ext cx="26337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330960" y="2347920"/>
                <a:ext cx="2813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494000" y="3284640"/>
                <a:ext cx="22572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741320" y="5626080"/>
                <a:ext cx="2946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686040" y="2347920"/>
            <a:ext cx="26053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48360" y="2997360"/>
            <a:ext cx="0" cy="122544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903320" y="907920"/>
                <a:ext cx="72248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4356000" y="4221000"/>
            <a:ext cx="47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5600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211280" y="4292640"/>
            <a:ext cx="576720" cy="503280"/>
            <a:chOff x="4211280" y="4292640"/>
            <a:chExt cx="576720" cy="503280"/>
          </a:xfrm>
        </p:grpSpPr>
        <p:sp>
          <p:nvSpPr>
            <p:cNvPr id="353" name=""/>
            <p:cNvSpPr/>
            <p:nvPr/>
          </p:nvSpPr>
          <p:spPr>
            <a:xfrm>
              <a:off x="4211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21128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22400" y="2276640"/>
                <a:ext cx="2682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2698920" y="4797360"/>
            <a:ext cx="360360" cy="4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890">
                <a:moveTo>
                  <a:pt x="3600" y="0"/>
                </a:moveTo>
                <a:arcTo wR="3600" hR="3600" stAng="16200000" swAng="-5400000"/>
                <a:lnTo>
                  <a:pt x="0" y="22290"/>
                </a:lnTo>
                <a:arcTo wR="3600" hR="3600" stAng="10800000" swAng="-5400000"/>
                <a:lnTo>
                  <a:pt x="18000" y="25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32000" y="4365720"/>
            <a:ext cx="648000" cy="115236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03">
                <a:moveTo>
                  <a:pt x="3600" y="0"/>
                </a:moveTo>
                <a:arcTo wR="3600" hR="3600" stAng="16200000" swAng="-5400000"/>
                <a:lnTo>
                  <a:pt x="0" y="34803"/>
                </a:lnTo>
                <a:arcTo wR="3600" hR="3600" stAng="10800000" swAng="-5400000"/>
                <a:lnTo>
                  <a:pt x="18000" y="38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80000" y="5157720"/>
            <a:ext cx="5745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6" idx="2"/>
          </p:cNvCxnSpPr>
          <p:nvPr/>
        </p:nvCxnSpPr>
        <p:spPr>
          <a:xfrm flipH="1" flipV="1" rot="5400000">
            <a:off x="3285720" y="4173480"/>
            <a:ext cx="662760" cy="1477080"/>
          </a:xfrm>
          <a:prstGeom prst="curvedConnector5">
            <a:avLst>
              <a:gd name="adj1" fmla="val -59945"/>
              <a:gd name="adj2" fmla="val 3912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82520" y="210960"/>
                <a:ext cx="24004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143680" y="2852640"/>
                <a:ext cx="3889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276200" y="3284640"/>
                <a:ext cx="22575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258920" y="4581360"/>
                <a:ext cx="21794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655640" y="5734080"/>
                <a:ext cx="33829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348000" y="2205000"/>
            <a:ext cx="2749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03640" y="2852640"/>
            <a:ext cx="0" cy="15130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700280" y="836640"/>
                <a:ext cx="7443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4356000" y="4292640"/>
            <a:ext cx="464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4869000"/>
            <a:ext cx="23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3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435280" y="4365720"/>
            <a:ext cx="576720" cy="503280"/>
            <a:chOff x="5435280" y="4365720"/>
            <a:chExt cx="576720" cy="503280"/>
          </a:xfrm>
        </p:grpSpPr>
        <p:sp>
          <p:nvSpPr>
            <p:cNvPr id="372" name=""/>
            <p:cNvSpPr/>
            <p:nvPr/>
          </p:nvSpPr>
          <p:spPr>
            <a:xfrm>
              <a:off x="543564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543528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116000" y="2205000"/>
                <a:ext cx="22892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2554200" y="486900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87640" y="4508640"/>
            <a:ext cx="504720" cy="1081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081080"/>
              <a:gd name="textAreaBottom" fmla="*/ 1056600 h 1081080"/>
            </a:gdLst>
            <a:ahLst/>
            <a:rect l="textAreaLeft" t="textAreaTop" r="textAreaRight" b="textAreaBottom"/>
            <a:pathLst>
              <a:path w="21600" h="46248">
                <a:moveTo>
                  <a:pt x="3600" y="0"/>
                </a:moveTo>
                <a:arcTo wR="3600" hR="3600" stAng="16200000" swAng="-5400000"/>
                <a:lnTo>
                  <a:pt x="0" y="42648"/>
                </a:lnTo>
                <a:arcTo wR="3600" hR="3600" stAng="10800000" swAng="-5400000"/>
                <a:lnTo>
                  <a:pt x="18000" y="462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229360"/>
            <a:ext cx="71784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2"/>
          </p:cNvCxnSpPr>
          <p:nvPr/>
        </p:nvCxnSpPr>
        <p:spPr>
          <a:xfrm flipH="1" flipV="1" rot="5400000">
            <a:off x="3141360" y="4245120"/>
            <a:ext cx="662760" cy="1477080"/>
          </a:xfrm>
          <a:prstGeom prst="curvedConnector5">
            <a:avLst>
              <a:gd name="adj1" fmla="val -59945"/>
              <a:gd name="adj2" fmla="val 3400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116000" y="836640"/>
                <a:ext cx="2633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042920" y="4869000"/>
                <a:ext cx="32004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042920" y="2997360"/>
                <a:ext cx="27669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627440" y="476280"/>
            <a:ext cx="4516560" cy="6041880"/>
            <a:chOff x="4627440" y="476280"/>
            <a:chExt cx="4516560" cy="6041880"/>
          </a:xfrm>
        </p:grpSpPr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4660920" y="476280"/>
                  <a:ext cx="448308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660920" y="4797360"/>
                  <a:ext cx="448308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4627440" y="2637000"/>
                  <a:ext cx="451656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4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4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158840" y="1268280"/>
                <a:ext cx="20671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216080" y="5734080"/>
                <a:ext cx="1833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106640" y="3405240"/>
                <a:ext cx="26812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9" name=""/>
          <p:cNvGrpSpPr/>
          <p:nvPr/>
        </p:nvGrpSpPr>
        <p:grpSpPr>
          <a:xfrm>
            <a:off x="4232160" y="836640"/>
            <a:ext cx="4911840" cy="6021360"/>
            <a:chOff x="4232160" y="836640"/>
            <a:chExt cx="4911840" cy="6021360"/>
          </a:xfrm>
        </p:grpSpPr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4232160" y="836640"/>
                  <a:ext cx="4911840" cy="17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4363920" y="5070600"/>
                  <a:ext cx="4780080" cy="17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4284720" y="2637000"/>
                  <a:ext cx="4614840" cy="23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3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182600" y="404640"/>
                <a:ext cx="23004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198440" y="5084640"/>
                <a:ext cx="25005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211400" y="1773360"/>
                <a:ext cx="2701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197000" y="3429000"/>
                <a:ext cx="1874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,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3635280" y="836640"/>
            <a:ext cx="5508720" cy="6021360"/>
            <a:chOff x="3635280" y="836640"/>
            <a:chExt cx="5508720" cy="6021360"/>
          </a:xfrm>
        </p:grpSpPr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708360" y="836640"/>
                  <a:ext cx="52419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7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7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3672000" y="5832360"/>
                  <a:ext cx="547200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01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01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3672000" y="2276640"/>
                  <a:ext cx="547200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24</m:t>
                          </m:r>
                          <m:r>
                            <m:t xml:space="preserve">°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24</m:t>
                          </m:r>
                          <m:r>
                            <m:t xml:space="preserve">°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3635280" y="3645000"/>
                  <a:ext cx="46818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8,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8,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π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π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216080" y="620640"/>
                <a:ext cx="1533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138320" y="2852640"/>
                <a:ext cx="24778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116000" y="5589720"/>
                <a:ext cx="216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,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4152960" y="333360"/>
            <a:ext cx="4991040" cy="6524640"/>
            <a:chOff x="4152960" y="333360"/>
            <a:chExt cx="4991040" cy="652464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4356000" y="333360"/>
                  <a:ext cx="4087800" cy="17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4265640" y="2205000"/>
                  <a:ext cx="4878360" cy="23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4152960" y="5133960"/>
                  <a:ext cx="4714920" cy="17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7,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7,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8866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algebraického tvaru na tvar goniometrický – komplexní čísla imaginár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 imaginárního; Argument komplexního čísla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AT na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3789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872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imaginární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neleží na souřadných osách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72360" y="2781360"/>
                <a:ext cx="2376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372360" y="3860640"/>
                <a:ext cx="231120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 flipH="1">
            <a:off x="2122560" y="2684520"/>
            <a:ext cx="1728720" cy="266544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58920" y="1677960"/>
            <a:ext cx="4084200" cy="5040000"/>
            <a:chOff x="1258920" y="1677960"/>
            <a:chExt cx="4084200" cy="5040000"/>
          </a:xfrm>
        </p:grpSpPr>
        <p:sp>
          <p:nvSpPr>
            <p:cNvPr id="148" name=""/>
            <p:cNvSpPr/>
            <p:nvPr/>
          </p:nvSpPr>
          <p:spPr>
            <a:xfrm flipV="1">
              <a:off x="1258920" y="5349240"/>
              <a:ext cx="4032000" cy="1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122560" y="1893600"/>
              <a:ext cx="0" cy="482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5640" y="16779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05440" y="53496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92000" y="5351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3" name="Group 63"/>
          <p:cNvGrpSpPr/>
          <p:nvPr/>
        </p:nvGrpSpPr>
        <p:grpSpPr>
          <a:xfrm>
            <a:off x="3777840" y="2612880"/>
            <a:ext cx="144720" cy="142920"/>
            <a:chOff x="3777840" y="2612880"/>
            <a:chExt cx="144720" cy="142920"/>
          </a:xfrm>
        </p:grpSpPr>
        <p:sp>
          <p:nvSpPr>
            <p:cNvPr id="154" name="Line 64"/>
            <p:cNvSpPr/>
            <p:nvPr/>
          </p:nvSpPr>
          <p:spPr>
            <a:xfrm>
              <a:off x="3778200" y="26128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65"/>
            <p:cNvSpPr/>
            <p:nvPr/>
          </p:nvSpPr>
          <p:spPr>
            <a:xfrm flipH="1">
              <a:off x="3777840" y="26128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507840" y="1989000"/>
            <a:ext cx="137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2684520"/>
            <a:ext cx="0" cy="2736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50560" y="2684520"/>
            <a:ext cx="180036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45360" y="53499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29000" y="23972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22560" y="2684520"/>
            <a:ext cx="1728720" cy="26654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28720" y="333216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6200000">
            <a:off x="2915640" y="4629960"/>
            <a:ext cx="142560" cy="17287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993480" y="2684520"/>
            <a:ext cx="144360" cy="2665440"/>
          </a:xfrm>
          <a:custGeom>
            <a:avLst/>
            <a:gdLst>
              <a:gd name="textAreaLeft" fmla="*/ 92160 w 144360"/>
              <a:gd name="textAreaRight" fmla="*/ 144360 w 144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60120" y="5445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840" y="37180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187280" y="981000"/>
                <a:ext cx="4794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3203640" y="981000"/>
            <a:ext cx="431640" cy="576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76360"/>
              <a:gd name="textAreaBottom" fmla="*/ 555480 h 576360"/>
            </a:gdLst>
            <a:ahLst/>
            <a:rect l="textAreaLeft" t="textAreaTop" r="textAreaRight" b="textAreaBottom"/>
            <a:pathLst>
              <a:path w="21600" h="28836">
                <a:moveTo>
                  <a:pt x="3600" y="0"/>
                </a:moveTo>
                <a:arcTo wR="3600" hR="3600" stAng="16200000" swAng="-5400000"/>
                <a:lnTo>
                  <a:pt x="0" y="25236"/>
                </a:lnTo>
                <a:arcTo wR="3600" hR="3600" stAng="10800000" swAng="-5400000"/>
                <a:lnTo>
                  <a:pt x="18000" y="28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5351400"/>
            <a:ext cx="3168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24000" y="1700280"/>
            <a:ext cx="2374920" cy="3673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199400"/>
            <a:ext cx="2304720" cy="227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26" y="1771"/>
                </a:moveTo>
                <a:arcTo wR="10800" hR="10800" stAng="-3403182" swAng="3403182"/>
                <a:lnTo>
                  <a:pt x="10800" y="10800"/>
                </a:lnTo>
                <a:close/>
              </a:path>
              <a:path fill="none" w="21600" h="21600">
                <a:moveTo>
                  <a:pt x="16726" y="1771"/>
                </a:moveTo>
                <a:arcTo wR="10800" hR="10800" stAng="-3403182" swAng="3403182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3400" y="46944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981000"/>
            <a:ext cx="287280" cy="576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308">
                <a:moveTo>
                  <a:pt x="3600" y="0"/>
                </a:moveTo>
                <a:arcTo wR="3600" hR="3600" stAng="16200000" swAng="-5400000"/>
                <a:lnTo>
                  <a:pt x="0" y="39708"/>
                </a:lnTo>
                <a:arcTo wR="3600" hR="3600" stAng="10800000" swAng="-5400000"/>
                <a:lnTo>
                  <a:pt x="18000" y="433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981000"/>
            <a:ext cx="358560" cy="57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707">
                <a:moveTo>
                  <a:pt x="3600" y="0"/>
                </a:moveTo>
                <a:arcTo wR="3600" hR="3600" stAng="16200000" swAng="-5400000"/>
                <a:lnTo>
                  <a:pt x="0" y="31107"/>
                </a:lnTo>
                <a:arcTo wR="3600" hR="3600" stAng="10800000" swAng="-5400000"/>
                <a:lnTo>
                  <a:pt x="18000" y="347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124000" y="2708280"/>
            <a:ext cx="1728720" cy="26654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87280" y="1846440"/>
          <a:ext cx="7777440" cy="718920"/>
        </p:xfrm>
        <a:graphic>
          <a:graphicData uri="http://schemas.openxmlformats.org/drawingml/2006/table">
            <a:tbl>
              <a:tblPr/>
              <a:tblGrid>
                <a:gridCol w="1511640"/>
                <a:gridCol w="1081080"/>
                <a:gridCol w="1296720"/>
                <a:gridCol w="1295640"/>
                <a:gridCol w="1288800"/>
                <a:gridCol w="130356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´</a:t>
                      </a:r>
                      <a:r>
                        <a:rPr b="0" i="1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 (stupně)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45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675320" y="1827360"/>
                <a:ext cx="2617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973840" y="1817640"/>
                <a:ext cx="261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267680" y="1827360"/>
                <a:ext cx="261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8564400" y="1817640"/>
                <a:ext cx="263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1" name=""/>
          <p:cNvGraphicFramePr/>
          <p:nvPr/>
        </p:nvGraphicFramePr>
        <p:xfrm>
          <a:off x="1187280" y="2565360"/>
          <a:ext cx="7772400" cy="792000"/>
        </p:xfrm>
        <a:graphic>
          <a:graphicData uri="http://schemas.openxmlformats.org/drawingml/2006/table">
            <a:tbl>
              <a:tblPr/>
              <a:tblGrid>
                <a:gridCol w="1511640"/>
                <a:gridCol w="1079280"/>
                <a:gridCol w="1295280"/>
                <a:gridCol w="1295640"/>
                <a:gridCol w="1295280"/>
                <a:gridCol w="129528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sin</a:t>
                      </a:r>
                      <a:r>
                        <a:rPr b="1" i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x´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244000" y="2709720"/>
                <a:ext cx="2696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59280" y="2781360"/>
                <a:ext cx="287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435640" y="2565360"/>
                <a:ext cx="495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804000" y="2565360"/>
                <a:ext cx="4762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84720" y="2565360"/>
                <a:ext cx="296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16000" y="3357720"/>
            <a:ext cx="8028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 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I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 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V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6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2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Hodnoty goniometrické funkce sinu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(2. ročník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573408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ostatní úhly určíte pomocí kalkulátor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98100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88000" indent="-28800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tabulkové hodnoty“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348000" y="1989000"/>
                <a:ext cx="282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2" name=""/>
          <p:cNvGrpSpPr/>
          <p:nvPr/>
        </p:nvGrpSpPr>
        <p:grpSpPr>
          <a:xfrm>
            <a:off x="6157800" y="3502080"/>
            <a:ext cx="1845720" cy="1972440"/>
            <a:chOff x="6157800" y="3502080"/>
            <a:chExt cx="1845720" cy="1972440"/>
          </a:xfrm>
        </p:grpSpPr>
        <p:sp>
          <p:nvSpPr>
            <p:cNvPr id="193" name=""/>
            <p:cNvSpPr/>
            <p:nvPr/>
          </p:nvSpPr>
          <p:spPr>
            <a:xfrm>
              <a:off x="6516360" y="3935520"/>
              <a:ext cx="1150560" cy="1152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92720" y="3935520"/>
              <a:ext cx="0" cy="1150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16360" y="4511520"/>
              <a:ext cx="11505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4160" y="40068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62520" y="40068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09640" y="4440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61800" y="4440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4980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7052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780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05440" y="5014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5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20920" y="450864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356000" y="4292640"/>
            <a:ext cx="478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00360" y="4869000"/>
            <a:ext cx="358920" cy="43164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972">
                <a:moveTo>
                  <a:pt x="3600" y="0"/>
                </a:moveTo>
                <a:arcTo wR="3600" hR="3600" stAng="16200000" swAng="-5400000"/>
                <a:lnTo>
                  <a:pt x="0" y="22372"/>
                </a:lnTo>
                <a:arcTo wR="3600" hR="3600" stAng="10800000" swAng="-5400000"/>
                <a:lnTo>
                  <a:pt x="18000" y="25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4869000"/>
            <a:ext cx="1619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4437000"/>
            <a:ext cx="576360" cy="11527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720"/>
              <a:gd name="textAreaBottom" fmla="*/ 1124640 h 1152720"/>
            </a:gdLst>
            <a:ahLst/>
            <a:rect l="textAreaLeft" t="textAreaTop" r="textAreaRight" b="textAreaBottom"/>
            <a:pathLst>
              <a:path w="21600" h="43187">
                <a:moveTo>
                  <a:pt x="3600" y="0"/>
                </a:moveTo>
                <a:arcTo wR="3600" hR="3600" stAng="16200000" swAng="-5400000"/>
                <a:lnTo>
                  <a:pt x="0" y="39587"/>
                </a:lnTo>
                <a:arcTo wR="3600" hR="3600" stAng="10800000" swAng="-5400000"/>
                <a:lnTo>
                  <a:pt x="18000" y="43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5229360"/>
            <a:ext cx="64764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042920" y="907920"/>
                <a:ext cx="19432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156360" y="2565360"/>
                <a:ext cx="2592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25360" y="2637000"/>
                <a:ext cx="2357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03280" y="3429000"/>
                <a:ext cx="2075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763640" y="5661000"/>
                <a:ext cx="34228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564000" y="256536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249228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76720" y="3141720"/>
            <a:ext cx="0" cy="122220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435280" y="4365720"/>
            <a:ext cx="576720" cy="503280"/>
            <a:chOff x="5435280" y="4365720"/>
            <a:chExt cx="576720" cy="503280"/>
          </a:xfrm>
        </p:grpSpPr>
        <p:sp>
          <p:nvSpPr>
            <p:cNvPr id="219" name=""/>
            <p:cNvSpPr/>
            <p:nvPr/>
          </p:nvSpPr>
          <p:spPr>
            <a:xfrm>
              <a:off x="543564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43528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835280" y="1341360"/>
                <a:ext cx="7308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06" idx="2"/>
            <a:endCxn id="205" idx="1"/>
          </p:cNvCxnSpPr>
          <p:nvPr/>
        </p:nvCxnSpPr>
        <p:spPr>
          <a:xfrm flipH="1" flipV="1" rot="5400000">
            <a:off x="3285720" y="424512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88040" y="2492280"/>
                <a:ext cx="23115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03280" y="3357720"/>
                <a:ext cx="175896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78200" y="1528920"/>
                <a:ext cx="32414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643280" y="2637000"/>
            <a:ext cx="50328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140360" y="2565360"/>
            <a:ext cx="1079280" cy="1079280"/>
            <a:chOff x="4140360" y="2565360"/>
            <a:chExt cx="1079280" cy="1079280"/>
          </a:xfrm>
        </p:grpSpPr>
        <p:sp>
          <p:nvSpPr>
            <p:cNvPr id="229" name=""/>
            <p:cNvSpPr/>
            <p:nvPr/>
          </p:nvSpPr>
          <p:spPr>
            <a:xfrm flipV="1">
              <a:off x="4643280" y="256536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40360" y="314136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042920" y="333360"/>
                <a:ext cx="2367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588000" y="2421000"/>
                <a:ext cx="2338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420920" y="3284640"/>
                <a:ext cx="2367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741320" y="5626080"/>
                <a:ext cx="29480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780000" y="2421000"/>
            <a:ext cx="2604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3141720"/>
            <a:ext cx="0" cy="10810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887480" y="907920"/>
                <a:ext cx="7256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356000" y="4221000"/>
            <a:ext cx="47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355640" y="4292640"/>
            <a:ext cx="576720" cy="503280"/>
            <a:chOff x="4355640" y="4292640"/>
            <a:chExt cx="576720" cy="503280"/>
          </a:xfrm>
        </p:grpSpPr>
        <p:sp>
          <p:nvSpPr>
            <p:cNvPr id="243" name=""/>
            <p:cNvSpPr/>
            <p:nvPr/>
          </p:nvSpPr>
          <p:spPr>
            <a:xfrm>
              <a:off x="4356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355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187280" y="2349360"/>
                <a:ext cx="26830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620040" y="2349360"/>
                <a:ext cx="23112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476360" y="3284640"/>
                <a:ext cx="175896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5157720"/>
            <a:ext cx="576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8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908000" y="1052640"/>
                <a:ext cx="32418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4643280" y="2781360"/>
            <a:ext cx="50328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255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042920" y="260280"/>
                <a:ext cx="2967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540480" y="2276640"/>
                <a:ext cx="2433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03280" y="3284640"/>
                <a:ext cx="20750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781280" y="5661000"/>
                <a:ext cx="29113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3995640" y="2276640"/>
            <a:ext cx="2605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2720" y="2924280"/>
            <a:ext cx="0" cy="12967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951200" y="907920"/>
                <a:ext cx="71928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355640" y="4292640"/>
            <a:ext cx="576720" cy="503280"/>
            <a:chOff x="4355640" y="4292640"/>
            <a:chExt cx="576720" cy="503280"/>
          </a:xfrm>
        </p:grpSpPr>
        <p:sp>
          <p:nvSpPr>
            <p:cNvPr id="267" name=""/>
            <p:cNvSpPr/>
            <p:nvPr/>
          </p:nvSpPr>
          <p:spPr>
            <a:xfrm>
              <a:off x="4356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355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16000" y="2276640"/>
                <a:ext cx="2970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2764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0360" y="4797360"/>
            <a:ext cx="358920" cy="4320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994">
                <a:moveTo>
                  <a:pt x="3600" y="0"/>
                </a:moveTo>
                <a:arcTo wR="3600" hR="3600" stAng="16200000" swAng="-5400000"/>
                <a:lnTo>
                  <a:pt x="0" y="22394"/>
                </a:lnTo>
                <a:arcTo wR="3600" hR="3600" stAng="10800000" swAng="-5400000"/>
                <a:lnTo>
                  <a:pt x="18000" y="259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2" idx="2"/>
          </p:cNvCxnSpPr>
          <p:nvPr/>
        </p:nvCxnSpPr>
        <p:spPr>
          <a:xfrm flipH="1" flipV="1" rot="5400000">
            <a:off x="328572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4140360" y="2276640"/>
            <a:ext cx="50292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278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140360" y="2781360"/>
            <a:ext cx="50292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00720" y="4797360"/>
            <a:ext cx="161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042920" y="260280"/>
                <a:ext cx="2133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372360" y="2349360"/>
                <a:ext cx="2590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168560" y="2422440"/>
                <a:ext cx="2355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476360" y="3213000"/>
                <a:ext cx="20750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711440" y="5661000"/>
                <a:ext cx="29844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618000" y="234936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08720" y="2924280"/>
            <a:ext cx="0" cy="12967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835280" y="974880"/>
                <a:ext cx="730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5866920" y="4292640"/>
            <a:ext cx="576720" cy="503280"/>
            <a:chOff x="5866920" y="4292640"/>
            <a:chExt cx="576720" cy="503280"/>
          </a:xfrm>
        </p:grpSpPr>
        <p:sp>
          <p:nvSpPr>
            <p:cNvPr id="294" name=""/>
            <p:cNvSpPr/>
            <p:nvPr/>
          </p:nvSpPr>
          <p:spPr>
            <a:xfrm>
              <a:off x="5867280" y="4292640"/>
              <a:ext cx="576360" cy="503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866920" y="4292640"/>
              <a:ext cx="576360" cy="503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6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grpSp>
        <p:nvGrpSpPr>
          <p:cNvPr id="300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301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04Z</dcterms:modified>
  <cp:revision>299</cp:revision>
  <dc:subject/>
  <dc:title>KČ</dc:title>
</cp:coreProperties>
</file>