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F2A-E184-4E1F-82D3-DA1E01B1FB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D54-0142-43D5-ADF8-6D526F485D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DBA5-9378-4880-A421-D6C94B102B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1FA6-9623-4CEB-9DA1-B43CA5A5BB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2A57-4E32-4ACB-8FB2-C5F95F0FA7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718-0C36-4366-89D3-EF3D4C41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050-BD5B-463E-8B02-67EDB1E0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EE4-3BC6-4AF4-9C58-7673883F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667-E091-4BB4-AB12-5873EF9F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F3DF-1277-4E3C-8181-79E69456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8A69-4880-4B40-847D-5AC81CA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F7FA-A6B2-403C-A780-D710063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CEE-DCB3-410B-B766-07A63C9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EDB3-4F41-483A-AD3C-58CDEC02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6F43-530D-4EB2-80B8-ACF15D33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681-E011-4221-8364-EE1EA68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E2B-429F-40A3-AF82-DD45BAA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75F8-9047-4E01-BEBE-26D9012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35A4-A4C1-4843-8255-1F5C146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EDAE-6DA0-4417-8B24-3EC58765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685D-F760-4D59-B1E9-1D12071E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601-C215-4C14-93F2-D44244B9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E31-DC44-4070-A8F3-15948033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71C-5220-49E2-A7F5-19E1FBC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1A9-AEEB-4F2D-93F1-D97F48B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08D-144A-49EE-8C91-CDD1ABB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B8A-5CF1-4244-8453-2B3F50B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1B1-B8AE-479F-B466-5D9D100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04E-3AFC-40FD-B21F-A39358B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38C-2D32-477A-8DAF-9B61ADDBB1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235-06C8-4D45-8B9A-FFEBF41FD2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6364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1187280" y="404640"/>
                <a:ext cx="219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3276720" y="98100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4938840" y="105408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1628640"/>
                <a:ext cx="150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843280" y="227808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7"/>
          <p:cNvSpPr/>
          <p:nvPr/>
        </p:nvSpPr>
        <p:spPr>
          <a:xfrm>
            <a:off x="5292720" y="22780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7524720" y="333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Line 9"/>
          <p:cNvSpPr/>
          <p:nvPr/>
        </p:nvSpPr>
        <p:spPr>
          <a:xfrm>
            <a:off x="1763640" y="909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187280" y="3500280"/>
                <a:ext cx="2695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3276720" y="407664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4938840" y="414972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3132000" y="4724280"/>
                <a:ext cx="1474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Text Box 15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24720" y="342900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Line 17"/>
          <p:cNvSpPr/>
          <p:nvPr/>
        </p:nvSpPr>
        <p:spPr>
          <a:xfrm>
            <a:off x="1763640" y="400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2627280" y="5445000"/>
                <a:ext cx="2635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4932360" y="479736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173240" y="333360"/>
                <a:ext cx="247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3276720" y="909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5003640" y="981000"/>
                <a:ext cx="100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987640" y="1484280"/>
                <a:ext cx="16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771640" y="270828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Text Box 7"/>
          <p:cNvSpPr/>
          <p:nvPr/>
        </p:nvSpPr>
        <p:spPr>
          <a:xfrm>
            <a:off x="5292720" y="2708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7524720" y="2620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Line 9"/>
          <p:cNvSpPr/>
          <p:nvPr/>
        </p:nvSpPr>
        <p:spPr>
          <a:xfrm>
            <a:off x="1763640" y="8380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2556000" y="2133720"/>
                <a:ext cx="26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780000" y="333360"/>
                <a:ext cx="131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1187280" y="3716280"/>
                <a:ext cx="3008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3276720" y="4365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5003640" y="443700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7524720" y="3735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16"/>
          <p:cNvSpPr/>
          <p:nvPr/>
        </p:nvSpPr>
        <p:spPr>
          <a:xfrm>
            <a:off x="1763640" y="4311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4205160" y="3745080"/>
                <a:ext cx="162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3132000" y="4941720"/>
                <a:ext cx="1536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Text Box 20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2268360" y="5445000"/>
                <a:ext cx="3232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5033880" y="4870440"/>
                <a:ext cx="1001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5003640" y="1557360"/>
                <a:ext cx="658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1258920" y="333360"/>
                <a:ext cx="3008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3276720" y="157464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219640" y="1359000"/>
                <a:ext cx="12873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2700360" y="2222640"/>
                <a:ext cx="2289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2771640" y="431172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7"/>
          <p:cNvSpPr/>
          <p:nvPr/>
        </p:nvSpPr>
        <p:spPr>
          <a:xfrm>
            <a:off x="529272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7524720" y="6922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Line 9"/>
          <p:cNvSpPr/>
          <p:nvPr/>
        </p:nvSpPr>
        <p:spPr>
          <a:xfrm>
            <a:off x="1763640" y="1341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195640" y="3159000"/>
                <a:ext cx="33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5219640" y="251136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87280" y="189000"/>
                <a:ext cx="2600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2268360" y="1916280"/>
                <a:ext cx="1160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1240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18352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12589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588000" y="547560"/>
                <a:ext cx="2040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Line 8"/>
          <p:cNvSpPr/>
          <p:nvPr/>
        </p:nvSpPr>
        <p:spPr>
          <a:xfrm>
            <a:off x="1763640" y="112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619280" y="184464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1622160" y="1268280"/>
            <a:ext cx="18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5222520" y="1268280"/>
            <a:ext cx="16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0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2"/>
          <p:cNvSpPr/>
          <p:nvPr/>
        </p:nvSpPr>
        <p:spPr>
          <a:xfrm flipH="1" flipV="1">
            <a:off x="2843280" y="2997000"/>
            <a:ext cx="1008000" cy="143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5148360" y="1125360"/>
            <a:ext cx="0" cy="4680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4284720" y="1916280"/>
                <a:ext cx="5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27003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59280" y="3500280"/>
                <a:ext cx="20714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4262400" y="273852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16923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Text Box 19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6302520" y="191628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61578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58690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0" name="Text Box 23"/>
          <p:cNvSpPr/>
          <p:nvPr/>
        </p:nvSpPr>
        <p:spPr>
          <a:xfrm>
            <a:off x="52927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Line 24"/>
          <p:cNvSpPr/>
          <p:nvPr/>
        </p:nvSpPr>
        <p:spPr>
          <a:xfrm flipH="1" flipV="1">
            <a:off x="6877080" y="3141720"/>
            <a:ext cx="10080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8317080" y="1989000"/>
                <a:ext cx="50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7341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7605720" y="3500280"/>
                <a:ext cx="15382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8294760" y="2811600"/>
                <a:ext cx="69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57261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900000" y="189000"/>
                <a:ext cx="2932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95640" y="1773360"/>
                <a:ext cx="88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1835280" y="2708280"/>
                <a:ext cx="174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2050920" y="5229360"/>
                <a:ext cx="1654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1258920" y="5661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6885000" y="549360"/>
                <a:ext cx="2259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Line 8"/>
          <p:cNvSpPr/>
          <p:nvPr/>
        </p:nvSpPr>
        <p:spPr>
          <a:xfrm>
            <a:off x="1476360" y="1125360"/>
            <a:ext cx="766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1619280" y="170028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1550520" y="1125360"/>
            <a:ext cx="20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–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5295600" y="112536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1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5148360" y="1125360"/>
            <a:ext cx="0" cy="496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124160" y="2270160"/>
                <a:ext cx="384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4140360" y="3718080"/>
                <a:ext cx="550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332000" y="3500280"/>
                <a:ext cx="2678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16"/>
          <p:cNvSpPr/>
          <p:nvPr/>
        </p:nvSpPr>
        <p:spPr>
          <a:xfrm>
            <a:off x="1258920" y="61657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3780000" y="189000"/>
                <a:ext cx="2160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1835280" y="2276640"/>
                <a:ext cx="16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4140360" y="1824120"/>
                <a:ext cx="502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4140360" y="2924280"/>
                <a:ext cx="81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900000" y="4292640"/>
                <a:ext cx="3888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22"/>
          <p:cNvSpPr/>
          <p:nvPr/>
        </p:nvSpPr>
        <p:spPr>
          <a:xfrm>
            <a:off x="5219640" y="5661000"/>
            <a:ext cx="39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148360" y="191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k nerovnosti vždy měním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-li převrácenou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ásobíme-li záporným čísl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5148360" y="4221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ození pro interval (–1; ∞) je tudíž naprosto stejné jako v intervalu (– ∞; –1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628640"/>
          <a:ext cx="7416720" cy="48340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otónn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stoucí funkce; Klesající funkce; Konstantní funkce; Neklesající funkce; Nerostouc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1592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12536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ezi monotónní funkce řadíme funkc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16000" y="2060640"/>
            <a:ext cx="802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16000" y="292428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89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465300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116000" y="551664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284720" y="2492280"/>
            <a:ext cx="485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yze monotón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 flipV="1">
            <a:off x="3203640" y="2420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3203640" y="2852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3635280" y="1916280"/>
            <a:ext cx="5215320" cy="4321080"/>
            <a:chOff x="3635280" y="1916280"/>
            <a:chExt cx="5215320" cy="4321080"/>
          </a:xfrm>
        </p:grpSpPr>
        <p:sp>
          <p:nvSpPr>
            <p:cNvPr id="152" name="Line 13"/>
            <p:cNvSpPr/>
            <p:nvPr/>
          </p:nvSpPr>
          <p:spPr>
            <a:xfrm flipV="1">
              <a:off x="4356000" y="2060640"/>
              <a:ext cx="0" cy="4176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3635280" y="4149720"/>
              <a:ext cx="51134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85341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428720" y="19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357800" y="414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Line 18"/>
          <p:cNvSpPr/>
          <p:nvPr/>
        </p:nvSpPr>
        <p:spPr>
          <a:xfrm flipV="1">
            <a:off x="3780000" y="2205000"/>
            <a:ext cx="4321080" cy="388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88616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 flipV="1">
            <a:off x="3779640" y="3213000"/>
            <a:ext cx="4537080" cy="216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102160" y="479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8102160" y="33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3851280" y="3284640"/>
            <a:ext cx="4464000" cy="1800000"/>
            <a:chOff x="3851280" y="3284640"/>
            <a:chExt cx="4464000" cy="1800000"/>
          </a:xfrm>
        </p:grpSpPr>
        <p:sp>
          <p:nvSpPr>
            <p:cNvPr id="163" name="Line 24"/>
            <p:cNvSpPr/>
            <p:nvPr/>
          </p:nvSpPr>
          <p:spPr>
            <a:xfrm>
              <a:off x="3851280" y="5084640"/>
              <a:ext cx="302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V="1">
              <a:off x="6875280" y="3284640"/>
              <a:ext cx="1440000" cy="180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6948360" y="4076280"/>
            <a:ext cx="71640" cy="432000"/>
            <a:chOff x="6948360" y="4076280"/>
            <a:chExt cx="71640" cy="432000"/>
          </a:xfrm>
        </p:grpSpPr>
        <p:sp>
          <p:nvSpPr>
            <p:cNvPr id="166" name="Line 33"/>
            <p:cNvSpPr/>
            <p:nvPr/>
          </p:nvSpPr>
          <p:spPr>
            <a:xfrm flipV="1">
              <a:off x="694836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 flipV="1">
              <a:off x="702000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Line 33"/>
            <p:cNvSpPr/>
            <p:nvPr/>
          </p:nvSpPr>
          <p:spPr>
            <a:xfrm flipV="1">
              <a:off x="6948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34"/>
            <p:cNvSpPr/>
            <p:nvPr/>
          </p:nvSpPr>
          <p:spPr>
            <a:xfrm flipV="1">
              <a:off x="7020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6300720" y="4076280"/>
            <a:ext cx="71640" cy="1077840"/>
            <a:chOff x="6300720" y="4076280"/>
            <a:chExt cx="71640" cy="1077840"/>
          </a:xfrm>
        </p:grpSpPr>
        <p:sp>
          <p:nvSpPr>
            <p:cNvPr id="171" name="Line 33"/>
            <p:cNvSpPr/>
            <p:nvPr/>
          </p:nvSpPr>
          <p:spPr>
            <a:xfrm flipV="1">
              <a:off x="630072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V="1">
              <a:off x="637236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 flipV="1">
              <a:off x="630072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6372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5" name="Text Box 36"/>
          <p:cNvSpPr/>
          <p:nvPr/>
        </p:nvSpPr>
        <p:spPr>
          <a:xfrm>
            <a:off x="7885080" y="386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4211640" y="2492280"/>
            <a:ext cx="4105440" cy="1944720"/>
            <a:chOff x="4211640" y="2492280"/>
            <a:chExt cx="4105440" cy="1944720"/>
          </a:xfrm>
        </p:grpSpPr>
        <p:sp>
          <p:nvSpPr>
            <p:cNvPr id="177" name="Line 38"/>
            <p:cNvSpPr/>
            <p:nvPr/>
          </p:nvSpPr>
          <p:spPr>
            <a:xfrm>
              <a:off x="4716360" y="4437000"/>
              <a:ext cx="36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39"/>
            <p:cNvSpPr/>
            <p:nvPr/>
          </p:nvSpPr>
          <p:spPr>
            <a:xfrm>
              <a:off x="4211640" y="2492280"/>
              <a:ext cx="50328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64360" y="3141360"/>
            <a:ext cx="71640" cy="1077840"/>
            <a:chOff x="7164360" y="3141360"/>
            <a:chExt cx="71640" cy="1077840"/>
          </a:xfrm>
        </p:grpSpPr>
        <p:sp>
          <p:nvSpPr>
            <p:cNvPr id="180" name="Line 33"/>
            <p:cNvSpPr/>
            <p:nvPr/>
          </p:nvSpPr>
          <p:spPr>
            <a:xfrm flipV="1">
              <a:off x="7164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7236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716436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723600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45"/>
          <p:cNvSpPr/>
          <p:nvPr/>
        </p:nvSpPr>
        <p:spPr>
          <a:xfrm flipH="1">
            <a:off x="3924000" y="3213000"/>
            <a:ext cx="46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8173440" y="270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90720" y="3355920"/>
            <a:ext cx="93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71640" y="22050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284720" y="501336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501336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rostou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2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28292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536580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898560" y="335592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898560" y="220500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1189080" y="1628640"/>
            <a:ext cx="5716800" cy="4897080"/>
            <a:chOff x="1189080" y="1628640"/>
            <a:chExt cx="5716800" cy="4897080"/>
          </a:xfrm>
        </p:grpSpPr>
        <p:sp>
          <p:nvSpPr>
            <p:cNvPr id="198" name="Line 14"/>
            <p:cNvSpPr/>
            <p:nvPr/>
          </p:nvSpPr>
          <p:spPr>
            <a:xfrm>
              <a:off x="2052720" y="5877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1189080" y="1628640"/>
              <a:ext cx="5716800" cy="4897080"/>
              <a:chOff x="1189080" y="1628640"/>
              <a:chExt cx="5716800" cy="489708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327672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442908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558180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52720" y="357192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2052720" y="242100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205" name="Group 21"/>
              <p:cNvGrpSpPr/>
              <p:nvPr/>
            </p:nvGrpSpPr>
            <p:grpSpPr>
              <a:xfrm>
                <a:off x="1189080" y="1628640"/>
                <a:ext cx="5716800" cy="4897080"/>
                <a:chOff x="1189080" y="1628640"/>
                <a:chExt cx="5716800" cy="4897080"/>
              </a:xfrm>
            </p:grpSpPr>
            <p:sp>
              <p:nvSpPr>
                <p:cNvPr id="206" name="Line 22"/>
                <p:cNvSpPr/>
                <p:nvPr/>
              </p:nvSpPr>
              <p:spPr>
                <a:xfrm flipV="1">
                  <a:off x="2124000" y="1771200"/>
                  <a:ext cx="1800" cy="475452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3"/>
                <p:cNvSpPr/>
                <p:nvPr/>
              </p:nvSpPr>
              <p:spPr>
                <a:xfrm>
                  <a:off x="1189080" y="4724280"/>
                  <a:ext cx="5686560" cy="180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21272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6589440" y="4797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2196720" y="1628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313560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28"/>
                <p:cNvSpPr/>
                <p:nvPr/>
              </p:nvSpPr>
              <p:spPr>
                <a:xfrm>
                  <a:off x="428796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29"/>
                <p:cNvSpPr/>
                <p:nvPr/>
              </p:nvSpPr>
              <p:spPr>
                <a:xfrm>
                  <a:off x="54374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30"/>
                <p:cNvSpPr/>
                <p:nvPr/>
              </p:nvSpPr>
              <p:spPr>
                <a:xfrm>
                  <a:off x="1694160" y="335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31"/>
                <p:cNvSpPr/>
                <p:nvPr/>
              </p:nvSpPr>
              <p:spPr>
                <a:xfrm>
                  <a:off x="1694160" y="220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2"/>
                <p:cNvSpPr/>
                <p:nvPr/>
              </p:nvSpPr>
              <p:spPr>
                <a:xfrm>
                  <a:off x="1551240" y="5659560"/>
                  <a:ext cx="48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–</a:t>
                  </a: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33"/>
                <p:cNvSpPr/>
                <p:nvPr/>
              </p:nvSpPr>
              <p:spPr>
                <a:xfrm flipV="1">
                  <a:off x="1692360" y="2060280"/>
                  <a:ext cx="4248000" cy="42498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4"/>
                <p:cNvSpPr/>
                <p:nvPr/>
              </p:nvSpPr>
              <p:spPr>
                <a:xfrm>
                  <a:off x="4500360" y="2781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800" spc="-1" strike="noStrike">
                      <a:solidFill>
                        <a:srgbClr val="00ff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Line 35"/>
              <p:cNvSpPr/>
              <p:nvPr/>
            </p:nvSpPr>
            <p:spPr>
              <a:xfrm flipV="1">
                <a:off x="4427640" y="3573360"/>
                <a:ext cx="0" cy="115272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 flipV="1">
                <a:off x="5580000" y="2420640"/>
                <a:ext cx="0" cy="230508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 flipH="1">
                <a:off x="2123640" y="3573360"/>
                <a:ext cx="2303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 flipH="1">
                <a:off x="2124000" y="242100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Rectangle 39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41"/>
          <p:cNvSpPr/>
          <p:nvPr/>
        </p:nvSpPr>
        <p:spPr>
          <a:xfrm flipV="1">
            <a:off x="4427640" y="357336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42"/>
          <p:cNvSpPr/>
          <p:nvPr/>
        </p:nvSpPr>
        <p:spPr>
          <a:xfrm flipH="1">
            <a:off x="2123640" y="3573360"/>
            <a:ext cx="2303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43"/>
          <p:cNvSpPr/>
          <p:nvPr/>
        </p:nvSpPr>
        <p:spPr>
          <a:xfrm flipV="1">
            <a:off x="5580000" y="2421000"/>
            <a:ext cx="0" cy="2303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2124000" y="242100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284720" y="57340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narůstají také funkční hodnot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16000" y="3284640"/>
            <a:ext cx="93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71640" y="558972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05080" y="494028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722920" y="494028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klesají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1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–1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 </a:t>
            </a:r>
            <a:r>
              <a:rPr b="1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72436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023840" y="328464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900000" y="558972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32000" y="1557360"/>
            <a:ext cx="5716800" cy="4897080"/>
            <a:chOff x="1332000" y="1557360"/>
            <a:chExt cx="5716800" cy="4897080"/>
          </a:xfrm>
        </p:grpSpPr>
        <p:grpSp>
          <p:nvGrpSpPr>
            <p:cNvPr id="244" name="Group 14"/>
            <p:cNvGrpSpPr/>
            <p:nvPr/>
          </p:nvGrpSpPr>
          <p:grpSpPr>
            <a:xfrm>
              <a:off x="1332000" y="1699920"/>
              <a:ext cx="5716800" cy="4754520"/>
              <a:chOff x="1332000" y="1699920"/>
              <a:chExt cx="5716800" cy="4754520"/>
            </a:xfrm>
          </p:grpSpPr>
          <p:sp>
            <p:nvSpPr>
              <p:cNvPr id="245" name="Line 15"/>
              <p:cNvSpPr/>
              <p:nvPr/>
            </p:nvSpPr>
            <p:spPr>
              <a:xfrm>
                <a:off x="219564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16"/>
              <p:cNvSpPr/>
              <p:nvPr/>
            </p:nvSpPr>
            <p:spPr>
              <a:xfrm>
                <a:off x="341964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17"/>
              <p:cNvSpPr/>
              <p:nvPr/>
            </p:nvSpPr>
            <p:spPr>
              <a:xfrm>
                <a:off x="457236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18"/>
              <p:cNvSpPr/>
              <p:nvPr/>
            </p:nvSpPr>
            <p:spPr>
              <a:xfrm>
                <a:off x="572472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2195640" y="350064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2195640" y="2349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V="1">
                <a:off x="2267280" y="1699920"/>
                <a:ext cx="1440" cy="47545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>
                <a:off x="1332000" y="4653000"/>
                <a:ext cx="5686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2270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673236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32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4502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56552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1837080" y="32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183708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1694160" y="55879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1" name="Line 31"/>
              <p:cNvSpPr/>
              <p:nvPr/>
            </p:nvSpPr>
            <p:spPr>
              <a:xfrm>
                <a:off x="1690920" y="1773360"/>
                <a:ext cx="4392720" cy="4392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2" name="Text Box 32"/>
              <p:cNvSpPr/>
              <p:nvPr/>
            </p:nvSpPr>
            <p:spPr>
              <a:xfrm>
                <a:off x="4068720" y="35733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3" name="Line 33"/>
              <p:cNvSpPr/>
              <p:nvPr/>
            </p:nvSpPr>
            <p:spPr>
              <a:xfrm flipV="1">
                <a:off x="3419640" y="3501720"/>
                <a:ext cx="0" cy="11523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4" name="Line 34"/>
              <p:cNvSpPr/>
              <p:nvPr/>
            </p:nvSpPr>
            <p:spPr>
              <a:xfrm flipV="1">
                <a:off x="572328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 flipH="1">
                <a:off x="2266920" y="3502080"/>
                <a:ext cx="11523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6" name="Line 36"/>
              <p:cNvSpPr/>
              <p:nvPr/>
            </p:nvSpPr>
            <p:spPr>
              <a:xfrm flipH="1">
                <a:off x="2267280" y="580572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37"/>
            <p:cNvSpPr/>
            <p:nvPr/>
          </p:nvSpPr>
          <p:spPr>
            <a:xfrm>
              <a:off x="2341080" y="155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Rectangle 38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3419640" y="350028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H="1">
            <a:off x="2268360" y="3500280"/>
            <a:ext cx="1152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5724360" y="4653000"/>
            <a:ext cx="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3"/>
          <p:cNvSpPr/>
          <p:nvPr/>
        </p:nvSpPr>
        <p:spPr>
          <a:xfrm flipH="1">
            <a:off x="2268360" y="580536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284720" y="5877000"/>
            <a:ext cx="485928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funkční hodnoty klesaj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 monotonii funk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51280" y="2997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659640" y="6165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16000" y="29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971640" y="765000"/>
            <a:ext cx="2693880" cy="2304720"/>
            <a:chOff x="971640" y="765000"/>
            <a:chExt cx="2693880" cy="2304720"/>
          </a:xfrm>
        </p:grpSpPr>
        <p:sp>
          <p:nvSpPr>
            <p:cNvPr id="282" name="Text Box 7"/>
            <p:cNvSpPr/>
            <p:nvPr/>
          </p:nvSpPr>
          <p:spPr>
            <a:xfrm>
              <a:off x="971640" y="9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116000" y="2062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 flipV="1">
              <a:off x="234000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34908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241272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V="1">
              <a:off x="1116000" y="981000"/>
              <a:ext cx="2376360" cy="1873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313344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853416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5509800" y="227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3708360" y="765000"/>
            <a:ext cx="2694240" cy="2304720"/>
            <a:chOff x="3708360" y="765000"/>
            <a:chExt cx="2694240" cy="2304720"/>
          </a:xfrm>
        </p:grpSpPr>
        <p:sp>
          <p:nvSpPr>
            <p:cNvPr id="292" name="Text Box 17"/>
            <p:cNvSpPr/>
            <p:nvPr/>
          </p:nvSpPr>
          <p:spPr>
            <a:xfrm>
              <a:off x="370836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853080" y="206208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5076720" y="90936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608616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514944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97" name="AutoShape 22"/>
            <p:cNvCxnSpPr/>
            <p:nvPr/>
          </p:nvCxnSpPr>
          <p:spPr>
            <a:xfrm flipV="1" rot="16200000">
              <a:off x="4388040" y="137628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98" name="Text Box 23"/>
          <p:cNvSpPr/>
          <p:nvPr/>
        </p:nvSpPr>
        <p:spPr>
          <a:xfrm>
            <a:off x="1619280" y="5589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797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3349080" y="51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971640" y="3860640"/>
            <a:ext cx="2592360" cy="2305080"/>
            <a:chOff x="971640" y="3860640"/>
            <a:chExt cx="2592360" cy="2305080"/>
          </a:xfrm>
        </p:grpSpPr>
        <p:sp>
          <p:nvSpPr>
            <p:cNvPr id="302" name="Text Box 27"/>
            <p:cNvSpPr/>
            <p:nvPr/>
          </p:nvSpPr>
          <p:spPr>
            <a:xfrm>
              <a:off x="97164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>
              <a:off x="111600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V="1">
              <a:off x="234000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241272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1619280" y="400536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>
              <a:off x="147636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147636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>
              <a:off x="219708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19708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3708360" y="3860640"/>
            <a:ext cx="2694240" cy="2304720"/>
            <a:chOff x="3708360" y="3860640"/>
            <a:chExt cx="2694240" cy="2304720"/>
          </a:xfrm>
        </p:grpSpPr>
        <p:sp>
          <p:nvSpPr>
            <p:cNvPr id="312" name="Text Box 37"/>
            <p:cNvSpPr/>
            <p:nvPr/>
          </p:nvSpPr>
          <p:spPr>
            <a:xfrm>
              <a:off x="370836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385272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507672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608616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1494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>
              <a:off x="3851280" y="4726080"/>
              <a:ext cx="2449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43"/>
            <p:cNvSpPr/>
            <p:nvPr/>
          </p:nvSpPr>
          <p:spPr>
            <a:xfrm flipV="1">
              <a:off x="4213080" y="4579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 flipV="1">
              <a:off x="4284720" y="45810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 flipV="1">
              <a:off x="4213080" y="50112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V="1">
              <a:off x="4284720" y="5013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Text Box 47"/>
          <p:cNvSpPr/>
          <p:nvPr/>
        </p:nvSpPr>
        <p:spPr>
          <a:xfrm>
            <a:off x="3854520" y="6165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810252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6448320" y="3860640"/>
            <a:ext cx="2694240" cy="2305080"/>
            <a:chOff x="6448320" y="3860640"/>
            <a:chExt cx="2694240" cy="2305080"/>
          </a:xfrm>
        </p:grpSpPr>
        <p:sp>
          <p:nvSpPr>
            <p:cNvPr id="325" name="Text Box 50"/>
            <p:cNvSpPr/>
            <p:nvPr/>
          </p:nvSpPr>
          <p:spPr>
            <a:xfrm>
              <a:off x="6448320" y="4005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6593040" y="5157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V="1">
              <a:off x="781668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Text Box 53"/>
            <p:cNvSpPr/>
            <p:nvPr/>
          </p:nvSpPr>
          <p:spPr>
            <a:xfrm>
              <a:off x="882612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54"/>
            <p:cNvSpPr/>
            <p:nvPr/>
          </p:nvSpPr>
          <p:spPr>
            <a:xfrm>
              <a:off x="7889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Line 55"/>
            <p:cNvSpPr/>
            <p:nvPr/>
          </p:nvSpPr>
          <p:spPr>
            <a:xfrm>
              <a:off x="6659640" y="472428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56"/>
            <p:cNvSpPr/>
            <p:nvPr/>
          </p:nvSpPr>
          <p:spPr>
            <a:xfrm>
              <a:off x="7956720" y="472428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Text Box 57"/>
          <p:cNvSpPr/>
          <p:nvPr/>
        </p:nvSpPr>
        <p:spPr>
          <a:xfrm>
            <a:off x="630072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58"/>
          <p:cNvGrpSpPr/>
          <p:nvPr/>
        </p:nvGrpSpPr>
        <p:grpSpPr>
          <a:xfrm>
            <a:off x="6448320" y="765000"/>
            <a:ext cx="2694240" cy="2304720"/>
            <a:chOff x="6448320" y="765000"/>
            <a:chExt cx="2694240" cy="2304720"/>
          </a:xfrm>
        </p:grpSpPr>
        <p:sp>
          <p:nvSpPr>
            <p:cNvPr id="334" name="Text Box 59"/>
            <p:cNvSpPr/>
            <p:nvPr/>
          </p:nvSpPr>
          <p:spPr>
            <a:xfrm>
              <a:off x="644832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0"/>
            <p:cNvSpPr/>
            <p:nvPr/>
          </p:nvSpPr>
          <p:spPr>
            <a:xfrm>
              <a:off x="6593040" y="2062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1"/>
            <p:cNvSpPr/>
            <p:nvPr/>
          </p:nvSpPr>
          <p:spPr>
            <a:xfrm flipV="1">
              <a:off x="781668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Text Box 62"/>
            <p:cNvSpPr/>
            <p:nvPr/>
          </p:nvSpPr>
          <p:spPr>
            <a:xfrm>
              <a:off x="788940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6948360" y="105408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64"/>
            <p:cNvSpPr/>
            <p:nvPr/>
          </p:nvSpPr>
          <p:spPr>
            <a:xfrm>
              <a:off x="88261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580080" y="2421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116000" y="6021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116000" y="2421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0508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534160" y="83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133440" y="4003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21164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48" name="Text Box 10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1258920" y="765000"/>
              <a:ext cx="649080" cy="1368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 flipV="1">
              <a:off x="1907640" y="765000"/>
              <a:ext cx="360360" cy="11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 flipV="1">
              <a:off x="2268360" y="981000"/>
              <a:ext cx="287640" cy="9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 flipH="1" flipV="1">
              <a:off x="2555640" y="981000"/>
              <a:ext cx="431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 flipV="1">
              <a:off x="2987640" y="981000"/>
              <a:ext cx="36036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59" name="Text Box 21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5" name="Group 27"/>
          <p:cNvGrpSpPr/>
          <p:nvPr/>
        </p:nvGrpSpPr>
        <p:grpSpPr>
          <a:xfrm>
            <a:off x="973080" y="3716280"/>
            <a:ext cx="2694240" cy="2305080"/>
            <a:chOff x="973080" y="3716280"/>
            <a:chExt cx="2694240" cy="2305080"/>
          </a:xfrm>
        </p:grpSpPr>
        <p:sp>
          <p:nvSpPr>
            <p:cNvPr id="366" name="Text Box 28"/>
            <p:cNvSpPr/>
            <p:nvPr/>
          </p:nvSpPr>
          <p:spPr>
            <a:xfrm>
              <a:off x="97308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117440" y="501336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 flipV="1">
              <a:off x="2341440" y="386064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Text Box 31"/>
            <p:cNvSpPr/>
            <p:nvPr/>
          </p:nvSpPr>
          <p:spPr>
            <a:xfrm>
              <a:off x="335088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Text Box 32"/>
            <p:cNvSpPr/>
            <p:nvPr/>
          </p:nvSpPr>
          <p:spPr>
            <a:xfrm>
              <a:off x="2414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1260360" y="4003560"/>
              <a:ext cx="2160720" cy="1657440"/>
            </a:xfrm>
            <a:custGeom>
              <a:avLst/>
              <a:gdLst/>
              <a:ahLst/>
              <a:rect l="l" t="t" r="r" b="b"/>
              <a:pathLst>
                <a:path w="1361" h="1044">
                  <a:moveTo>
                    <a:pt x="0" y="1044"/>
                  </a:moveTo>
                  <a:cubicBezTo>
                    <a:pt x="113" y="768"/>
                    <a:pt x="227" y="492"/>
                    <a:pt x="454" y="318"/>
                  </a:cubicBezTo>
                  <a:cubicBezTo>
                    <a:pt x="681" y="144"/>
                    <a:pt x="1021" y="72"/>
                    <a:pt x="1361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2" name="Group 34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73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Text Box 39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6659640" y="2133720"/>
              <a:ext cx="36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41"/>
            <p:cNvSpPr/>
            <p:nvPr/>
          </p:nvSpPr>
          <p:spPr>
            <a:xfrm flipV="1">
              <a:off x="702000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42"/>
            <p:cNvSpPr/>
            <p:nvPr/>
          </p:nvSpPr>
          <p:spPr>
            <a:xfrm>
              <a:off x="7667640" y="836640"/>
              <a:ext cx="1225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Text Box 43"/>
          <p:cNvSpPr/>
          <p:nvPr/>
        </p:nvSpPr>
        <p:spPr>
          <a:xfrm>
            <a:off x="5219640" y="439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3852720" y="6049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3" name="Group 45"/>
          <p:cNvGrpSpPr/>
          <p:nvPr/>
        </p:nvGrpSpPr>
        <p:grpSpPr>
          <a:xfrm>
            <a:off x="3708360" y="3716280"/>
            <a:ext cx="2694240" cy="2305080"/>
            <a:chOff x="3708360" y="3716280"/>
            <a:chExt cx="2694240" cy="2305080"/>
          </a:xfrm>
        </p:grpSpPr>
        <p:sp>
          <p:nvSpPr>
            <p:cNvPr id="384" name="Text Box 46"/>
            <p:cNvSpPr/>
            <p:nvPr/>
          </p:nvSpPr>
          <p:spPr>
            <a:xfrm>
              <a:off x="370836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47"/>
            <p:cNvSpPr/>
            <p:nvPr/>
          </p:nvSpPr>
          <p:spPr>
            <a:xfrm>
              <a:off x="3852720" y="501300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8"/>
            <p:cNvSpPr/>
            <p:nvPr/>
          </p:nvSpPr>
          <p:spPr>
            <a:xfrm flipV="1">
              <a:off x="5076720" y="386064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49"/>
            <p:cNvSpPr/>
            <p:nvPr/>
          </p:nvSpPr>
          <p:spPr>
            <a:xfrm>
              <a:off x="6086160" y="501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50"/>
            <p:cNvSpPr/>
            <p:nvPr/>
          </p:nvSpPr>
          <p:spPr>
            <a:xfrm>
              <a:off x="514944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51"/>
            <p:cNvSpPr/>
            <p:nvPr/>
          </p:nvSpPr>
          <p:spPr>
            <a:xfrm>
              <a:off x="4788000" y="4363920"/>
              <a:ext cx="86364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Oval 52"/>
            <p:cNvSpPr/>
            <p:nvPr/>
          </p:nvSpPr>
          <p:spPr>
            <a:xfrm>
              <a:off x="4643280" y="42210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53"/>
            <p:cNvSpPr/>
            <p:nvPr/>
          </p:nvSpPr>
          <p:spPr>
            <a:xfrm>
              <a:off x="5580000" y="5300640"/>
              <a:ext cx="217440" cy="215640"/>
            </a:xfrm>
            <a:prstGeom prst="ellipse">
              <a:avLst/>
            </a:prstGeom>
            <a:solidFill>
              <a:srgbClr val="00172e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54"/>
          <p:cNvSpPr/>
          <p:nvPr/>
        </p:nvSpPr>
        <p:spPr>
          <a:xfrm>
            <a:off x="6576840" y="59482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55"/>
          <p:cNvGrpSpPr/>
          <p:nvPr/>
        </p:nvGrpSpPr>
        <p:grpSpPr>
          <a:xfrm>
            <a:off x="6445080" y="3716280"/>
            <a:ext cx="2693880" cy="2304720"/>
            <a:chOff x="6445080" y="3716280"/>
            <a:chExt cx="2693880" cy="2304720"/>
          </a:xfrm>
        </p:grpSpPr>
        <p:sp>
          <p:nvSpPr>
            <p:cNvPr id="394" name="Text Box 56"/>
            <p:cNvSpPr/>
            <p:nvPr/>
          </p:nvSpPr>
          <p:spPr>
            <a:xfrm>
              <a:off x="6445080" y="3861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7"/>
            <p:cNvSpPr/>
            <p:nvPr/>
          </p:nvSpPr>
          <p:spPr>
            <a:xfrm>
              <a:off x="6589440" y="501336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58"/>
            <p:cNvSpPr/>
            <p:nvPr/>
          </p:nvSpPr>
          <p:spPr>
            <a:xfrm flipV="1">
              <a:off x="7813440" y="386064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59"/>
            <p:cNvSpPr/>
            <p:nvPr/>
          </p:nvSpPr>
          <p:spPr>
            <a:xfrm>
              <a:off x="88225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60"/>
            <p:cNvSpPr/>
            <p:nvPr/>
          </p:nvSpPr>
          <p:spPr>
            <a:xfrm>
              <a:off x="7886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99" name="AutoShape 61"/>
            <p:cNvCxnSpPr/>
            <p:nvPr/>
          </p:nvCxnSpPr>
          <p:spPr>
            <a:xfrm flipV="1">
              <a:off x="6662160" y="414756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400" name="Text Box 62"/>
          <p:cNvSpPr/>
          <p:nvPr/>
        </p:nvSpPr>
        <p:spPr>
          <a:xfrm>
            <a:off x="846288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1280" y="2421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659640" y="59500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725800" y="90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619280" y="40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94160" y="49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854520" y="595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9" name="Line 10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3708360" y="3645000"/>
            <a:ext cx="2694240" cy="2305080"/>
            <a:chOff x="3708360" y="3645000"/>
            <a:chExt cx="2694240" cy="2305080"/>
          </a:xfrm>
        </p:grpSpPr>
        <p:sp>
          <p:nvSpPr>
            <p:cNvPr id="417" name="Text Box 18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0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140360" y="5445000"/>
              <a:ext cx="208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25" name="Text Box 26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27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32"/>
          <p:cNvSpPr/>
          <p:nvPr/>
        </p:nvSpPr>
        <p:spPr>
          <a:xfrm>
            <a:off x="1116000" y="2421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708360" y="189000"/>
            <a:ext cx="3245040" cy="2305080"/>
            <a:chOff x="3708360" y="189000"/>
            <a:chExt cx="3245040" cy="2305080"/>
          </a:xfrm>
        </p:grpSpPr>
        <p:sp>
          <p:nvSpPr>
            <p:cNvPr id="434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o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Freeform 41"/>
            <p:cNvSpPr/>
            <p:nvPr/>
          </p:nvSpPr>
          <p:spPr>
            <a:xfrm>
              <a:off x="4500720" y="525600"/>
              <a:ext cx="1655640" cy="1823760"/>
            </a:xfrm>
            <a:custGeom>
              <a:avLst/>
              <a:gdLst/>
              <a:ahLst/>
              <a:rect l="l" t="t" r="r" b="b"/>
              <a:pathLst>
                <a:path w="1043" h="1149">
                  <a:moveTo>
                    <a:pt x="0" y="786"/>
                  </a:moveTo>
                  <a:cubicBezTo>
                    <a:pt x="94" y="393"/>
                    <a:pt x="189" y="0"/>
                    <a:pt x="363" y="60"/>
                  </a:cubicBezTo>
                  <a:cubicBezTo>
                    <a:pt x="537" y="120"/>
                    <a:pt x="790" y="634"/>
                    <a:pt x="1043" y="1149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1" name="Text Box 42"/>
          <p:cNvSpPr/>
          <p:nvPr/>
        </p:nvSpPr>
        <p:spPr>
          <a:xfrm>
            <a:off x="7093080" y="20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43"/>
          <p:cNvGrpSpPr/>
          <p:nvPr/>
        </p:nvGrpSpPr>
        <p:grpSpPr>
          <a:xfrm>
            <a:off x="971640" y="3645000"/>
            <a:ext cx="2693880" cy="2305080"/>
            <a:chOff x="971640" y="3645000"/>
            <a:chExt cx="2693880" cy="2305080"/>
          </a:xfrm>
        </p:grpSpPr>
        <p:sp>
          <p:nvSpPr>
            <p:cNvPr id="443" name="Text Box 44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Text Box 47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48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2700360" y="4653000"/>
              <a:ext cx="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2627280" y="4581360"/>
              <a:ext cx="144360" cy="1447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448320" y="3645000"/>
            <a:ext cx="2694240" cy="2305080"/>
            <a:chOff x="6448320" y="3645000"/>
            <a:chExt cx="2694240" cy="2305080"/>
          </a:xfrm>
        </p:grpSpPr>
        <p:sp>
          <p:nvSpPr>
            <p:cNvPr id="451" name="Text Box 52"/>
            <p:cNvSpPr/>
            <p:nvPr/>
          </p:nvSpPr>
          <p:spPr>
            <a:xfrm>
              <a:off x="6448320" y="3789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r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6593040" y="4941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 flipV="1">
              <a:off x="781668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882612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788940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7380360" y="4508640"/>
              <a:ext cx="5731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7953480" y="4508640"/>
              <a:ext cx="79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7020000" y="3860640"/>
              <a:ext cx="360360" cy="64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Dokažte monotonii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87280" y="1125360"/>
                <a:ext cx="2508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7524720" y="105264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556000" y="198900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140360" y="206208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7"/>
          <p:cNvSpPr/>
          <p:nvPr/>
        </p:nvSpPr>
        <p:spPr>
          <a:xfrm>
            <a:off x="1763640" y="162864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050920" y="2708280"/>
                <a:ext cx="228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2124000" y="3429000"/>
                <a:ext cx="2163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10"/>
          <p:cNvSpPr/>
          <p:nvPr/>
        </p:nvSpPr>
        <p:spPr>
          <a:xfrm>
            <a:off x="1763640" y="4724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651640" y="1916280"/>
                <a:ext cx="179388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55Z</dcterms:modified>
  <cp:revision>309</cp:revision>
  <dc:subject/>
  <dc:title>FCE</dc:title>
</cp:coreProperties>
</file>