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2422-A2AD-4685-88CA-478344FB4B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A59D-A9FB-4DC5-BF2A-6D746D828E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320-DBAB-49E3-885B-786BD828FC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3789-DA5C-4421-B346-B08E0CC4DD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E2E-1D7C-4724-BC1D-AE85955785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05F-CAB0-43EE-8787-E43AACBB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BA8-81BC-4F09-AE4D-9C963BBE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D7B-ABFC-4E78-A2CD-88173857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F1F-C495-478A-B703-D1A2433D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668D-D664-4C1B-A9F4-6444AD7B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3A4-7DDF-4615-8CAE-6BD7FE27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1708-F02F-43AF-9814-0551A8C1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1224-2DFD-44B7-8137-5A026CD0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0FB2-54C3-4C54-8719-176D1C0D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8F1E-45AF-47F5-857C-AADC2930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914B-F332-46EA-B70C-0A3A1E81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9BD-2547-4392-9586-C3426EB9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F353-3736-4448-9D86-67ADED8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AE62-A2C2-480B-9AFD-7171E74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B464-0199-454C-91B2-42B88BEC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1565-71F8-48BC-B8F5-7B0E0F5F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4753-54D1-4440-95EB-BEA898D8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216-8F32-4F15-8F6E-646BEA2A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A57-C2AA-4296-8FDD-4953881C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FB8-B739-4A75-A89D-975E35BB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509-2320-4773-B8AD-938099C1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5D7-883A-49FC-AB44-B35DD71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1C9-D9B0-4DDB-85FF-D2F1C50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92E-1E32-4718-AA81-14C6313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5449-AE7A-44AB-BC54-9205BD35C63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FAF-AA67-4FAA-8298-96FABAE694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1116000" y="981000"/>
                <a:ext cx="1182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87280" y="1773360"/>
                <a:ext cx="115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87280" y="2565360"/>
                <a:ext cx="1151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87280" y="3357720"/>
                <a:ext cx="1152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2556000" y="98100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2556000" y="1773360"/>
                <a:ext cx="757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2556000" y="2565360"/>
                <a:ext cx="72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2556000" y="335772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187280" y="4149720"/>
                <a:ext cx="1243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2556000" y="4365720"/>
                <a:ext cx="93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4788000" y="5373720"/>
                <a:ext cx="1303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258920" y="6021360"/>
                <a:ext cx="1060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4788000" y="981000"/>
                <a:ext cx="1454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4788000" y="1773360"/>
                <a:ext cx="16365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1187280" y="5300640"/>
                <a:ext cx="909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4788000" y="3357720"/>
                <a:ext cx="768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6372360" y="537372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2556000" y="602136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6372360" y="177336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2771640" y="5300640"/>
                <a:ext cx="514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4716360" y="4724280"/>
                <a:ext cx="1578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0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4788000" y="2565360"/>
                <a:ext cx="9381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6372360" y="2565360"/>
                <a:ext cx="695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4788000" y="4076640"/>
                <a:ext cx="514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6535800" y="4076640"/>
                <a:ext cx="574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6516720" y="4724280"/>
                <a:ext cx="74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4772160" y="6076800"/>
                <a:ext cx="566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6502320" y="6076800"/>
                <a:ext cx="525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3"/>
          <p:cNvSpPr/>
          <p:nvPr/>
        </p:nvSpPr>
        <p:spPr>
          <a:xfrm>
            <a:off x="6516720" y="981000"/>
            <a:ext cx="26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516720" y="3357720"/>
            <a:ext cx="26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7667640" y="1125360"/>
                <a:ext cx="96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258920" y="907920"/>
                <a:ext cx="4335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1332000" y="4149720"/>
                <a:ext cx="3998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72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7740720" y="4365720"/>
                <a:ext cx="72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258920" y="6093000"/>
                <a:ext cx="6208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log0,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og0,0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7885080" y="6165720"/>
                <a:ext cx="590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1258920" y="5084640"/>
                <a:ext cx="51512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7740720" y="5300640"/>
                <a:ext cx="728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1403280" y="1844640"/>
                <a:ext cx="1150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1403280" y="2421000"/>
                <a:ext cx="1150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916360" y="1844640"/>
                <a:ext cx="1454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2916360" y="28526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6300720" y="1125360"/>
                <a:ext cx="908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5003640" y="1628640"/>
                <a:ext cx="212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1533600" y="3024360"/>
                <a:ext cx="8776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060720" y="3429000"/>
                <a:ext cx="1060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012000" y="11253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005600" y="1125360"/>
                <a:ext cx="48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Group 31"/>
          <p:cNvGrpSpPr/>
          <p:nvPr/>
        </p:nvGrpSpPr>
        <p:grpSpPr>
          <a:xfrm>
            <a:off x="2627280" y="836280"/>
            <a:ext cx="3673440" cy="287640"/>
            <a:chOff x="2627280" y="836280"/>
            <a:chExt cx="3673440" cy="287640"/>
          </a:xfrm>
        </p:grpSpPr>
        <p:sp>
          <p:nvSpPr>
            <p:cNvPr id="315" name="Line 25"/>
            <p:cNvSpPr/>
            <p:nvPr/>
          </p:nvSpPr>
          <p:spPr>
            <a:xfrm flipV="1">
              <a:off x="2627280" y="836280"/>
              <a:ext cx="0" cy="215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2627280" y="836640"/>
              <a:ext cx="3673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6300720" y="83664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32"/>
          <p:cNvGrpSpPr/>
          <p:nvPr/>
        </p:nvGrpSpPr>
        <p:grpSpPr>
          <a:xfrm>
            <a:off x="4427640" y="907920"/>
            <a:ext cx="2881080" cy="287640"/>
            <a:chOff x="4427640" y="907920"/>
            <a:chExt cx="2881080" cy="287640"/>
          </a:xfrm>
        </p:grpSpPr>
        <p:sp>
          <p:nvSpPr>
            <p:cNvPr id="319" name="Line 28"/>
            <p:cNvSpPr/>
            <p:nvPr/>
          </p:nvSpPr>
          <p:spPr>
            <a:xfrm flipV="1">
              <a:off x="4427640" y="907920"/>
              <a:ext cx="0" cy="21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4427640" y="907920"/>
              <a:ext cx="2881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7308720" y="90792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7364520" y="1125360"/>
                <a:ext cx="395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316160" y="1881360"/>
                <a:ext cx="1730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1332000" y="1052640"/>
                <a:ext cx="1485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332000" y="2708280"/>
                <a:ext cx="1455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332000" y="3500280"/>
                <a:ext cx="1668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780000" y="1052640"/>
                <a:ext cx="1182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780000" y="1627200"/>
                <a:ext cx="1427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780000" y="2708280"/>
                <a:ext cx="1031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3780000" y="3500280"/>
                <a:ext cx="97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1332000" y="4149720"/>
                <a:ext cx="154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3780000" y="4292640"/>
                <a:ext cx="1304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1332000" y="5229360"/>
                <a:ext cx="112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1332000" y="6021360"/>
                <a:ext cx="1485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3924360" y="5084640"/>
                <a:ext cx="1001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3924360" y="5734080"/>
                <a:ext cx="2611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971640" y="26028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116000" y="1773360"/>
                <a:ext cx="188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3"/>
          <p:cNvSpPr/>
          <p:nvPr/>
        </p:nvSpPr>
        <p:spPr>
          <a:xfrm>
            <a:off x="3203640" y="3573360"/>
            <a:ext cx="305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úloha nemá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11127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112760" y="3573360"/>
                <a:ext cx="1519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3059280" y="1773360"/>
                <a:ext cx="1029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3059280" y="242100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112760" y="4365720"/>
                <a:ext cx="1549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59280" y="436572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116000" y="5589720"/>
                <a:ext cx="1790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5724360" y="1773360"/>
                <a:ext cx="1457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57243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724360" y="335772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7684920" y="1700280"/>
                <a:ext cx="1243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7669080" y="2421000"/>
                <a:ext cx="10908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5724360" y="4365720"/>
                <a:ext cx="1854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7686720" y="3573360"/>
                <a:ext cx="124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724360" y="5589720"/>
                <a:ext cx="1608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059280" y="5589720"/>
                <a:ext cx="1180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7686720" y="4365720"/>
                <a:ext cx="1241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746840" y="5589720"/>
                <a:ext cx="11811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258920" y="1557360"/>
            <a:ext cx="770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LODNER, J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obchodní akademie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. vyd. Svitavy : Svitavská tiskárna, 1998. ISBN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9781213621442 .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Část II, Kapitola 1, s. 64–6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Inverzní funkce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260280"/>
            <a:ext cx="609264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lastnosti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114560" y="2060640"/>
                <a:ext cx="4992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826920" y="1484280"/>
            <a:ext cx="781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Logaritmická funkce je inverzní k funkci exponenciální: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2195640" y="2276280"/>
            <a:ext cx="1222200" cy="93636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2555640" y="2276640"/>
            <a:ext cx="86364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86840" y="436572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165040" y="436572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3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611160" y="4365720"/>
            <a:ext cx="252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012000" y="4365720"/>
            <a:ext cx="290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x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86840" y="551664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165040" y="551664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684240" y="5516640"/>
            <a:ext cx="241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4880" y="551808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 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7126200" y="4294080"/>
            <a:ext cx="176364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7054920" y="5445000"/>
            <a:ext cx="183672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968400" y="37893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pamatujte s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5364000" y="2205000"/>
            <a:ext cx="1222560" cy="93672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4788000" y="2205000"/>
            <a:ext cx="180000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1195560" y="117000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340000" y="17733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484360" y="2925720"/>
                <a:ext cx="849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2771640" y="126828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340000" y="2349360"/>
                <a:ext cx="11224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4716360" y="1125360"/>
                <a:ext cx="157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892840" y="17445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6037200" y="2897280"/>
                <a:ext cx="8492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6324480" y="123984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5907240" y="2306520"/>
                <a:ext cx="1091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195560" y="412272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2354400" y="4653000"/>
                <a:ext cx="1152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2470320" y="5805360"/>
                <a:ext cx="879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2771640" y="422100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2325600" y="5229360"/>
                <a:ext cx="1152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4800600" y="4179960"/>
                <a:ext cx="1363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156360" y="4149720"/>
                <a:ext cx="514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77" name="Group 20"/>
          <p:cNvGrpSpPr/>
          <p:nvPr/>
        </p:nvGrpSpPr>
        <p:grpSpPr>
          <a:xfrm>
            <a:off x="2268360" y="1125000"/>
            <a:ext cx="1079640" cy="792360"/>
            <a:chOff x="2268360" y="1125000"/>
            <a:chExt cx="1079640" cy="792360"/>
          </a:xfrm>
        </p:grpSpPr>
        <p:sp>
          <p:nvSpPr>
            <p:cNvPr id="178" name="Line 21"/>
            <p:cNvSpPr/>
            <p:nvPr/>
          </p:nvSpPr>
          <p:spPr>
            <a:xfrm flipV="1">
              <a:off x="2268360" y="1125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Line 22"/>
            <p:cNvSpPr/>
            <p:nvPr/>
          </p:nvSpPr>
          <p:spPr>
            <a:xfrm flipH="1">
              <a:off x="2412720" y="1125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5219640" y="189000"/>
                <a:ext cx="1638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6300720" y="1052640"/>
                <a:ext cx="1546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588000" y="2781360"/>
                <a:ext cx="106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692928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6300720" y="2060640"/>
                <a:ext cx="1548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1403280" y="189000"/>
                <a:ext cx="1457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556000" y="105264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2700360" y="2708280"/>
                <a:ext cx="1031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302256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2556000" y="2060640"/>
                <a:ext cx="1214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3933720"/>
                <a:ext cx="1335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2843280" y="3933720"/>
                <a:ext cx="57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219640" y="4005360"/>
                <a:ext cx="1971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6516720" y="4724280"/>
                <a:ext cx="1909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6804000" y="5950080"/>
                <a:ext cx="88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7236000" y="4076640"/>
                <a:ext cx="606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6516720" y="5373720"/>
                <a:ext cx="1427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5348160" y="1341360"/>
                <a:ext cx="2063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6229440" y="2060640"/>
                <a:ext cx="1090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6445080" y="2565360"/>
                <a:ext cx="8794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73320" y="134136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2124000" y="2205000"/>
                <a:ext cx="998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2268360" y="2852640"/>
                <a:ext cx="1032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332000" y="422100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2195640" y="5013360"/>
                <a:ext cx="1000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2263680" y="5688000"/>
                <a:ext cx="1030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5568840" y="4091040"/>
                <a:ext cx="1760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6516720" y="4724280"/>
                <a:ext cx="789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09" name="Group 14"/>
          <p:cNvGrpSpPr/>
          <p:nvPr/>
        </p:nvGrpSpPr>
        <p:grpSpPr>
          <a:xfrm>
            <a:off x="2411280" y="1341000"/>
            <a:ext cx="1079640" cy="792360"/>
            <a:chOff x="2411280" y="1341000"/>
            <a:chExt cx="1079640" cy="792360"/>
          </a:xfrm>
        </p:grpSpPr>
        <p:sp>
          <p:nvSpPr>
            <p:cNvPr id="210" name="Line 15"/>
            <p:cNvSpPr/>
            <p:nvPr/>
          </p:nvSpPr>
          <p:spPr>
            <a:xfrm flipV="1">
              <a:off x="2411280" y="1341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2555640" y="1341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322960" y="352440"/>
                <a:ext cx="1942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189840" y="1147680"/>
                <a:ext cx="998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6372360" y="285264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201680" y="534960"/>
                <a:ext cx="1851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268360" y="1197000"/>
                <a:ext cx="847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187280" y="2637000"/>
                <a:ext cx="2214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6300720" y="2133720"/>
                <a:ext cx="109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979640" y="3573360"/>
                <a:ext cx="1149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3348000" y="5445000"/>
                <a:ext cx="9097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268360" y="4437000"/>
                <a:ext cx="10908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2195640" y="5589720"/>
                <a:ext cx="11523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5435640" y="4005360"/>
                <a:ext cx="15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6156360" y="4508640"/>
                <a:ext cx="789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5435640" y="5589720"/>
                <a:ext cx="1487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6126120" y="6021360"/>
                <a:ext cx="819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e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71640" y="333360"/>
            <a:ext cx="817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5508720" y="1628640"/>
                <a:ext cx="1850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6593040" y="2416320"/>
                <a:ext cx="817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1174680" y="1635120"/>
                <a:ext cx="2125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2195640" y="2422440"/>
                <a:ext cx="1149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2340000" y="2924280"/>
                <a:ext cx="106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258920" y="3789360"/>
                <a:ext cx="2003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195640" y="465300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325600" y="5589720"/>
                <a:ext cx="9399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5508720" y="3789360"/>
                <a:ext cx="1942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6804000" y="5950080"/>
                <a:ext cx="1123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8" name="Rectangle 3"/>
          <p:cNvSpPr/>
          <p:nvPr/>
        </p:nvSpPr>
        <p:spPr>
          <a:xfrm>
            <a:off x="6084720" y="4437000"/>
            <a:ext cx="30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loha nemá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5508720" y="5445000"/>
                <a:ext cx="1852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3708360" y="2349360"/>
                <a:ext cx="72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Line 16"/>
          <p:cNvSpPr/>
          <p:nvPr/>
        </p:nvSpPr>
        <p:spPr>
          <a:xfrm flipV="1">
            <a:off x="3419640" y="980640"/>
            <a:ext cx="3168360" cy="2087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3492360" y="4797360"/>
                <a:ext cx="725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3" name="Group 18"/>
          <p:cNvGrpSpPr/>
          <p:nvPr/>
        </p:nvGrpSpPr>
        <p:grpSpPr>
          <a:xfrm>
            <a:off x="2484360" y="1628280"/>
            <a:ext cx="1079640" cy="792360"/>
            <a:chOff x="2484360" y="1628280"/>
            <a:chExt cx="1079640" cy="792360"/>
          </a:xfrm>
        </p:grpSpPr>
        <p:sp>
          <p:nvSpPr>
            <p:cNvPr id="244" name="Line 19"/>
            <p:cNvSpPr/>
            <p:nvPr/>
          </p:nvSpPr>
          <p:spPr>
            <a:xfrm flipV="1">
              <a:off x="2484360" y="162828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 flipH="1">
              <a:off x="2628720" y="162864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900000" y="404640"/>
                <a:ext cx="2368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1870200" y="1197000"/>
                <a:ext cx="1390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301840" y="4221000"/>
                <a:ext cx="91296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3780000" y="404640"/>
                <a:ext cx="2125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1941480" y="1989000"/>
                <a:ext cx="1360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2014560" y="3141720"/>
                <a:ext cx="1298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43280" y="1197000"/>
                <a:ext cx="1117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873680" y="4162320"/>
                <a:ext cx="11872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770360" y="1989000"/>
                <a:ext cx="11192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4843440" y="3127320"/>
                <a:ext cx="1057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588000" y="189000"/>
                <a:ext cx="2033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7451640" y="1052640"/>
                <a:ext cx="108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7380360" y="2060640"/>
                <a:ext cx="114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7667640" y="2781360"/>
                <a:ext cx="102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8532720" y="2060640"/>
                <a:ext cx="393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3419640" y="3284640"/>
                <a:ext cx="7254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6084720" y="3284640"/>
                <a:ext cx="72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6:43Z</dcterms:modified>
  <cp:revision>325</cp:revision>
  <dc:subject/>
  <dc:title>FCE</dc:title>
</cp:coreProperties>
</file>