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AC2F-6879-4049-8A78-10E647EC76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11D4-B582-4B46-B957-3AC6DA888F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9797-11A9-4257-8351-C73212776E7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C08A-7E3C-4B99-8F51-30CCC02BA4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C1D0-BA1D-4275-A604-C1B522DC606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8F8-772F-4E4B-BADB-5E85AA94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890-D09B-437F-9261-CCA8DA0D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465-51AE-40A7-87EB-A2609AB7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8B2-3CC5-4F5F-870B-1548A3AB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4BD6-B2DE-41D7-A3B3-43E6F86B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EF04-6558-40D5-953B-C7E43CD8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E337-7786-4CA1-B651-E51D0A78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8A84-928E-4318-A12C-0DEE3ED4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09E0-2887-4794-ADA6-C8AF9BBB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9D1F-3082-46CF-8E7B-36CCFAF8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7BF9-9359-4E36-9CAA-D683B7E9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003-6182-4557-B39D-A4313AD2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5916-F25F-485F-A4ED-A7B6238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A1C7-CF30-4985-878A-FDC72A4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1ECC-31A5-4DBF-BE75-11343C69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846C-436C-4608-91F2-BA083198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B13F-3245-461D-BC1F-6FD6704B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B73-E3ED-4C43-8B77-0B6C7E4F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559-3E1E-4526-A128-ECF85AF0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5A5-5669-4505-8534-23BAB239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2A3-1A10-468E-84B1-56F024BD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D84-1DE2-4E1C-8F29-117DC3BD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089-19E6-49DE-88DB-FC15FAA8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753-1E5B-49C7-82C7-B87DA6D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0374-9630-4C12-BDE3-BB16444B8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1573-E65B-4B81-8562-83B85AE45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66680" y="260280"/>
                <a:ext cx="238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619280" y="1413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GP lze vyjádřit pomocí prvního a kvocie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5821200" y="1447920"/>
                <a:ext cx="2448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5819760" y="5877000"/>
                <a:ext cx="3032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619280" y="1413000"/>
                <a:ext cx="26859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619280" y="278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1619280" y="2852640"/>
                <a:ext cx="26845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619280" y="422100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292720" y="2997360"/>
            <a:ext cx="385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vnice vydělí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26654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292720" y="3500280"/>
            <a:ext cx="385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ejné výrazy krátíme, zvlášť levou, zvlášť pravou stra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7"/>
              <p:cNvSpPr txBox="1"/>
              <p:nvPr/>
            </p:nvSpPr>
            <p:spPr>
              <a:xfrm>
                <a:off x="3132000" y="4292640"/>
                <a:ext cx="1079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3205080" y="5518080"/>
                <a:ext cx="947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5854680" y="2852640"/>
                <a:ext cx="2124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7"/>
              <p:cNvSpPr txBox="1"/>
              <p:nvPr/>
            </p:nvSpPr>
            <p:spPr>
              <a:xfrm>
                <a:off x="6659640" y="3500280"/>
                <a:ext cx="130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7059600" y="4076640"/>
                <a:ext cx="914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2989440" y="4436640"/>
            <a:ext cx="1439640" cy="86364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060360" y="4437000"/>
            <a:ext cx="1368360" cy="9367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321300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40360" y="3357720"/>
            <a:ext cx="1439640" cy="2232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332000" y="3789360"/>
                <a:ext cx="3773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7"/>
              <p:cNvSpPr txBox="1"/>
              <p:nvPr/>
            </p:nvSpPr>
            <p:spPr>
              <a:xfrm>
                <a:off x="826920" y="189000"/>
                <a:ext cx="2270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Line 5"/>
          <p:cNvSpPr/>
          <p:nvPr/>
        </p:nvSpPr>
        <p:spPr>
          <a:xfrm>
            <a:off x="1290600" y="12938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258920" y="1270080"/>
                <a:ext cx="26733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332000" y="2494080"/>
            <a:ext cx="259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332000" y="2565360"/>
                <a:ext cx="2549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332000" y="371808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5292720" y="2708280"/>
            <a:ext cx="3851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použijeme algebraický vzorec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4437000"/>
            <a:ext cx="381456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5364000" y="3213000"/>
                <a:ext cx="3600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332000" y="4941720"/>
            <a:ext cx="374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2843280" y="5013360"/>
                <a:ext cx="211752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V="1">
            <a:off x="3670200" y="5125680"/>
            <a:ext cx="1440000" cy="86364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741480" y="5126040"/>
            <a:ext cx="136836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2411280" y="6021360"/>
                <a:ext cx="2854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H="1" flipV="1">
            <a:off x="2700000" y="2997000"/>
            <a:ext cx="266364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5756400" y="5600880"/>
                <a:ext cx="33876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5580000" y="1844640"/>
                <a:ext cx="92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427640" y="2492280"/>
                <a:ext cx="2265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5003640" y="3068640"/>
                <a:ext cx="17179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5506920" y="3500280"/>
                <a:ext cx="889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5364000" y="260280"/>
                <a:ext cx="26100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5219640" y="836640"/>
                <a:ext cx="2427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945560" y="981000"/>
                <a:ext cx="1198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7380360" y="1846440"/>
                <a:ext cx="116676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6877080" y="2349360"/>
                <a:ext cx="2266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7020000" y="3284640"/>
                <a:ext cx="1655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7524720" y="4149720"/>
                <a:ext cx="1257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908000" y="256536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35280" y="3789360"/>
            <a:ext cx="24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7" idx="1"/>
            <a:endCxn id="308" idx="1"/>
          </p:cNvCxnSpPr>
          <p:nvPr/>
        </p:nvCxnSpPr>
        <p:spPr>
          <a:xfrm flipV="1" rot="10800000">
            <a:off x="1820160" y="2854080"/>
            <a:ext cx="73800" cy="1224720"/>
          </a:xfrm>
          <a:prstGeom prst="curvedConnector5">
            <a:avLst>
              <a:gd name="adj1" fmla="val 271568"/>
              <a:gd name="adj2" fmla="val 49985"/>
              <a:gd name="adj3" fmla="val 271568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543564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8036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24360" y="2852640"/>
            <a:ext cx="5032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900000" y="260280"/>
                <a:ext cx="360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Line 5"/>
          <p:cNvSpPr/>
          <p:nvPr/>
        </p:nvSpPr>
        <p:spPr>
          <a:xfrm>
            <a:off x="1620720" y="141300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716360" y="6095880"/>
                <a:ext cx="3687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1620720" y="1413000"/>
                <a:ext cx="4289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547640" y="2708280"/>
            <a:ext cx="4321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7"/>
              <p:cNvSpPr txBox="1"/>
              <p:nvPr/>
            </p:nvSpPr>
            <p:spPr>
              <a:xfrm>
                <a:off x="1620720" y="2781360"/>
                <a:ext cx="37990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547640" y="4076640"/>
            <a:ext cx="388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429000"/>
            <a:ext cx="36716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2700360" y="4149720"/>
                <a:ext cx="121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4716360" y="4221000"/>
                <a:ext cx="442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6723000" y="4869000"/>
                <a:ext cx="2421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7805880" y="5445000"/>
                <a:ext cx="1338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7"/>
              <p:cNvSpPr txBox="1"/>
              <p:nvPr/>
            </p:nvSpPr>
            <p:spPr>
              <a:xfrm>
                <a:off x="2843280" y="5229360"/>
                <a:ext cx="1311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859280" y="400536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Object 7"/>
              <p:cNvSpPr txBox="1"/>
              <p:nvPr/>
            </p:nvSpPr>
            <p:spPr>
              <a:xfrm>
                <a:off x="1042920" y="260280"/>
                <a:ext cx="311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Line 5"/>
          <p:cNvSpPr/>
          <p:nvPr/>
        </p:nvSpPr>
        <p:spPr>
          <a:xfrm>
            <a:off x="1619280" y="141300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6227640" y="5877000"/>
                <a:ext cx="2738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547640" y="1413000"/>
                <a:ext cx="40910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1547640" y="2781360"/>
            <a:ext cx="410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547640" y="2852640"/>
                <a:ext cx="3405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547640" y="4221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500280"/>
            <a:ext cx="338472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3708360" y="4292640"/>
                <a:ext cx="11462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7308720" y="3573360"/>
                <a:ext cx="13082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7667640" y="4149720"/>
                <a:ext cx="94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80000" y="5373720"/>
                <a:ext cx="1014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24360" y="6165720"/>
                <a:ext cx="850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7"/>
              <p:cNvSpPr txBox="1"/>
              <p:nvPr/>
            </p:nvSpPr>
            <p:spPr>
              <a:xfrm>
                <a:off x="5943600" y="2852640"/>
                <a:ext cx="2649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321300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1187280" y="2133720"/>
            <a:ext cx="795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ozhodněte, zd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jsou členy jedné GP. Pokud ano, určete kvocient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4932360" y="2205000"/>
                <a:ext cx="3797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7"/>
              <p:cNvSpPr txBox="1"/>
              <p:nvPr/>
            </p:nvSpPr>
            <p:spPr>
              <a:xfrm>
                <a:off x="1547640" y="1281240"/>
                <a:ext cx="427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" name="Rectangle 3"/>
          <p:cNvSpPr/>
          <p:nvPr/>
        </p:nvSpPr>
        <p:spPr>
          <a:xfrm>
            <a:off x="5076720" y="189000"/>
            <a:ext cx="406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tvoří GP, musí být prostřední číslo geometrickým průměrem čísel krajníc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5508720" y="1628640"/>
                <a:ext cx="31687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1187280" y="5446800"/>
                <a:ext cx="1729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1187280" y="3139920"/>
                <a:ext cx="1629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619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2843280" y="3068640"/>
                <a:ext cx="3176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291636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4067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7"/>
              <p:cNvSpPr txBox="1"/>
              <p:nvPr/>
            </p:nvSpPr>
            <p:spPr>
              <a:xfrm>
                <a:off x="1187280" y="549360"/>
                <a:ext cx="3679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Rectangle 3"/>
          <p:cNvSpPr/>
          <p:nvPr/>
        </p:nvSpPr>
        <p:spPr>
          <a:xfrm>
            <a:off x="1116000" y="2637000"/>
            <a:ext cx="8028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a zadaná čísla jsou kladná, vynecháme ve vzorci A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6084720" y="3139920"/>
                <a:ext cx="1114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1116000" y="113652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7308720" y="3139920"/>
                <a:ext cx="12495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5292720" y="422100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2881440" y="5402160"/>
                <a:ext cx="15764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4537080" y="5402160"/>
                <a:ext cx="695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3097080" y="5473800"/>
                <a:ext cx="1484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5219640" y="5373720"/>
                <a:ext cx="2343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q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1763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2843280" y="1281240"/>
                <a:ext cx="500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3995640" y="1281240"/>
                <a:ext cx="462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05928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11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7"/>
              <p:cNvSpPr txBox="1"/>
              <p:nvPr/>
            </p:nvSpPr>
            <p:spPr>
              <a:xfrm>
                <a:off x="4284720" y="3581280"/>
                <a:ext cx="3024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3"/>
          <p:cNvSpPr/>
          <p:nvPr/>
        </p:nvSpPr>
        <p:spPr>
          <a:xfrm>
            <a:off x="1116000" y="494172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a kvocient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632720" cy="4699080"/>
        </p:xfrm>
        <a:graphic>
          <a:graphicData uri="http://schemas.openxmlformats.org/drawingml/2006/table">
            <a:tbl>
              <a:tblPr/>
              <a:tblGrid>
                <a:gridCol w="2808360"/>
                <a:gridCol w="48243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1319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13992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G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olikrát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4. pro GP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763640" y="13413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87280" y="18900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341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800360" y="2455920"/>
                <a:ext cx="215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195640" y="3141720"/>
                <a:ext cx="175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124000" y="3841920"/>
                <a:ext cx="164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106720" y="4489560"/>
                <a:ext cx="124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341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002280" y="2403360"/>
                <a:ext cx="2227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6012000" y="3068640"/>
                <a:ext cx="1936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6316560" y="3716280"/>
                <a:ext cx="2192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227640" y="5013360"/>
                <a:ext cx="1095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280200" y="4508640"/>
                <a:ext cx="1496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619280" y="5373720"/>
                <a:ext cx="3105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076720" y="189000"/>
                <a:ext cx="1836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19280" y="134136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52640" y="195120"/>
                <a:ext cx="1800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547640" y="148428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692360" y="2133720"/>
                <a:ext cx="149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835280" y="2637000"/>
                <a:ext cx="949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476360" y="3284640"/>
                <a:ext cx="1973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619280" y="4508640"/>
                <a:ext cx="14637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3640" y="3933720"/>
                <a:ext cx="1606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042920" y="6095880"/>
                <a:ext cx="328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651640" y="1341360"/>
            <a:ext cx="122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580000" y="1484280"/>
                <a:ext cx="1971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6012000" y="2133720"/>
                <a:ext cx="149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651640" y="2492280"/>
                <a:ext cx="1170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580000" y="3429000"/>
                <a:ext cx="2192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96000" y="5300640"/>
                <a:ext cx="277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724360" y="4149720"/>
                <a:ext cx="2519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4535640" y="6161040"/>
                <a:ext cx="4608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4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987640" y="4508640"/>
                <a:ext cx="85248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5"/>
          <p:cNvSpPr/>
          <p:nvPr/>
        </p:nvSpPr>
        <p:spPr>
          <a:xfrm>
            <a:off x="1538280" y="143208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971640" y="260280"/>
                <a:ext cx="17334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Rectangle 3"/>
          <p:cNvSpPr/>
          <p:nvPr/>
        </p:nvSpPr>
        <p:spPr>
          <a:xfrm>
            <a:off x="1114560" y="1484280"/>
            <a:ext cx="324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619280" y="314172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619280" y="3789360"/>
                <a:ext cx="1679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584360" y="4419720"/>
                <a:ext cx="1314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2419200"/>
                <a:ext cx="2229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7280" y="5877000"/>
                <a:ext cx="2740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924360" y="4437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835280" y="5157720"/>
                <a:ext cx="912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581360"/>
                <a:ext cx="4014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511280" y="517536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"/>
          <p:cNvSpPr/>
          <p:nvPr/>
        </p:nvSpPr>
        <p:spPr>
          <a:xfrm>
            <a:off x="2951280" y="4348080"/>
            <a:ext cx="1368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4508640"/>
            <a:ext cx="358560" cy="28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891040" y="1413000"/>
            <a:ext cx="1657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5316480" y="260280"/>
                <a:ext cx="2225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748480" y="198900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5477040" y="3357720"/>
                <a:ext cx="1790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459400" y="2708280"/>
                <a:ext cx="2117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748480" y="5877000"/>
                <a:ext cx="2922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819760" y="414972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8340840" y="3429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99" name="Rectangle 3"/>
          <p:cNvSpPr/>
          <p:nvPr/>
        </p:nvSpPr>
        <p:spPr>
          <a:xfrm>
            <a:off x="7332840" y="3286080"/>
            <a:ext cx="122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99400" y="3429000"/>
            <a:ext cx="43344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59400" y="35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18320" y="420372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5"/>
          <p:cNvSpPr/>
          <p:nvPr/>
        </p:nvSpPr>
        <p:spPr>
          <a:xfrm>
            <a:off x="1619280" y="141300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260280"/>
                <a:ext cx="173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547640" y="1773360"/>
                <a:ext cx="19735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828800" y="3286080"/>
                <a:ext cx="109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47640" y="2565360"/>
                <a:ext cx="2008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03280" y="5229360"/>
                <a:ext cx="33609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547640" y="407844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95928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Rectangle 3"/>
          <p:cNvSpPr/>
          <p:nvPr/>
        </p:nvSpPr>
        <p:spPr>
          <a:xfrm>
            <a:off x="2998800" y="3213000"/>
            <a:ext cx="122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sud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476360" y="342900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554120" y="404028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735520" y="141300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5076720" y="26028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5678640" y="1773360"/>
                <a:ext cx="1973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5318280" y="3141720"/>
                <a:ext cx="1498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715000" y="2565360"/>
                <a:ext cx="1935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1064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6831000" y="3284640"/>
            <a:ext cx="122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sudý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064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8280" y="3500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607000" y="414972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533920" y="5157720"/>
            <a:ext cx="3610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1042920" y="260280"/>
                <a:ext cx="2978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692360" y="836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1908000" y="2565360"/>
                <a:ext cx="1899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908000" y="3284640"/>
                <a:ext cx="1862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2050920" y="3860640"/>
                <a:ext cx="11318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940360" y="1844640"/>
                <a:ext cx="2228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940360" y="2565360"/>
                <a:ext cx="1790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6012000" y="3141720"/>
                <a:ext cx="17539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796000" y="4149720"/>
                <a:ext cx="1387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435640" y="5373720"/>
                <a:ext cx="32130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835280" y="1844640"/>
                <a:ext cx="2265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2050920" y="4869000"/>
                <a:ext cx="10224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5"/>
          <p:cNvSpPr/>
          <p:nvPr/>
        </p:nvSpPr>
        <p:spPr>
          <a:xfrm>
            <a:off x="1403280" y="9079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971640" y="404640"/>
                <a:ext cx="2682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1413000"/>
                <a:ext cx="17794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332000" y="2205000"/>
                <a:ext cx="1814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1258920" y="2852640"/>
                <a:ext cx="13795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Line 5"/>
          <p:cNvSpPr/>
          <p:nvPr/>
        </p:nvSpPr>
        <p:spPr>
          <a:xfrm>
            <a:off x="4930920" y="90792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4427640" y="404640"/>
                <a:ext cx="3103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4932360" y="981000"/>
                <a:ext cx="1781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4932360" y="1714680"/>
                <a:ext cx="2106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4807080" y="2205000"/>
                <a:ext cx="1296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6804000" y="2421000"/>
                <a:ext cx="1816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6516720" y="4870440"/>
                <a:ext cx="1582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6657840" y="2997360"/>
                <a:ext cx="24861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4932360" y="5516640"/>
                <a:ext cx="34304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4807080" y="3070080"/>
                <a:ext cx="1152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3"/>
          <p:cNvSpPr/>
          <p:nvPr/>
        </p:nvSpPr>
        <p:spPr>
          <a:xfrm>
            <a:off x="1403280" y="386064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114560" y="5373720"/>
            <a:ext cx="345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516720" y="3933720"/>
                <a:ext cx="20559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03Z</dcterms:modified>
  <cp:revision>324</cp:revision>
  <dc:subject/>
  <dc:title>Posloupnosti</dc:title>
</cp:coreProperties>
</file>