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C4A2-264C-494E-9C8F-FED275F4BA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8FA-EA3F-42C0-A991-11BEF06033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EFD-FE12-45AD-BF18-20ACBB36EE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BC1E-ACA6-4CA6-9670-F72155EFB5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451E-619D-4F38-8FC1-665FF37AFB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CA6-9809-4E6D-83F7-3FF90474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B5D-48E0-406F-A702-548C90A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C30-6F04-4367-9399-E8352062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8AA-2B43-4101-9A24-16984A3F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786-A8DE-4BEB-A6F2-FB69E2C6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136-EA77-4A6A-BCC7-7243BEC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036F-AD75-496B-AD1F-56890E1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CA65-87CB-4301-AA89-D129CAF9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FD69-A120-48B1-9428-9D1E5B01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6738-FCCE-463C-B4B1-BC589CEE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448B-2B8D-4342-8411-F944074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10A-9C77-41E2-9D70-0C2F3DC4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618-4594-4B54-8AC0-356718B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0E8-14EA-4EC8-9862-E885C99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A6B9-12D5-4784-83BD-101E85F0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B80-F843-4726-846C-1C0A7341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B42E-7322-4F76-82B0-F1E84C65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26A-05FE-4D9F-91D8-8E00B75D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0B5-8765-456A-825E-6B5C095B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382-4B6E-49DB-8FFB-971707E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F45-85FA-4AFE-A546-4AE977C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07F-631D-4529-8372-723DBF1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14E-6939-47AF-91C1-96AA60B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8D4-EE43-4623-A2E2-64A8BDD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809-B126-496F-917F-82C9120B0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9C42-C21B-48BC-A09B-B9FA6C53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16000" y="765000"/>
                <a:ext cx="301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116000" y="2349360"/>
                <a:ext cx="2949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565600" y="779400"/>
                <a:ext cx="2454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203640" y="2997360"/>
                <a:ext cx="5657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1116000" y="4365720"/>
                <a:ext cx="3144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206880" y="5300640"/>
                <a:ext cx="5476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03280" y="1052640"/>
                <a:ext cx="4129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057480" y="2852640"/>
                <a:ext cx="5765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7164360" y="1341360"/>
                <a:ext cx="1636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1403280" y="2276640"/>
                <a:ext cx="4162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4140360" y="4365720"/>
                <a:ext cx="4698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03280" y="3789360"/>
                <a:ext cx="432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635280" y="5877000"/>
                <a:ext cx="519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403280" y="5300640"/>
                <a:ext cx="4394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hledané členu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8728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4. vzorce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35640" y="1413000"/>
            <a:ext cx="21600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41300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1413000"/>
            <a:ext cx="21456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059280" y="260280"/>
            <a:ext cx="608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bude platit aritmetický průměr pro pořadí členů, musí platit také pro hodnoty členů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403280" y="3500280"/>
                <a:ext cx="2538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436572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403280" y="5229360"/>
                <a:ext cx="201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419640" y="5445000"/>
                <a:ext cx="680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1258920" y="6181560"/>
            <a:ext cx="7885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náctý člen dané AP má hodnotu 31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292720" y="1989000"/>
                <a:ext cx="1146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4" idx="2"/>
            <a:endCxn id="250" idx="1"/>
          </p:cNvCxnSpPr>
          <p:nvPr/>
        </p:nvCxnSpPr>
        <p:spPr>
          <a:xfrm rot="5400000">
            <a:off x="5193720" y="1855800"/>
            <a:ext cx="505440" cy="194400"/>
          </a:xfrm>
          <a:prstGeom prst="curvedConnector5">
            <a:avLst>
              <a:gd name="adj1" fmla="val 28296"/>
              <a:gd name="adj2" fmla="val 105194"/>
              <a:gd name="adj3" fmla="val 2829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2"/>
            <a:endCxn id="250" idx="3"/>
          </p:cNvCxnSpPr>
          <p:nvPr/>
        </p:nvCxnSpPr>
        <p:spPr>
          <a:xfrm rot="5400000">
            <a:off x="6378480" y="1707120"/>
            <a:ext cx="50544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6" idx="2"/>
            <a:endCxn id="251" idx="0"/>
          </p:cNvCxnSpPr>
          <p:nvPr/>
        </p:nvCxnSpPr>
        <p:spPr>
          <a:xfrm flipH="1" rot="16200000">
            <a:off x="6271200" y="1621080"/>
            <a:ext cx="562680" cy="720000"/>
          </a:xfrm>
          <a:prstGeom prst="curvedConnector5">
            <a:avLst>
              <a:gd name="adj1" fmla="val 25416"/>
              <a:gd name="adj2" fmla="val 49974"/>
              <a:gd name="adj3" fmla="val 2541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332000" y="3573360"/>
                <a:ext cx="2104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332000" y="443700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3635280" y="4653000"/>
                <a:ext cx="773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258920" y="5734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náctý člen dané AP má hodnotu 3,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5369040" y="1989000"/>
                <a:ext cx="992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5" idx="2"/>
            <a:endCxn id="269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2"/>
            <a:endCxn id="269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7" idx="2"/>
            <a:endCxn id="270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4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276880" y="1989000"/>
                <a:ext cx="117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258920" y="285264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 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85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6" idx="2"/>
            <a:endCxn id="285" idx="3"/>
          </p:cNvCxnSpPr>
          <p:nvPr/>
        </p:nvCxnSpPr>
        <p:spPr>
          <a:xfrm rot="5400000">
            <a:off x="6306480" y="1634760"/>
            <a:ext cx="64980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7" idx="2"/>
            <a:endCxn id="286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0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řicátý člen dané AP má hodnotu 15,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76360" y="35002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692360" y="4149720"/>
                <a:ext cx="2336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92360" y="4654440"/>
                <a:ext cx="153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20720" y="523080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8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5364000" y="3500280"/>
                <a:ext cx="252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435640" y="4076640"/>
                <a:ext cx="2739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35640" y="4581360"/>
                <a:ext cx="255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5435640" y="5157720"/>
                <a:ext cx="1716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332000" y="3429000"/>
                <a:ext cx="2136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5867280" y="5013360"/>
                <a:ext cx="225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099280" y="5013360"/>
                <a:ext cx="68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cátý člen dané AP má hodnotu 1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5354640" y="1989000"/>
                <a:ext cx="1022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0" idx="2"/>
            <a:endCxn id="314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1" idx="2"/>
            <a:endCxn id="314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2" idx="2"/>
            <a:endCxn id="315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19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3933720"/>
            <a:ext cx="1297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5651640" y="3716280"/>
                <a:ext cx="2198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59280" y="4221000"/>
                <a:ext cx="24145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067280" y="3500280"/>
                <a:ext cx="433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042920" y="549360"/>
                <a:ext cx="429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5003640" y="907920"/>
                <a:ext cx="3451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971640" y="1844640"/>
                <a:ext cx="4160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003640" y="2421000"/>
                <a:ext cx="3164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1042920" y="364500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4756320" y="4186080"/>
                <a:ext cx="2950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042920" y="4869000"/>
                <a:ext cx="4651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5003640" y="5516640"/>
                <a:ext cx="3557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187280" y="333360"/>
                <a:ext cx="386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5219640" y="112536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1116000" y="1844640"/>
                <a:ext cx="4095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076400" y="3643200"/>
                <a:ext cx="40273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202360" y="4221000"/>
                <a:ext cx="2562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1187280" y="5084640"/>
                <a:ext cx="403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5219640" y="2421000"/>
                <a:ext cx="3059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5219640" y="5734080"/>
                <a:ext cx="3237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padesát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87280" y="189000"/>
                <a:ext cx="1768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692360" y="1339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2276640"/>
                <a:ext cx="288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01640" y="3571920"/>
                <a:ext cx="3202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713560" y="278136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580000" y="3429000"/>
                <a:ext cx="2594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80000" y="4005360"/>
                <a:ext cx="31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580000" y="4581360"/>
                <a:ext cx="284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580000" y="5157720"/>
                <a:ext cx="2009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601640" y="4579920"/>
                <a:ext cx="3557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19280" y="5229360"/>
                <a:ext cx="2490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619280" y="5877000"/>
                <a:ext cx="2241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2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3787920"/>
            <a:ext cx="64944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1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1640" y="4365720"/>
            <a:ext cx="107964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1268280"/>
            <a:ext cx="374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5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219640" y="126828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 součtu potřebujeme první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ed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42920" y="333360"/>
                <a:ext cx="1540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>
            <a:off x="1619280" y="148428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598760" y="3772080"/>
                <a:ext cx="31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5797440" y="3770280"/>
                <a:ext cx="2521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796000" y="4508640"/>
                <a:ext cx="3106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775480" y="5159520"/>
                <a:ext cx="22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738760" y="5807160"/>
                <a:ext cx="1754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598760" y="4543560"/>
                <a:ext cx="3416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46200" y="5192640"/>
                <a:ext cx="2595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509840" y="5894280"/>
                <a:ext cx="188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0" name="Rectangle 3"/>
          <p:cNvSpPr/>
          <p:nvPr/>
        </p:nvSpPr>
        <p:spPr>
          <a:xfrm>
            <a:off x="3780000" y="189000"/>
            <a:ext cx="53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musíme určit samotnou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852720" y="1035000"/>
                <a:ext cx="2192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159080" y="1717560"/>
                <a:ext cx="1679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851280" y="2133720"/>
                <a:ext cx="146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924360" y="2565360"/>
                <a:ext cx="120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6732720" y="1052640"/>
                <a:ext cx="2154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7021440" y="1700280"/>
                <a:ext cx="1606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877080" y="2133720"/>
                <a:ext cx="1168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116000" y="549360"/>
                <a:ext cx="2784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116000" y="2349360"/>
                <a:ext cx="3341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6000" y="549360"/>
                <a:ext cx="199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19640" y="2997360"/>
                <a:ext cx="5549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116000" y="4365720"/>
                <a:ext cx="3243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02000" y="5300640"/>
                <a:ext cx="5086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sto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42920" y="260280"/>
                <a:ext cx="1865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5"/>
          <p:cNvSpPr/>
          <p:nvPr/>
        </p:nvSpPr>
        <p:spPr>
          <a:xfrm>
            <a:off x="1808280" y="13572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19280" y="1484280"/>
                <a:ext cx="2739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384200" y="2779560"/>
                <a:ext cx="359424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796000" y="1700280"/>
                <a:ext cx="3105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234936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580000" y="2924280"/>
                <a:ext cx="3362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5580000" y="35002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580000" y="4076640"/>
                <a:ext cx="2082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380960" y="3859200"/>
                <a:ext cx="3808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403280" y="4581360"/>
                <a:ext cx="2881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403280" y="5373720"/>
                <a:ext cx="2455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21280" y="2960640"/>
            <a:ext cx="71892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580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88000" y="3499920"/>
            <a:ext cx="79200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1042920" y="260280"/>
                <a:ext cx="19303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47640" y="306864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5799240" y="3067200"/>
                <a:ext cx="262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818320" y="3840120"/>
                <a:ext cx="28494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5781600" y="449100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729400" y="5138640"/>
                <a:ext cx="1827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09840" y="3840120"/>
                <a:ext cx="3416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55840" y="4489560"/>
                <a:ext cx="231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38200" y="5191200"/>
                <a:ext cx="2027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635280" y="260280"/>
                <a:ext cx="233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11680" y="942840"/>
                <a:ext cx="208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851280" y="1519200"/>
                <a:ext cx="131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975120" y="2095560"/>
                <a:ext cx="985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697800" y="241200"/>
                <a:ext cx="2190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856560" y="942840"/>
                <a:ext cx="1971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659640" y="1519200"/>
                <a:ext cx="135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52Z</dcterms:modified>
  <cp:revision>321</cp:revision>
  <dc:subject/>
  <dc:title>Posloupnosti</dc:title>
</cp:coreProperties>
</file>