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894F-E663-4D5E-BF4C-EB062F0B4C0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E7CE-7C42-4092-8DAB-741792872AD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97D4-D091-435D-99D9-B1BDB3E2712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72F2-6F4D-43D9-89F9-8852915738C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17FD-9F73-41D4-AF2E-F75918C8FCB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4021-E3AC-41AF-BF1A-4B60AC306FA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7CB1-53CF-4C21-B149-0E6BFF284AC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EE3B-FDD5-4FFF-8BEF-896969A26E5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DD86-3E93-455B-B084-F2CF0B4733E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160A-C02E-43A9-AF18-4054708B856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77D7-7D6E-4B60-8E72-D41DEACC364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96E6-B9B0-494D-B587-35AA384865E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4A15-5A9A-4648-A5FF-C4C03DC89CA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D262-FF9A-4D1D-9950-94E873C7915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úročený vklad + 2. zúročený vklad + ... + poslední zúročený vkl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4C3F-4340-4785-B50E-9B290A335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C449-2531-4539-80F2-C03502C7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7146-07B5-42F8-B4C1-0E2899C0E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CD36-413F-4591-80E1-5C8987021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37A7-6B1B-4B38-A094-B957C78C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79C8-DE6E-4C69-AFA5-33582B65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E73C-EDEA-4FB7-9D07-3F3124A2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BA52-5CAC-492C-8161-C8152D2E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2C6E-7403-4DB5-8868-82C9F8B0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70F2-5F90-4F67-9EA1-F2C9490B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2F3E-3B7C-4AB2-A1D4-FB0B4303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ACFA-E7E4-4C6E-BA1F-4D33B816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522F-EDCF-49CA-A518-3D9C630FED6F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ecff"/>
                </a:solidFill>
                <a:latin typeface="Times New Roman"/>
              </a:rPr>
              <a:t>UMOŘOVÁNÍ DLUHU</a:t>
            </a:r>
            <a:endParaRPr b="0" lang="en-US" sz="8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788000" y="4572000"/>
            <a:ext cx="4356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Užití GP v praxi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187280" y="1628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Ze základního vzorce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který vyjadřuje velikost dluhu, jenž můžeme za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let umořit,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odvodíme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obecné vztahy pro výpočet velikostí veličin: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901800" indent="-444600">
              <a:lnSpc>
                <a:spcPct val="120000"/>
              </a:lnSpc>
              <a:spcBef>
                <a:spcPts val="20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oční splátka, anuita, </a:t>
            </a: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901800" indent="-444600">
              <a:lnSpc>
                <a:spcPct val="120000"/>
              </a:lnSpc>
              <a:spcBef>
                <a:spcPts val="20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čet let, po které dluh splácíme, </a:t>
            </a: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VZORC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1476360" y="189000"/>
            <a:ext cx="12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 = 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97080" y="979560"/>
            <a:ext cx="360360" cy="358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23"/>
              <p:cNvSpPr txBox="1"/>
              <p:nvPr/>
            </p:nvSpPr>
            <p:spPr>
              <a:xfrm>
                <a:off x="4788000" y="2276640"/>
                <a:ext cx="6332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1258920" y="765000"/>
            <a:ext cx="788508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843280" y="4365720"/>
                <a:ext cx="328608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23"/>
              <p:cNvSpPr txBox="1"/>
              <p:nvPr/>
            </p:nvSpPr>
            <p:spPr>
              <a:xfrm>
                <a:off x="4716360" y="3068640"/>
                <a:ext cx="12384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30"/>
              <p:cNvSpPr txBox="1"/>
              <p:nvPr/>
            </p:nvSpPr>
            <p:spPr>
              <a:xfrm>
                <a:off x="1476360" y="836640"/>
                <a:ext cx="21607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30"/>
              <p:cNvSpPr txBox="1"/>
              <p:nvPr/>
            </p:nvSpPr>
            <p:spPr>
              <a:xfrm>
                <a:off x="1835280" y="1989000"/>
                <a:ext cx="216036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30"/>
              <p:cNvSpPr txBox="1"/>
              <p:nvPr/>
            </p:nvSpPr>
            <p:spPr>
              <a:xfrm>
                <a:off x="2050920" y="2997360"/>
                <a:ext cx="24037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3618360" y="1125360"/>
            <a:ext cx="553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trany nejprve zaměníme pro lepší orientac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23"/>
              <p:cNvSpPr txBox="1"/>
              <p:nvPr/>
            </p:nvSpPr>
            <p:spPr>
              <a:xfrm>
                <a:off x="4716360" y="3141720"/>
                <a:ext cx="11271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5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1" name="Object 7"/>
              <p:cNvSpPr txBox="1"/>
              <p:nvPr/>
            </p:nvSpPr>
            <p:spPr>
              <a:xfrm>
                <a:off x="1187280" y="765000"/>
                <a:ext cx="1872000" cy="8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Rectangle 3"/>
          <p:cNvSpPr/>
          <p:nvPr/>
        </p:nvSpPr>
        <p:spPr>
          <a:xfrm>
            <a:off x="1403280" y="189000"/>
            <a:ext cx="12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 = 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11280" y="836640"/>
            <a:ext cx="216000" cy="2174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17440"/>
              <a:gd name="textAreaBottom" fmla="*/ 207000 h 217440"/>
            </a:gdLst>
            <a:ahLst/>
            <a:rect l="textAreaLeft" t="textAreaTop" r="textAreaRight" b="textAreaBottom"/>
            <a:pathLst>
              <a:path w="21600" h="21744">
                <a:moveTo>
                  <a:pt x="3600" y="0"/>
                </a:moveTo>
                <a:arcTo wR="3600" hR="3600" stAng="16200000" swAng="-5400000"/>
                <a:lnTo>
                  <a:pt x="0" y="18144"/>
                </a:lnTo>
                <a:arcTo wR="3600" hR="3600" stAng="10800000" swAng="-5400000"/>
                <a:lnTo>
                  <a:pt x="18000" y="217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58920" y="692280"/>
            <a:ext cx="788508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508720" y="4437000"/>
                <a:ext cx="346212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⋅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</m:d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1908000" y="1268280"/>
            <a:ext cx="216000" cy="21780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17800"/>
              <a:gd name="textAreaBottom" fmla="*/ 207360 h 217800"/>
            </a:gdLst>
            <a:ahLst/>
            <a:rect l="textAreaLeft" t="textAreaTop" r="textAreaRight" b="textAreaBottom"/>
            <a:pathLst>
              <a:path w="21600" h="21780">
                <a:moveTo>
                  <a:pt x="3600" y="0"/>
                </a:moveTo>
                <a:arcTo wR="3600" hR="3600" stAng="16200000" swAng="-5400000"/>
                <a:lnTo>
                  <a:pt x="0" y="18180"/>
                </a:lnTo>
                <a:arcTo wR="3600" hR="3600" stAng="10800000" swAng="-5400000"/>
                <a:lnTo>
                  <a:pt x="18000" y="217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7"/>
              <p:cNvSpPr txBox="1"/>
              <p:nvPr/>
            </p:nvSpPr>
            <p:spPr>
              <a:xfrm>
                <a:off x="1187280" y="1700280"/>
                <a:ext cx="21085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7"/>
              <p:cNvSpPr txBox="1"/>
              <p:nvPr/>
            </p:nvSpPr>
            <p:spPr>
              <a:xfrm>
                <a:off x="1260360" y="2565360"/>
                <a:ext cx="239724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3276720" y="3009960"/>
            <a:ext cx="217440" cy="290520"/>
          </a:xfrm>
          <a:custGeom>
            <a:avLst/>
            <a:gdLst>
              <a:gd name="textAreaLeft" fmla="*/ 10440 w 217440"/>
              <a:gd name="textAreaRight" fmla="*/ 207000 w 217440"/>
              <a:gd name="textAreaTop" fmla="*/ 10440 h 290520"/>
              <a:gd name="textAreaBottom" fmla="*/ 280080 h 290520"/>
            </a:gdLst>
            <a:ahLst/>
            <a:rect l="textAreaLeft" t="textAreaTop" r="textAreaRight" b="textAreaBottom"/>
            <a:pathLst>
              <a:path w="21600" h="28848">
                <a:moveTo>
                  <a:pt x="3600" y="0"/>
                </a:moveTo>
                <a:arcTo wR="3600" hR="3600" stAng="16200000" swAng="-5400000"/>
                <a:lnTo>
                  <a:pt x="0" y="25248"/>
                </a:lnTo>
                <a:arcTo wR="3600" hR="3600" stAng="10800000" swAng="-5400000"/>
                <a:lnTo>
                  <a:pt x="18000" y="288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7"/>
              <p:cNvSpPr txBox="1"/>
              <p:nvPr/>
            </p:nvSpPr>
            <p:spPr>
              <a:xfrm>
                <a:off x="1332000" y="3500280"/>
                <a:ext cx="23968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2700360" y="1771560"/>
            <a:ext cx="216000" cy="2174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17440"/>
              <a:gd name="textAreaBottom" fmla="*/ 207000 h 217440"/>
            </a:gdLst>
            <a:ahLst/>
            <a:rect l="textAreaLeft" t="textAreaTop" r="textAreaRight" b="textAreaBottom"/>
            <a:pathLst>
              <a:path w="21600" h="21744">
                <a:moveTo>
                  <a:pt x="3600" y="0"/>
                </a:moveTo>
                <a:arcTo wR="3600" hR="3600" stAng="16200000" swAng="-5400000"/>
                <a:lnTo>
                  <a:pt x="0" y="18144"/>
                </a:lnTo>
                <a:arcTo wR="3600" hR="3600" stAng="10800000" swAng="-5400000"/>
                <a:lnTo>
                  <a:pt x="18000" y="217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44720" y="2203560"/>
            <a:ext cx="216000" cy="2174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17440"/>
              <a:gd name="textAreaBottom" fmla="*/ 207000 h 217440"/>
            </a:gdLst>
            <a:ahLst/>
            <a:rect l="textAreaLeft" t="textAreaTop" r="textAreaRight" b="textAreaBottom"/>
            <a:pathLst>
              <a:path w="21600" h="21744">
                <a:moveTo>
                  <a:pt x="3600" y="0"/>
                </a:moveTo>
                <a:arcTo wR="3600" hR="3600" stAng="16200000" swAng="-5400000"/>
                <a:lnTo>
                  <a:pt x="0" y="18144"/>
                </a:lnTo>
                <a:arcTo wR="3600" hR="3600" stAng="10800000" swAng="-5400000"/>
                <a:lnTo>
                  <a:pt x="18000" y="217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23"/>
              <p:cNvSpPr txBox="1"/>
              <p:nvPr/>
            </p:nvSpPr>
            <p:spPr>
              <a:xfrm>
                <a:off x="3851280" y="3573360"/>
                <a:ext cx="8748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7"/>
              <p:cNvSpPr txBox="1"/>
              <p:nvPr/>
            </p:nvSpPr>
            <p:spPr>
              <a:xfrm>
                <a:off x="2340000" y="4437000"/>
                <a:ext cx="210816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7"/>
              <p:cNvSpPr txBox="1"/>
              <p:nvPr/>
            </p:nvSpPr>
            <p:spPr>
              <a:xfrm>
                <a:off x="1692360" y="5229360"/>
                <a:ext cx="210816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7"/>
              <p:cNvSpPr txBox="1"/>
              <p:nvPr/>
            </p:nvSpPr>
            <p:spPr>
              <a:xfrm>
                <a:off x="5148360" y="765000"/>
                <a:ext cx="234468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1025280" y="5950080"/>
            <a:ext cx="660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hledáme převrácenou hodnotu pravé strany </a:t>
            </a:r>
            <a:r>
              <a:rPr b="0" lang="en-US" sz="2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je vhodné mít levou stranu také ve tvaru jednoduchého zlomk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7"/>
              <p:cNvSpPr txBox="1"/>
              <p:nvPr/>
            </p:nvSpPr>
            <p:spPr>
              <a:xfrm>
                <a:off x="6443640" y="1557360"/>
                <a:ext cx="22924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7"/>
              <p:cNvSpPr txBox="1"/>
              <p:nvPr/>
            </p:nvSpPr>
            <p:spPr>
              <a:xfrm>
                <a:off x="5981760" y="2421000"/>
                <a:ext cx="31622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7"/>
              <p:cNvSpPr txBox="1"/>
              <p:nvPr/>
            </p:nvSpPr>
            <p:spPr>
              <a:xfrm>
                <a:off x="5797440" y="3357720"/>
                <a:ext cx="33465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23"/>
              <p:cNvSpPr txBox="1"/>
              <p:nvPr/>
            </p:nvSpPr>
            <p:spPr>
              <a:xfrm>
                <a:off x="3851280" y="3573360"/>
                <a:ext cx="8510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500"/>
                            </p:stCondLst>
                            <p:childTnLst>
                              <p:par>
                                <p:cTn id="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787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ŘEŠENÉ  PŘÍKLADY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802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1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aký dluh umořím za 7 let pravidelnými ročními anuitami 15 000,- Kč při 25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87896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7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15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25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30"/>
              <p:cNvSpPr txBox="1"/>
              <p:nvPr/>
            </p:nvSpPr>
            <p:spPr>
              <a:xfrm>
                <a:off x="1116000" y="5013360"/>
                <a:ext cx="236556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3457080" y="3571920"/>
            <a:ext cx="727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40720" y="3573360"/>
            <a:ext cx="11592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25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30"/>
              <p:cNvSpPr txBox="1"/>
              <p:nvPr/>
            </p:nvSpPr>
            <p:spPr>
              <a:xfrm>
                <a:off x="3421080" y="5013360"/>
                <a:ext cx="292428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30"/>
              <p:cNvSpPr txBox="1"/>
              <p:nvPr/>
            </p:nvSpPr>
            <p:spPr>
              <a:xfrm>
                <a:off x="6300720" y="5300640"/>
                <a:ext cx="21668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17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7802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2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Kolik musí činit každoroční anuity, abychom zaplatili dluh 90 000,- Kč za 10 let při 21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7896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90 000,- Kč</a:t>
            </a:r>
            <a:r>
              <a:rPr b="0" lang="en-US" sz="30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10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21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32"/>
              <p:cNvSpPr txBox="1"/>
              <p:nvPr/>
            </p:nvSpPr>
            <p:spPr>
              <a:xfrm>
                <a:off x="1042920" y="4581360"/>
                <a:ext cx="25192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1162440" y="5854680"/>
            <a:ext cx="7501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Všimněte si, že splátka je vždy větší než část, kterou si „bere“ banka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Symbol"/>
                <a:ea typeface="Symbol"/>
              </a:rPr>
              <a:t>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21 % z 90 000,- Kč, tzn.  </a:t>
            </a: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Symbol"/>
                <a:ea typeface="Symbol"/>
              </a:rPr>
              <a:t>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18 900,-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28360" y="3427560"/>
            <a:ext cx="727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12360" y="3429000"/>
            <a:ext cx="11592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21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32"/>
              <p:cNvSpPr txBox="1"/>
              <p:nvPr/>
            </p:nvSpPr>
            <p:spPr>
              <a:xfrm>
                <a:off x="3564000" y="4581360"/>
                <a:ext cx="3308400" cy="115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32"/>
              <p:cNvSpPr txBox="1"/>
              <p:nvPr/>
            </p:nvSpPr>
            <p:spPr>
              <a:xfrm>
                <a:off x="6804000" y="4869000"/>
                <a:ext cx="21607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00"/>
                            </p:stCondLst>
                            <p:childTnLst>
                              <p:par>
                                <p:cTn id="8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3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a jak dlouho umořím dluh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50 000,- Kč při 15 % p.a. pravidelnými ročními anuitami 9 000,- Kč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8789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50 000,- Kč</a:t>
            </a:r>
            <a:r>
              <a:rPr b="0" lang="en-US" sz="19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15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9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? 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00"/>
                </a:solidFill>
                <a:latin typeface="Times New Roman"/>
              </a:rPr>
              <a:t>!!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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15 % z 50 000,- Kč, tzn.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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7 5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16"/>
              <p:cNvSpPr txBox="1"/>
              <p:nvPr/>
            </p:nvSpPr>
            <p:spPr>
              <a:xfrm>
                <a:off x="1042920" y="5084640"/>
                <a:ext cx="293364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K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</m:d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3528360" y="2851200"/>
            <a:ext cx="727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12360" y="2852640"/>
            <a:ext cx="11592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15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16"/>
              <p:cNvSpPr txBox="1"/>
              <p:nvPr/>
            </p:nvSpPr>
            <p:spPr>
              <a:xfrm>
                <a:off x="3924360" y="5084640"/>
                <a:ext cx="374328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</m:num>
                              <m:den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9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00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00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d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16"/>
              <p:cNvSpPr txBox="1"/>
              <p:nvPr/>
            </p:nvSpPr>
            <p:spPr>
              <a:xfrm>
                <a:off x="7596360" y="5734080"/>
                <a:ext cx="15476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et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0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4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a jak dlouho umořím dluh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200 000,- Kč při 17 % p.a. pravidelnými ročními anuitami 30 000,- Kč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789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200 000,- Kč</a:t>
            </a:r>
            <a:r>
              <a:rPr b="0" lang="en-US" sz="19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17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30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? 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00"/>
                </a:solidFill>
                <a:latin typeface="Times New Roman"/>
              </a:rPr>
              <a:t>!!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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17 % z 200 000,- Kč, tzn.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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34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66680" y="5562720"/>
            <a:ext cx="7878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Za daných podmínek dluh nelze splatit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01440" y="2922480"/>
            <a:ext cx="727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85080" y="2924280"/>
            <a:ext cx="11592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17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0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7802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PŘÍKLADY  NA  PROCVIČENÍ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914400" y="609480"/>
            <a:ext cx="822960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buClr>
                <a:srgbClr val="ffff00"/>
              </a:buClr>
              <a:buSzPct val="8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aký dluh umořím za 20 let pravidelnými ročními anuitami 60 000,- Kč při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a) 17 % p.a.,  b) 12 % p.a.,  c) 7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10800"/>
              </a:spcBef>
              <a:buClr>
                <a:srgbClr val="ffff00"/>
              </a:buClr>
              <a:buSzPct val="8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olik musí činit každoroční anuity, abychom při 11 % p.a. zaplatili dluh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80 000,- Kč za a) 5 let, b) 7 let, c) 9 let?</a:t>
            </a:r>
            <a:r>
              <a:rPr b="0" lang="cs-CZ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2666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) 337 666,- Kč, b) 448 167,- Kč, c) 635 641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0" y="5791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) 48 703,- Kč, b) 38 199,- Kč, c) 32 508,- Kč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cecff"/>
                </a:solidFill>
                <a:uFillTx/>
                <a:latin typeface="Times New Roman"/>
              </a:rPr>
              <a:t>Nejjednodušší případ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, 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kterým se budeme zabývat v hodinách matematik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2640" y="2356920"/>
            <a:ext cx="800100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0" indent="-44280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plácení dluhu a z něho plynoucích úroků pravidelnými, stále stejně velkými částkami, po dobu několika úrokovacích období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914400" y="457200"/>
            <a:ext cx="822960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umořím dluh 500 000,- Kč při  8 % p.a. pravidelnými ročními anuitami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a) 50 000,- Kč, b) 70 000,- Kč, c) 100 000,- Kč?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10800"/>
              </a:spcBef>
              <a:buClr>
                <a:srgbClr val="ffff00"/>
              </a:buClr>
              <a:buSzPct val="80000"/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umořím dluh 100 000,- Kč pravidelnými ročními anuitami 15 000,- Kč při  a) 17 % p.a., b) 12 % p.a., c) 8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0" y="2421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) 20 let a 11 měsíců, b) 11 let, c) 6 let a 8 měsíců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0" y="551664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500" spc="-1" strike="noStrike">
                <a:solidFill>
                  <a:srgbClr val="ffff00"/>
                </a:solidFill>
                <a:latin typeface="Times New Roman"/>
              </a:rPr>
              <a:t>a) dluh nelze splatit, b) 14 let a 2 měsíce, c) 9 let a 11 měsíců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5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3, s. 78–8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Důležité pojmy: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285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73200" indent="-673200">
              <a:lnSpc>
                <a:spcPct val="10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dluh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10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roční splátka, anuita</a:t>
            </a: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10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ková míra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10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čitel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6920" y="259920"/>
            <a:ext cx="76518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Dluh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K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32000" y="852480"/>
            <a:ext cx="75564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44928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finanční hodnota, kterou musíme splatit (umořit) za 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úrokovacích obdobích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1187280" y="2060640"/>
            <a:ext cx="7651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Roční splátka, anuita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1332000" y="2624040"/>
            <a:ext cx="75564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44928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avidelně placená částka, vždy koncem úrokovacího obdob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187280" y="3860640"/>
            <a:ext cx="765180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roková míra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p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1332000" y="4354560"/>
            <a:ext cx="7556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44928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ýše odměny vyjádřená v procentech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1187280" y="5157720"/>
            <a:ext cx="7651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ročitel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4"/>
              <p:cNvSpPr txBox="1"/>
              <p:nvPr/>
            </p:nvSpPr>
            <p:spPr>
              <a:xfrm>
                <a:off x="2268360" y="5676840"/>
                <a:ext cx="194472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182880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Označení definovaných veličin odpovídá označení v MFCHT:</a:t>
            </a:r>
            <a:br>
              <a:rPr sz="3200"/>
            </a:b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trana 29, Vzorce finanční aritmetiky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6000" y="456840"/>
            <a:ext cx="802800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Ukázkový příklad: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Rectangle 22"/>
          <p:cNvSpPr/>
          <p:nvPr/>
        </p:nvSpPr>
        <p:spPr>
          <a:xfrm>
            <a:off x="1116000" y="1268280"/>
            <a:ext cx="80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 jak dlouho umoříme (splatíme) dluh 5 000,- Kč   při úročení 10 % p.a. ročními anuitami (splátkami)      1 150,- Kč placenými koncem roku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1116000" y="270828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Zápis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Rectangle 22"/>
          <p:cNvSpPr/>
          <p:nvPr/>
        </p:nvSpPr>
        <p:spPr>
          <a:xfrm>
            <a:off x="1187280" y="3429000"/>
            <a:ext cx="475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=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=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Rectangle 22"/>
          <p:cNvSpPr/>
          <p:nvPr/>
        </p:nvSpPr>
        <p:spPr>
          <a:xfrm>
            <a:off x="1979640" y="3429000"/>
            <a:ext cx="2521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5 000,- Kč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Rectangle 22"/>
          <p:cNvSpPr/>
          <p:nvPr/>
        </p:nvSpPr>
        <p:spPr>
          <a:xfrm>
            <a:off x="1979640" y="4005360"/>
            <a:ext cx="2521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0 % p.a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" name="Rectangle 22"/>
          <p:cNvSpPr/>
          <p:nvPr/>
        </p:nvSpPr>
        <p:spPr>
          <a:xfrm>
            <a:off x="1979640" y="4508640"/>
            <a:ext cx="2521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150,- Kč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3706920" y="4005360"/>
            <a:ext cx="2268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4" name="Rectangle 22"/>
          <p:cNvSpPr/>
          <p:nvPr/>
        </p:nvSpPr>
        <p:spPr>
          <a:xfrm>
            <a:off x="4500720" y="4005360"/>
            <a:ext cx="2268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1,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979640" y="5084640"/>
            <a:ext cx="2521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50920" y="262080"/>
          <a:ext cx="8785080" cy="863280"/>
        </p:xfrm>
        <a:graphic>
          <a:graphicData uri="http://schemas.openxmlformats.org/drawingml/2006/table">
            <a:tbl>
              <a:tblPr/>
              <a:tblGrid>
                <a:gridCol w="576000"/>
                <a:gridCol w="1224000"/>
                <a:gridCol w="1225800"/>
                <a:gridCol w="1224000"/>
                <a:gridCol w="3311280"/>
                <a:gridCol w="1224000"/>
              </a:tblGrid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250920" y="1125360"/>
          <a:ext cx="8785080" cy="863640"/>
        </p:xfrm>
        <a:graphic>
          <a:graphicData uri="http://schemas.openxmlformats.org/drawingml/2006/table">
            <a:tbl>
              <a:tblPr/>
              <a:tblGrid>
                <a:gridCol w="576000"/>
                <a:gridCol w="1224000"/>
                <a:gridCol w="1225800"/>
                <a:gridCol w="1224000"/>
                <a:gridCol w="3311280"/>
                <a:gridCol w="122400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250920" y="1989000"/>
          <a:ext cx="8785080" cy="863640"/>
        </p:xfrm>
        <a:graphic>
          <a:graphicData uri="http://schemas.openxmlformats.org/drawingml/2006/table">
            <a:tbl>
              <a:tblPr/>
              <a:tblGrid>
                <a:gridCol w="576000"/>
                <a:gridCol w="1224000"/>
                <a:gridCol w="1225800"/>
                <a:gridCol w="1224000"/>
                <a:gridCol w="3311280"/>
                <a:gridCol w="122400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50920" y="2852640"/>
          <a:ext cx="8785080" cy="865080"/>
        </p:xfrm>
        <a:graphic>
          <a:graphicData uri="http://schemas.openxmlformats.org/drawingml/2006/table">
            <a:tbl>
              <a:tblPr/>
              <a:tblGrid>
                <a:gridCol w="576000"/>
                <a:gridCol w="1224000"/>
                <a:gridCol w="1225800"/>
                <a:gridCol w="1224000"/>
                <a:gridCol w="3311280"/>
                <a:gridCol w="1224000"/>
              </a:tblGrid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250920" y="3718080"/>
          <a:ext cx="8785080" cy="863280"/>
        </p:xfrm>
        <a:graphic>
          <a:graphicData uri="http://schemas.openxmlformats.org/drawingml/2006/table">
            <a:tbl>
              <a:tblPr/>
              <a:tblGrid>
                <a:gridCol w="576000"/>
                <a:gridCol w="1224000"/>
                <a:gridCol w="1225800"/>
                <a:gridCol w="1224000"/>
                <a:gridCol w="3311280"/>
                <a:gridCol w="1224000"/>
              </a:tblGrid>
              <a:tr h="86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50920" y="4581360"/>
          <a:ext cx="8785080" cy="863640"/>
        </p:xfrm>
        <a:graphic>
          <a:graphicData uri="http://schemas.openxmlformats.org/drawingml/2006/table">
            <a:tbl>
              <a:tblPr/>
              <a:tblGrid>
                <a:gridCol w="576000"/>
                <a:gridCol w="1224000"/>
                <a:gridCol w="1225800"/>
                <a:gridCol w="1224000"/>
                <a:gridCol w="3311280"/>
                <a:gridCol w="122400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250920" y="5445000"/>
          <a:ext cx="8785080" cy="865080"/>
        </p:xfrm>
        <a:graphic>
          <a:graphicData uri="http://schemas.openxmlformats.org/drawingml/2006/table">
            <a:tbl>
              <a:tblPr/>
              <a:tblGrid>
                <a:gridCol w="576000"/>
                <a:gridCol w="1224000"/>
                <a:gridCol w="1225800"/>
                <a:gridCol w="1224000"/>
                <a:gridCol w="3311280"/>
                <a:gridCol w="1224000"/>
              </a:tblGrid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3276720" y="1268280"/>
            <a:ext cx="360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13413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.   5 00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64000" y="134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50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0920" y="13413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1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1341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6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1341360"/>
            <a:ext cx="11718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00720" y="1341360"/>
            <a:ext cx="1295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12000" y="134136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4 3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6237360"/>
            <a:ext cx="8172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Za daných podmínek umoříme dluh za necelých 6 let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22050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.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 3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50920" y="2205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1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64000" y="2205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35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2205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715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12000" y="215892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 635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2205000"/>
            <a:ext cx="11718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00720" y="2205000"/>
            <a:ext cx="1295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30700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.   3 635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50920" y="30672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1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64000" y="30672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64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3067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786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26920" y="3070080"/>
            <a:ext cx="1171800" cy="500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00720" y="3070080"/>
            <a:ext cx="1295280" cy="500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812000" y="30700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 849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39337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.  2 849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0920" y="39337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1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64000" y="3933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85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3933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865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12000" y="393372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984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3933720"/>
            <a:ext cx="11718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00720" y="3933720"/>
            <a:ext cx="1295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47973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5.   1 984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50920" y="47973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1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64000" y="4797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98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4797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952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90560" y="4797360"/>
            <a:ext cx="120492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00720" y="4797360"/>
            <a:ext cx="1295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812000" y="479736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032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56610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6.   1 032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0920" y="5661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1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64000" y="5661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03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5661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047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5661000"/>
            <a:ext cx="11718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00720" y="5661000"/>
            <a:ext cx="1295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812000" y="566244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5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27640" y="1270080"/>
            <a:ext cx="431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27640" y="2131920"/>
            <a:ext cx="431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27640" y="2995560"/>
            <a:ext cx="431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27640" y="378936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4726080"/>
            <a:ext cx="431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27640" y="5589720"/>
            <a:ext cx="431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24000" y="1341360"/>
            <a:ext cx="23241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24000" y="2205000"/>
            <a:ext cx="23241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2131920"/>
            <a:ext cx="360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24000" y="3067200"/>
            <a:ext cx="2324160" cy="502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994120"/>
            <a:ext cx="360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24000" y="3933720"/>
            <a:ext cx="23241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3860640"/>
            <a:ext cx="360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24000" y="4797360"/>
            <a:ext cx="23241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4724280"/>
            <a:ext cx="360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24000" y="5661000"/>
            <a:ext cx="23241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5587920"/>
            <a:ext cx="360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832880" y="1341360"/>
            <a:ext cx="1131840" cy="503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545"/>
              <p:cNvSpPr txBox="1"/>
              <p:nvPr/>
            </p:nvSpPr>
            <p:spPr>
              <a:xfrm>
                <a:off x="5867280" y="1989000"/>
                <a:ext cx="99216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50</m:t>
                        </m:r>
                      </m:num>
                      <m:den>
                        <m:sSup>
                          <m:e>
                            <m:r>
                              <m:t xml:space="preserve">1,1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545"/>
              <p:cNvSpPr txBox="1"/>
              <p:nvPr/>
            </p:nvSpPr>
            <p:spPr>
              <a:xfrm>
                <a:off x="5867280" y="1125360"/>
                <a:ext cx="99216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50</m:t>
                        </m:r>
                      </m:num>
                      <m:den>
                        <m:sSup>
                          <m:e>
                            <m:r>
                              <m:t xml:space="preserve">1,1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545"/>
              <p:cNvSpPr txBox="1"/>
              <p:nvPr/>
            </p:nvSpPr>
            <p:spPr>
              <a:xfrm>
                <a:off x="5867280" y="2851200"/>
                <a:ext cx="99216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50</m:t>
                        </m:r>
                      </m:num>
                      <m:den>
                        <m:sSup>
                          <m:e>
                            <m:r>
                              <m:t xml:space="preserve">1,1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545"/>
              <p:cNvSpPr txBox="1"/>
              <p:nvPr/>
            </p:nvSpPr>
            <p:spPr>
              <a:xfrm>
                <a:off x="5867280" y="3718080"/>
                <a:ext cx="99216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50</m:t>
                        </m:r>
                      </m:num>
                      <m:den>
                        <m:sSup>
                          <m:e>
                            <m:r>
                              <m:t xml:space="preserve">1,1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545"/>
              <p:cNvSpPr txBox="1"/>
              <p:nvPr/>
            </p:nvSpPr>
            <p:spPr>
              <a:xfrm>
                <a:off x="5867280" y="4646520"/>
                <a:ext cx="99216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50</m:t>
                        </m:r>
                      </m:num>
                      <m:den>
                        <m:sSup>
                          <m:e>
                            <m:r>
                              <m:t xml:space="preserve">1,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545"/>
              <p:cNvSpPr txBox="1"/>
              <p:nvPr/>
            </p:nvSpPr>
            <p:spPr>
              <a:xfrm>
                <a:off x="5867280" y="5445000"/>
                <a:ext cx="99216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50</m:t>
                        </m:r>
                      </m:num>
                      <m:den>
                        <m:r>
                          <m:t xml:space="preserve">1,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550"/>
              <p:cNvSpPr txBox="1"/>
              <p:nvPr/>
            </p:nvSpPr>
            <p:spPr>
              <a:xfrm>
                <a:off x="6804000" y="1054080"/>
                <a:ext cx="80316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550"/>
              <p:cNvSpPr txBox="1"/>
              <p:nvPr/>
            </p:nvSpPr>
            <p:spPr>
              <a:xfrm>
                <a:off x="6804000" y="1916280"/>
                <a:ext cx="99216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550"/>
              <p:cNvSpPr txBox="1"/>
              <p:nvPr/>
            </p:nvSpPr>
            <p:spPr>
              <a:xfrm>
                <a:off x="6804000" y="2781360"/>
                <a:ext cx="103500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550"/>
              <p:cNvSpPr txBox="1"/>
              <p:nvPr/>
            </p:nvSpPr>
            <p:spPr>
              <a:xfrm>
                <a:off x="6804000" y="4508640"/>
                <a:ext cx="80316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550"/>
              <p:cNvSpPr txBox="1"/>
              <p:nvPr/>
            </p:nvSpPr>
            <p:spPr>
              <a:xfrm>
                <a:off x="6804000" y="5373720"/>
                <a:ext cx="77148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553"/>
              <p:cNvSpPr txBox="1"/>
              <p:nvPr/>
            </p:nvSpPr>
            <p:spPr>
              <a:xfrm>
                <a:off x="7164360" y="3933720"/>
                <a:ext cx="2556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7667640" y="260280"/>
            <a:ext cx="1476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dluh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(konec roku)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Kč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75280" y="304920"/>
            <a:ext cx="21909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kutečná splátk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Kč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93800" y="304920"/>
            <a:ext cx="75240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úrok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(10%)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Kč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304920"/>
            <a:ext cx="927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nui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Kč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00000" y="304920"/>
            <a:ext cx="102204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dluh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zač. roku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Kč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2360" y="304920"/>
            <a:ext cx="5875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rok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00720" y="260280"/>
            <a:ext cx="3311280" cy="604836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53440" y="62784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500"/>
                            </p:stCondLst>
                            <p:childTnLst>
                              <p:par>
                                <p:cTn id="4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1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1371600"/>
            <a:ext cx="780264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ODVOZENÍ  VZORCE 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(umořování dluhu)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7" name="Object 5"/>
              <p:cNvSpPr txBox="1"/>
              <p:nvPr/>
            </p:nvSpPr>
            <p:spPr>
              <a:xfrm>
                <a:off x="1258920" y="1125360"/>
                <a:ext cx="601020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luh = součet všech skutečných splátek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50920" y="1268280"/>
            <a:ext cx="5400720" cy="1081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16360" y="2349360"/>
            <a:ext cx="0" cy="648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35280" y="2852640"/>
            <a:ext cx="2946240" cy="18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součet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n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členů GP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20"/>
              <p:cNvSpPr txBox="1"/>
              <p:nvPr/>
            </p:nvSpPr>
            <p:spPr>
              <a:xfrm>
                <a:off x="4664160" y="2709720"/>
                <a:ext cx="25207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q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23"/>
              <p:cNvSpPr txBox="1"/>
              <p:nvPr/>
            </p:nvSpPr>
            <p:spPr>
              <a:xfrm>
                <a:off x="2792520" y="4821120"/>
                <a:ext cx="3776400" cy="17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2771640" y="4941720"/>
            <a:ext cx="3816360" cy="1584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99240" y="4149720"/>
            <a:ext cx="7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= r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65560" y="4221000"/>
            <a:ext cx="54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(každý následující sčítanec – člen GP je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 krát větší)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20"/>
              <p:cNvSpPr txBox="1"/>
              <p:nvPr/>
            </p:nvSpPr>
            <p:spPr>
              <a:xfrm>
                <a:off x="2340000" y="3284640"/>
                <a:ext cx="74916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500"/>
                            </p:stCondLst>
                            <p:childTnLst>
                              <p:par>
                                <p:cTn id="5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30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7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UserXP</cp:lastModifiedBy>
  <dcterms:modified xsi:type="dcterms:W3CDTF">2013-05-28T11:35:19Z</dcterms:modified>
  <cp:revision>95</cp:revision>
  <dc:subject/>
  <dc:title>Posloupnosti</dc:title>
</cp:coreProperties>
</file>