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1EC5-B7D4-40E9-BD86-82CFAF0C44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B05-D17E-43A4-9258-FE57F4794E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DE55-2B8C-44E8-928E-753CB74B509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E11-DF04-4FA0-B94C-A36F236210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D04-0D55-4058-B5E0-7459688262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CE81-5A7C-45A5-99D1-9713E0CAA5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85DF-71F2-441B-947D-D8CAB4EC18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35B3-0463-432E-99AE-028A8CE046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87D-0803-4B96-9AB2-55C015B7DE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07F-C7A5-40D6-8596-1D6EAC29BC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992A-4E8F-439A-A401-E10702496AD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C29C-4FE0-450E-8BFB-0B4C1D6BCB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271D-17CE-4DA4-9B4D-7EB23E202D4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EC1-4299-44AE-A217-9B16CA3E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83D-9222-4177-B3E1-682800C1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33B-542E-47FD-8361-572C6B75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E62-BF26-4783-AA36-9F949EC4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061-2B42-4C6A-9F58-AA5F915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DD1-86B8-40FA-B489-C8BA1CD8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A04-BAF4-4124-B471-8217D52D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013-DB18-4BCC-B6E6-46C9ACF5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690-E259-433E-9971-3B6FFF9C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948-B4E0-45D1-8DFA-9A60751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EDB-DBF1-45D7-B4D8-743EB2F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E96-3409-46E7-B038-3890CFF2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0974-0B7C-4AA1-B5F9-37FE9CB9F3B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STŘÁD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Užití  GP  v praxi</a:t>
            </a:r>
            <a:endParaRPr b="0" lang="en-US" sz="3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15840" y="3284640"/>
            <a:ext cx="2943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0"/>
              <p:cNvSpPr txBox="1"/>
              <p:nvPr/>
            </p:nvSpPr>
            <p:spPr>
              <a:xfrm>
                <a:off x="4643280" y="3141720"/>
                <a:ext cx="252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3"/>
              <p:cNvSpPr txBox="1"/>
              <p:nvPr/>
            </p:nvSpPr>
            <p:spPr>
              <a:xfrm>
                <a:off x="2916360" y="4870440"/>
                <a:ext cx="35272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58920" y="1197000"/>
                <a:ext cx="5745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182600" y="2060640"/>
                <a:ext cx="711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elková nastřádaná částk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133720"/>
            <a:ext cx="6337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263700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70160" y="3716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a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052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248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nastřádané částky p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klad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vklady střádá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Object 23"/>
              <p:cNvSpPr txBox="1"/>
              <p:nvPr/>
            </p:nvSpPr>
            <p:spPr>
              <a:xfrm>
                <a:off x="1476360" y="836640"/>
                <a:ext cx="1835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119700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3995640" y="2959200"/>
                <a:ext cx="576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1692360" y="1773360"/>
                <a:ext cx="1834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5084640"/>
                <a:ext cx="28177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1488960" y="2708280"/>
                <a:ext cx="2082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1765440" y="3789360"/>
                <a:ext cx="1863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3995640" y="3789360"/>
                <a:ext cx="1154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3"/>
              <p:cNvSpPr txBox="1"/>
              <p:nvPr/>
            </p:nvSpPr>
            <p:spPr>
              <a:xfrm>
                <a:off x="5148360" y="3860640"/>
                <a:ext cx="1320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1908000" y="620640"/>
                <a:ext cx="1656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69228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62064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3780000" y="1584360"/>
                <a:ext cx="158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375440" y="299736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3"/>
              <p:cNvSpPr txBox="1"/>
              <p:nvPr/>
            </p:nvSpPr>
            <p:spPr>
              <a:xfrm>
                <a:off x="4809960" y="4005360"/>
                <a:ext cx="4334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žijeme vzorec: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4786200" y="4863960"/>
                <a:ext cx="93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867280" y="5084640"/>
                <a:ext cx="30765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3"/>
              <p:cNvSpPr txBox="1"/>
              <p:nvPr/>
            </p:nvSpPr>
            <p:spPr>
              <a:xfrm>
                <a:off x="1619280" y="2205000"/>
                <a:ext cx="21463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3"/>
              <p:cNvSpPr txBox="1"/>
              <p:nvPr/>
            </p:nvSpPr>
            <p:spPr>
              <a:xfrm>
                <a:off x="1979640" y="2997360"/>
                <a:ext cx="2146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1332000" y="3789360"/>
                <a:ext cx="3182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1187280" y="4726080"/>
                <a:ext cx="3354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1116000" y="1339920"/>
                <a:ext cx="172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3923280" y="8366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áměna stra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0920" y="228600"/>
            <a:ext cx="7988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0 000,- Kč placenými vždy počátkem roku               za 5 let při 2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9640" y="2438280"/>
            <a:ext cx="7969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3"/>
              <p:cNvSpPr txBox="1"/>
              <p:nvPr/>
            </p:nvSpPr>
            <p:spPr>
              <a:xfrm>
                <a:off x="971640" y="5300640"/>
                <a:ext cx="233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3"/>
              <p:cNvSpPr txBox="1"/>
              <p:nvPr/>
            </p:nvSpPr>
            <p:spPr>
              <a:xfrm>
                <a:off x="3203640" y="5300640"/>
                <a:ext cx="38019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6967440" y="5587920"/>
                <a:ext cx="2176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87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20 let nastřádali 1 000 000,- Kč         při 3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878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 00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1116000" y="5300640"/>
                <a:ext cx="22384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348000" y="5373720"/>
                <a:ext cx="3619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0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3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997680" y="5589720"/>
                <a:ext cx="21463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 16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3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nastřádám 150 000,- Kč pravidelnými počátkem roku placený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8 000,- Kč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6"/>
              <p:cNvSpPr txBox="1"/>
              <p:nvPr/>
            </p:nvSpPr>
            <p:spPr>
              <a:xfrm>
                <a:off x="1042920" y="5013360"/>
                <a:ext cx="30592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78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5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8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8000" y="386064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640" y="3860640"/>
            <a:ext cx="11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6"/>
              <p:cNvSpPr txBox="1"/>
              <p:nvPr/>
            </p:nvSpPr>
            <p:spPr>
              <a:xfrm>
                <a:off x="4067280" y="5084640"/>
                <a:ext cx="345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596360" y="5805360"/>
                <a:ext cx="138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5 000,- Kč placenými vždy počátkem roku za 6 let při 9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za 10 let pravidelnými počátkem roku placenými vklady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4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8 % p.a., b) 10 % p.a., c) 1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41 002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75 492,- Kč, b) 420 748,- Kč, c) 471 71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3569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ve stejných časových  intervalech ukládáme stále stejnou částku, tzv. vklad (anuita)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5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 000 000,- Kč při 9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10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50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7 % p.a., b) 9 % p.a., c) 11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51 084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3 821,- Kč, b) 30 193,- Kč, c) 26 9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400 000,- Kč pravidelnými počátkem roku placenými vklady 40 000,- Kč při 10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120 000,- Kč pravidelnými počátkem roku placenými vklady 10 000,- Kč př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5 % p.a., b) 10 % p.a., c) 1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59436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a) 9 let a 3 měs., b) 7 let a 9 měs., c) 6 let a 9 měs.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0–7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nastřádaná částk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vklad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střádaná částk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r>
              <a:rPr b="0" i="1" lang="cs-CZ" sz="32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83016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nastřádáme, (naspoříme) po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198900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klad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92360" y="2506680"/>
            <a:ext cx="7196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ukládaná částka, vždy počátk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62916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692360" y="4148280"/>
            <a:ext cx="7196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494172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6100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76564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257480" y="1268280"/>
            <a:ext cx="788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        10 000,- Kč placenými vždy počátkem roku               za 4 roky při 5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258920" y="2708280"/>
            <a:ext cx="75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258920" y="3357720"/>
            <a:ext cx="115236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2050920" y="335772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2050920" y="393228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050920" y="4508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564000" y="4508640"/>
            <a:ext cx="25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427640" y="4508640"/>
            <a:ext cx="255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= 1,05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050920" y="5084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6028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3080" y="763560"/>
            <a:ext cx="6553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6880" y="2602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úroky (5 %) /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8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308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944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3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360" y="4653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360" y="522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360" y="58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6560" y="4651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6560" y="52275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6560" y="58024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268280"/>
            <a:ext cx="65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60280"/>
            <a:ext cx="0" cy="5904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3860640"/>
            <a:ext cx="0" cy="230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10920" y="260280"/>
            <a:ext cx="180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59280" y="763560"/>
            <a:ext cx="144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86064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1280" y="443556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72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355640" y="763560"/>
            <a:ext cx="180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763560"/>
            <a:ext cx="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964720" y="260280"/>
            <a:ext cx="144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836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7560"/>
            <a:ext cx="12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427560"/>
            <a:ext cx="64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42756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200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7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336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558972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1280" y="616428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908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4360" y="3786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908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5803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2720" y="4076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836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72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68360" y="436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720" y="52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908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651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860640"/>
            <a:ext cx="8353440" cy="230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" y="45813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6253200"/>
            <a:ext cx="84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nastřádáme za 4 roky 45 256,–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(střád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484280"/>
            <a:ext cx="79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ednotlivé vklady se neúročí stejně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45720" indent="-4975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z prvního roku „vynese“ rozhodně více, než vklad vložen rok poslední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 úročení vkladů za jednotlivá období využijeme vzorce z předešlé kapitol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á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3780000" y="4005360"/>
                <a:ext cx="1800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0000" y="4005360"/>
            <a:ext cx="647640" cy="792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92000"/>
              <a:gd name="textAreaBottom" fmla="*/ 760680 h 792000"/>
            </a:gdLst>
            <a:ahLst/>
            <a:rect l="textAreaLeft" t="textAreaTop" r="textAreaRight" b="textAreaBottom"/>
            <a:pathLst>
              <a:path w="21600" h="26412">
                <a:moveTo>
                  <a:pt x="3600" y="0"/>
                </a:moveTo>
                <a:arcTo wR="3600" hR="3600" stAng="16200000" swAng="-5400000"/>
                <a:lnTo>
                  <a:pt x="0" y="22812"/>
                </a:lnTo>
                <a:arcTo wR="3600" hR="3600" stAng="10800000" swAng="-5400000"/>
                <a:lnTo>
                  <a:pt x="18000" y="26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22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ečná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rčována vždy za 1 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522936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na počátku jednotlivých obdob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43280" y="4797360"/>
            <a:ext cx="122544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4005360"/>
            <a:ext cx="288720" cy="79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792000"/>
              <a:gd name="textAreaBottom" fmla="*/ 777960 h 792000"/>
            </a:gdLst>
            <a:ahLst/>
            <a:rect l="textAreaLeft" t="textAreaTop" r="textAreaRight" b="textAreaBottom"/>
            <a:pathLst>
              <a:path w="21600" h="59205">
                <a:moveTo>
                  <a:pt x="3600" y="0"/>
                </a:moveTo>
                <a:arcTo wR="3600" hR="3600" stAng="16200000" swAng="-5400000"/>
                <a:lnTo>
                  <a:pt x="0" y="55605"/>
                </a:lnTo>
                <a:arcTo wR="3600" hR="3600" stAng="10800000" swAng="-5400000"/>
                <a:lnTo>
                  <a:pt x="18000" y="5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48200" y="4797360"/>
            <a:ext cx="163980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920" y="13892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920" y="2036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920" y="268452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332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820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8200" y="2060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8200" y="27082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8200" y="33559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436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528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292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0" y="3787920"/>
            <a:ext cx="914400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0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3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198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744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1708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355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58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4144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80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1440" y="177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880" y="270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9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062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9360" y="3932280"/>
            <a:ext cx="459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...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elková nastřádaná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7640" y="40464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vklad a z něj vzniklé úro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74360" y="-2674080"/>
            <a:ext cx="287640" cy="7451640"/>
          </a:xfrm>
          <a:custGeom>
            <a:avLst/>
            <a:gdLst>
              <a:gd name="textAreaLeft" fmla="*/ 0 w 287640"/>
              <a:gd name="textAreaRight" fmla="*/ 103680 w 287640"/>
              <a:gd name="textAreaTop" fmla="*/ 194040 h 7451640"/>
              <a:gd name="textAreaBottom" fmla="*/ 7257600 h 74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0" y="126828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692360" y="1195560"/>
            <a:ext cx="7451640" cy="64908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1979640" y="1268280"/>
                <a:ext cx="4906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92360" y="184464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0"/>
              <p:cNvSpPr txBox="1"/>
              <p:nvPr/>
            </p:nvSpPr>
            <p:spPr>
              <a:xfrm>
                <a:off x="1979640" y="1916280"/>
                <a:ext cx="4535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92360" y="249228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2046240" y="2550960"/>
                <a:ext cx="440208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02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692360" y="313992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2046240" y="3211560"/>
                <a:ext cx="440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64360" y="119556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. vklad se úročí nejdéle a proto „vynese“ největší část zisk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0"/>
              <p:cNvSpPr txBox="1"/>
              <p:nvPr/>
            </p:nvSpPr>
            <p:spPr>
              <a:xfrm>
                <a:off x="0" y="1916280"/>
                <a:ext cx="159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0" y="2563920"/>
                <a:ext cx="1617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0"/>
              <p:cNvSpPr txBox="1"/>
              <p:nvPr/>
            </p:nvSpPr>
            <p:spPr>
              <a:xfrm>
                <a:off x="468360" y="2995560"/>
                <a:ext cx="158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0" y="3211560"/>
                <a:ext cx="1352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1195560"/>
            <a:ext cx="9144000" cy="2592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979640" y="4724280"/>
                <a:ext cx="574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164360" y="249228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aopak poslední vklad  „vynese“ pouze jeden úrok z vklad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41300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70828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čítance seřazeny tak, aby měli postupně vzrůstající hodnotu, tj. od posledního vkladu až po první vklad a z nich vznikl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07Z</dcterms:modified>
  <cp:revision>97</cp:revision>
  <dc:subject/>
  <dc:title>Posloupnosti</dc:title>
</cp:coreProperties>
</file>