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DC73-B1C4-4EEE-9E1B-5400B9AACB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EFD4-DBFA-44B0-BDF3-750344D211C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1AAD-E44F-4CBA-AB0E-D3EB8169C62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8D31-71A8-4240-9C16-97D9BE1AC03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0FED-AB56-403D-AB8B-157C453B433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4097-7005-4DE8-9F0D-5F09385D421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75CB-895F-477C-B83A-BBAAAB45490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BA18-1949-4411-A5F0-2D4C23933B6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571B-450B-4A52-9678-649D385118D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6E5B-5880-46F0-AD34-41C1A8DEF28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9FE6-BC60-4ED3-9849-E857A8C5188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49A7-0099-4946-A00A-AC4E3AFD008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4CFA-A408-41A1-A5FC-5883DE7C60F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2A51-13D8-4E46-AC87-C895EB97087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A55E-C880-4799-A9B8-8846E0F0429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F207-9D12-48EE-8A89-B2BA3F7C2A1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ED45-595F-4383-AAB1-E2DC4E63882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96A0-A0D9-4392-AA9A-DBBF5667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7E9-732D-49B2-90E2-1DE18282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0B97-51E5-4210-9E7A-5A49817B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4B5D-7462-4975-ACE7-1219F2DE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5152-5865-4C0B-82D4-F4073380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0D0-6347-4BC6-8523-9C5388BA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5269-5135-4BD8-96AB-67364BC8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FC0-E594-4B43-9812-EB858B09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AC53-9EE3-47C7-B691-87D528A0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F13-DF8F-467B-A05A-2011B685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3380-660D-4387-94D3-BCF00445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FD1-8031-434D-98EE-F03EA778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2E47-411B-441A-9670-B578FC6E5C9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Times New Roman"/>
              </a:rPr>
              <a:t>ÚROKOVÁNÍ</a:t>
            </a:r>
            <a:endParaRPr b="0" lang="en-US" sz="8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78026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(jednoduché úrokování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Object 9"/>
              <p:cNvSpPr txBox="1"/>
              <p:nvPr/>
            </p:nvSpPr>
            <p:spPr>
              <a:xfrm>
                <a:off x="5435640" y="620640"/>
                <a:ext cx="936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9"/>
              <p:cNvSpPr txBox="1"/>
              <p:nvPr/>
            </p:nvSpPr>
            <p:spPr>
              <a:xfrm>
                <a:off x="3851280" y="816120"/>
                <a:ext cx="16318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ú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z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1042920" y="1773360"/>
                <a:ext cx="15843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2627280" y="1557360"/>
                <a:ext cx="15750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9"/>
              <p:cNvSpPr txBox="1"/>
              <p:nvPr/>
            </p:nvSpPr>
            <p:spPr>
              <a:xfrm>
                <a:off x="7020000" y="1557360"/>
                <a:ext cx="19270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9"/>
              <p:cNvSpPr txBox="1"/>
              <p:nvPr/>
            </p:nvSpPr>
            <p:spPr>
              <a:xfrm>
                <a:off x="1042920" y="2781360"/>
                <a:ext cx="15480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2590920" y="2565360"/>
                <a:ext cx="24732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274920" y="1628640"/>
            <a:ext cx="936720" cy="79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41800" y="2643120"/>
            <a:ext cx="977760" cy="785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14560" y="1630440"/>
            <a:ext cx="129708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79640" y="2638440"/>
            <a:ext cx="121752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5292720" y="2565360"/>
                <a:ext cx="1793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7020000" y="2570040"/>
                <a:ext cx="19270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042920" y="3860640"/>
                <a:ext cx="15778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2627280" y="3645000"/>
                <a:ext cx="2664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4427640" y="3716280"/>
            <a:ext cx="8650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3716280"/>
            <a:ext cx="14396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9"/>
              <p:cNvSpPr txBox="1"/>
              <p:nvPr/>
            </p:nvSpPr>
            <p:spPr>
              <a:xfrm>
                <a:off x="5292720" y="3645000"/>
                <a:ext cx="1766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7018200" y="3645000"/>
                <a:ext cx="19288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580000" y="2637000"/>
            <a:ext cx="144144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1042920" y="4941720"/>
                <a:ext cx="15778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9"/>
              <p:cNvSpPr txBox="1"/>
              <p:nvPr/>
            </p:nvSpPr>
            <p:spPr>
              <a:xfrm>
                <a:off x="2627280" y="4726080"/>
                <a:ext cx="2736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4427640" y="4797360"/>
            <a:ext cx="8650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4797360"/>
            <a:ext cx="14396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5280120" y="4726080"/>
                <a:ext cx="1793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7018200" y="4726080"/>
                <a:ext cx="19288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580000" y="3716280"/>
            <a:ext cx="144000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2782800"/>
            <a:ext cx="358560" cy="50328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309">
                <a:moveTo>
                  <a:pt x="3600" y="0"/>
                </a:moveTo>
                <a:arcTo wR="3600" hR="3600" stAng="16200000" swAng="-5400000"/>
                <a:lnTo>
                  <a:pt x="0" y="26709"/>
                </a:lnTo>
                <a:arcTo wR="3600" hR="3600" stAng="10800000" swAng="-5400000"/>
                <a:lnTo>
                  <a:pt x="18000" y="303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3860640"/>
            <a:ext cx="358560" cy="50508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05080"/>
              <a:gd name="textAreaBottom" fmla="*/ 487800 h 505080"/>
            </a:gdLst>
            <a:ahLst/>
            <a:rect l="textAreaLeft" t="textAreaTop" r="textAreaRight" b="textAreaBottom"/>
            <a:pathLst>
              <a:path w="21600" h="30418">
                <a:moveTo>
                  <a:pt x="3600" y="0"/>
                </a:moveTo>
                <a:arcTo wR="3600" hR="3600" stAng="16200000" swAng="-5400000"/>
                <a:lnTo>
                  <a:pt x="0" y="26818"/>
                </a:lnTo>
                <a:arcTo wR="3600" hR="3600" stAng="10800000" swAng="-5400000"/>
                <a:lnTo>
                  <a:pt x="18000" y="30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92360" y="4941720"/>
            <a:ext cx="360360" cy="503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158">
                <a:moveTo>
                  <a:pt x="3600" y="0"/>
                </a:moveTo>
                <a:arcTo wR="3600" hR="3600" stAng="16200000" swAng="-5400000"/>
                <a:lnTo>
                  <a:pt x="0" y="26558"/>
                </a:lnTo>
                <a:arcTo wR="3600" hR="3600" stAng="10800000" swAng="-5400000"/>
                <a:lnTo>
                  <a:pt x="18000" y="3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042920" y="189000"/>
            <a:ext cx="78454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Úrok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a stejné úrokovací doby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se nemě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a vypočítává se stále z téže původní jistin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1773360"/>
            <a:ext cx="503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2782800"/>
            <a:ext cx="50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24000" y="3860640"/>
            <a:ext cx="50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24000" y="4941720"/>
            <a:ext cx="50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1844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64000" y="1628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170172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ytknět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1989000"/>
            <a:ext cx="100980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9"/>
              <p:cNvSpPr txBox="1"/>
              <p:nvPr/>
            </p:nvSpPr>
            <p:spPr>
              <a:xfrm>
                <a:off x="6620040" y="5734080"/>
                <a:ext cx="2336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7093080" y="5373720"/>
                <a:ext cx="1634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Object 8"/>
              <p:cNvSpPr txBox="1"/>
              <p:nvPr/>
            </p:nvSpPr>
            <p:spPr>
              <a:xfrm>
                <a:off x="4643280" y="3284640"/>
                <a:ext cx="26895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1935000" y="3214800"/>
                <a:ext cx="27655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979640" y="181080"/>
                <a:ext cx="23209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1908000" y="1117440"/>
                <a:ext cx="239112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1908000" y="2054160"/>
                <a:ext cx="24609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2340000" y="2852640"/>
                <a:ext cx="183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 rot="16200000">
            <a:off x="-849960" y="2082240"/>
            <a:ext cx="4176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ednotlivé jistiny tvoří členy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198900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očáteční jistina je prvním členem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80360" y="3429000"/>
            <a:ext cx="1763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úrok je diferencí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8000" y="333360"/>
            <a:ext cx="459000" cy="4097520"/>
          </a:xfrm>
          <a:custGeom>
            <a:avLst/>
            <a:gdLst>
              <a:gd name="textAreaLeft" fmla="*/ 22320 w 459000"/>
              <a:gd name="textAreaRight" fmla="*/ 436680 w 459000"/>
              <a:gd name="textAreaTop" fmla="*/ 22320 h 4097520"/>
              <a:gd name="textAreaBottom" fmla="*/ 4075200 h 4097520"/>
            </a:gdLst>
            <a:ahLst/>
            <a:rect l="textAreaLeft" t="textAreaTop" r="textAreaRight" b="textAreaBottom"/>
            <a:pathLst>
              <a:path w="21600" h="192690">
                <a:moveTo>
                  <a:pt x="3600" y="0"/>
                </a:moveTo>
                <a:arcTo wR="3600" hR="3600" stAng="16200000" swAng="-5400000"/>
                <a:lnTo>
                  <a:pt x="0" y="189090"/>
                </a:lnTo>
                <a:arcTo wR="3600" hR="3600" stAng="10800000" swAng="-5400000"/>
                <a:lnTo>
                  <a:pt x="18000" y="192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76000" y="2349360"/>
            <a:ext cx="431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221440" y="2781000"/>
            <a:ext cx="1440" cy="647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3429000"/>
            <a:ext cx="432000" cy="172872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728720"/>
              <a:gd name="textAreaBottom" fmla="*/ 1707840 h 1728720"/>
            </a:gdLst>
            <a:ahLst/>
            <a:rect l="textAreaLeft" t="textAreaTop" r="textAreaRight" b="textAreaBottom"/>
            <a:pathLst>
              <a:path w="21600" h="86382">
                <a:moveTo>
                  <a:pt x="3600" y="0"/>
                </a:moveTo>
                <a:arcTo wR="3600" hR="3600" stAng="16200000" swAng="-5400000"/>
                <a:lnTo>
                  <a:pt x="0" y="82782"/>
                </a:lnTo>
                <a:arcTo wR="3600" hR="3600" stAng="10800000" swAng="-5400000"/>
                <a:lnTo>
                  <a:pt x="18000" y="86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16720" y="3284640"/>
            <a:ext cx="719280" cy="108108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081080"/>
              <a:gd name="textAreaBottom" fmla="*/ 1046160 h 1081080"/>
            </a:gdLst>
            <a:ahLst/>
            <a:rect l="textAreaLeft" t="textAreaTop" r="textAreaRight" b="textAreaBottom"/>
            <a:pathLst>
              <a:path w="21600" h="32459">
                <a:moveTo>
                  <a:pt x="3600" y="0"/>
                </a:moveTo>
                <a:arcTo wR="3600" hR="3600" stAng="16200000" swAng="-5400000"/>
                <a:lnTo>
                  <a:pt x="0" y="28859"/>
                </a:lnTo>
                <a:arcTo wR="3600" hR="3600" stAng="10800000" swAng="-5400000"/>
                <a:lnTo>
                  <a:pt x="18000" y="324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6000" y="3933720"/>
            <a:ext cx="43164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5229360"/>
            <a:ext cx="8028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i jednoduchém úrokování roste hodnota jistiny lineárně (pozvolna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íklady jsou velmi jednoduché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8"/>
              <p:cNvSpPr txBox="1"/>
              <p:nvPr/>
            </p:nvSpPr>
            <p:spPr>
              <a:xfrm>
                <a:off x="3276720" y="4508640"/>
                <a:ext cx="40510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948360" y="4365720"/>
            <a:ext cx="360360" cy="647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647640"/>
              <a:gd name="textAreaBottom" fmla="*/ 630360 h 647640"/>
            </a:gdLst>
            <a:ahLst/>
            <a:rect l="textAreaLeft" t="textAreaTop" r="textAreaRight" b="textAreaBottom"/>
            <a:pathLst>
              <a:path w="21600" h="38802">
                <a:moveTo>
                  <a:pt x="3600" y="0"/>
                </a:moveTo>
                <a:arcTo wR="3600" hR="3600" stAng="16200000" swAng="-5400000"/>
                <a:lnTo>
                  <a:pt x="0" y="35202"/>
                </a:lnTo>
                <a:arcTo wR="3600" hR="3600" stAng="10800000" swAng="-5400000"/>
                <a:lnTo>
                  <a:pt x="18000" y="388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á je tržní hodnota směnky s nominální hodnotou 120 000,- Kč po 5 letech při úročení 1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12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5 le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15 % p.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3"/>
              <p:cNvSpPr txBox="1"/>
              <p:nvPr/>
            </p:nvSpPr>
            <p:spPr>
              <a:xfrm>
                <a:off x="1116000" y="5084640"/>
                <a:ext cx="25750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3"/>
              <p:cNvSpPr txBox="1"/>
              <p:nvPr/>
            </p:nvSpPr>
            <p:spPr>
              <a:xfrm>
                <a:off x="3660840" y="5087880"/>
                <a:ext cx="302400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3"/>
              <p:cNvSpPr txBox="1"/>
              <p:nvPr/>
            </p:nvSpPr>
            <p:spPr>
              <a:xfrm>
                <a:off x="6640560" y="5303880"/>
                <a:ext cx="22780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á byla nominální hodnota směnky, jejíž tržní hodnota je po 10 letech 51 000,- Kč při 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10 le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51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5 % p.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3"/>
              <p:cNvSpPr txBox="1"/>
              <p:nvPr/>
            </p:nvSpPr>
            <p:spPr>
              <a:xfrm>
                <a:off x="5292720" y="2349360"/>
                <a:ext cx="2343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3"/>
              <p:cNvSpPr txBox="1"/>
              <p:nvPr/>
            </p:nvSpPr>
            <p:spPr>
              <a:xfrm>
                <a:off x="4788000" y="3357720"/>
                <a:ext cx="3027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3"/>
              <p:cNvSpPr txBox="1"/>
              <p:nvPr/>
            </p:nvSpPr>
            <p:spPr>
              <a:xfrm>
                <a:off x="5292720" y="5145120"/>
                <a:ext cx="2289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3"/>
              <p:cNvSpPr txBox="1"/>
              <p:nvPr/>
            </p:nvSpPr>
            <p:spPr>
              <a:xfrm>
                <a:off x="4788000" y="4437000"/>
                <a:ext cx="1909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t xml:space="preserve">1,5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kolik let vzroste hodnota směnky z 10 000,- Kč na 100 000,- Kč při 12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1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10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12 % p.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3"/>
              <p:cNvSpPr txBox="1"/>
              <p:nvPr/>
            </p:nvSpPr>
            <p:spPr>
              <a:xfrm>
                <a:off x="4789440" y="2205000"/>
                <a:ext cx="2343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3"/>
              <p:cNvSpPr txBox="1"/>
              <p:nvPr/>
            </p:nvSpPr>
            <p:spPr>
              <a:xfrm>
                <a:off x="4140360" y="3932280"/>
                <a:ext cx="24271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3"/>
              <p:cNvSpPr txBox="1"/>
              <p:nvPr/>
            </p:nvSpPr>
            <p:spPr>
              <a:xfrm>
                <a:off x="5005440" y="6165720"/>
                <a:ext cx="13348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3"/>
              <p:cNvSpPr txBox="1"/>
              <p:nvPr/>
            </p:nvSpPr>
            <p:spPr>
              <a:xfrm>
                <a:off x="4140360" y="3068640"/>
                <a:ext cx="37065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3"/>
              <p:cNvSpPr txBox="1"/>
              <p:nvPr/>
            </p:nvSpPr>
            <p:spPr>
              <a:xfrm>
                <a:off x="4500720" y="4724280"/>
                <a:ext cx="16635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3"/>
              <p:cNvSpPr txBox="1"/>
              <p:nvPr/>
            </p:nvSpPr>
            <p:spPr>
              <a:xfrm>
                <a:off x="4716360" y="5661000"/>
                <a:ext cx="1390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3"/>
              <p:cNvSpPr txBox="1"/>
              <p:nvPr/>
            </p:nvSpPr>
            <p:spPr>
              <a:xfrm>
                <a:off x="6588000" y="4941720"/>
                <a:ext cx="79056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3"/>
              <p:cNvSpPr txBox="1"/>
              <p:nvPr/>
            </p:nvSpPr>
            <p:spPr>
              <a:xfrm>
                <a:off x="7862760" y="3357720"/>
                <a:ext cx="1254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3"/>
              <p:cNvSpPr txBox="1"/>
              <p:nvPr/>
            </p:nvSpPr>
            <p:spPr>
              <a:xfrm>
                <a:off x="6534000" y="5661000"/>
                <a:ext cx="7081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4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 je úročena směnka, jejíž hodnota za 4 roky vzrostla 40 000,- Kč na 50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4 rok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4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5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859280" y="2205000"/>
                <a:ext cx="2343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3"/>
              <p:cNvSpPr txBox="1"/>
              <p:nvPr/>
            </p:nvSpPr>
            <p:spPr>
              <a:xfrm>
                <a:off x="4282920" y="3860640"/>
                <a:ext cx="22910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3"/>
              <p:cNvSpPr txBox="1"/>
              <p:nvPr/>
            </p:nvSpPr>
            <p:spPr>
              <a:xfrm>
                <a:off x="4930920" y="6080040"/>
                <a:ext cx="155232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6,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3"/>
              <p:cNvSpPr txBox="1"/>
              <p:nvPr/>
            </p:nvSpPr>
            <p:spPr>
              <a:xfrm>
                <a:off x="4346640" y="3068640"/>
                <a:ext cx="34336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3"/>
              <p:cNvSpPr txBox="1"/>
              <p:nvPr/>
            </p:nvSpPr>
            <p:spPr>
              <a:xfrm>
                <a:off x="4282920" y="4724280"/>
                <a:ext cx="18828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3"/>
              <p:cNvSpPr txBox="1"/>
              <p:nvPr/>
            </p:nvSpPr>
            <p:spPr>
              <a:xfrm>
                <a:off x="4859280" y="5589720"/>
                <a:ext cx="11448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3"/>
              <p:cNvSpPr txBox="1"/>
              <p:nvPr/>
            </p:nvSpPr>
            <p:spPr>
              <a:xfrm>
                <a:off x="6546960" y="4968720"/>
                <a:ext cx="79056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3"/>
              <p:cNvSpPr txBox="1"/>
              <p:nvPr/>
            </p:nvSpPr>
            <p:spPr>
              <a:xfrm>
                <a:off x="7835760" y="3284640"/>
                <a:ext cx="1308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3"/>
              <p:cNvSpPr txBox="1"/>
              <p:nvPr/>
            </p:nvSpPr>
            <p:spPr>
              <a:xfrm>
                <a:off x="6516720" y="5589720"/>
                <a:ext cx="6001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41–6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Rozlišujeme dva druhy úrokování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7280" y="1484280"/>
            <a:ext cx="7596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Jednoduché úrokování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žití AP v praxi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užití výjimečné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 cenné papíry, směnk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547640" y="3860640"/>
            <a:ext cx="7596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Složené úroková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žití GP v prax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praxi daleko častěji využíva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 běžné účty, půjčk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Nejjednodušší přípa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terým se budeme zabývat v hodinách matematik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2707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14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avidelně na konci roku je úročena, a to buď v jednoduchém či složeném úrokování, jednorázově uložená částka, tzv. jistina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Důležité pojmy: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jistina</a:t>
            </a: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dob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ací období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mír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čitel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91840" y="259920"/>
            <a:ext cx="76518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8000" y="765000"/>
            <a:ext cx="7236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9640" indent="-35964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dměna (např. finančního ústavu) uvedená     v Kč za zapůjčenou částku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05080" y="2521080"/>
            <a:ext cx="7738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Jistin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763640" y="3139920"/>
            <a:ext cx="730908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45240" indent="-34524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apůjčená či uložená peněžní část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načení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cs-CZ" sz="2800" spc="-1" strike="noStrike" baseline="-25000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počáteční (původní) jisti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jistiny na konci 1. rok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jistiny na konci 2. rok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jistiny na konci n-tého rok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konečná jisti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900000" y="1916280"/>
            <a:ext cx="7485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5200" indent="-565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še úroku závisí na veličinách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ací období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47280" y="2133360"/>
            <a:ext cx="75963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5652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likož se v hodinách matematiky zaměřujeme na nejjednodušší typy příkladů finanční matematiky, bude ve všech příkladech toto období  </a:t>
            </a:r>
            <a:r>
              <a:rPr b="1" i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jeden rok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187280" y="4005360"/>
            <a:ext cx="7651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mír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547640" y="4653000"/>
            <a:ext cx="7596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5200" indent="-565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ýše odměny ze zapůjčené jisti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a úrokovací období (1 rok, per annum: zkratka – p.a.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yjádřená v procentec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565200" indent="-565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. 1,5 %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.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187280" y="189000"/>
            <a:ext cx="756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dob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547640" y="836640"/>
            <a:ext cx="759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5200" indent="-565200">
              <a:lnSpc>
                <a:spcPct val="12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oba, na kterou je jistina zapůjčena či ulože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90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cento je jedna setina ze základu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1125000"/>
            <a:ext cx="76964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ypočtěte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0 % z 59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0 % z 6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5 % z 8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7 % z 2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99072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% z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4067280" y="1557360"/>
                <a:ext cx="25146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9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4067280" y="2276640"/>
                <a:ext cx="25146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7"/>
              <p:cNvSpPr txBox="1"/>
              <p:nvPr/>
            </p:nvSpPr>
            <p:spPr>
              <a:xfrm>
                <a:off x="4067280" y="3068640"/>
                <a:ext cx="2539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8"/>
              <p:cNvSpPr txBox="1"/>
              <p:nvPr/>
            </p:nvSpPr>
            <p:spPr>
              <a:xfrm>
                <a:off x="4016520" y="3835440"/>
                <a:ext cx="14475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2871720" y="5416560"/>
                <a:ext cx="1452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4356000" y="5373720"/>
                <a:ext cx="10382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5435640" y="5373720"/>
                <a:ext cx="10382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8"/>
              <p:cNvSpPr txBox="1"/>
              <p:nvPr/>
            </p:nvSpPr>
            <p:spPr>
              <a:xfrm>
                <a:off x="5580000" y="3789360"/>
                <a:ext cx="12956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6934320" y="4005360"/>
                <a:ext cx="2209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92320" y="3968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Úrok za stejné úrokovací doby se nemění a vypočítává se stále z téže původní jistiny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116000" y="692280"/>
            <a:ext cx="7802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JEDNODUCHÉ ÚROKOVÁNÍ</a:t>
            </a:r>
            <a:endParaRPr b="0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9167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966960" y="765000"/>
            <a:ext cx="817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aká je tržní hodnota dluhopisu s nominální hodnotou 40 000,- Kč po 4 letech při úročení 10 % p.a.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966960" y="1700280"/>
            <a:ext cx="817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971640" y="2276640"/>
            <a:ext cx="198432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1763640" y="2276640"/>
            <a:ext cx="23050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0 0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 ro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0 % p.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708360" y="2997360"/>
          <a:ext cx="5257800" cy="1944360"/>
        </p:xfrm>
        <a:graphic>
          <a:graphicData uri="http://schemas.openxmlformats.org/drawingml/2006/table">
            <a:tbl>
              <a:tblPr/>
              <a:tblGrid>
                <a:gridCol w="1224000"/>
                <a:gridCol w="1008000"/>
                <a:gridCol w="1049400"/>
                <a:gridCol w="968400"/>
                <a:gridCol w="1008000"/>
              </a:tblGrid>
              <a:tr h="57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3635280" y="4292640"/>
            <a:ext cx="13226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0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2160" y="4292640"/>
            <a:ext cx="992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4149720"/>
            <a:ext cx="707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33800" y="4292640"/>
            <a:ext cx="992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4292640"/>
            <a:ext cx="992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56720" y="4292640"/>
            <a:ext cx="1008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3068640"/>
            <a:ext cx="12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nominální hodnota dluhopis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221000"/>
            <a:ext cx="5257800" cy="7207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203640" y="5084640"/>
                <a:ext cx="48956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0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9" name="Rectangle 22"/>
          <p:cNvSpPr/>
          <p:nvPr/>
        </p:nvSpPr>
        <p:spPr>
          <a:xfrm>
            <a:off x="1042920" y="573408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daných podmínek vzroste za 4 roky hodnota dluhopisu na 56 000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1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2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2000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3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2800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4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640" y="3068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úrok (10 %) / Kč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7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2:27Z</dcterms:modified>
  <cp:revision>96</cp:revision>
  <dc:subject/>
  <dc:title>ÚROKOVÁNÍ</dc:title>
</cp:coreProperties>
</file>