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1668-CA2C-402C-AC58-B920A5AF0A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A2B5-E6EC-455A-9756-7A12EB91E80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04D-F7F9-421E-9388-C6C19E88FE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71BC-0FB5-41BE-87F1-21A4BD37D39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916C-D58D-44DC-B7F0-BD0488EF446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899-5D72-4FFE-8E51-BDC0BF19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4B8-FB52-4057-B200-EC03E081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DF6-28CC-4EC8-B05A-1A79A73A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7CE-98C8-4533-BFCE-2366C9FF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CA5F-E58B-42B3-BD3D-FBA7EF4E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ECC1-78CF-4D82-84D0-B9506DD9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9B24-0318-49F9-B052-DE83739E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ACAD-80F9-44CE-BB52-FD40B0C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D68C-4A0F-49F3-BAE2-6965BA21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5415-38E1-48A4-8945-8D2659C2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8F1-AB4F-419A-A833-C676986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145-9CE7-4C36-B7EB-7ACBCD7F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D456-666F-41AE-9AA5-7467EE29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18FD-47C8-4C33-AE3E-584761F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7F6A-D4E8-488B-BDC9-E88EE2E7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6A4A-FEF7-4F28-B20A-51AA2895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B3ED-7CB4-4128-AF29-95FCDEFF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D57-A141-4EFA-BF99-2D8F0208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941-8559-40A8-9BA7-5F2E6FC7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F1D-3F74-4E81-A534-1EF843EB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869-AF1E-4670-B804-B92D4058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AA4-82D2-4217-AD72-CC17160B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356-CB68-444C-AD24-E2F9E63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387-7BB4-442D-9C50-045E1BB0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977-D53E-40FA-9CB6-0896D73CD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B700-5523-43AE-A785-AA533D65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187280" y="155736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1; b) 3                                             členy posloupnosti                 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5027760" y="2637000"/>
                <a:ext cx="18334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116000" y="260280"/>
                <a:ext cx="180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Line 3"/>
          <p:cNvSpPr/>
          <p:nvPr/>
        </p:nvSpPr>
        <p:spPr>
          <a:xfrm>
            <a:off x="1619280" y="907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3924360" y="3573360"/>
                <a:ext cx="2422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5221440" y="4797360"/>
                <a:ext cx="186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5437080" y="5516640"/>
                <a:ext cx="1146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6372360" y="2060640"/>
                <a:ext cx="753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805440" y="5516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 Box 10"/>
          <p:cNvSpPr/>
          <p:nvPr/>
        </p:nvSpPr>
        <p:spPr>
          <a:xfrm>
            <a:off x="1611000" y="6021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187280" y="3789360"/>
                <a:ext cx="1899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677556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5076720" y="1413000"/>
                <a:ext cx="1638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5292720" y="2060640"/>
                <a:ext cx="85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 Box 17"/>
          <p:cNvSpPr/>
          <p:nvPr/>
        </p:nvSpPr>
        <p:spPr>
          <a:xfrm>
            <a:off x="1468080" y="2565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je 1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780000" y="189000"/>
                <a:ext cx="2355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Line 3"/>
          <p:cNvSpPr/>
          <p:nvPr/>
        </p:nvSpPr>
        <p:spPr>
          <a:xfrm>
            <a:off x="1763640" y="44388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 079; b) – 53                                              členy posloupnosti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4932360" y="2060640"/>
                <a:ext cx="25765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0" name="Text Box 17"/>
          <p:cNvSpPr/>
          <p:nvPr/>
        </p:nvSpPr>
        <p:spPr>
          <a:xfrm>
            <a:off x="2124000" y="350028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079 je 41. členem dané posloupnosti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2124000" y="4292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53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20; b) – 4                                              členy posloupnosti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4932360" y="1773360"/>
                <a:ext cx="18064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4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20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4 je 28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; b) 17                                               členy posloupnosti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4932360" y="1773360"/>
                <a:ext cx="217476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8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je 21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17 je 3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66372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řadí členů 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55736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500; b) 223                      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4365720"/>
            <a:ext cx="795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41360" indent="-442800">
              <a:lnSpc>
                <a:spcPct val="110000"/>
              </a:lnSpc>
              <a:spcBef>
                <a:spcPts val="35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 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41360" indent="-44280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je dané číslo členem posloupnost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nalezneme jeho pořadí, tudíž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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187280" y="26028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4284720" y="26028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796000" y="9079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6012000" y="1484280"/>
                <a:ext cx="1376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244000" y="4941720"/>
                <a:ext cx="7538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524720" y="177336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 Box 10"/>
          <p:cNvSpPr/>
          <p:nvPr/>
        </p:nvSpPr>
        <p:spPr>
          <a:xfrm>
            <a:off x="1683000" y="249228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5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187280" y="3500280"/>
                <a:ext cx="2292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Line 12"/>
          <p:cNvSpPr/>
          <p:nvPr/>
        </p:nvSpPr>
        <p:spPr>
          <a:xfrm>
            <a:off x="1619280" y="41180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3"/>
              <p:cNvSpPr txBox="1"/>
              <p:nvPr/>
            </p:nvSpPr>
            <p:spPr>
              <a:xfrm>
                <a:off x="691848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4284720" y="347040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5796000" y="41497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012000" y="4653000"/>
                <a:ext cx="2195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17"/>
          <p:cNvSpPr/>
          <p:nvPr/>
        </p:nvSpPr>
        <p:spPr>
          <a:xfrm>
            <a:off x="1609560" y="587700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je 4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187280" y="1557360"/>
            <a:ext cx="7956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289; b) 223; c) 361; d) 1 000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+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1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1187280" y="33336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Line 3"/>
          <p:cNvSpPr/>
          <p:nvPr/>
        </p:nvSpPr>
        <p:spPr>
          <a:xfrm>
            <a:off x="1619280" y="98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325760" y="3274920"/>
                <a:ext cx="2034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692360" y="112536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2195640" y="184644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5292720" y="2494080"/>
                <a:ext cx="2597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2195640" y="3718080"/>
                <a:ext cx="2358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885080" y="3573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8172360" y="4581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1682640" y="5805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89 je 1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4500720" y="3286080"/>
                <a:ext cx="26208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7093080" y="3573360"/>
                <a:ext cx="785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7093080" y="4581360"/>
                <a:ext cx="1014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7885080" y="2565360"/>
                <a:ext cx="105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87280" y="404640"/>
                <a:ext cx="229104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3"/>
          <p:cNvSpPr/>
          <p:nvPr/>
        </p:nvSpPr>
        <p:spPr>
          <a:xfrm>
            <a:off x="1635120" y="1052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341960" y="334656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708200" y="119700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211480" y="191772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5164200" y="2637000"/>
                <a:ext cx="271764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2139840" y="3573360"/>
                <a:ext cx="27831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9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524560" y="4005360"/>
                <a:ext cx="1508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1"/>
          <p:cNvSpPr/>
          <p:nvPr/>
        </p:nvSpPr>
        <p:spPr>
          <a:xfrm>
            <a:off x="1322640" y="580536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7827840" y="2709720"/>
                <a:ext cx="8780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AutoShape 14"/>
          <p:cNvSpPr/>
          <p:nvPr/>
        </p:nvSpPr>
        <p:spPr>
          <a:xfrm>
            <a:off x="3940200" y="3573360"/>
            <a:ext cx="934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723120" y="3213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ení celé čísl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075120" y="3213000"/>
            <a:ext cx="2449440" cy="187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plné kvadratické rovnice můžete řešit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ždy pomocí vzorce s diskriminantem (a,b),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pro zajímavost uvádím i jinou možnost řešení (c,d)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987480" y="1628640"/>
                <a:ext cx="2225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Line 3"/>
          <p:cNvSpPr/>
          <p:nvPr/>
        </p:nvSpPr>
        <p:spPr>
          <a:xfrm>
            <a:off x="1403280" y="2276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1476360" y="2276640"/>
                <a:ext cx="3732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2987640" y="2852640"/>
                <a:ext cx="2260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Text Box 7"/>
          <p:cNvSpPr/>
          <p:nvPr/>
        </p:nvSpPr>
        <p:spPr>
          <a:xfrm>
            <a:off x="1466640" y="6021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61 je 18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5780160" y="2820960"/>
                <a:ext cx="785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348000" y="3573360"/>
                <a:ext cx="1704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2"/>
              <p:cNvSpPr txBox="1"/>
              <p:nvPr/>
            </p:nvSpPr>
            <p:spPr>
              <a:xfrm>
                <a:off x="7812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3"/>
              <p:cNvSpPr txBox="1"/>
              <p:nvPr/>
            </p:nvSpPr>
            <p:spPr>
              <a:xfrm>
                <a:off x="5364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Rectangle 17"/>
          <p:cNvSpPr/>
          <p:nvPr/>
        </p:nvSpPr>
        <p:spPr>
          <a:xfrm>
            <a:off x="3564000" y="407844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Rectangle 74"/>
          <p:cNvSpPr/>
          <p:nvPr/>
        </p:nvSpPr>
        <p:spPr>
          <a:xfrm>
            <a:off x="5105160" y="364644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0" name="Group 60"/>
          <p:cNvGrpSpPr/>
          <p:nvPr/>
        </p:nvGrpSpPr>
        <p:grpSpPr>
          <a:xfrm>
            <a:off x="5240160" y="4653000"/>
            <a:ext cx="3902040" cy="520560"/>
            <a:chOff x="5240160" y="4653000"/>
            <a:chExt cx="3902040" cy="520560"/>
          </a:xfrm>
        </p:grpSpPr>
        <p:sp>
          <p:nvSpPr>
            <p:cNvPr id="201" name="Line 61"/>
            <p:cNvSpPr/>
            <p:nvPr/>
          </p:nvSpPr>
          <p:spPr>
            <a:xfrm>
              <a:off x="5240160" y="4724640"/>
              <a:ext cx="3713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62"/>
            <p:cNvSpPr/>
            <p:nvPr/>
          </p:nvSpPr>
          <p:spPr>
            <a:xfrm>
              <a:off x="87832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7"/>
          <p:cNvGrpSpPr/>
          <p:nvPr/>
        </p:nvGrpSpPr>
        <p:grpSpPr>
          <a:xfrm>
            <a:off x="6756120" y="4581360"/>
            <a:ext cx="511200" cy="757080"/>
            <a:chOff x="6756120" y="4581360"/>
            <a:chExt cx="511200" cy="757080"/>
          </a:xfrm>
        </p:grpSpPr>
        <p:sp>
          <p:nvSpPr>
            <p:cNvPr id="204" name="Line 64"/>
            <p:cNvSpPr/>
            <p:nvPr/>
          </p:nvSpPr>
          <p:spPr>
            <a:xfrm>
              <a:off x="6899040" y="4581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Text Box 65"/>
            <p:cNvSpPr/>
            <p:nvPr/>
          </p:nvSpPr>
          <p:spPr>
            <a:xfrm>
              <a:off x="6756120" y="481788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70"/>
          <p:cNvSpPr/>
          <p:nvPr/>
        </p:nvSpPr>
        <p:spPr>
          <a:xfrm>
            <a:off x="56736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5086440" y="4795920"/>
            <a:ext cx="137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Line 72"/>
          <p:cNvSpPr/>
          <p:nvPr/>
        </p:nvSpPr>
        <p:spPr>
          <a:xfrm>
            <a:off x="81234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3"/>
          <p:cNvSpPr/>
          <p:nvPr/>
        </p:nvSpPr>
        <p:spPr>
          <a:xfrm>
            <a:off x="7603560" y="4795920"/>
            <a:ext cx="11030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29"/>
          <p:cNvGrpSpPr/>
          <p:nvPr/>
        </p:nvGrpSpPr>
        <p:grpSpPr>
          <a:xfrm>
            <a:off x="8051400" y="4653000"/>
            <a:ext cx="144720" cy="142920"/>
            <a:chOff x="8051400" y="4653000"/>
            <a:chExt cx="144720" cy="142920"/>
          </a:xfrm>
        </p:grpSpPr>
        <p:sp>
          <p:nvSpPr>
            <p:cNvPr id="211" name="Line 30"/>
            <p:cNvSpPr/>
            <p:nvPr/>
          </p:nvSpPr>
          <p:spPr>
            <a:xfrm>
              <a:off x="80517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31"/>
            <p:cNvSpPr/>
            <p:nvPr/>
          </p:nvSpPr>
          <p:spPr>
            <a:xfrm flipH="1">
              <a:off x="80514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29"/>
          <p:cNvGrpSpPr/>
          <p:nvPr/>
        </p:nvGrpSpPr>
        <p:grpSpPr>
          <a:xfrm>
            <a:off x="5601960" y="4653000"/>
            <a:ext cx="144720" cy="142920"/>
            <a:chOff x="5601960" y="4653000"/>
            <a:chExt cx="144720" cy="142920"/>
          </a:xfrm>
        </p:grpSpPr>
        <p:sp>
          <p:nvSpPr>
            <p:cNvPr id="214" name="Line 30"/>
            <p:cNvSpPr/>
            <p:nvPr/>
          </p:nvSpPr>
          <p:spPr>
            <a:xfrm>
              <a:off x="56023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H="1">
              <a:off x="56019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6" name="Arc 66"/>
          <p:cNvSpPr/>
          <p:nvPr/>
        </p:nvSpPr>
        <p:spPr>
          <a:xfrm flipH="1">
            <a:off x="5673600" y="450864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rc 68"/>
          <p:cNvSpPr/>
          <p:nvPr/>
        </p:nvSpPr>
        <p:spPr>
          <a:xfrm flipH="1">
            <a:off x="6897600" y="451008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73160" y="260280"/>
                <a:ext cx="2487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349880" y="387828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606680" y="971640"/>
                <a:ext cx="3987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078000" y="1676520"/>
                <a:ext cx="2513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Text Box 7"/>
          <p:cNvSpPr/>
          <p:nvPr/>
        </p:nvSpPr>
        <p:spPr>
          <a:xfrm>
            <a:off x="1466280" y="5445000"/>
            <a:ext cx="73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0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5996160" y="1668600"/>
                <a:ext cx="785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3419640" y="3357720"/>
                <a:ext cx="2411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6" name="Rectangle 17"/>
          <p:cNvSpPr/>
          <p:nvPr/>
        </p:nvSpPr>
        <p:spPr>
          <a:xfrm>
            <a:off x="3732120" y="39607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5924160" y="34574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3"/>
              <p:cNvSpPr txBox="1"/>
              <p:nvPr/>
            </p:nvSpPr>
            <p:spPr>
              <a:xfrm>
                <a:off x="6683400" y="345744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3419640" y="2492280"/>
                <a:ext cx="244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25Z</dcterms:modified>
  <cp:revision>304</cp:revision>
  <dc:subject/>
  <dc:title>Posloupnosti</dc:title>
</cp:coreProperties>
</file>