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80D4-7A97-4344-B73E-F480023515F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CF65-5C71-4740-99ED-7F9C2E2E1A2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8E1B-2193-4E24-8F6E-E550610971E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6910-B2E0-42DF-A835-261F7A3ED6C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4D15-ADD2-4A6C-8532-5ACA8AF70E2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32C9-8AD9-4B90-9927-7A577C3B588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321F-EAB0-48A7-BD4D-28F5FDCCD54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C017-4312-400A-9792-3E7EB887DF3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4679-B8C8-404B-B292-7C08486531B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AA3D-FE65-4261-9BEF-9280B5AE9C6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1DBF-7923-4716-9677-85215422A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0DCB-4D5A-4BFF-9C9E-7660AA21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48D409-51CE-4C3E-B557-677B5361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D3D8AA-2232-4A8A-A87D-A17F9155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548F64-9E87-46D6-AF13-08CDD5A8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B7C9D8-4F49-46ED-8945-168E695B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F2EA9A-AF29-4227-95DD-82FCBC84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DDF4BC-A281-4BA5-8A74-9279A03E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1CED20-8672-4711-A6E5-E0FA6E7C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3650F6-C933-4342-8ED3-662E67165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512C28-FE66-4139-8217-05BC97F45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58072-FD09-467B-AC15-792BD3E7E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A063-4FE0-407D-B921-ECC7D4860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9BAF2F-D7FC-464B-B627-91540F2C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DE0F8-017D-496A-8414-E879A83F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5B2A79-6088-43C7-B046-310EF2F4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130767-A992-496F-802A-C43BE703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FF04D2-A60F-4154-8E9E-513463E4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27E7FA-7616-4774-8CF9-C41420A3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2B9C3-22FD-4260-933E-3AADA810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29C0D1-83B7-4167-932D-69BA3B7D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929A5-04F0-4A2E-B36B-9308BAD0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D4DE7-91F8-495A-A076-C704FECE4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39F3-FEEA-42A2-830B-9CEC53952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22FE61-C4AF-4B03-B189-F78089230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036D-60FD-452C-9EF2-14BCB9611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6C67-A8D3-4F70-8B0D-03706F4B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2B12-8E5A-434B-83B4-D60AF18D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C75C-0907-485A-AD90-7B5C500E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06D4-68BC-454D-8924-90EDBDD4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E53C-457A-4DC1-95E8-35C9EEA7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6F1C-A257-4738-9A20-3D3C65C7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C269-31BC-40E1-A59A-D8608E7B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555C-B1F5-436E-9A15-8B2D71FC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6C59-8DF4-4DCA-A98C-79ABF32C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D906-F8DC-4598-B486-8A3B90B6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7FFD0-54BA-4A28-AABD-9070B0489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E6D1-958B-4891-B5BD-EBA9AA64F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2E539-5831-4A6E-835A-387E8EE11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A5DA6-7BAB-4509-9E19-E2F2A3B1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653B1-C931-4E3A-9D32-5B718F42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0C1C3-9A9E-46C9-84A4-C4FC06E4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1C423-FE80-4C32-ABF3-6B4E36EC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5D6E-BE49-4340-AE4A-9FD3192E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0E157-61D7-4D6C-9193-989FA478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45EE7-DA0D-4D87-AA9B-35DF000B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1409F-97C9-4C6C-9CD5-F6EC0627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DC22A-4CBA-405F-818A-418A19E1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26671-4DAA-4F97-B7AE-CE48B6B5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DE1CC-2488-49FB-9626-9389CE6F2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51E6D-75CC-423D-A9AD-23A01B163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30786-8F2F-46D2-BE6B-7F1911E86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434E0-7EDB-431B-AC18-D275883F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DDE57-D232-4417-AA76-36606D69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3721-7672-47EF-861E-2FAB7B74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5F8E7-6F28-4DBF-A97A-5DF043FC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C0C4C-2EE0-4719-8381-8A27FE3A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75441-018A-412C-B707-7FEB3F7F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D16F6-AB6D-4731-8271-9A135B97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04E38-A6BD-4B4C-A793-7FF7E84D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2C107-D1D8-4929-8FBB-9FB7E8F0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00213-A8F8-420B-932C-6ED87FEC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B1746-720D-45AF-9408-B310068D0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6DB9F-3CBE-4468-82F7-DDD73FEEF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2DC75-3694-43EC-A949-11E35B237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01B6-0515-4076-8161-738AE5E2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091D7-B803-4F24-AAB5-70C29672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1A388-AF82-4B6F-B432-9DD14CB5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ABF5C-5694-40D9-AAB6-6543718F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60E67-0F88-4003-99E9-F37F0D3C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13F80-6063-4B04-B133-8308DBE3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E79A5-FFE0-4722-A5BB-54F2BC9A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D5B7B-CFB1-4D79-9F57-11D624F4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ED05C-EB1A-42B7-9BB7-07DAE6B8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7C5E7-40BA-464C-9170-AB9A33D2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71B50-39F3-44E6-A1E3-2C652108F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0977-6CF5-4EBD-B99A-51F705DE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5D88B-E88A-46F4-8250-0555062C9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27DC6-A37F-42B0-A028-E5ED306FF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080C9-6624-4FF6-9E4D-1F65BBE7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BD51C-1969-4F8B-B95D-4C14D819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BA58E-402D-4B6D-A97B-566165EA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F7103-1A9E-4452-9C8A-3A73E5C7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47156-8087-41CF-8593-DD806CAE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6DEAF-4EAD-4849-AA96-BAEEBA29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7A2E3-AAAE-4155-96B7-D9553E65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4D8A5-1BEF-4A40-9C84-48C926CC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023A-1F39-4B40-A022-C9E9CD31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6A2D7-B83B-4893-882D-BBE0B789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42EC2-7CD7-4E99-A2E3-4CCEB8A55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19CF1-6CE7-444E-911F-1408B7285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83BE6F-B933-452B-912A-6E68CCE86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71C789-5192-4EF0-9EFD-A8B477AE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5B6365-D63D-4611-BCB9-D4F4591E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1CF7E9-367D-4B3C-9858-C6AD3D9E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78A620-66CF-496D-B969-FAB87544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F357AE-23A2-4B31-875A-BE3F351B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FF98D2-9B1A-49D7-AE6D-1788488C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F563-D082-436F-B4A6-5862BEC7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C1AAA5-AB80-420F-921F-D81D50AA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125EAC-11C3-4B1C-ADAA-C956B331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8B8416-CCBD-4ACA-AFDA-B17ADED9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DE5DCB-7B9B-4275-B14A-E2FC4227A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7EFBCC-EC33-49EB-A148-7BF2AA46E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F0F67-F60A-468D-80D0-4AE067D98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74261-40BB-486E-9AC8-6EACDF81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1FA98-9F2E-4DDD-9585-886952E2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6F13E-CF99-4BA8-9CF1-BE3F5F87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5DF62-F1FB-4CBA-977D-62BD3816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A745-9F4E-454E-A4F4-9118F5A4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B3A5B-F077-400A-9E58-0562793A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D6073-09AB-41CC-9C6B-CAF1E074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A6BFD-F2E8-4B98-A63F-E470FBB5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0AE93-1C01-4E3E-B447-06CF586E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0CA57-B0A8-485E-A440-7567912F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B3BAE-DEF7-4CD3-A4ED-64E71AF96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7C9CD-B387-41B6-8974-C561C926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8A6A86-9A65-4353-A7A4-86A877A93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5E77A4-BDF8-4FAF-9B70-921AFA03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9819E7-81AD-4D58-A644-10EA3F99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C8B1-E205-4A1E-9350-806C51B455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1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1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1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72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72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72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2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73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73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D47A-F183-452F-94C0-A115DAE305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34AC-8728-43C9-A308-C20CDF1133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FA4C-61A0-40E6-A3E6-C0CA1D4E1B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8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9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9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0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0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0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1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1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1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1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1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2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3BBD-0590-4D2E-BC67-392B33D53E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7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8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8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8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8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8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9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9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9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0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0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0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0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1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5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5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5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5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6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6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6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6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A491-3819-469C-B287-89C21EB834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3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14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5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17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18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9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0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1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2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423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24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5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27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28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9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0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2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33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84A9-255B-4523-92A5-D4927AE29F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8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8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9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9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9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9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9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50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0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0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1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1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1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1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2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B20E-220D-4AD2-AAEF-5A5BB3D3B8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6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65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6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7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6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6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574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75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6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7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78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79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0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1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2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3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84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A8D0-B8A1-4081-9B2B-38623DA176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3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3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4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4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4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4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4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4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65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5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6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6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6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6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6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7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7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7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5FB0-4373-4D2A-8C66-F1C96EC778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78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8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íjem, výn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omic Sans MS"/>
              </a:rPr>
              <a:t>Charakteristika výnos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omic Sans MS"/>
              </a:rPr>
              <a:t>Výnos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nosy představují výkony podnik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lavní složku výnosů tvoří tržby z prodeje výrobků, zboží či služe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Musíme rozlišovat výnosy a příjm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říjmy představují přírůstky peněžních prostředk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Comic Sans MS"/>
              </a:rPr>
              <a:t>Pozor na záměnu pojmů výnos, tržba, příjem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75596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Může nastat situace, kdy všechny tř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 pojmy splývají ve stejném okamžik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VPD -Tržba inkasovaná v hotovosti za služb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Zaúčtujeme:  211/60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Jedná se současně o výnos, příjem a taktéž tržb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Comic Sans MS"/>
              </a:rPr>
              <a:t>Pozor na záměnu pojmů výnos, tržba, příjem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Může ale nastat situace, kdy každý z těchto pojmů nastává v jiném časovém okamži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Comic Sans MS"/>
              </a:rPr>
              <a:t>vyrobením výrobku vzniká firmě výnos – 123/613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Comic Sans MS"/>
              </a:rPr>
              <a:t>tržba vzniká až v okamžiku prodeje – 311/60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Comic Sans MS"/>
              </a:rPr>
              <a:t>příjem vzniká v okamžiku platby od odběratele – 211/31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Vysvětlet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ujte výnos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Rozdíl mezi výnosy a příjm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 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6:10:22Z</dcterms:created>
  <dc:creator>mirek</dc:creator>
  <dc:description/>
  <dc:language>en-US</dc:language>
  <cp:lastModifiedBy>Igor</cp:lastModifiedBy>
  <dcterms:modified xsi:type="dcterms:W3CDTF">2014-09-13T15:47:47Z</dcterms:modified>
  <cp:revision>18</cp:revision>
  <dc:subject/>
  <dc:title>Výnosy</dc:title>
</cp:coreProperties>
</file>