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7EE2E-F052-4031-BF0D-5A53DC1B67F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070A4-8269-4E32-9BC3-3107E6AFCF3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3B982-341D-4E5E-AE67-0F48F0DC236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9CE63-54C5-44D8-9797-D59DCE3CC1F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DFA89-6166-4022-9F1A-90210789BD5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7F655-A8A5-4EF6-9217-66B1702F388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831A1-8B51-4504-9208-062FA85196B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8FB89-EB88-4710-9AC1-85688307337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B0A1D-FE38-40E0-9A3D-06546CB257E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4443A-B4CC-46ED-A5EA-67415BE6FAB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C3D5-8749-4A59-B019-E0DAF0FE1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4588-B398-4381-BEFA-96CC5CBFD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69B5-34DD-4630-914F-1D73C100F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C6AC-38FF-4FB1-AAB4-3CE5FB76E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AFDF-0B72-4BE1-9100-7FFF2860F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E350-7D3E-432A-8487-8B7DBF97A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984B-A8D0-4308-8C30-4BC4534AE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F067-92A8-4386-A7A6-0B659C941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A8CD-1DB3-4FC1-AF61-3D917AA2E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8B2D-6453-4105-8005-9A343E0BD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CC15-C3C2-4C6E-A977-F902A65B5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1FAA-ABB2-4D0E-9B3C-CC217D2AC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8600B-2568-4C87-AF99-F94FD8A328AD}" type="slidenum">
              <a:rPr b="0" lang="cs-CZ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Výukový materiál zpracován v rámci projekt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EU peníze školá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Registrační číslo projektu: CZ.1.07/1.5.00/34.02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  <a:effectLst>
            <a:outerShdw dist="45929" dir="2028877" blurRad="0" rotWithShape="0">
              <a:srgbClr val="330033"/>
            </a:outerShdw>
          </a:effectLst>
        </p:spPr>
      </p:pic>
      <p:graphicFrame>
        <p:nvGraphicFramePr>
          <p:cNvPr id="56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539640" y="4724280"/>
          <a:ext cx="7561440" cy="11908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. roční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0/2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2108160" y="365040"/>
            <a:ext cx="6404040" cy="816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" name=""/>
          <p:cNvGraphicFramePr/>
          <p:nvPr/>
        </p:nvGraphicFramePr>
        <p:xfrm>
          <a:off x="468360" y="1413000"/>
          <a:ext cx="7991280" cy="411300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784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Náklady a výnos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 náklad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, opravy, cestovné, služby, reprezent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330033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330033"/>
                </a:solidFill>
                <a:latin typeface="Times New Roman"/>
              </a:rPr>
              <a:t>Účtování provozních nákladů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785960" y="4352400"/>
            <a:ext cx="6092640" cy="12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čtování nákladů – účtová sk. 5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0033"/>
                </a:solidFill>
                <a:latin typeface="Times New Roman"/>
              </a:rPr>
              <a:t>511- Opravy a udržování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tomto účtu účtujeme veškeré opravy a udržování (například opravy DM, vymalování místností at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PD – oprava počítače – 511/2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330033"/>
                </a:solidFill>
                <a:latin typeface="Times New Roman"/>
              </a:rPr>
              <a:t>512 - Cestovné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čtujeme zde náklady, které jsou spojeny s uskutečněním služební ces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atří zde např. jízdné, ubytování, stravné at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úD – Vyúčtování služební cesty 512/3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(v případě, že zaměstnanec obdržel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 zálohu na služební cest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330033"/>
                </a:solidFill>
                <a:latin typeface="Times New Roman"/>
              </a:rPr>
              <a:t>513 – Náklady na reprezentaci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čtujeme zde výdaje za pohoštění (občerstvení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elze uplatnit odpočet D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PD - Nákup občerstvení – 513/2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330033"/>
                </a:solidFill>
                <a:latin typeface="Times New Roman"/>
              </a:rPr>
              <a:t>518 – Ostatní služb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čtujeme zde napříkla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potřebu poštovních znám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áklady na inzer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elefonní služ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radenskou čin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robné technické zhodnocení u DN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ájemn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pagaci at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íkla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PD – Úhrada nájemného – 518/2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330033"/>
                </a:solidFill>
                <a:latin typeface="Times New Roman"/>
              </a:rPr>
              <a:t>Zaúčtujte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PD – Úhrada inze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aP – Pronájem kancelář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PD – Oprava stro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PD – Nákup poštovních známek (spotřeb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PD - Občerstv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Ing. Pavel Štohl – Učebnice účetnictví 2. díl pro střední školy a veřejnost, vydavatel vzdělávací středisko Ing. Pavel Štohl,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5T07:34:59Z</dcterms:created>
  <dc:creator>Ing. David Holzbauer</dc:creator>
  <dc:description/>
  <dc:language>en-US</dc:language>
  <cp:lastModifiedBy>Igor</cp:lastModifiedBy>
  <dcterms:modified xsi:type="dcterms:W3CDTF">2014-09-13T15:46:42Z</dcterms:modified>
  <cp:revision>17</cp:revision>
  <dc:subject/>
  <dc:title>Účtování nákladů</dc:title>
</cp:coreProperties>
</file>