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042-D3E9-4CDC-861A-9A9AAFA0E7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C817-B5F9-42F9-AB5E-B50BDF2ED60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636-16B1-4A8E-9F26-68736A68E0E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FF48-2943-4D08-9C37-D8A4F553B7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9520-701B-44B3-9DB4-10CB430D35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114-D211-43BB-A315-7BFDFC48DB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B5E5-D88A-44DA-AD4D-D16A5594EA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DAD8-54DF-4D14-8843-BCFE63A176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DE0-A3A5-4D55-AF64-06FC62D6EE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CEF-9A19-4C2D-B7E0-009729042C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838-EE65-42AD-A5C3-FA22F2F7BF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46D-C963-43C7-8BB9-11BA6DD0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692-52CC-4062-9AB5-C61DD2D1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28F-1A4F-4119-A5FF-EDC69AE2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C19-3FF6-4695-935C-0C350BA7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1BC-DD1E-45FC-9299-7FB1A13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47F-73BD-4C73-933C-9F76010E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DFC-CDCB-449E-A89D-25615021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BB9-020F-4F47-866F-2784428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C5C-0DC8-4489-AE02-25E4E314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3FF-D930-4F52-8BD3-5599D00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E71-4EDD-4D85-8E14-0EFC13A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036-70E4-4A03-B66D-78A8E27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1D95-2724-41AA-8B4E-7A93163C759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pisy, rezervy, opravné polo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sk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51 – Odpisy dlouhodobého HM a N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 zachyc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et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isy DHM a DN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 – 551/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zřizovacích výdajů – 551/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2 – Tvorba a zúčtování zákonný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tvorbu (zrušení) rezerv, a to např. na opravu DHM (od 2. odpisové skupiny), dle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na opravu střechy –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 (po opravě střechy)– 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4 – Tvorba a zúčtování ostatní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účet používáme pro tvorbu a čerpání rezerv, které nesplňují podmínky Z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opravu majetku, který se nachází v            1. odpisové skupi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na opravu počítače – 554/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čerpání rezervy – 459/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8 – Tvorba a zúčtování zákonných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pohledávkám (viz. neuhrazené pohledávky), které 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opravné položky k pohledávce, která je 6. měsíců po splatnosti – 558/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9 – Tvorba a zúčtování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zásobám, DM, pohledávkám, které ne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opravné položky k materiálu – 559/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pravná položka k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účetního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Čerpání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17Z</dcterms:modified>
  <cp:revision>18</cp:revision>
  <dc:subject/>
  <dc:title>Účtování nákladů</dc:title>
</cp:coreProperties>
</file>