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3533-2009-4356-9549-2A6896A572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FAB3-059A-490B-A486-1FADE31B67B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633-6FA1-4349-9F44-909915615CB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D6F6-BABD-4BCD-A854-8180000E36B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8DD9-E288-4BEE-9ACF-C41B85FCF61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E3FB-8D3C-4988-ADB2-F7B5855B205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4C5-FD86-4CE0-BB88-165F9BE1A6F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B7B-E0FE-4E16-8CAE-744592B3123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C6B-F5AC-4C24-BEBF-FD11B44A634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FB6A-14B8-4FE7-9523-1C8E9D5EEFC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3CBB-0884-4391-A217-0A3A48D9028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E5D-BD59-4B46-84BB-E70B388E99E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41A-09DC-4EAF-B4C2-630E3AF7A9A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66F-98EB-433A-B97F-451B5111D0D5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BA5-103A-4401-8FC3-C549E75C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2A5-E3E1-4B3A-AA3D-7110368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4A1E2-297D-47CA-9DEC-97F1F40C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443D3-6573-4974-AB97-9D31A4D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04519-3B83-467C-9948-C2F2D7D1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EA281-AB39-488B-B0AB-151AD34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71331-FDB8-4A5B-965A-6B8C8F8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4E456-5DD2-41FC-B5F4-493D5CB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7C910-24BB-4F2D-957D-E1CA56A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D468A-5841-4973-B57E-3CAC941E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80404-0A0E-449B-B07A-AF239BAF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1CDE2-F1CE-48FC-8221-B5A05CCF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28D-0700-4C78-973D-EDB831CE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6E56A-42D9-4390-8FD6-7AE3E87D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6984D-6F99-4310-8E35-9E8EF09B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6DEF6-AB56-4231-BD47-3DC3FBD5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D0007-2E5B-4AB0-B345-8448DF90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2E765-2300-46A2-923C-1514192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FF8E-7FF3-45DC-A2BF-77FFD22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211CD-CD39-4A94-8DFF-F6B05C4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B6452-D299-49E6-B7BE-21572A0A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7EF93-7E6B-4E53-BB85-A77B7415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D9A98-49FF-45E5-8F20-57EB5410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DB0-0462-47BA-8958-D76B967C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7F4FC-FDC1-4519-8277-823CB481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115B8-7D02-4B08-A98C-E610E307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02C5-551C-4333-A5F6-902DF31E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A8B71-08EA-49BE-A63E-D0CE2ADE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41A6-96AB-4931-8BC0-19F21654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6CF87-A4DA-4ABF-9722-3D4BF9F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9141F-CF8F-4F7B-A65E-C6ABBEF4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9184E-8112-42D8-89DA-65D69E1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E43EA-1C8C-4D3C-9985-7416117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01804-1B51-4F52-9725-036CD97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577-59AB-45E2-8291-5C4BBF11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6BFDC-1DD1-4938-B21A-217841D8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6CD39-2131-461E-8ED4-F8BA40FD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0EB8B-2A58-42C6-8D28-4C9DE75E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DC1D4-53C2-450E-94F6-A76D4A8F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9681C-A7AF-473A-B6EF-C6638121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F87B6-173B-4AAE-94ED-92E45377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7BC13-DE89-4811-B9EC-A57B228A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033A1-A6E4-4A0C-87FA-6A67F049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A97AE-E0B5-4F89-A623-9919512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0E833-FC96-4E4C-A97C-B54073E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2A4F-100C-4D94-BFD3-EE9778BC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26EBD-AEC5-4B91-A72C-38384AC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20049-82D1-4947-A223-A92BC45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623ED-0DF0-4583-AB29-5BC679E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CB4AA-B927-4014-B223-CFFE9BED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BB089-4B99-4CFF-95FF-832629BE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DE624-499D-4FA0-8164-346C1E01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76986-28F1-4C6F-9B4C-02CBB4FD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BF654-658C-47DC-8E8B-ED81F8B8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7A32E-89CA-409E-A742-6E09521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8B3AE-D6F0-4491-932C-7934E61F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6307-2328-44F7-9FC9-D69DADED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B065C-BE0B-4773-8A03-0AE41BC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B5CB7-3EDE-42A6-B4FD-B4E436D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65D38-535B-4933-9DA7-AE61EF8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3BE57-67B5-4C32-9976-80E7828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0BCCD-DCF4-48E7-A492-520FF44F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CDFB2-945E-4671-A30E-AF3E6D85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D7E72-18C3-430B-90A7-008145F2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1DC54F-731F-40A8-ACC2-AFCA2CCE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31007F-3CC1-4042-BFC1-322F73A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B617A5-763D-4E15-98CE-D49BC3A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B26C-4A01-48C6-AA82-940C6A76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A66EC7-0897-49A6-902E-3CB0321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5EB4D1-D025-4CFC-A73E-0167AA67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17D793-C977-4B3E-8CF7-92DC2D4A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B2F076-FBF0-4B27-9383-720AE38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640614-7A4E-46DF-A792-9FD74972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7893D0-1811-4A9F-B5C7-EB539626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C76AE0-0614-41A0-ADCC-0BE118C7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65D45A-E910-40E7-9683-9F77ACB4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C3BB80-50A1-4187-9463-5B015B06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958CE-F937-473E-9E9C-F73A24BB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CEF5-815D-44A3-A3DE-34DF213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3F73F-33A0-4B02-B27B-D0009A86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5CA81-1B1C-4F53-A111-4E13A558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12A26-A40E-4B84-9DFC-529E08C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680F0-D393-47C8-9F44-9179FDA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34C9C-91D8-4C9D-9CCE-747310E0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799AA-7689-4170-8C44-404551C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2B783-C8B4-444C-B2F6-D852AF2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F56BE-D1CC-4BEC-A331-D2F5380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4D9C3-9E62-41D2-AA44-1492FA3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5CB7F-EB20-4F81-B1A1-B3E035AD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23A-DDA8-4535-BCF0-D938AF1C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865B0-5645-4ECF-8976-9F349B9F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782D1-652D-43A7-BCD3-315C84DB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DC4CD-73BC-44DD-9EA0-A5C3FC5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5DD54-F91E-4C22-B8E5-3BF3D404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4942A-1205-48D1-806A-2C7500E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14532-CADB-4683-A36F-A1638172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A7DDE-DE2D-4935-9896-2BF1E723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6E090-D1B9-484C-95F7-A6599556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E5B06-EC33-40DF-9FAA-7A455F2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CD663-C27D-43C3-A5BC-B635BF0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FAE5-E5B1-498C-B727-1584319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F9331-DB48-4370-87E5-7DD97E3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283AA-52BD-4E6E-8CF2-5CF81D76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8AB99-5248-4C2E-AFD4-79981139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57BE4-FBCA-42B8-B4A8-76E0F7CB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44BBB-65B9-4C56-BE4F-2A86465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E1232-2FAA-49F7-9816-5AAAF7A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AE915-3505-4872-BFC8-A42BDB8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F6902-CAE6-4519-A370-B79F0DC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568C7-F050-42CA-864D-001F1006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D18C1-1DB2-4002-9D02-BA67353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BCC-FFC5-41D9-8620-82F54A9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5A9-2308-4FF0-B6CE-9C53A7B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B6AEF-352D-4985-9E37-CE75A8AC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26320-4511-4B39-B6C5-3E6A2CF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4EBE7-74DE-4085-9B7B-47E1F5D9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D831F-8650-4307-867E-2C85623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635B7-7B8F-44A8-A62B-6398539A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D39AC-7CC2-49A2-B142-1196466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996DE-6848-473B-9191-CC08934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C38288-0604-497E-96E5-3545C4E6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595B1-0575-4281-B859-4F72B59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A8211-3301-4E3C-91AB-DB30BE2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A02C-34B5-493B-A5E9-80C6EEC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B1C76-2FDC-4B46-BD9D-4767FCBE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A79EF-EE5C-42C7-B568-7A34B3C4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9B531-EF5E-4FBA-A451-667CE3C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6BA02-2A62-49DB-AAC3-930CFEA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A240E-3C43-466E-8696-8AB10B0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59EAA-C38D-424A-9905-6FD5516A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FA434-5E73-400D-B117-CCCBF502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40C44-0B4B-4031-814A-1E86D185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B3F3A0-904E-4D0A-8B66-95D2FA69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22C195-9343-4913-A933-E885BA3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DE46-503C-4ED0-9D30-6ABBE187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21F03-A0F5-4D94-95FD-75346E95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F138E-2AE7-495B-9054-B582ACB2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8AAFA-E989-45AE-97C7-FA96D37F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E7A8A-E83B-4123-ACF9-DE77292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9226A-B9C7-4159-9C01-77A97E7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41C21-9BAA-4CD2-9E36-3B10503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7F363-C45B-47C8-83D3-B6218735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A19FC-6FED-49F7-8A22-3E2DA320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91BD6-1647-417A-891A-907E2251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4CEAF-795E-4A32-A310-7759639E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6BC-70F0-47F8-92D8-8BF19000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A9891-796C-49C7-B3DE-1F9FE365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F33CE-283D-434E-AC76-64A12F97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EDFDE-BD70-423B-80E4-6C5FCA58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B5B71-00D8-42B9-9559-79EDB913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EA58B-C033-49A7-9234-C2F92AC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FB307-5F9C-4831-9290-9B84479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339BD-32ED-441F-9FA7-C0BEFAC5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EED2B8-79CB-4FDC-A88B-E96E844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1E8BE-C534-4303-A766-F1789BAC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2E72B-061D-4718-A92A-7CDC6394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E6B5-00F0-46CC-A10B-016A84A5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CE746-D204-4DBE-940C-32BD0133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33E00-28DA-4D72-BFEB-DA60C917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C8BC7-4C4C-4EB6-86DC-90721121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32B1A1-F591-4986-9BA8-49F49F4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EAFB5-BCF8-41FB-8D65-DB900681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9E380-3AE2-465C-9660-82B24D84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25FB1-A03A-48AB-BFE3-9B5165AC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04866-A8DD-454F-BEFD-DB5AF0F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CC829-E101-49F8-8399-11CB75A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7798C-7534-4FFE-97D0-4B41C5C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D47A-F3F1-4CD2-81C3-87455CDE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5FFA2-3ADA-427F-AB4D-6B1A805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F2ED4-B8AE-46C7-A443-D3C7F5E3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1D9A4-9239-4B01-A82A-CB756BED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EEE65C-5194-4768-B2E5-CA18877F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7929BD-F2CB-482E-93E5-58E19B89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DC305-4D21-4991-A8BC-581CD193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97A498-BACD-47AA-9ECA-04EDA60C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A74D2E-6C54-46D7-8FED-15043FC1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07E2CD-B263-4EC1-829F-EC7254D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985FBC-2D6B-4688-AD98-F9CF0475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4873-0342-4EE1-8E84-8706554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8141E-DAE4-40F7-AA97-C8366F1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4FF7C1-9B73-4D9F-A57D-E88455D1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D4E05C-57BA-4E8E-B586-14C13EF4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4D6FF-CC0B-45E9-99CA-2220B8BA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0A919-5031-4289-A454-166BA470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8CB112-34ED-4084-8B46-6D177FE3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E0AB9-17A8-4A91-BEFB-F462DBFF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5282A8-A239-4CCC-AE55-54E8AE14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845315-8D1F-42BD-9775-E0A7CA70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645F03-CAB9-4630-9D77-ECB7C7C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22D7-EC8B-4336-A1D6-460EA411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99CD8B-ADED-441C-B0FE-96C94B99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847795-83E1-4BB7-A185-68D6341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1F9B30-218E-4860-96D5-2B483E8C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32BC7-1AD4-46EC-B694-143FFA8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AFE23D-DD6E-4FD9-B956-5965F1C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DB0108-9208-4ADE-B421-9EA18BA7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E91E0-324C-4F8B-872C-9B2D393C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90C917-913C-4B5F-8E45-ECCB327C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C00FDE-C748-4DE3-B76A-4F32840D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FF52F6-5122-4D04-95E4-09809486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728D-D38D-4C72-88E6-34927635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AACCD8-CB22-4E1E-BA5E-2B93D80D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0FAEB-70D8-44D2-9C82-98B52970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1F3127-92B9-4A01-9348-B8EB49E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B7275-0F64-45A9-A3FF-1307532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10AD7-317A-47C0-8F6A-9FACAAB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F56AFD-5A35-41F4-A92E-684B079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2879EE-CCC6-4079-9E23-70DE761D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0DBC0D-F691-452E-A91B-C803E28C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9F8249-F73A-4E6B-A7D1-9194E195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2A0EF1-F57C-412D-857E-29B9075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9FA8-69B3-4FB4-8C1C-7290759E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3EAFFF-2A18-4805-BC57-7274108D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AC6359-7CB1-4D34-AB45-5687135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D0DE38-BD14-4500-9099-9F0F14E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717F31-4ED1-4C1F-A260-47D718A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B9D865-880A-4045-AC68-5AB1EBE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6F26E2-4A73-44C8-8DAB-4CDD2F5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67158F-A455-41DA-A842-1B7C9E7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1C27EA-2FF3-43A1-8F87-8455C4C6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8343BD-4654-4512-9517-A48CE35E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592D86-A49D-4202-8293-EA831387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299-98A0-43E1-A7A4-C05A7185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0ADD-3D10-4280-ACF9-46C22F4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A94C5C-9CA7-4AAE-BEE7-2BA10809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D76443C-F248-41E8-AABD-C55B989B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942935-E0A2-4AB6-92B1-FEC10661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61B495-7CA3-4B11-8D3A-7E7D0301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A9B1E0-B0A4-476E-AC10-2689FFD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5304B5-6045-4FC9-87D9-49893DD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D1EA4C-3A71-4C78-AF0E-5F9E020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F6CBB7-B208-4135-9FE6-CA6D00B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174908-F2E6-4C5B-8727-2A5EB9C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0E38BE4-8451-471B-B9CA-816181C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EE59-AD71-47AE-9A1C-2F5DAAA6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8CBE271-ABC1-4D15-8717-8507619F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8DA676-FCB5-40BD-93CB-108C662D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C13759-FD4C-4ECC-A928-6546054D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E735-8F7B-463D-9882-2A612202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70A7-471C-4B8B-BD01-0DF4042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F905-8843-4AEE-8398-2F0BE8F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5683-80D0-4F6D-BB8E-8D011A0D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B9C9-085B-4731-892C-936DA097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396FB-DF9A-4A94-9C1D-C1578748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C67A9-7C34-4472-8993-6DFA0F08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EBDE-DF16-49E3-B5D1-56D7EDC0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777-D792-48FF-AE6B-2C3942F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34A7-AF12-4A0C-BF9A-0579EB0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060F-9A05-40A4-B581-91BF3A04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8F36-FC21-4585-ACB8-D17D5E1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FB4C-5EEF-47E0-BDD2-8FC01B9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F636-0C15-43F2-BDBD-5C64CFD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E16A-1E73-48F5-9FD1-A6A6D61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6A1E-9C2F-49D9-9087-BB792E9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5DBE-DDAA-4EA6-8883-06D25C89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12B4-FE4F-4CD0-9665-CC852080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8EA37-1566-402A-AF21-8121C071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530-C114-4302-A15E-01601180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3617-B84A-427B-983C-02F706B9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23C3-39A5-47DE-B3A2-926FD4BC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3BC3-AF21-4084-863E-4D1383B0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7983-0115-4E0D-B434-5AE9CFB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AA07-3287-4584-8231-F70BD84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7CD47-6C3F-4F69-B7B4-6B884E2D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23CC-A604-47C8-886B-66825F2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2F114-7AB4-40F1-8126-CC11582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E311-996A-4A8F-874F-9CD034BA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A5396-6C04-4276-BB34-E1070FF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3EB-AD3C-4AC4-9C7F-9D003F40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40E8-70A0-4D99-B7F7-BE333FE9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975F-29F0-464A-B1AE-89B15958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184C-D094-4A32-95BE-3EA76C1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CC91-87C5-444E-861A-7C24422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7FCB6-B1D4-48CB-A5B3-36369300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D66E-1E43-4F86-84B8-9506A2F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E234B-419C-4F6F-9249-F2BBFDD6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0E58-3AED-4B06-8BF8-28D7AA01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D5648-0C97-4A43-BAE7-31DC33C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803BD-EA0C-48A7-91E4-162986A3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4A3-1AC3-4ACA-B01F-A2B38E6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6415E-3765-4232-9320-56226841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C8B5D-AE6F-42BE-86A9-884043D4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5C80-23B5-42F5-B2DD-54BD5BAA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8FFE-906B-4676-A3BC-8227C2F0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98E0-C472-4910-AF64-1F52A02C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2C1F-0E6F-4B6D-9A5D-1DE349C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8F2CA-C124-4B42-ACE8-8A28B742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F95D-6EE6-43A3-AA2C-73892E19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1CC1-D463-4B4C-9C62-833D3C5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19D0B-8B75-4715-9BCC-620E44A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251-E1CD-470A-93CD-C57CCFA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FEB3-81AF-4A55-8F36-6BD63DC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F078-7C67-4418-92CA-E02109EE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14E1-7EDF-4E12-8BEA-BBE7CF13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ABA3-1249-45F3-8462-94AB22D0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83CA-C565-4839-BE0D-A4DC2BF5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CD84-097D-4A89-B6D0-57FEDDDE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2ACD-5BC9-48F1-883A-96555154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F7E9-2837-4CBE-BA1D-5762361B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D2777-37E8-40E4-8F6F-DCDE2823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82D94-0B86-4905-8AA9-DE1246E7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932-CB1A-400E-ADFA-FD44C99C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890CA-F3C0-422E-A2BF-1928F795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6720D-C156-47FC-822D-9561B6B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E5694-8D9C-4E31-9AED-1EBC1E6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9FC6-DE76-43B4-A361-759A9DB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B18E-954F-4420-BF70-79366078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F96A-263A-4DC0-B011-B45FB902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FBC7F-CD6C-406A-AD0E-38C343F3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5CC6A-451B-49BE-816E-7714301D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2140A-21F7-409B-AD02-B9412BD9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A49DD-2763-416D-B319-68BE8361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88E-C21D-4ABB-8FAC-6C76E0CE9A1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6E8-C951-4B5A-BC7C-3F05CB990B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6D7B-9D6D-49EE-8ADE-3F4199EE4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617-3963-48C0-BDA1-DC843E0E0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D8D-327F-4D11-BD5C-611A65356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A6E0-0D20-4654-AF6B-C001FB6D0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DE62-B642-4D98-9699-5EF5D50F09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9AB2-2870-497D-9825-20C5DC3B7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8415-E7FC-4D04-B42B-D1B44249F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2CCE-3437-46EE-B7E6-5BFE5D979E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00E7-3B8F-425E-A301-E2FA5DBDE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22B5-45B8-4577-93B8-7848845482C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CAA-00C2-4310-90D4-76C75F66B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E8D5-F910-4144-B2D5-7DBD3EAD4E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7410-3278-4B7B-BEC9-1937E27940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DF7E-CD13-429B-93AB-68276467F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A369-0A43-462B-AEEE-55D85CA95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70B-2971-4001-98BE-5D4C6C397A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A2A9-87C1-474B-BA36-461E80AE0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914D-534C-4F46-853B-ECAF3FD9C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CACA-DA8C-4985-A399-6F7D72C3D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2FEC-6296-44EF-BF49-D765A60308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6ACD-D162-4258-96A3-42DE0753B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FC1B-C7CF-453B-89B6-CBF9A9A5C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A027-7E63-4ABA-A287-083FD50FE0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097-2D58-4A6B-94A7-831FDDBEF2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8 – Ostatní 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32364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ento účet se používá např. tehdy, pokud zaměstnanci předepíšeme k úhradě pokladní schod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k úhradě pokladního schodku - 335/66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88 – Ostatn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107640" y="1828800"/>
            <a:ext cx="85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omto účtu se účtuje např. nárok na náhradu škody (která byla zaúčtována do mimořádných nákladů), dále opravy výnosů minulých účetních období (pokud se jedná o nevýznamné částky)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řiznané náhrady od pojišťovny – 378/688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Prodej cenných papír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Úroky z běžného úč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Předpis k úhradě pokladního          schod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Kurzový zisk ve valutové      poklad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výnosy, úroky, kurzové rozdíly, přeceně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finančních a mimořádný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335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6.-6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1 – Tržby z prodeje cenných papírů a podíl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cenné papíry (např. akcie, dluhopisy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akcií – 311 (378)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akcií v hotovosti – 211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2 – Úro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se účtují úroky z běžného účtu, z terminovaných vkladů, z poskytnutých půjček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běžného účtu – 22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úroků z poskytnuté půjč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íkov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– 355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můžeme použít tehdy, pokud máme devizov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vizové účty nebo valutovou pokladnu (obchodujeme se zahraničí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ledávky a 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které jsou vyjádřeny v cizích měnách se přepočítávají na českou korun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v den vystavení (přijetí) faktury dle kurzovního lístku ČNB. Pokud v době úhrady je kurz odlišný (pro nás výhodnější) vzniká nám kurzový zi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rzový zisk může vzniknou taktéž na konci účetního období, kdy se pohledávky, závazky, valutová pokladna a devizový účet, přepočítává na českou měnu dle kurzu ČN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zboží do zahraničí  1 100,--  3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zahr.odběrat.   1 180,--  221/3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Kurzový rozdíl                       80,--  311/6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4 – Výnosy z přecenění cenných papír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4360" y="1484280"/>
            <a:ext cx="77040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při přeceňování cenných papírů na reálnou hodnotu (tržní hodnotu – dle burzy, nebo znalecký posudek) na konci účetního obdob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ceňování s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netýká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P držených do splatnosti, vlastních akcií či vlastních podílů a CP představující účast s rozhodujícím nebo podstatným vlivem (majetkové účasti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cenění akcií (k obchodování) – 251/6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5 – Výnosy z dlouhodobého finančního majet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6 – Výnosy z krátkodobého finančního majet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yto účty se účtují např. přijaté podíly na zis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u a.s. dividendy). Podle toho, zda máme akcie k obchodování (krátkodobý majetek) nebo akcie v dlouhodobém majetku, zaúčtujeme dividendy na účet 665 nebo 666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odílů na zisku – 315/665 (6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Přijaté dividendy – 221/3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19Z</dcterms:modified>
  <cp:revision>36</cp:revision>
  <dc:subject/>
  <dc:title>Účtování výnosů</dc:title>
</cp:coreProperties>
</file>