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3360-1314-4BAB-8D4F-4273D4EFEBF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8BB1-E0DB-46BE-86FF-A38178E1B10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2A61-190F-4EBC-849A-63F9C61C0123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CD8C-1199-43DE-976E-E52923BEBFA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3E5E-E3AC-4893-9EDC-EC11D6E8643B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86DF-0C6C-4B83-A0C2-E5DF6BCA275D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6B8E-D1E5-46E6-AB2B-31B0CC48D656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42D5-E832-4469-80E1-924ADC63A019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7A34-B711-4AA2-9887-4724654D3D30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6ACB-B7B4-4DFC-9DBB-31D19F50CC01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D405-344C-4A61-A4FB-7A8C315A25FA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4D7-8DE3-4319-9312-96022900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516-4249-4AFF-82E5-117D58A5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59CA6-4AF5-4565-B1F0-D3E23569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6B6F4-1042-4869-808C-71F11BBA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DCFFF-C424-4246-9996-2C1FC3DF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DD667-9937-4DE8-90E0-3A732E09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EF517-610B-479B-A555-E7DA481C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8D484-8F98-4D94-96E8-3CC6181A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CA13B-0810-4E11-A871-5F4B024A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CB55D-0A14-43E7-BDD5-2D3BC0B4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7C7ED-B54A-4890-B415-1BBF58BB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AC4BC-130D-43D6-888E-BB742391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1BA-0247-485A-B24D-A4A9D21B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98C5E-2032-4267-A1DB-195121CF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E83F4-0887-48BC-8594-2B0F39D5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8E414-E4F5-4091-A81E-7D2FB81D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BBF61-8738-46FC-A9D7-16487AB8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F9607-CD0B-4EF0-B2B4-4812AA3D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E970C-1035-4EBD-9548-767CFC33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3A1B5-A07F-4B2E-84B5-6A3084BF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91778-20E8-4625-A03B-1697C80D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34B96-CEA6-4E8D-A9B6-9F87C1DF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C589C-35E4-4A1C-A5CD-37429FFA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8BC-97A2-48F2-A589-2F28EFF0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CD93F-52FA-4A0D-AEA0-ADD40E56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9C2BE-857A-4BCE-AD0E-ECA1AF40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0DFA2-E471-4FFC-B7D8-30081786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36092-5CAF-4808-B59A-2A514427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2AF0D-6C02-49AD-9316-9528B5E2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9EDE9-CAFB-442E-BEB1-D912CD5D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28514-A9FD-4CB2-BC32-7045B3BC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7CC87-7B3F-4A73-A029-772D2BEA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BD37B-7FE4-41FF-B825-1EA49353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18980-79BC-4850-9A29-B1EE9DB0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C0A2-8096-4A83-9765-6371762D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175C1-73E1-46AC-8E77-28C05CF5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7915F-CEEB-4812-9895-0C04FA4D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DB06B-46E0-4700-AA6B-962C1344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1BEB8-3AB7-4621-9EB1-2DB21E3F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F2A24-946A-487F-9B20-AC40B537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90D02-637A-46F8-8A01-5A4DAB5F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E87BD-A5B9-42EA-9C77-C6E9270B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B9652-EFC6-4103-987A-ADBD646B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A3452-9648-4B34-A34B-7DB26C4F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A00B7-6E91-4553-80A7-D294710C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F5F5-A1DE-4787-AE52-726D3D39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058A6-E6E0-4B01-A3DF-1FFF3C35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DCE61-7D92-46F1-A2CF-E04F39B9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E624C-9E77-4976-B205-B106D90B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F067A-2C43-4BC0-9FDF-ABC48571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5A93B-46A2-4C3E-B6A5-B9FF13D6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B3ED9-A09C-4528-A148-18FAFC01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2BDA0-C82D-4AE2-AC0A-643E5583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ACFEB-FA65-4A80-BE8C-70EAAE48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B35A9-A469-4422-AF49-494DFDBB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596C3-9D51-429B-B549-2128EB65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92ED-F043-47FE-BDBD-F4259E25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EA655-D60D-4433-A2BD-BC3D9C9B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F6E1E-98AA-4EFD-A467-0F95E947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BE375-96FA-4595-A5FB-58FA4477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E94CE-A940-4116-BE41-7D7E1A45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9CA86-08C3-414E-A7A3-3F11297F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E4FCB-2961-4E13-95A3-76F78119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F8201-F0C6-4C8C-921B-0E34E440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BCA356-C46A-443C-B912-5E44BA07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84CBE3-C430-47E0-AF24-4978372A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B677A3-F8C9-4B2C-91D8-C4E6AD1F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6BD3-06DD-4C40-A10A-83C60305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5558DC-4AE7-4067-8323-18EA2D48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5ACCB3-AA9C-4671-B751-78524A1D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79260B-3517-4F5A-A1A1-88D252BD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9B20CF-7358-4CFD-B420-37F4429E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DCF2F9-3EE6-45AB-9B20-5930C1C9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79CC71-B715-488F-93B2-7965BB7C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D7CDDA-4E73-46CF-89C7-82C32F0B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EAAD8A-5A5C-48E3-9A7C-0DCD12FA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5709DC-74BF-4A92-903E-95BE8215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DE357-5008-461C-B8B0-B98B66E6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CDAE-F567-4BD8-95FC-23B1C6AC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29FD92-BB3C-4D2B-ABDC-0B400E3D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F684C5-7432-41ED-9D3C-AE46A8B2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0627D6-C2D0-4BFE-8380-F307F4BC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ECC718-EC02-4CF3-8001-6BEA6653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CDBCA2-9BB0-481F-BDBB-7D940A7B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6491F7-2A14-4B6F-951B-1F7955AA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F91DE3-D4F6-4461-94D2-EC0BCBD8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3687B-576A-4CB0-8C53-00F2FB8D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24C225-4F8B-471C-AAE4-C52B3978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B515A-5362-43BC-BF57-1B43540A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F50A-03FB-4D12-9643-1556EEEC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D042FD-EAD5-4890-BD4B-8C89FD59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147795-C47C-4AA4-B7B1-F0E0B1C3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D38569-0E00-4A0F-8E7D-6D925D26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F38AC8-9EA2-4C53-BF1E-75F23104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34AC9-7BDB-4253-81E3-9CAA811C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CEAD85-D18E-4A32-88F1-395046E9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5C6B2D-C55D-4DA7-8F67-0239C55F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668DE-AE58-4517-B7EC-F94D542B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A7CE6-3FFD-40B8-A807-AE98152B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5252BA-E4AB-4D6A-AD2E-451900C3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8478-FF5A-4245-8165-C4108DF7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B81C6-666D-4A42-839D-B9F27956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878579-BE30-4EC8-B94F-280881EF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094D76-D4FB-48AA-B0CE-0BAAE76B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E4F75C-14BE-4423-84B8-315A20CB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803B8-B125-4747-BC30-82B5434D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CC25F0-C463-4EF1-8F20-B36F2E0C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0CD3C0-88E2-4C9F-AA4B-44FF5DE0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A3B95-4BAD-4116-90E8-BB2925F1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491607-0E1F-4EDA-8441-EC90A093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DCD30-5C76-4A32-8011-11EF337E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B0A-A65D-4C7E-853B-A8387100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913A-F49B-4967-AE6D-E2C3B6A8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372DD-B813-4F27-9888-09FF8234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CECC9E-7B79-41C4-B4F1-03F73333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CBAC3B-2F1E-4F24-B3FD-FFC2BFEA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E2997-666B-4C27-B180-56414DD1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243FD-B7B6-4AD5-9A1E-369F61BE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C7228-8CDB-4832-A861-4092CDE1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D0317-AF75-47F1-9253-6192472D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A06611-237E-4266-AC33-16288874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1D0C66-D3C3-4FAA-B335-35F4EE8A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9273B2-3EED-4F0F-BCE9-7FFCDDA7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A562-DE92-401C-8C65-4514CE00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102A2E-A1F5-43E3-BB57-9B77332B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C6DFB-9709-4961-9C86-0403EABA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D8AD0B-1BA4-4210-83B1-1A6D9857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30FA20-BE8E-45AE-B638-9005C1F2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23EB4A-8C67-46B2-B343-88A27116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B7A3C5-71CE-42EB-9771-E96941DC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BC4E38-60D6-4127-ACA0-ACE6A98F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B3150C-8C15-480F-9A40-CAEAEE42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716AC8-68BB-4C5A-9690-1483FF6A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C41905-2257-4171-9D12-1A74587B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53A8-85D9-4F07-AFE6-B845B5FB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3F76EC-A555-45A2-BC3E-446C6FAA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95ACDC-62AE-4DB2-9FC2-6C555F11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BEE1F8-8510-422E-BE0F-F6F5FD05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EDB260-CF52-4EB7-A81C-2B52063F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2A9DDF-2365-4C18-B747-30451BC5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7698E7-ACD9-4328-971B-277A3AE5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A6AC28-9C26-4880-9D5E-1D6D9C6F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E16DA9-ACC0-44F1-897D-04BA0E02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EBC119-11D9-45D3-BAFF-E8F0215A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420072-6D66-4E44-9D7C-97507E4E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59EB-1681-4AC9-AB34-DCDA4A28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38317A-40BC-4E7F-8DA8-719D237B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6AC0F5-A994-4891-8322-71B7167D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FA6A48-5623-45E6-B65B-91F8E7F2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147420-8044-400F-A562-7235B506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4A63B4-8F44-442C-8693-DF55EBC8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EADC05-2515-40BF-9755-A89292F4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F9AB52-A4EF-4FB0-A207-F321B04B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6B3A72-1D39-4D38-98DE-DCFDAD0A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C116B1-61FE-4CA2-8324-64C5E679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7A2708-A17C-427E-BA5F-49FB590C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59A3-7877-4541-8612-F93F3AA6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17288A-F723-4ACD-8CA0-D8CB3350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BA688C-D6E2-4805-8CFD-B307C438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A35A3-6109-4C54-B752-0F95376A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B51784-AC6B-4325-BCD0-45F6783E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8829B6-64B5-4A33-B82B-9FF43211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74D4F0-F934-43D6-9C11-D99473D3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C2DD23-4347-422C-9382-A449BF34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CE02AF-CE06-4B24-82AC-C0478589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F2AF69-A468-45B0-A671-3A4C9692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178A66-B51A-4710-81AA-E51683E3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0531F-7C36-4A14-B701-4B3CE148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437B7A-1424-4CDD-B684-D1FECA45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FDBE18-3E9E-4A4B-9052-005EF9ED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B4579E-6FE8-4147-9386-C6CD8132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0F365F-5FC3-44D7-81BC-652298E3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C87DA8-B26E-4BEB-974A-09DE91B0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97F6DA-75B8-40BC-8BF5-7CD7B97A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6ECD63-B1D9-403E-BC73-15CF87A6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1D1960-C765-4CA9-AD37-F9550047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619506-9584-44B5-987B-C2499675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094808-39CD-4063-AEB7-B27A169A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BA423-C9C4-41C6-89CC-52FAF65E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202163-5CFF-4FBB-8C21-2B7FFF83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C3D052-206B-41F4-AA17-19636A4E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6EA99B-9FA2-49D5-A1F8-24040C80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BE3F15-19ED-48D5-A97F-775F2DB4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90003D-058E-4F69-9390-8EF1F7E8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D32888-A5A5-4DB1-8D5F-966D57C9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36736A-84FE-4C83-AE4F-D84F3364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47E6F6-DAE7-426F-8649-145E9299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66BE18-BF6C-4949-82E6-74C65FC2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D5CADE-3665-4D5B-8D91-76E57C91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7E9AB-DB2B-423A-93BE-FBB91904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7EA357-74D7-4FBD-ABC5-64A31B69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96FB34-D01F-493A-8BB2-CE438229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9986D1-5691-43CC-86C7-1C8778AF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FD3042-65AD-42F2-A53A-CE959B43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0EAEFE-B9EB-44BF-B48B-F98D16C4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BC605A-00AA-4CFE-87DB-DE21F72B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F45332-2E42-4490-B0CD-1B9CC25F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910CC9-7EBB-4288-95A7-1A373B1A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F5F1D5-F8E3-4AD2-AB72-FBCA705D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61D8D2-9DE7-4789-997F-770A8799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6A7A-DBDC-48FC-B623-6F31A34D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3E87E7-0C1D-4C2B-824B-DDD2AB26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5C1935-6158-46AD-9E9D-17356972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A0DFB7-E45D-40A8-8BDD-910F5BC8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87F63E-BE0D-4674-9F59-C423C706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BC50F6-250F-4741-9423-CEF0C719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8C2A3F-87B9-4935-9ED0-C6A50FDA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4A7EDE-DF16-42CE-9353-1243F5A5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51219B-B397-4F57-801A-7FDA459E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9D873F-DE54-46AC-B587-DCFC8419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C35A94-FC6A-4E42-B2C6-B84502E8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2928E-BDFB-4DB5-B2CF-240FA3F8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484356-C137-4F34-805C-E02A348E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02529D-1C8A-4212-8310-55B1252F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7D6509-323D-4DD0-BCAF-28D75EBC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E9401B-4F80-4658-A33B-C1B9E310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A64BFA-0A98-4000-BA25-2261D40B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CFA07D-7904-4C0F-94BE-2245F5B4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F2F44E-BFD4-4091-AE08-2779FF61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4D0A1B-7258-44AF-8EB0-8592A268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A41FBE-0CE7-4FB5-BBD2-EC4120A7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EE19BA-EBAB-4217-98D6-AF02D383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6DB-F6CB-4C74-AE4F-BA738834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F63C1-8DF0-459A-910D-BA05784C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5A0E15-FAB2-4DEB-92AD-163D4403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28C8446-A2BD-4E8B-BFFA-6B881810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49F8DC6-B118-49A7-8F3B-71994417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2B087E3-00D8-4225-9DC4-8F2B5BE6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168F9F9-B3C1-460B-80CB-E8E8B223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FCBF30F-76E1-40A9-82C9-F4843989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161AE3C-B7B6-4CD9-AC6A-F8ACF600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B4344B0-8FC7-4EAA-B360-A4CD7459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7AC323B-9B6A-4C95-9027-4E932677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A3D6E0E-886B-4E4B-9252-E3503E6B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262D3-2936-4439-B481-B4379CE2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2F1DD3A-53E1-41D2-9991-37F50A72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67A7C0D-817E-404A-B67E-A8C32C24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91E48C7-C586-427C-B1D4-13BB2BA0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61BD1-74DD-4DA7-8E18-FFCF1DAC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909E2-CD1A-4514-8990-EF571BBC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C43C-0E2B-4DFA-A577-D8D1BFF9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E5BAC-EB0C-4A00-99CA-401B5ABF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AD65F-9FFC-4018-AE20-4E579AB7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5EBE5-C391-45B9-8350-AF1FD26B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14B53-11E5-4CD3-B2C6-775D8A85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E8AC1-2EBD-48B9-9F69-6A69557B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58A-F9BC-4081-9386-724B2817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2CE9E-8C9B-4C9D-8263-A2117B05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3BD9D-38EB-4DDC-BA08-6D93DC9F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27328-BCCD-4ACB-8B76-4279C82D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9297-2708-446C-B34B-50020012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16FEE-DB3A-4CBD-8D4A-64D1FBD3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6C772-524B-46D3-BFE1-D9478F96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737B3-6087-48FE-ABDE-CA171147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2C6F1-0C2B-483E-A66F-C88E7E97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2BF0E-3E9D-4EF9-8BEE-6D9D23EE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A8A1B-0F5C-4206-9925-2CBAB637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899-3600-48B6-85AB-AB4F2CDB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4B876-0425-4D26-AF5A-0B343447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7A502-F4E0-4AFA-855A-67E380CC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64987-4B84-4EAC-9B0A-96CCA4B2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76937-8BAC-42EE-9D94-5D84FAFF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5A588-2FC7-418F-8913-9E8C708C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A1FC9-E790-49F2-9883-4F3D0A1A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DA22A-86D8-4F69-8A03-83A0E7D7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7819E-A011-42C4-808F-FDAE7A6F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2DCAC-5358-4574-8910-2AC5FAB1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96F24-ED4D-4404-9DD4-DA74FC95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193-D3B9-4F4C-83A9-0BB1CEA2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B4A31-0B04-4783-ACAC-7B087225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11F50-80B4-4F19-B885-26E00104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20F2F-B6C6-4105-B845-6DAEAA94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825F1-F486-42CD-9579-31CD4507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FE1B6-8BC4-41B7-B405-F744A753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A1841-5319-44F9-B96B-911A34C4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C61AD-B975-4BE2-8DB1-2B3FDB73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CE892-05C1-4EDD-9F0B-B8EBC0F4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09693-3BA2-4406-B9B2-0E9A6D6C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8DC68-9656-497F-8DEB-C737EB44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5024-86E7-4B2F-9474-57D38A84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E832F-34EE-43EA-8264-C20AB845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EE546-990C-481A-B75E-B01F0125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CD97D-4743-4A07-B1D7-8AB7F957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DB9EC-58E1-4BFF-9565-E4C4D04F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E56D8-2A1A-49D2-AD2A-122EF700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98DFD-E6ED-4A78-A9DF-DE304868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4532A-A75D-49A7-8F20-80989B3A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1D847-8345-439C-B234-B61046F3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10585-2C68-4265-8F5C-1945BEA1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7BEB1-72EF-45E5-BF29-BE99191D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7EB-F6AF-4B5A-B8AA-1C4DF6DE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5DB10-E4A0-45ED-BC14-29C5719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7E465-8145-4C21-B74B-F80DDEDB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49D02-865B-474C-8819-630F213E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3624C-AC77-4FDE-A7A5-0DE2128A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882AF-14D0-4D66-B470-E19D1D56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37C70-5B36-4825-B098-6BAB2A1C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0E979-2CC3-4B53-846C-346FA926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28FC6-9839-4658-9132-63DD4DC8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C0CB6-D59B-4DEC-989F-4EC841B5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B61DF-58FB-40D2-B9F1-4452FE81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BA2-4DD9-416E-83C6-95F639E6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60BF6-47F1-406C-9F4A-1A6631E0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33893-9544-430F-AFF2-68F783C5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E49B7-63EF-464A-B039-8DF3E99D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21545-30D4-4B16-ABEE-D64771EB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66ACB-1904-4767-9323-3BB1DA21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C7CFD-F0E2-49D2-B5D7-A1C703FC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77CDA-EB46-4D81-BA05-E06AF442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BC73F-154E-4AC4-8DDF-C73DC135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27B5A-0E45-42B2-9550-C367D3B1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126F7-46B7-4EF0-AAEB-D2563669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C93F-6279-4044-8481-3FEBC111827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AF2C-8E57-4CEA-81FA-2A016944A9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6CA8-FCC9-4E07-9545-B826135D20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AAB2-8379-4521-8907-600ECBFCBD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34B5-4567-442A-98CB-4B763B231C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6FD5-3DAE-4D22-B94B-93FB665E22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9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0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0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0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1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1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1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BF7D-F498-4F4A-A185-ED0F8A0AC2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6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7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7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7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8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8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9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9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9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9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0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E7F4-27C3-4D0E-89C5-9DED114346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3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5502-EA15-4067-9B56-4ED83245E0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3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4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4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5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5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46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6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46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46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6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7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7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8DD3-BAA3-4DAB-A244-C5AE32B040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2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3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3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4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4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55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5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5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5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5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5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5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56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6E32-60C7-4DEA-BB2D-50149BEF4E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D743-9132-47F0-9137-E2336E39C3E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1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2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2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2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2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63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3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4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4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4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4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5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AFB5-B59C-4509-9CA9-B1E53E6C78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9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0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0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1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1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1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72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2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2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2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3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3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D8CC-58E9-427D-8AB5-A273FECE04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1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1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7EE0-0888-435D-8335-E59D0F69F4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7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8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8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8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8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9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9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9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0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0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0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0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9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E48F-9044-4902-8A52-4942A5F831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5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9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9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8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8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9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9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BE39-F72F-4F84-9C19-5D257ACA7F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4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5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5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5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06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6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6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07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7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7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7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7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7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8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dt" idx="7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 type="ftr" idx="7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 type="sldNum" idx="7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AED5-7D1F-4318-9218-4E8379E6B5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3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4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4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14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5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5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5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6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6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6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17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 type="dt" idx="7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9EEA-E703-46D3-927C-731F00C4D7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 type="ftr" idx="7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B803-000F-4EDF-9F65-DCBBF77BAC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80D2-A28D-4691-9C01-C62002A922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4EEF-893D-4F23-A1D5-8EF53C5AF2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EB80-0E7D-4E56-A5FE-5E76129E99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1D77-008C-4557-8337-A40B94EDA6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A1FD-9378-48C9-B149-64CA86A6E4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EDE7-EE3E-4A2B-A316-8594B25C05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225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6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8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tržby,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Účtování provozních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tování výnosů – učtová sk. 64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755280" y="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1 – Tržby z prodeje dlouhodobého nehmotného a 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prodáváme náš DHM a DNM, který prodáváme např. z důvodu nevyužití (pořídili jsme nové auto a staré prodám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podnik. vozidla – 311/64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stroje v hotovosti – 211/64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42 – Tržby z prodeje materiál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685800" y="1828800"/>
            <a:ext cx="769608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v případě prodeje materiálu (např. z důvodu nadměrného množství zásob materiálu, nebo v případě, že přecházíme na jinou výrobu a tento materiál se stává pro nás nepoužitelný atd.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materiálu – 311/6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materiálu v hotovosti – 211/6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4 – Smluvní pokuty a úroky z prodle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fakturujeme svým odběratelům smluvní pokutu a úroky z prodl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za nesplnění podmínek vyplývající z kupní smlouvy (např. neuhradili včas naši faktur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Smluvní pokuta odběrateli – 311/64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6 – Výnosy z odepsaných pohledáv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tují se zde úhrady pohledávek, které již byly odepsané (v minulosti jsme je již zaúčtovali do nákladů na účet 546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hrada od odběratele – 221/6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8 – Ostatní provozní výno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ento účet účtujeme např. čerpání dotace na úhradu provozních nákladů (dotace na mzdu absolventa), výnosy z prodeje cenin, přebytky zásob při inventarizačních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bytek na materiálu – 112/64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Dotace na mzdu absolventa – 346/648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aúčtuj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V – Smluvní pokuta odběrate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Dotace na mzdu absolv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V – Prodej vyřazeného au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PD – Prodej materiál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9:27Z</dcterms:modified>
  <cp:revision>24</cp:revision>
  <dc:subject/>
  <dc:title>Účtování výnosů</dc:title>
</cp:coreProperties>
</file>