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6FA2-A8CA-4864-9861-71B6BA00BF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AB2D-5E66-4370-9BBD-4F14307734F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0134-03BA-487D-B6B5-34211C977A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0F89-60DD-48D5-B838-5A78C32A5E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F5B-FAA8-4035-BBA9-09BCB7A3D3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4D1-FCEA-49CD-97A3-018971FEC1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CD30-6C7C-47AE-9F29-201FB59DA7D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574E-1A7D-40DB-A55B-4CAC606E8D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6CBB-294E-48B7-BD78-087278BA39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7E0D-3234-4437-810D-43C6FF4272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C183-F00F-4564-A6D2-AA9B1586E9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E51C-6A18-4743-B525-DBF5CD184E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DC7-C49D-4F5E-BE13-55BAB64BAF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B156-4A06-4B26-9C2E-87BDAAFDA3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E7D-FA45-40BF-A1AC-76D2C8A7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4E8-9443-4039-AAD7-51B9A558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3B8-F064-47CC-8E99-A7202087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5E5-ACBA-489D-9C8F-E44A0795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BFD-77C3-4ACE-8141-1B321E08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61F-EE3D-463A-B5EB-E367ADB0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99E-6E1F-4D0E-987D-8B7A9170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B8F-CB88-42E8-88A8-5C2E6590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CE4-4F10-47FC-82AB-7BF53919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B5D-0568-4BC1-8D49-21BF612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2DA-566F-445E-8A27-2CE8E5A2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D2C-6E8A-4261-B38E-D7E270C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D3D-3BF6-49AB-850D-D01C57C26533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8 – Ostatní provozní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é zhodnocení u DHM, jehož částka nepřesáhne Kč 40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odpovědnosti za šk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majetk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Instalace klimatizace do služebního auta – (15 000,-- Kč) – 548/2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9 – Manka a ško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manka a škody u provozního majetku (dlouhodobý majetek, zásob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 inventarizaci bylo zjištěno manko u zboží – 549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u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Klimatizace do auta – 18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pohledávky za odběr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Smluvní pokuta od dod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C prodané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zůstatková cena, dary, pokuty a pená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Times New Roman"/>
              </a:rPr>
              <a:t>541 – Zůstatková cena prodaného DHM a DNM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C prodávaného DHM a DNM. U odpisovaného majetku se zde účtuje rozdíl mezi vstupní cenou a jeho opráv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ůstatková cena prodávaného stroje 541/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U neodpisovaného majetku účtujem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ozemek 541/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2 – Prodaný materiá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 se zde úbytek materiálu, který byl prodán. Úbytek se zaúčtuje (v případě nákupu materiálu) v pořizovacích cen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řebytečný materiál – 542/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3 - Da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dary, které účetní jednotka poskytla jinému subjek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y mohou mít peněžní formu, ale může se jednat i o věcné dary, např. počítače , auto, zbož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Peněžní dar zdrav. zařízení – 54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44 – Smluvní pokuty a pená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smluvní pokuty a úroky z prodlení a penále, které vyplývají ze smluvních vztahů. Například musíme uhradit úroky z prodlení, pokud nezaplatíme dodavateli včas dlužnou čás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hrada smluvní pokuty – 544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5 – Ostatní pokuty a pená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okuty a penále, které nám udělili státní instituce, např. FÚ, zdravotní pojišťovny, správa sociálního zabezpečen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pokuty od FÚ za nedostatky v účetnictví – 545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6 – Odpis pohledávek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např. nedobytnou pohledáv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Odpis pohledávky za odběrateli – 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04Z</dcterms:modified>
  <cp:revision>18</cp:revision>
  <dc:subject/>
  <dc:title>Účtování nákladů</dc:title>
</cp:coreProperties>
</file>