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8583-AC14-47FF-8F22-3B63CE8422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59AC-0949-4D5A-A7B2-05645BC1571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D791-F08A-42C3-AA81-55295DBABE2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5EB6-678A-4E7E-9DD3-2B26993B00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1A8E-9E38-4776-A18F-01A1A46181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2125-E594-454E-B537-067F127F6C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4C30-3072-45D0-B7AE-DD38966F23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96FD-E22D-42C2-A0FA-58BB5EDE6F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6945-32EE-447D-A8F2-6349E572746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5EE-1EB2-42EF-B5B8-0EF7256F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795-822A-42A0-A53F-10DF4648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E7A-5A7D-41DD-B591-44451D23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CF8-4D88-400D-875A-BF3A6485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EFD-D3E9-4F3B-B643-1C0933B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EB6-8EDA-43DB-9945-14189524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512-C436-442E-A619-E205F4F3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88C-1ED1-4CC5-841C-1DCF05D8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FCD-2A87-4C38-B8E1-59702414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9B7-3A6A-4A30-8E89-5E712141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891-A9EA-40A7-AE8E-E4ADEF49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713-722B-4B67-9BA7-25FD2B2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42F0-FBD0-4CA5-BACA-8938B2CDA74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ně silniční, z nemovitosti, z převodu nemovitosti, po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1 – Silniční da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silniční daň, kterou má povinnost platit účetní jednotka, pokud v podnikání používá motorov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musí zaplatit silniční daň i za své zaměstnance, kteří využili pro služební cesty svá soukrom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ilniční daně – 531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2 – Daň z nemov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to daň se účtuje, jestli-že má účetní jednotka vlastní nemovit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daně z nemovitosti – 532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8 – Ostatní daně a poplat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třeba kol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lniční zná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 převodu nemov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dická da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ovací daň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dálničních známek – 538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PD – Nákup kolků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úD – Předpis silniční da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PD – Úhrada daně z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VúD – Předpis daně z převodu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5:51Z</dcterms:modified>
  <cp:revision>18</cp:revision>
  <dc:subject/>
  <dc:title>Účtování nákladů</dc:title>
</cp:coreProperties>
</file>