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D450-2B1A-41AD-B24A-3B1B7DBC40A1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6F49-B6E8-40D2-B2E2-B0BA44EF776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624E-5603-4CDD-AD0D-82454411212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5D5A-D022-4DBF-9AAF-24D3C9BB9A1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2DEF-197B-4CAB-85E7-87CB1ED4272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2AAF-A563-44EE-85CC-307C87F432F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2A17-FD65-4CB8-8417-019E40E77EA2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03F0-6C02-40AC-B2DB-784CE60E77A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DE4E-20CF-4BE1-9CFF-BE25A7DAC20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120-3E71-4917-BD3A-E6EEDD5D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741-B038-4D42-9F0C-D4511EB6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49D-339A-4113-942E-3C7BDBD3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CB4-20F9-4786-AFB3-C7A583A6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172-73CC-4386-A061-4799A0F8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4F8-493F-480B-B2C4-D0A26093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86B-3D60-4228-BD71-10816B9D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148-96F4-4DF4-82BF-2603F88E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7BF-4806-4F63-B1C5-16B23C6A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E83-D546-4304-A8EE-7D6B136E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5BC-AA3F-4E78-9D7F-AF55428D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BA9-5F19-47EE-8E32-7960B0C5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A538-553A-4BF7-B10C-C4AF5B340983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54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22600" y="365040"/>
            <a:ext cx="6779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měna stav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80600" y="435240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tování výnosů – učtová sk. 6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11 – Změna stavu nedokončené výroby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tomto účet evidujeme přírůstek a úbytek nedokončené výro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dokončená výroba – jedná se o rozpracované výrobky, které ještě neprošly všemi stupni výroby (nenachází se ve skladu odbytu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nedokončené výroby 121/6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nedokončené výroby 611/1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9900"/>
                </a:solidFill>
                <a:latin typeface="Garamond"/>
              </a:rPr>
              <a:t>612 – Změna stavu polotovarů vlastní výroby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se eviduje přírůstek a úbytek polotovarů vlastní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čtujeme podobně jako nedokončenou výrob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lotovary můžeme prod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polotovarů 122/6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polotovarů 612/12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13 – Změna stavu výrobk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se eviduje přírůstek a úbytek již hotových výrobků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výrobků 123/6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výrobků 613/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nedokončené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Úbytek nedokončené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výrobků na skladě odby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Úbytek polotovarů vlast.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9:12Z</dcterms:modified>
  <cp:revision>19</cp:revision>
  <dc:subject/>
  <dc:title>Účtování výnosů</dc:title>
</cp:coreProperties>
</file>