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62EB-971F-46BD-951F-750DEB0491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8B25-853C-4E69-A08B-9ABEE49FE1D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DCC0-CDB3-4633-B13B-97CF5A3EB7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3AD2-6142-4BFA-847B-927ABF476E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AED7-3743-4B60-B274-8DF51C67408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8955-A5FD-450D-A97B-5B5E02C3AE5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5DE0-9268-4021-9DE9-E09095DB9B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DEC9-B9E7-45B1-BFA0-B7E7755A92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9C07-860B-4F08-8F13-0817D2C2F7F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2321-6CFD-44EC-9CB6-F7C7F9344D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8262-ABAD-41AE-8C93-D5E3F027B7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EED5-12C9-453E-9DDF-DE57DCCE1A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7310-DE44-4F54-B51F-12CE909CAF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C30-E0A8-4118-929C-5541B105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F7B-C5D0-42CD-8950-918B4C92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5C9-A0AE-49C1-A104-0E8FE2AC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706-2B12-42A4-BA51-63227D2C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378-49A0-46EF-A838-B01C5C5F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DBF-17C2-432D-91E5-A424957C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2B5-E220-4195-AF22-774B258A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55C-6361-4FFC-B45C-218E8E22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793-1005-4CD5-9897-B40707CF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BC2-71A2-4146-8A6E-FB58A82A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7EF-F8A7-40AB-95EC-DCB7CB0E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2CD8-CFE5-4E89-B185-BA5C0DA4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6FED-FDDB-4559-9CAE-AC52A75071B6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8 – Ostatní sociál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říspěvek na stravování, který převyšuje 55 % z hodnoty stravné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vydání stravenek zaměstnancům – 528/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hrubé mzdy zaměst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hrubé mzdy společ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Zákonné soc. a zdr. Pojišt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íspěvek na stravování do 5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íspěvek na stravování nad 5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hrubá mzda, sociální pojištění, sociální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1 – Mzdové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řiznanou hrubou mzdu (zaměstnancům) ze závislé čin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Hrubá mzda zaměstnanců – 521/3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22 – Příjmy společníků a členů družstva ze      závislé činnosti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řiznanou hrubou mzdu ze závislé činnosti společníkům (pracující ve společ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hrubá mzda společníků – 522/3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4 – Zákonné sociální pojiště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zdravotní a sociální pojištění, které je povinen hradit zaměstnavatel za své zaměst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soc. a zdrav. poj. – 524/3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Odvod soc. a zdrav. poj. – 336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5 – Ostatní sociální pojiště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říspěvky na penzijní připojištění a zdravotní pojištění, které zaměstnavatel poskytuje svým zaměstnanc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330033"/>
                </a:solidFill>
                <a:latin typeface="Times New Roman"/>
              </a:rPr>
              <a:t>526 – Sociální náklady individuálního podnikate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náklady na zdravotní a sociální pojištění podnikate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účet používá OSV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odvod zdrav. poj. za OSVČ – 526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7 – Zákonné sociál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náklady, které byly vynaloženy za účelem vytvoření pracovních a sociálních podmínek a péče o zdraví zaměstnanc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 se např. o příspěvek na stravování       (a to do výše 55 % z hodnoty stravov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vydání stravenek zaměstnancům -  527/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55Z</dcterms:modified>
  <cp:revision>16</cp:revision>
  <dc:subject/>
  <dc:title>Účtování nákladů</dc:title>
</cp:coreProperties>
</file>