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E23B-55F1-4451-80D3-DECE797AB0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818F-2B8C-43A3-B6B8-4BF5D0E2DC6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776B-CD1F-43E9-86CD-5E12A252E5E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AD46-B64E-4709-A3A8-3A4322E73E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3300-8D84-4189-B810-1AFFD52C47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ED7C-5F1A-4844-AC22-784C087BD6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1153-828D-4659-8CE0-BD79455C85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E2A6-B227-44D4-B4B7-00C55A01D13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FDE-5022-4051-BFCE-47AD6717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E17-80F3-45DA-AEE6-E26B780A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213-41D9-4121-AC3B-82AF2D9A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85C-FBF5-4701-9C63-0D8378CC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517-BE3B-4C1D-B3CA-AAD68130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7EE-C253-4492-9E3D-0048B2C7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305-DFCB-4790-9C80-7F7EBB9E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984-138D-47F9-A01B-20FD0FAE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193-61BF-4B37-8059-18AC46CC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407-E31C-47B9-9E63-E1DD3791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6D8-6397-4EA3-96C9-56B0EDFE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33B-1C73-4378-A601-E0EE8D14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209-D857-472D-8061-C7459867768C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škody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mořádné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mimořádný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82 - Šk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škody, které nám vznikly v důsledku mimořádných situací. Například škody na majetku v důsledku živelných poh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Škoda na materiálu v důsledku záplav – 582/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88 – Ostatní mimořádné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opravy nákladů z minulých období (účtuje se pouze u významných částe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ě odhadneme částku spotřebované energie za minulý rok a skutečná spotřeba bude vyš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58/321 (3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Škoda na zboží v důsledku požá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škození stroje v důsledku zápl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troj nebyl zcela odeps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48:29Z</dcterms:created>
  <dc:creator>Ing. David Holzbauer</dc:creator>
  <dc:description/>
  <dc:language>en-US</dc:language>
  <cp:lastModifiedBy>Igor</cp:lastModifiedBy>
  <dcterms:modified xsi:type="dcterms:W3CDTF">2014-09-13T15:45:38Z</dcterms:modified>
  <cp:revision>17</cp:revision>
  <dc:subject/>
  <dc:title>Účtování nákladů</dc:title>
</cp:coreProperties>
</file>