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0169-7F57-44FC-B025-CD95035CF8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4043-4296-4375-8B7B-54675A14572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CB1D-7401-49CD-8985-90F58C1FB7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3EB0-2F1C-4768-91ED-C299D044F29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B7E-C05C-4B15-A02B-7F3E07C0DE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5F5E-638C-4BE6-9091-1501FEF4CF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273-6B64-4EB0-A6F4-1F6DC4C00B2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F9B-525D-45B9-8BEA-70E44909186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8B3-0610-4592-BE0F-55713B72DDA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8B4-1C3B-411F-9931-34C02A3E83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D753-8017-4828-8343-DFDA6E6BC2F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7019-125F-482E-9A08-277DC88D86A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C98C-6E29-46E6-BFD6-2BCF8F85BF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AD0C-44BA-48F8-97F0-80F8A0CDEC8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9090-6CD7-4F37-9391-D42B257DEB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931-0B66-4909-8EDC-0C8A7592F57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3D0-918B-4D7E-BD80-19DFA3A9C4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961-03EC-4CEC-A83C-80DD5002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0EE-A70B-4606-B421-663A5556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599-48C0-44AB-83BA-3015510F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0AD-39A2-43CE-8137-3944544F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5AA1-464B-48D7-9805-814AA4A9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A5D7-9192-44F5-9829-20E2086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4A22-ECBC-4FB7-BE9C-EE75994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05C-C06E-49CB-80BE-44B7A6F8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54C4-D613-4B91-98A7-96E90EFF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9019-2593-40F6-8A90-347CC410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015-A049-44F9-A14E-1B748C8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D48-3054-40FD-B8AC-1137CC5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056F-9ACF-4297-824D-E132D1F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AC8-1A66-4861-8520-F72E728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92D9-86DD-4CCC-84D7-3FACDE0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F886-0843-47E9-9E22-0FF7E8F7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DF7-291E-4C9B-9BF2-DDB0D01D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A3418-6A09-4A7F-B43F-6B838798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2679C-766E-4521-8784-491A779E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4BEAE-38B9-4EA6-8AF4-56174A9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D7920-B3FD-4D1D-BE30-AA445924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959F6-4D18-46CA-AF77-9D661FD3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35A-D8EA-4EF2-AF4F-255951F4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97BF0-E820-4031-B4D7-FE9C4D23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D07C4-FE7D-4D41-8962-599F17B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F4338-D653-41D5-AC87-FFB4FEC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456C5-595B-4A54-9F60-1F4DD887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75207-C18D-437B-8B16-086DA11F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81558-BDDA-4B36-80B7-EFE12F52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88E02-F525-4D77-84C9-14247E25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35D-D938-49C5-AA31-391B06CE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6A3-1CC5-44AE-85B7-2B4FF308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5E4-746D-4E38-B16C-0EFFA0D8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561-492D-4870-8A35-241D50F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ECB-FCAC-4E3A-BB78-AA0F98A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033-F469-4440-89D8-F94759E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21B-99ED-463C-8B24-C44690BEB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9A06-DAC4-482A-9048-9628AA06F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2C69-65C7-4E48-A55D-74C9713769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4. Podle kalku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Přímé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lze přesně určit spotřebu na kalkulační jedn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u základního materiálu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kolová mzda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Nepřímé náklady (režijní)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nelze přímo určit na jednici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energie (osvětlení)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. Podle místa vzni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edná se o členění nákladů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odle hospodářských středis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é středisko je relativně samostatně hospodařící vnitropodnikový útvar, který sleduje své náklady, výnosy a zjišťuje výsledek hospoda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 vnitropodnikových útvarů (HS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sprá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výro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dopra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odbytu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 základě těchto informací se provádí hodnocení hospodárnosti a efektivnosti jednotlivých výkon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áklady hospodářského střediska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ze rozdělit n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rvot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převzaté z finančního účetnictv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druhotné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vznikající ze styků s ostatními středi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Daňově účinné nákl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jsou dle ZDP daňově uznatelné (slouží na dosažení a zajištění příjmů „výnosů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a zaměstnanců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21/3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1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2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8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hrada silniční daně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1/21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daňově neúčinné nákl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ZDP neuznává jako daňově účin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robněji budeme řešit pří výpočtu dan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kup občerstve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3/2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ta od FÚ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5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ovací daň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8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3/22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 členíme náklady podle vztahu k objemu výrob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é máme náklady podle vykazování hospodářského výsledk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Členění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můžeme členit podle několika kritérií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1. Podle nákladových druh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náklad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e účtové osno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 Na základě účtové osnovy si účetní jednotka sestaví účtový rozvr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 – Spotřebované nákup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1 – 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2 – Spotřeba e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3 – Spotřeba ostatních neskladovatelných dodáve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4 – Prodané zbož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 –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2 – Cestovn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3 – Náklady na reprezenta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8 – Ostatní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2. Podle vykazování hospodářského výsled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voz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é skupiny 50 až 5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atří zde náklady, které souvisí s běžnou podnikatelskou činností (souvisí se  zajištěním provozu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stov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dpisy D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ové nákla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ištění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Finanč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á skupiny 56 až 5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se týkají finančního majet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ceni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roky z úvěrů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ankovní poplat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rz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ztrát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ladní schod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řizovací ceny prodaných C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) Mimořádné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jsou neočekávané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nepředvídateln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kody v důsledku živelných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ro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na změnu met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orba mimořádných rezer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3. Podle vztahu k objemu výrob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fixní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neměnné) - nejsou závislé na objemu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atří zde např.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aňové 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držba a správa budov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ilní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proměnlivé) - mění se s objemem výkonu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mzdy výrobních dělní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oc. a zdrav. pojištění, které hradí firma za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yto dělník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41Z</dcterms:modified>
  <cp:revision>26</cp:revision>
  <dc:subject/>
  <dc:title>Náklady</dc:title>
</cp:coreProperties>
</file>