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21A5-C7A5-4B38-B0D7-50ED25646485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A274-B98A-48E9-AC60-DC32D8C165F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8ED0-AAC8-4850-99D5-0529B15148B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7512-1D0D-4B3F-8BFA-24C3B8EB7A63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47AB-FEBE-43C4-B09A-4209ACB42B4B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998D-D5D8-44BE-ACE6-E66DE87630E7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656C-C74D-49B1-B68E-3E3CABFA8ADB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5913-3A42-4B25-9060-0DD792C00A26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6440-0FC4-46D8-991E-8E18D8F9D5D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9C60-A5A9-4D1A-9D21-8EE4BAF43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6951-B316-47D7-BF15-1DBBEFC5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40D5-3106-44C7-B854-B945159AF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4085-109B-4ECB-B525-79669989D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863D-3857-4537-B733-8527465A8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B945-0401-44B1-A861-AC0793F8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2B94-3F43-49ED-B941-9B663F10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329A-0D52-4404-A3E2-236EE7F7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66B6-855B-4D82-8E55-8C3F6B1F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55E9-E6E0-49D6-84D0-20D6D6E4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3442-354A-4B37-97E7-97EB79AE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9427-E9C8-4E6B-ADD0-B0314A48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16CC-E922-46DF-8A2D-ADBBAF43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9E95-7EDF-4B98-B20E-66921F6A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2612-0966-4EC1-92BD-0A129F30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06F6-7932-4D79-B164-8FD4ABC7B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A4AB-142A-4C32-846E-9B7F10273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D390-F5B1-49E6-A4F9-7DA65C2D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71AF-EFC3-4846-9E3C-CC58ED97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373D-8F75-4A7B-9145-906D7DB7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CB48-7F61-40FE-B469-84F44EB2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6AF7-F9CD-4619-A4D6-E7E99D1A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4C20-7EA9-4D7A-A0D4-A59203D0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FD19-5268-4B5A-BE0E-9CB39F18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E6E7-4E01-4B33-9E57-D1C5DA7A858C}" type="slidenum">
              <a:rPr b="0" lang="cs-C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57D9-E628-43F4-BE69-B1EA368511BE}" type="slidenum">
              <a:rPr b="0" lang="cs-C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Výukový materiál zpracován v rámci projektu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EU peníze školá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Registrační číslo projektu: CZ.1.07/1.5.00/34.0208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666600"/>
            </a:outerShdw>
          </a:effectLst>
        </p:spPr>
      </p:pic>
      <p:graphicFrame>
        <p:nvGraphicFramePr>
          <p:cNvPr id="99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/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722600" y="365040"/>
            <a:ext cx="6779880" cy="81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rž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6666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800" spc="-1" strike="noStrike">
                <a:solidFill>
                  <a:srgbClr val="999900"/>
                </a:solidFill>
                <a:latin typeface="Garamond"/>
              </a:rPr>
              <a:t>Účtování provozních výnosů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80600" y="4352400"/>
            <a:ext cx="645012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Účtování výnosů – učtová sk. 60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9900"/>
                </a:solidFill>
                <a:latin typeface="Garamond"/>
              </a:rPr>
              <a:t>601 – Tržby za vlastní výrobky</a:t>
            </a:r>
            <a:br>
              <a:rPr sz="40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a tomto účtu účtujeme prodej našich vlastních výrobků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odej se může uskutečnit v hotovosti, nebo můžeme výrobky vyfakturovat odběratelů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íklady účtování: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PD – Tržba za výrobky – 211/60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FaV - Tržba za výrobky – 311/60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9900"/>
                </a:solidFill>
                <a:latin typeface="Garamond"/>
              </a:rPr>
              <a:t>602 – Tržby z prodeje služeb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a tomto účtu evidujeme námi poskytnuté služby např. poradenské služby, pronájem budov at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íklady účtování: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PD – Poskytnuté poradenské služby (hrazené v hotovosti) –  211/60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FaV – Pronájem budovy – 311/60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9900"/>
                </a:solidFill>
                <a:latin typeface="Garamond"/>
              </a:rPr>
              <a:t>604 – Tržba za zboží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Účtujeme zde prodej zboží (které jsme nakoupili a v nezměněném stavu prodáváme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íklady účtování: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PD – Tržba z prodeje zboží – 211/6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FaV - Tržba za prodané zboží – 311/6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9900"/>
                </a:solidFill>
                <a:latin typeface="Garamond"/>
              </a:rPr>
              <a:t>Zaúčtujte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FaV – Prodej výrobk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PD – Tržba z prodeje zbož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FaV – Pronájem garáž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Ing. Pavel Štohl – Učebnice účetnictví  2. díl pro střední školy a veřejnost, vydavatel vzdělávací středisko          Ing. Pavel Štohl, 20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08:22:54Z</dcterms:created>
  <dc:creator>Ing. David Holzbauer</dc:creator>
  <dc:description/>
  <dc:language>en-US</dc:language>
  <cp:lastModifiedBy>Igor</cp:lastModifiedBy>
  <dcterms:modified xsi:type="dcterms:W3CDTF">2014-09-13T15:48:59Z</dcterms:modified>
  <cp:revision>16</cp:revision>
  <dc:subject/>
  <dc:title>Účtování výnosů</dc:title>
</cp:coreProperties>
</file>