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2410-538A-4956-9CB2-C26FCECCCA0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0B52-642F-4CA8-A6EA-275C741D40A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C54D-5ADD-4898-986C-06FBC576813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C69E-1CB7-443E-9A0D-099FB5B63A7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7C37-8D7E-4245-97DB-A13758A197E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6D98-3D3A-4FBB-ABAD-7A103575FD3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0083-7F08-4910-AE85-45E49405571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37A4-318A-43FD-9DA0-C5D1FBD7D25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0C0A-906B-4450-B302-644E6E430E9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C4BB-D89C-4B5B-ADDC-094BCF03CC1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B78D-5DD5-4A4E-A313-FE7E66D5090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F065-4AAE-4C18-AD57-7D0F00D0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0906-4828-4459-A440-3417C729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5A1E-A752-4EA2-934F-6C1C73F4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2253-A3BE-415E-94E3-0F486D0E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8C35-1447-4796-A66D-38EBA15B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B656-766E-4B9C-9058-D899FC0D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69F2-CD87-4A11-B13A-DDD78FFE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6FDA-0A4B-4292-A446-94906E63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94AD-C24A-4441-9857-B544AFEC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22B0-1D1E-4DD6-B0C9-FAEF2051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CEE7-08B9-4120-AD25-33130B66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4FBB-98F5-4672-B837-45B622B1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AEEA-7E6B-4970-80BC-54435531536E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potřeba, prodej, manko, přirozený úbyt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provozních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sk.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330033"/>
                </a:solidFill>
                <a:latin typeface="Times New Roman"/>
              </a:rPr>
              <a:t>501 – Spotřeba materiálu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omto účtu účtujeme na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  spotřeba základního materiál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mocného materiál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vozního materiál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hradních díl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al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iskopis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ncelářských potřeb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692280"/>
            <a:ext cx="77724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33"/>
                </a:solidFill>
                <a:latin typeface="Times New Roman"/>
              </a:rPr>
              <a:t>501 – Spotřeba materiálu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robné nákupy za hotov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kup odborných časopis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pagační předměty, které jsou opatřeny obchodním jménem firmy, jejichž hodnota nepřesáhne 500,-- Kč bez DPH a nepodléhají spotřební dan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rozený úbytek u materiálu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33"/>
                </a:solidFill>
                <a:latin typeface="Times New Roman"/>
              </a:rPr>
              <a:t>501 – Spotřeba materiálu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spotřeba materiálu  - 501/1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manko do normy u základního materiálu (přirozený úbytek) - 501/1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nákup kancelářských potřeb - 501/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33"/>
                </a:solidFill>
                <a:latin typeface="Times New Roman"/>
              </a:rPr>
              <a:t>502 – Spotřeba energie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ujeme zde např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třebu elektrické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třebu plynu, páry a vody, které jsou určeny k energetickým účel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P – Spotřebovaná elektrická energie - 502/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777240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330033"/>
                </a:solidFill>
                <a:latin typeface="Times New Roman"/>
              </a:rPr>
              <a:t>504 – Prodané zboží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úbytek prodaného zboží, a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ořizovacích cen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 Manko do normy u zboží (přirozený úbyt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výdej zboží ze skladu   504/1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Spotřeba materiá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aP – Dodávka 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irozený úbytek u materiá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Nákup kancelářských potř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rodané zbož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7:34:59Z</dcterms:created>
  <dc:creator>Ing. David Holzbauer</dc:creator>
  <dc:description/>
  <dc:language>en-US</dc:language>
  <cp:lastModifiedBy>Igor</cp:lastModifiedBy>
  <dcterms:modified xsi:type="dcterms:W3CDTF">2014-09-13T15:46:30Z</dcterms:modified>
  <cp:revision>20</cp:revision>
  <dc:subject/>
  <dc:title>Účtování nákladů</dc:title>
</cp:coreProperties>
</file>