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73FA-F5F1-4D2C-910D-16EB59020E9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F6F1-863A-498C-8531-780C6B1F29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0338-965B-43A1-AC10-6C2F263EF2A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D8EE-8438-4644-9E6D-3469AB68F66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FC7B-666B-4B68-B8D6-A4ACE0F64E3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0FBB-FDA4-4C82-BA2F-BC8E2BC9713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3CCA-41C0-4B7A-BB78-B0D8ECD7B19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7C25-A7C1-4A1B-8610-765AD5BB904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43D5-0255-4F71-9F7E-A3E40A61BED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E08C-1B20-477B-9068-39AD865CB5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7C2-DB7D-4188-AF3A-70548616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5EA-684B-42AB-B045-8BA807CC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40D-CDF0-4005-864C-F4EC6730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9EB-F3DA-4315-9FAF-A096C22D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FCCF-492E-4C30-8ADA-56C97749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3641-7423-40AA-9BB7-4C9A9E93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F66F-8C49-45B4-A894-9D6D77B0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7274-39A9-4630-BA5D-AC63762B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87A3-DB89-40FB-B881-631A1BA0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1237-7819-4443-BE79-805D1CEB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98EE-7CD5-4261-8E73-D74898FD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49A-7E02-4AC0-8517-D9849D70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2165-4633-40B5-BFD9-37BE03A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269C-4A50-4F8C-857B-5C116F92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C9D0-2644-4093-84E5-53DC778C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45BC-A94D-4AA0-9542-F33484AF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6C4E-6AC6-4CC5-A24B-00402FAC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2E45B-1EF2-47DA-8392-5E0FDEB1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35FC2-4F57-4BBB-93FC-CD8A2556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CC4C3-164A-4123-BC8F-6414EE3F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CF135-578B-411E-8B30-31CAAF30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6C675-D6F3-42F7-9A66-9D55895F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E3B-D37C-458C-A416-CCA49116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7894D-A148-4667-A3FA-BA0518FC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4D828-75F0-4897-A838-BCA69785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F40AE-5B93-4DD4-A981-70D33B09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174C0-633D-4E8D-B0CA-693F07B6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855EF-122E-4321-A062-386928F5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5257E-66B1-43E8-A519-B8D374F5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D249E-BB61-4D85-BF6B-D63E4D0C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80D-69B6-4515-9D44-FE20A7E1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C8A-E196-4837-86D2-5BDF5702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08E-C424-4B6B-8BB3-B267AA69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9DB-E482-4368-BDE6-71426217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CEB-F729-4253-B611-DC701A7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7D3-81A9-4F79-B43E-0FE6AF7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3F00-C77E-4BDA-9318-2B87B27559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9CF2-D908-4298-94B7-9ECE56EF8D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9C39-4584-475C-AF07-B25F156DA0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v důsledku darování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v důsledku darování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daruje svůj dlouhodobý majetek (který není zcela odepsán) musí zaúčtovat zůstatkovou cenu na účet 543 – Da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560" y="1197000"/>
            <a:ext cx="7270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případě, že dárce je plátcem DPH, musí odvést DPH ze zůstatkové ceny darovaného majetku finančnímu úřad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PH se odvádí na základě daňového dokladu a účtuje se na účet           543 - D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škole počítač, jehož VC činila 45 000 Kč, dosavadní oprávky činily 33 000 Kč, a odpis za část tohoto roku činil 7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7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5 000 Kč  543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1 050 Kč  543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45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1128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nemocnici dodávku, jejíž VC činila 445 000 Kč, dosavadní oprávky činily 305 000 Kč, a odpis za část tohoto roku činil 25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 a vyřazení z evid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27Z</dcterms:modified>
  <cp:revision>53</cp:revision>
  <dc:subject/>
  <dc:title>Náklady</dc:title>
</cp:coreProperties>
</file>