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2FCA-9AA2-4F1D-8381-1AA7CA1FFB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8DB8-3CF2-4CAB-8D47-1B1F0396F99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6F32-69FA-4483-94CD-39BCC8F000F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0D14-D891-48E0-A593-898286C0CB9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7506-2816-47A1-9E13-F86C63793E1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A370-AB94-47AB-A4AE-71F0EC2BFE7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1026-D401-43FF-8EB5-4E8C35DE966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9FF0-C921-4602-90E9-5298C695082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6AA6-1F8E-4967-9A01-A7035DDC645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AF99-50B4-45F0-B730-72FE6A3CCEF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4883-E7A6-4064-A498-2D744DD7A8F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B0E4-665A-43EE-8DD1-903D88DD199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1497-FD47-4253-95D3-FAE4DFEDD0B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4D5-1275-4C19-8113-360C8D84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5E54-8CA5-4894-A307-2E5CCD02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774-ACE5-4BFF-8BE1-50C4080D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844-7513-4D3A-9D0A-73DE8877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75CF-2E25-4B96-86D9-1577E087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5BA7-B785-48B6-8BBA-71A8D0E4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C936-4556-41D5-87BB-05B1EFD1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039C-5E85-4033-856A-DDE66514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A078-84F4-450D-B8EA-F4C0922E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F828-59E0-4D55-9048-C25FDCEC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05DC-EF9A-4DD2-B0B9-C86EB067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25E2-2951-47FD-9FAF-F72620B9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9C7C-6882-49AF-9C77-06AC9463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18F8-DBA3-4F8B-8B4E-1FE82B0E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04CC-8AAB-4B56-9120-C783DA5A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BB7C-B4FD-4484-8F27-EB81EE67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B77E-C768-499D-A420-FC28751C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43E32-0390-4C43-BB11-E9EE640D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AC7B4-C63C-4965-8D25-D87C3B7B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B5F72-8871-4DE7-87B2-B348137C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668BD-9DEB-42D5-9140-B8AB7108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0B8EF-3644-427B-B3CF-B21BF7E9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2AE-1BED-43D3-BC80-616F2351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EA6A6-3225-40E6-9344-BA60F3F1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0B69C-1E8A-4E4B-87DC-A5975D0C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183FC-2D41-42FB-8CD4-86CCEF9B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0C959-D854-4709-9435-BB3834C4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2D41F-F85E-4296-8713-5D36073C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91975-777D-4F7B-81EE-FBD98302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6B491-F9AA-49AC-882B-090F497D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7EF-2425-4FA2-AA3B-AEA04569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C65-AC97-433F-B207-D80D5B74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AD5-2066-42FD-AA97-2CA0FE03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A18-1F31-41D6-9791-CAD4F2E7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D56-4DD1-4708-974D-7A463689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AAE-29D4-4A2F-B318-9AD4DB1F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EB95-CDC2-4AFB-9DFD-45C078C07F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4F84-D81F-423B-8888-39736CAD4C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7EFF-9915-4084-8303-93A25B4455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Odpis za část roku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5 000 Kč  551/08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Zůstatková cena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35 000 Kč  582/08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Vyřazení z evidenc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70 000 Kč 082/0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 Předpis náhrady 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n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40 000 Kč  378/68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vyřadila v důsledku krádeže stroj jehož VC – 175 000 Kč, oprávky činily 90 000 Kč, a odpis za část tohoto roku činí 18 000 Kč. Předepsaná náhrada od pojišťovny činila 62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kody, manka, živelná pohr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Garamond"/>
              </a:rPr>
              <a:t>Vyřazení dlouhodobého majetku v důsledku škod a man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Vyřazení dlouhodobého majetku v důsledku škod a man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129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vyřazuje svůj dlouhodobý majetek (který není ještě zcela odepsán) v důsledku manka či škody musí zaúčtovat zůstatkovou cenu na účet 549 – Zůstatková cena prodaného DHM a DNM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4920" y="836640"/>
            <a:ext cx="79916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i vyřazení v důsledku škod se předepsané náhrady zaúčtují do výnosů na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48 – Ostatní provozní výnosy,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se souvztažným zápisem na vrub účtu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78 – Jiné pohledávk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náhrady od pojišťovny). U manka použijeme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35 – Pohledávky za zaměstnan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95280" y="76464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by se jednalo o vyřazení v důsledku živelných škod (záplavy, povodně, požáry atd.) použijeme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582 – Mimořádné škod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edepsané náhrady zaúčtují do výnosů na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88 – Ostatní provozní výnosy,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se souvztažným zápisem na vrub účtu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78 – Jiné pohledávk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náhrady od pojišťovn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 vyřadila z majetku odcizené auto jehož VC – 350 000 Kč, oprávky činily 200 000 Kč, a odpis za část tohoto roku činí 30 000 Kč. Předepsaná náhrada od pojišťovny činila 10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413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3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120 000 Kč  549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5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 Předpis náhrady 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jišťovny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100 000 Kč  378/64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 (živelná pohroma)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 vyřadila z majetku stroj, který byl zničen v důsledku záplav.           VC – 70 000 Kč, oprávky činily        30 000 Kč, a odpis za část tohoto roku činí 5 000 Kč. Předepsaná náhrada od pojišťovny činila 4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42Z</dcterms:modified>
  <cp:revision>53</cp:revision>
  <dc:subject/>
  <dc:title>Náklady</dc:title>
</cp:coreProperties>
</file>