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530-9D04-4A45-91F1-E0892C6A12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E8C-B528-4310-9C7B-45D6EBE2D4D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932-724C-469C-AC37-9338BDCA80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D191-ABD8-4B04-8DFB-BEE317C8C6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C826-2E0B-4263-8C8D-FDAAA97F38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857-3462-45C4-967D-B31A96AEC4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7D6-4BFD-48D8-A9D6-799103D12E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E108-6DE3-4D0F-BFE5-547A4136E7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C26C-B201-4C4C-9A52-F664CE14D6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FB0-D3D6-4C12-A3E2-AFD65CF58B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751-D8F9-467B-8043-AAFE3CB8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AE1-B9DC-41AA-B0EA-6200F547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793-BB74-4D97-AA01-DC98BEAB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4C2-EB35-489E-9D57-2BFBE15C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66E-BB4C-4521-B4F6-D7CC9696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6974-28AF-4BB7-A24A-8E95608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3C30-5407-4B68-A621-31E56B99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D2A2-6E53-4856-999F-45746EF1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E7C-F3C3-4D6A-9415-A0C9AAB9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E8C1-73A0-43A3-819C-4313911A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7803-E309-47A8-A29A-484515A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F54-B63A-4345-AC44-F33C8E2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B36B-70EC-41C0-B43D-F16238D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842-191E-45B1-B87D-9BBE1D9A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1FC7-EF0B-45B0-85F0-454C34C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9FB2-D492-4242-86D2-5292FA95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95E-082E-46CF-B2FF-D42582B7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738A4-AACA-4CD4-9F18-BC030751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F7F3F-BA69-4E15-A91C-668FDF3F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4AE3C-2B62-49AC-8DBA-79CDD28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8C821-F337-42DF-9B98-413CBE11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1BA6C-AF08-4F31-B04C-7399C95E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973-6F8D-4DF6-B69E-A60400BC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70414-C50E-4B07-9692-77D08815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D8C49-CB19-4761-842B-837DDCF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C0B5D-C1DF-4956-889B-6B8B164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74F37-D551-4F79-A8DF-C6EC4E8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085DE-255F-4CD6-84C7-81B05F4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30A72-E88D-4C60-B674-326D063E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889D5-EA67-49A4-B88D-30EC63C0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797-7513-4F4D-A0A5-159E99F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266-2C61-4FF8-BEB8-1B2C7B64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126-390C-4716-BB2F-45FD707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A34-435A-497C-83FC-BA1B658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98F-7A88-49A3-95B0-2DBA47B1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F1C-3C60-4103-A7CD-F4864EBB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58FD-CE33-44F2-9F94-061593C0A1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FD65-83F8-4222-A844-0BFD3C897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8B9-4637-4C4A-A28D-D50D69450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finanční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finanční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o dlouhodobého finančního majetku firma investuje, chce-li uložit své volné finanční prostředk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Do dlouhodobého finančního majetku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é cenné papíry, které podnik nakupuje na dobu delší než jeden rok (akcie, obligace, vkla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ůjčky poskytnuté podnikům na dobu delší než jeden r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movitosti, umělecké předměty z cenných kovů pořízené podnikem za účelem obchodování s n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bor movitých a nemovitých věcí pronajímajících se jako cel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6 – DF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1 – Podíly v ovládaných a řízených osobá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2 – Podíly v účetních jednotkách pod podstatných vliv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3 – Ostatní cenné papíry a po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5 – Dlouhodobé cenné papíry držené do spla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6 – Půjčky a úvěry – ovládající a řídící osoba, podstatný v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7 – Ostatní půjč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9 – Jiný dlouhodobý finanční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2:58Z</dcterms:modified>
  <cp:revision>37</cp:revision>
  <dc:subject/>
  <dc:title>Náklady</dc:title>
</cp:coreProperties>
</file>