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B7255-8F51-41E5-AFAA-F8247360A00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668F9-E23F-4023-AD43-39C75B73722B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768DF-477B-4CDF-A5DE-F607BE7AF04F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A03BA-2798-41AA-86D8-F910F35C068F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621B6-83CF-4EF1-9B6C-97C0DD886D2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F647A-557C-4078-B8AE-00513722B7F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8EBAB-38DD-46AA-9E37-4D4050B9993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52E8A-3F6F-44A8-A304-8F9CCF5564A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5BB53-5091-4AF6-AD9C-25F476A794B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C5BA6-79F9-4494-A6B4-FC1EE284E7F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33707-BE22-401F-B78F-5EE94B3E43A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C520A-CE1E-49B9-87F9-9D270566FF2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A94E-9AA2-489B-9804-B4B1B02E0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3DD5-F374-48B4-BA34-93C4CFC35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1028-CBFF-4851-B5E3-C76EB5110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04E8-6E1E-436E-A91D-6F685EF05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EC00B-56B5-4D48-B8E1-123F057E5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95411-B34A-4699-9ADE-1DF8502D9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DE08B-D8D0-430D-88BA-87400F8AF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20668-555A-4541-AEFD-2A940F6A1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81A20-83C4-4E0A-9F5F-B4AFE5CC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F94EA-34BA-47DE-9C15-F3D1FF477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AF097-B18E-4499-9B6F-4173091F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D64A-98F0-46D6-BE15-4CFF755A2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30517-58DD-4989-A21C-E05FC956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736AB-475E-4A42-8062-186BF8C0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1EBC3-41A2-4583-AC11-D79C55552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10DAB-15BB-4E20-8F92-6746591AC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D33B6-02A6-4863-896B-910EA4EE7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9D25C8-C9AD-4625-9452-95E0355E3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422E10-1D01-426C-B8AB-5B16400D7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7EB678-4DB7-4F95-BD18-349790022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B7670A-2EC1-44B0-9595-4D84A27E6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1F4E66-A824-4F0D-B137-69838DC8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57F4-3775-44E8-92C1-7B7EE8887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E160CE-CD6F-4A3B-A573-7DA57769D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562DB6-7740-4789-9277-B67FA0C1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C6AC9F-0B04-403D-8A02-B9389FE0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0AFCBF-2D61-4537-B651-BAA507C1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33AEC2-D880-481F-90A0-CD4526DE4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33E027-7334-4E60-B585-4D854FE49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87C640-8AF7-4C97-A04F-505DD988D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F83B-B20B-4F78-8CB7-2A3627144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73DC-BE91-4BA7-A4D7-43D7442C8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BE0F-A667-4EF9-B067-3BC6B4300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EE51-99CF-448B-AC99-E9F7B6D6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A046-FABD-454A-9149-E17C5230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779E-9E76-4545-8667-D1534469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06FCE-2A02-455F-A7C2-2CB963B0DE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4A86C-3786-4F77-A6AA-835827FB23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214D4-2B28-4422-9BFC-60D639163D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Úkol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85800" y="1125360"/>
            <a:ext cx="7696080" cy="43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irma koupila účetní program u dodavatele za 75 000 Kč, instalaci provedla vlastními zaměstnanci, a to ve vlastních nákladech 900 Kč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aúčtujte dodání programu, instalaci a zařazení programu do užívání.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1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pořízením dlouhodobého majet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ořízení, zařazení do majet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, praktické pří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19280" y="2707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Garamond"/>
              </a:rPr>
              <a:t>Pořízení DHM a DNM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omic Sans MS"/>
              </a:rPr>
              <a:t>Pořízení DHM a DNM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71640" y="1700280"/>
            <a:ext cx="7416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omic Sans MS"/>
              </a:rPr>
              <a:t>Dlouhodobý majetek můžeme pořídit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609120" indent="-2343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nákup od dodavatele (výrobní zařízení, nemovitosti, automobil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09120" indent="-2343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ronájem (finanční nebo operativní leasing – automobily, stavební stroj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09120" indent="-2343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ytvoření vlastní činností (stavební firma si postaví dům, truhlářská dílna vyrobí nábytek do kanceláří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611280" y="1052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bezúplatná forma (darováním, zděděním)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klad společníka (v případě právnických osob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řeřazení z osobního užívání do podnikání (v případě fyzických osob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55280" y="11556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Pořízení DHM a DNM dodavatelským způsobem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042560" y="1557360"/>
            <a:ext cx="769644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ořízení DHM a DNM účtujeme na účty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41 – Pořízení dlouhodobého nehmotného majetk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42 – Pořízení dlouhodobého hmotného majetk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Jedná se o účty na kterých se  soustřeďují veškeré náklady související s pořízením DHM a DN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 zařazení do majetku se dokončené investice převedou na vrub příslušných účtů v účtových skupinách 01, 02, 03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irma koupila stroj u dodavatele za 58 500 Kč, přepravu provedla dopravní firma za 1 200 Kč. Pojištění přepravy materiálu činilo 1 400 Kč. Tento stroj byl zařazen do užívání.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Řešení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1267920"/>
            <a:ext cx="769608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aP – Dodávka stroj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43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42/321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58 500 Kč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aP – Přeprava stroje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43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42/321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1 200 Kč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pd – Pojištění přepravy stroj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43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42/211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1 400 Kč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43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úD – Zařazení stroje do užívání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43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22 /042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61 100 Kč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43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39:14Z</dcterms:modified>
  <cp:revision>43</cp:revision>
  <dc:subject/>
  <dc:title>Náklady</dc:title>
</cp:coreProperties>
</file>