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522B-6C53-449D-8BC4-6845538386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0A2A-9B46-4B68-A964-18512FFFF2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6599-1CE9-47F2-9007-94AB4EE2439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979A-33BE-43AC-BEF4-977083A28BC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4DF5-CB17-4F37-BB21-03E6CC63EC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52D8-E7C6-4FDE-9894-925F4AB0D7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BA1F-42C1-475A-9CDD-D1CB7CFEF52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26AA-3682-4CE9-BBB4-FA3D15710A0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AB2B-6C5A-4D37-B5AD-FA07952E04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3DD9-2662-44D0-B752-F9BBC37E003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124-8A39-4A83-BAF3-43461275CAE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7216-237C-45A9-9044-866B53B9787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793-2AF6-40D3-B43F-A38B902D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04A-31D7-4B7C-A24E-E76BC361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3F8-67AC-4899-9A3E-C5170762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6B2-0E68-47E7-9F89-B3A0AD3C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E171-D5F9-4A83-8E39-B55E700D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5F02-D6C7-48D3-A5B0-5FBDF6C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7B74-0C53-43C5-A2AC-0BAA7DE7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CDA9-8E51-4F95-AAF9-A6A13397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357E-BC7E-4E0B-9ECE-74A9DEE2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DBDD-6CDF-4310-8836-C4E8975E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E2D8-6E55-43C7-8776-1AB6AC15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E2F-9D0D-4037-8A8B-46438DF6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E9D2-B9AB-48DA-8232-6161EA9F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65BA-BC38-419A-9A8C-C62A88C0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E5FC-7B1A-4E1E-A451-1370D0FD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2D04-6EEB-489C-B128-A9438E7B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4FD8-A9C3-4725-8B17-CF03E033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B6B71-558D-4828-B1F9-477068DC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9D3A3-C673-42A6-909D-F0EDA8D4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80EF7-5B12-42C2-903C-3E78F27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697E0-F031-49DB-B608-A7B5601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497A1-0016-4ABF-980E-35694E81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2D9-68D7-4486-8200-809FA641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720DF-EA36-4555-9A0A-1AABC5EE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AD173-BBFF-4E6A-BC28-F478F349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478A2-2BCA-457D-A357-BEED4928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FF4BE-1A62-4C5D-A2E6-B70850A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19D0B-9FC3-442C-94D4-5BF4C45E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18F1F-13B5-4525-9B58-4D29B549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E4ECB-2433-40C2-B8EC-5261C509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660-7C9E-457C-BBE9-FC405C8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3B9-8CD4-46C0-ACA2-14A4231B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F7F-210E-4F79-8193-815B74BB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46C-9740-486B-B7DB-8B757F84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440-A1A7-4C88-BBD8-9BEDA522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EE0-98FF-4617-9D42-5B8E394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B366-E316-4332-976D-B0BB172F25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AE3F-EA83-4554-8FEC-89547B702F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239D-1BE9-4C2F-8E6D-89A4691B4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ama postavila garáž. Při výstavbě ji vznikly tyto náklad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potřeba materiál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85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zdy stavebních dělníků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0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Režijní náklady (odpisy strojů, spotřeba elektřiny atd.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0 000,--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lastní náklady činí 185 000,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ceňová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izovací cena, vlastní náklady, reprodukční pořizovací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čeňová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aramond"/>
              </a:rPr>
              <a:t>Oceňování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M oceňujeme tzv. vstupní cenou, ta může mít tři podob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Comic Sans MS"/>
              </a:rPr>
              <a:t>pořizovací cena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- cena za kterou byl majetek pořízen, včetně vedlejších nákladů (doprava, pojištění přepravy, provize, clo atd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lastní náklad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vyrobíme-li si majetek sami, např. nábytek, výrobní halu at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reprodukční pořizovací cena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neznáme-li cenu, např. při darování, pak se určí odhadem soudního znalce (znalecký posudek) nebo podle ceny obvyklé na trhu v době, kdy jsme majetek poříd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ořizovací ce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ládá se z ceny pořízení a z vedlejších nákladů, a to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ontá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ůzkumné, geologické a projektové práce (u stave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0920" y="1197000"/>
            <a:ext cx="7489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související s uvedením předmětu do užívání (opravy), kolaudační poplat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a zabezpečení pořizovaného majetku (správní poplatky, poradenské služb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stranění stávajících staveb v důsledku nové výstav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učástí pořizovací ceny mohu být i úroky z úvěru na pořízení DM, ale pouze do kolaud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koupila v zahraničí (mimo EU) výrobní stroj. Cena pořízení stroje činila 150 000 Kč. Dále ji vznikly tyto náklady související s pořízení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 - 30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 stroje – 7 8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tění přepravy – 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izovací cena činí – 188 9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lastní 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13000"/>
            <a:ext cx="76960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sou to přímé náklady (materiál, mzdy, ostatní přímé náklady) a nepřímé náklady (výrobní režie)  související s vytvořením majetku vlastní činnost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23Z</dcterms:modified>
  <cp:revision>43</cp:revision>
  <dc:subject/>
  <dc:title>Náklady</dc:title>
</cp:coreProperties>
</file>