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9580-B837-4ACC-BB0C-3CA5C3B6A1C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51A9-0BF1-4407-9F9D-0990D13F495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C143-7D22-4963-AB9F-5B671201691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4BCA-9F0C-4377-ACB3-F5FD6A7BB92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CB15-4BFB-4FCA-813E-198E708620D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7200-AA1C-4AFA-9770-0BF638DE52D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C417-4C5C-43AA-9792-5D3B9CFE8FE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AE7A-77BE-4AD0-BAD0-DE502E1AC01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DA3E-B0F1-4C44-A009-326A1A48D06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68FE-04BD-4DC2-8E9E-9942B3FA132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93CC-E740-49F7-A912-7C397C17A1D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D55B-C530-4AC8-B8DB-10D2EB88F22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49BB-C24A-4B3A-81D2-112AA689593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E0C5-BD7E-4B40-9945-B14E6A3B1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8742-1BB2-4D71-A026-6A7CCE89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FE96-3C7B-4D36-8EA9-4CF47E130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1500-2E65-46EA-8D5F-3D72A97C7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139C-A8AA-41D2-980D-98D317230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DEB3-9152-4556-809A-578257BD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DDF9-A5CE-43F2-946A-62590DDC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9B2C-BDD8-4C8B-B516-2FC66509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96BB-6223-4793-84C0-64BEE7CA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E56C-42CC-4EBB-B6B6-93DD7AF8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5F3D-BA8F-46C5-80FA-FB6ED08B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3C63-9125-4842-9F13-8576B9D1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B2B4-004A-404D-BCE0-95A6C591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4C53-FF8D-403F-AF72-FDCC3A5A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69A7-A7C3-4E22-927B-D33E97E7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7EE0-228E-40EE-98DA-80DED19BF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5DD2-6B37-4AC9-BE43-31C21D212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824860-4708-4E85-9448-50A2C55B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C54769-ECBC-464D-B8D8-1E6BD331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402930-E17A-4C8B-A647-9ADCAF7E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BC6EDF-24A7-468F-90FC-096B5772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17F9A8-1618-48A6-920C-CA595BC8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94FE-3FE2-47B3-AB80-C9A0763A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079DDF-03E6-4D2D-8EDF-6239BD84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8DD703-4537-4CAF-A8EB-6BF7EE61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6C518A-7C44-471D-93C1-589653A7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8927B2-7FFD-4654-BB92-8D1FD026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4BC92A-AA9E-44DA-AD5C-1843941A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805F1B-54D4-42BE-A08A-3F367753F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E8499E-ADD2-4E63-957A-0DC680866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363E-1122-466E-98C4-AE91FF3A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CB5F-A44D-4A54-A33D-113B4ED4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3C51-2320-418F-A6A5-05F97826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E425-E41E-4CD6-B464-77C67C2F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702D-3B9A-4F76-AC87-D4334A65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A2C0-4A1D-4994-8D99-87BD7737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E21B-AFF9-4840-9D2C-DA9B88A3CD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1F34-ECB0-4264-AD58-B0581D624A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247A-EFF8-47D1-A591-B8C4C4ACCE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koupila auto za 300 000 Kč. U tohoto auta stanovila rozvrhovou základu na předpokládaný počet ujetých km, a to na 200 000 k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 roce 2012 bylo najeto 12 000 km, v roce 2013 - 35 000 k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1483920"/>
            <a:ext cx="769608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dpis na 1 k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300 000 Kč/200 000 km = 1,50 Kč/k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dpis 201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12 000 x 1,50 = 18 0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dpis 201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35 000 x 1,50 = 52 5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účetními odpi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odp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Výpočet účetních odpisů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687096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Účetní odpis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si sestaví tzv.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odpisový plán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, podle kterého postupuje při výpočtu odpis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si stanovuje účetní odpisy pro jednotlivý majetek např. podle předpokládané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doby použitelnosti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nebo podle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objemu výkonů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1. Výpočet odpisů podle předpokládané doby použitelnosti majetk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Účetní jednotka si sama stanoví životnost majetku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stanoví si počet měsíců po které bude tento majetek odepisovat, a to rovnoměrn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tyto odpisy se zpravidla počítají s až od prvního dne následujícího měsíce, kdy byl majetek poříze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11280" y="1700280"/>
            <a:ext cx="76960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koupila dne 5.8.2012 stroj za 240 000 Kč u kterého stanovila životnost 48 měsíců. Odpisy zahájí od následujícího měsíce, kdy byl stroj poříz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26560" y="1628280"/>
            <a:ext cx="769644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počet měsíčního odpisu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240 000 : 48 = 5 000 K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počet odpisů za rok 2012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5 000 x 4 = 20 000 K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Úko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11280" y="1413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koupila dne 10.5.2012 výrobní stroj za 135 000 Kč u kterého stanovila životnost 54 měsíců. Odpisy zahájí od následujícího měsíce, kdy byl stroj poříz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počítejte výši účetních odpisů za rok 2012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2. Výpočet odpisů podle výkon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826560" y="14130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chází se z předem stanovených výkonů (např. u auta z celkového počtu předpokládaných ujetých km za dobu životnosti auta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dpisy se vypočítají tak, že skutečný počet ujetých kilometrů se násobí podílem pořizovací ceny na předpokládaný počet km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42:14Z</dcterms:modified>
  <cp:revision>49</cp:revision>
  <dc:subject/>
  <dc:title>Náklady</dc:title>
</cp:coreProperties>
</file>