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65BD-5F36-42F6-AED0-861637BB1C8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5AF1-682A-4713-BD5A-BDD0201E3F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80B6-7685-4ED3-929E-E99BD1CE10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73E-C442-45F2-9692-CF49832F91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416C-1351-47D5-966A-D9C199EEEE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0FE5-B263-4DBA-AECD-56E4FFA20A3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6F6F-4A9A-4599-8189-BFE58738F5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6BFD-C9FB-4A01-B1E4-5C2ADAC8DD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3520-9861-4664-BC5C-997E6E2B23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50AE-B0AC-4CAD-A292-1A79303C8E6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D384-659E-4B46-B359-7986E7DBF8E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3593-9FF1-45F6-B1A9-9380CB62EB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A6A9-6237-46F2-89E4-60CD0702C95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CFCB-EBEE-4E1D-9A67-70E1E1DBCBF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CCE0-2AF3-4BCF-801A-D335A24461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50F2-A986-4286-BBE6-651F2A1C47B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BC5-CE97-4768-B5EB-0FC6EB68747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5BC-0A0E-4D8A-86F8-6517A26D29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3A18-05CF-4FE8-ACE0-B0A4470F31B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9A0-8F18-4DC9-9DCA-55E480C2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899-8EC0-4229-8097-0AFAF5B2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9EC-3138-4F34-9574-5B152445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FA9-800F-46AA-95DC-D8B6D83C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E0C-583F-4FDC-9969-B098BEA1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73DB-238B-4CC1-88F4-63D4FE19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95F2-3902-42FD-B00C-C9106DA4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B79-6091-4ED1-B2EA-1D3D8B1E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CECE-5049-4B57-91D2-C217A3FB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F069-9AC1-4322-B2DF-2CB163BF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9816-DF9F-4FEE-AC69-2C32F41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737-B0D2-4865-ADA0-8312AD2C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66A7-78F9-4D82-A072-75A29443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B6DD-B9DE-400C-9B04-72CADAE9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E594-FCDF-4063-8111-AE93C14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03D-733E-4339-B4C2-4E01F657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6945-26CA-48E6-AC67-5F578198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938BE-DB04-4214-8933-0A945C3E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F11E6-DE56-4D94-8C5A-F732336E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0E8E6-B2D1-4FC3-A6A8-D85669B4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8B514-1ECF-41DD-A0AD-7CF201F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EB60D-6860-4292-9F04-C0F74178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4C9-C21B-4D22-BD7B-6B82AC5B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43723-FC6F-4169-B474-D012C8F7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E426A-88EB-44CF-B623-8BA4DA66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6A08D-8306-47AD-94F2-A140D2B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03D4F-81FC-422E-A070-AD6A1B2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51D95-0AC2-4E50-8577-F4A193CA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F448F-7BB7-4E35-A9DE-7B1D55E1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9EE9E-D142-4B6C-AA8D-2F526E50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7DD-50F2-4395-BCC2-EB20E5FC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AA7-0094-40D4-A32A-A2BC9269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EA3-E4BD-4C9D-B1AD-CF9D529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708-29FF-4A2E-A439-617C9F36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BDC-0C0A-4A50-8035-93822F82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744-8C97-4E26-86B5-5CE1AB8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93A8-BCA3-421E-937A-7B1B39466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F6C4-CC80-4212-BA37-D69391AD0C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7821-FED5-466E-B6B6-ECB1405ADC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pis     =    Vstupní cena x sazba (v 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276720" y="4005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76360" y="1125360"/>
          <a:ext cx="6335640" cy="39070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2560"/>
              </a:tblGrid>
              <a:tr h="3589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 odpisová saz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 roce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 letech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 vstupní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rovnoměrné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rovnoměr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prvním roce        odpis =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stupní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koefici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dalších letech     odpis =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2 x Zůstatková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 – n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počet let odpi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572000" y="33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427640" y="4797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187280" y="1125360"/>
          <a:ext cx="6193080" cy="3818160"/>
        </p:xfrm>
        <a:graphic>
          <a:graphicData uri="http://schemas.openxmlformats.org/drawingml/2006/table">
            <a:tbl>
              <a:tblPr/>
              <a:tblGrid>
                <a:gridCol w="2529000"/>
                <a:gridCol w="1220760"/>
                <a:gridCol w="1222560"/>
                <a:gridCol w="1220760"/>
              </a:tblGrid>
              <a:tr h="35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eficient pro zrychlené 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ůstat,.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zrychleného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zrychle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6560" y="7461000"/>
            <a:ext cx="7696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aňovým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ý odpis, 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daňový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aňové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(příloha 1)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při pořízení dlouhodobého hmotného majetku zvolí jednu ze dvou meto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ovnoměr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rychle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volenou metodu musí dodržet do konce odepisování (v průběhu let odepisování změna není možná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 pokračovat až podle rozhodnutí podnikate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případě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technického zhodnoce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ouhodobého majetku (přístavba, rekonstrukce, generální oprava stroje, zabudování klimatizace do auta apod. dražší než 40.000,- v jednom roce) se zvyšuje hodnota dlouhodobého majetku a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pisy se provádí ze zvýšené cen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ové skupin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ý hmotný majetek se rozděluje do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 odpisových skupin,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to podle předpokládané doby životnost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68360" y="836640"/>
          <a:ext cx="7488360" cy="4397400"/>
        </p:xfrm>
        <a:graphic>
          <a:graphicData uri="http://schemas.openxmlformats.org/drawingml/2006/table">
            <a:tbl>
              <a:tblPr/>
              <a:tblGrid>
                <a:gridCol w="1008000"/>
                <a:gridCol w="1224000"/>
                <a:gridCol w="525636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r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vězí dobytek plemenný, kancelářské a školní potřeby plastové, kancelářské stroje, ruční mechanizované nářadí a nást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ě, koberce, cisterny, čerpadla, transportní zařízení, prodejní automaty, traktory, stroje, letadla a kosmické lodě, kolotoče a poutové atrakce, lešení, trolejbusy, nákladní a osobní auta. 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abrikované prostorové buňky z betonu, trezory, dekorativní sochy kovové, turbíny, výtahy, lodě, železniční lokomotivy, tramvaje, vozy metra, skleníky,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y a budovy ze dřeva a plastů, tribuny stadiónů ze dřeva a plastů, bazény ze dřeva a plastů, průmyslové komíny, vodovody a kanalizace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y, tunely, budovy, stavby, dráhy letišť, studny, dálnice, ulice, silnice, tribuny stadiónů kromě dřevěných a plastových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ovy hotelů, obchodních domů, muzea, školy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Metody odepisován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1:54Z</dcterms:modified>
  <cp:revision>50</cp:revision>
  <dc:subject/>
  <dc:title>Náklady</dc:title>
</cp:coreProperties>
</file>