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3200-D1A6-481B-9385-55CE765958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A430-EE25-479A-9C05-CA4B69E4CCC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E1A2-EB06-4DD3-803C-2A65AB1D701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9D33-45E4-451E-98CB-B0533819E9C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B462-D63E-4A50-A869-D92600566F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BC8-A7E3-4911-A0C5-1892AB4873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4F86-9885-4EC2-9D39-A9E8D105F8E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A40F-F58B-4205-A9BC-D232D361863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DB8D-489F-45A0-9E57-BCFE194323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C6C3-6F65-4606-9DAD-C2A51DCB1C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983F-2604-4C89-9076-69862843A98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70DC-0A6A-440B-BCE9-DE4060BC694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F26A-40B6-4330-8552-A2FACC1B904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211-8340-47EC-8563-BEC1A5E0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E98-AE1E-4451-B35F-DE0068D0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CFE-100C-4407-894F-5266A90D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282-5D6E-4EAD-BBF5-E7C21DE2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FC4-B58E-45D8-ABE0-80CA482B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1211-7B5B-4297-A725-A6E2A67E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F931-439D-49C7-A534-1F464346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C9A4-08E3-4ABA-94B8-2EE4C45C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7CEE-2BDC-44DA-A852-BE98BC41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DC4A-95E4-49FD-B0CF-75983E9E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7B01-6CE8-405F-B203-C4A4E965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D2E-F3D8-42D1-B58E-39E0E66B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31C3-624D-42A0-B444-DFC869D5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C99F-6C50-47A0-A316-77263DA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9997-8309-426F-9BDC-8C7F44CD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9C35-3F3C-4FBE-B033-AE44CD94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46CC-D11A-48B0-9ECD-9E23EDF3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A9511-90E5-4384-A0D9-4C5B44CC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A2B31-F733-4FE8-A53C-3B92659A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377BE-4EF1-42F4-93CD-078A67A3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63717-17F1-4ED3-8921-5E951D8A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ACD48-9071-4C55-8130-F6799E7F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EA9-D7B6-4325-97DD-72A74E0E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56852-C6A8-4A94-A0FE-5C48A607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97F80-145F-409E-93E6-C32089CA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ACF8B-D8F3-48C8-A3C6-2937C40E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A925C-4DB0-4A72-B684-754A7F6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11C2F-A3BF-424B-8934-95C4DE4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C30A3-6CA9-407C-81C1-7CEFCD21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822C8-5760-471D-AD4F-629C7D50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FBE-74CB-430F-9C2C-BBB49A64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673-3A25-4982-9452-CC9D7FE0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F83-0AE1-4CEA-A62C-04E716F8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037-C323-494B-90EC-EA90993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1C9-55C3-4DA8-9021-CD366FE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BC0-5687-476E-AE21-21AA71C9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03F5-D254-4D51-BB3E-F0A62893D2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CF3C-92C2-4107-8812-4E7FA37DD8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3474-301F-46E8-8C9C-C8C9B7D1A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polečník vložil do společnosti dodatečné věcné vklady, a to pozemek v hodnotě 500 000 Kč (který zvýší hodnotu ZK) a auto v hodnotě 250 000 Kč (nezvýší hodnotu ZK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pozem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0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31/4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au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5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, leasing, převod z osobního užívání, vklady společ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statní způsoby 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 můžeme pořídit také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1916280"/>
            <a:ext cx="8131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arování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836280"/>
            <a:ext cx="76960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ar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darováním zaúčtujeme na příslušný majetkový účet a na účet 413 – Ostatní kapitálové fo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auto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pozem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ekonomický         program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1280" y="765000"/>
            <a:ext cx="7696080" cy="45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  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kud podnikatel převede dlouhodobý majetek do podnikání zaúčtujeme na příslušný majetkový účet a na účet       491 – Účet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atel převedl do podnikání své au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účtujeme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9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vkladem od svých společníků, zaúčtujeme na příslušný majetkový účet a na úče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1 – Základní kapitál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ři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9 – Změny základního kapitálu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o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3 – Ostatní kapitálové fon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kud vklad ne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44Z</dcterms:modified>
  <cp:revision>53</cp:revision>
  <dc:subject/>
  <dc:title>Náklady</dc:title>
</cp:coreProperties>
</file>