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5F6A-09A2-4330-BE39-94627B9F75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CCA3-7BA8-427F-8DFE-501F9D10638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6972-7BF3-4CB7-B0BD-AA7E052B74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5BB8-DBD8-4E4A-AFB8-A7F33290F29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C4DC-1786-499D-9886-BA633FB806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542-A64C-4B63-9A28-7725704F46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AC4-1053-4035-95BF-9541AD828E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66F-F82D-46DC-8861-286A5415FA8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AA8-E45B-4A66-ACAE-6A5B4AC5DC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729F-134F-404F-854B-C154FC8765B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4BC-5956-4DF4-A5F5-7663805E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8FF-8E41-46FC-9919-9EAEC64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F33-B7E0-432C-995C-6067EF95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305-1BA7-470E-9C76-023640CF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02A-DF62-4AE5-9D61-5CC82F87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354E-E832-4EE2-94AA-AC39E1F9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1964-2D99-4FE6-A2CC-E14F264A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F515-3B80-465F-B8EB-041FCCC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999C-9B71-41A5-8DC3-D63D4D2A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023-D7D4-4DD1-832A-6E98CDD5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33F0-F57A-43A5-BE94-D4418FF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CB8-16F1-49A8-A144-3396333C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46EA-BFA5-4795-BFCC-4F070E1E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2E5-AE69-478B-B88B-74438B0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B714-C726-4DB3-B3E9-A3958AE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3F07-80FB-47F9-9795-5CEF56FB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6878-3346-49D2-BAF2-6E5FAD65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A8CF7-318B-49A1-93A1-59C8E5EF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42722-AD16-4D33-A3A9-49D158C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07A7A-DB40-4F24-85F0-A4DF51D4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A5DBA-3084-4B15-823C-955B37FA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9FEF2-42F2-45F8-B443-5F8AA2E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AC9-C45A-4C72-B772-0E34915D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664DC-390F-4596-A973-D664193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49122-56C2-43D0-A60C-32B6F441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5BC03-13E1-4573-9364-60F280A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F9FF0-D386-41CF-8FD7-96E9A7D6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8A7D6-5E77-4FA7-909D-94CB80D1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994FB-20B5-4DCD-980B-654997B7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71B1E-F5D6-4365-8D52-7105B933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6F2-53B5-4B34-A010-BBDF3503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E88-CD19-47DB-B0DE-DF25071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E8A-AA61-48E2-9BD4-9E02903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F61-E254-472C-A952-C4C6B7F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31F-08CD-4302-B84F-769CEE9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449-A012-468C-9916-C1A51D1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E0E6-E144-4B1E-870C-31FBDF788D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864D-0183-41C9-A2B6-000C3A2203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5F3-7197-43E8-9A54-4ED8A4E19A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, daňov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dpisy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y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y vyjadřují postupné snižování  hodnoty dlouhodobého hmotného a nehmotného majetku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Druhy odpi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1. Účetní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účetnictví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mají vyjadřovat co nejobjektivněji skutečnou míru opotřebení dlouhodobého majetku ve firmě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odpisy si stanovuje firma 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980640"/>
            <a:ext cx="769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Daňové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 (6. odpis. skupi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Metody odpisová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Firma může zvolit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1. Rovnoměrné ode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2. Zrychlené odepisování</a:t>
            </a: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volenou metodu již v průběhu odepisování nelze změnit,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a následně v odpisování pokračov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37Z</dcterms:modified>
  <cp:revision>43</cp:revision>
  <dc:subject/>
  <dc:title>Náklady</dc:title>
</cp:coreProperties>
</file>