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135A-72BD-4402-941E-305B93FC94A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E873-A87F-400D-ADB1-6F3E4F451EC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70D1-1BA5-45F9-B647-8C846D5F62B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688F-7CE5-4541-94CC-F6239684F3A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35E3-2048-4B47-BF95-9D72307150C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1D95-77CA-488C-B065-B02BB14F940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004F-2424-445C-9F7C-EFF7A3A6420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B655-B4F3-43A7-A0E0-0DE9B72F3B9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4E3F-BA01-4103-B72E-B938E446B16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784-B055-4DF4-A6A6-A9B73BBC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01F-6509-4EA1-BA3B-1BAACDDA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ADB-9D69-4442-8F87-21965DEA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2C5-881C-4BEC-A562-3654A6D6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8A8E-0253-4519-A467-44D374D0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3D71-A80F-4EB2-AA29-985DA550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CD67-4A87-4536-BF9A-4BD48590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E84F-6CFE-4D24-A2AC-8CCBFC5B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21CC-1CA9-4015-8192-71F0B13B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D08F-3D92-4D88-898E-C7960349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5A05-C93B-436F-AEB0-D3ECC77C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7F4-B465-4576-A2F3-B2318979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CB94-37BD-4A1E-8B0F-2A4D8BDE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1E3B-105A-4BB8-A184-7D5577A3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74D5-490C-4286-B5AB-0E64053B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BBEC-12AE-4069-A478-07311639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64E3-C510-4DF9-8D9A-9170FF5D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D80DB-6EAD-4AB1-B70C-948D122D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C93EB-C37F-4111-B9D3-0DF89486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FB8AF-FDBE-4A8F-BAC4-F43891B8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5F274-727E-4B4F-A97A-C697E463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02629-2D5D-439D-86E8-16ABC61C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F5B-DDD7-47FE-BA8C-7B87AACE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4FC50-208D-48B5-BCAE-D1BCCF6A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EB3D7-7A2F-458A-A02C-EBC31037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7331C-91E1-47B9-99C9-A5E534EB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63D18-C374-4ED3-9E20-D6D110C7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C42B2-06FE-4107-911C-295CD156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8B928-B4F4-4F71-96AE-B151F4A7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FA568-9BC8-43B7-8DA1-600ABB27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E10-7757-448F-8A2E-FCCC38D0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831-33BA-49B6-9F7A-C79C8F30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67B2-E9B4-4362-860F-C2C5233A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B42-E283-4A2C-942A-E3E1582D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BED-EDCB-4739-82CD-C204F6C7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EE5-41BF-4917-AD88-48D4A701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E0F2-4DDA-4D74-9E29-0C13E647E7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2019-624B-4682-B9B6-61E338E7AF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37A0-3965-47E6-BB93-5CD2FED595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potřeb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potřebení, fyzické, morál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potřeb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Opotřeb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majetek se postupně opotřebovává (morálně i fyzicky), po celou dobu své životnosti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potřebení vyjadřujeme odpisy (daňové odpisy se počítají za rok, účetní odpisy měsíčně)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v Kč udává velikost opotřebení majet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oučet odpisů označujeme jako oprávk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y jsou pro podnik nákladem, které účtujeme na účet 551 – odpisy dlouhodobého nehmotného a hmotného majet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Rozlišujeme opotřeb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5564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fyzické opotřeb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které bývá způsobeno jak vlastním používáním, tak i vlivem prostředí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morální opotřeb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prostředky (zejména stroje) ztrácejí svou hodnotu v důsledku výroby stále dokonalejších a výkonnějších prostředků (strojů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6:05Z</dcterms:modified>
  <cp:revision>41</cp:revision>
  <dc:subject/>
  <dc:title>Náklady</dc:title>
</cp:coreProperties>
</file>