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0700-7AB0-478F-8CCD-E90C8DCE5CA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60CC-BA33-468C-B1D2-42DF5335CE9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1430-01A1-47D1-84FF-B95E0A20E6D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9858-EBC8-4FBC-A4AE-6045580ED92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8C85-1CE7-424C-8F0B-67F05D8774C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C047-BFC1-4EB6-890B-BAD08BB979A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9D67-6723-4AC7-990B-C777CE32F3E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76AD-716A-44F0-94C6-DE51C2D16FB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E130-69E0-4160-9ACE-87A9C522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D899-5EAE-4D6D-B375-4FCA96AC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FF9D-6C43-48B5-8881-C3EEDB9B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3FA9-0E0C-4D1E-914E-AE081874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E95F-168B-43DB-B524-C0B6825B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C154-5EE4-4714-A356-FA9624AE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1BDC-1322-4506-B840-75403B44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53B5-C4B6-45C9-A284-ECBABBFC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1334-9A8C-4320-B606-365B7419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B810-8468-42ED-BEEF-C2B3162F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E0D5-4E59-46C7-97B8-983285B7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A7BF-969F-433A-A5A2-C9FBFFD8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DDE4-49F2-48FD-9481-C3D5CEFA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3367-386F-4C93-A764-FF02D157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E016-467D-4120-99AC-844EDBDA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D312-ED7D-4E34-9158-AE2742C9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1B24-C5A9-41A2-94F3-E68691A6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1B0B5-7677-4C16-AFA7-C94C8E23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6B4E0E-91ED-4BB7-B470-5FC7D308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77CDB9-4D6C-44CE-AA9F-DC482D47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20146-0161-497C-ADDA-31235BC2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6941F3-DC00-4491-86F8-B68FB9F8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909A-EBD2-42E4-9688-8B52E2F1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F3563-414D-4189-AFCE-29D05C9A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68A7B-65C5-47A2-BCD7-FA0696AE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856A8-B43F-4979-ACBF-34FE6AAC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943192-7F3D-45C3-BB4F-AE4488CD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4D52E1-9F8D-46E4-B4A7-EACFD721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9C4E0B-8DA3-4053-9365-C7AF7AF0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83196-2900-411F-B5A2-43097303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80FA-1E55-4C3A-BC64-7EA8823F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E5C9-B5F7-4BB3-94C4-EE278579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AE7C-CE17-4600-A9F4-5ECF8D68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724E-1903-481A-8C9D-588B79A6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FB5D-093F-4E49-81E3-20D3AB06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FEEF-0911-4315-A27B-EA138E0E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DD4E-6378-4749-A531-A0C91065F7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622D-44E9-4CA4-873F-2489CFADB8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750B-2729-4C90-B25A-4849F0B3C2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9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louhodobým nehmotným majet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nehmotn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Dlouhodobý nehmotný majetek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Dlouhodobý nehmotný majete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omic Sans MS"/>
              </a:rPr>
              <a:t>Nehmotný dlouhodobý majetek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představuje majetek dlouhodobé povahy, jehož cena je vyšší než 60 000 Kč v každém jednotlivém případě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Mezi nehmotný dlouhodobý majetek patří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oftware (počítačové program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ocenitelná práva (know-how, patenty, licence, autorská práva, goodwil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ehmotné výsledky výzkumné a vývojové činnosti (recepty, technologické postupy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-1717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ýňatek z účtového  rozvrh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42560" y="1341000"/>
            <a:ext cx="76964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kupina 01 – DN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1 – Zřizovací výda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2 – Nehmotné výsledky výzkumu a vývo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3 – Softw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4 – Ocenitelná prá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5 – Goodwi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9 – Jiný dlouhodobý nehmotný majete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3:26Z</dcterms:modified>
  <cp:revision>37</cp:revision>
  <dc:subject/>
  <dc:title>Náklady</dc:title>
</cp:coreProperties>
</file>