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19BB-529B-4D9E-9747-FC9BD962F2E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167C-BA4F-46F2-BB76-6FD12363EDE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4CB2-0CD6-4457-8704-21F400D9A53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A0AF-B733-4920-B510-3BB4BC9BA95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E74D-D255-42D8-BCBC-B2733923384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2D79-0626-4C70-9CBB-98404FE7548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7648-EE2E-4933-B405-5C959B5AEFF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8BE4-A26F-4E38-ADB1-D6A3EA1E392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1403-8C2C-462B-B5CD-4CDDE6D8F4D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6B54-1134-4AF7-A6CD-7C07BD78994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9CF2-3D04-4D58-A27C-2B3BFC2028A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D20-66F9-4B85-8D91-A7AED7D0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C603-8EF5-4B5E-B037-BCD3A629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42F-31AE-4593-A2BC-D29696F3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B13-34FF-4A70-9BFC-A06A2FBC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BF0E-EDCF-4B14-9A72-000896F2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C813-DE02-4CAF-97A3-D31A4DA3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2155-7539-43B6-93C5-FD5D2C39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B7D1-44B1-4DC2-95CA-03B57EA6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641D-22ED-4371-AB90-5859ABC1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8E3A-58C7-434A-9B3B-7099A494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B6F3-A5F3-4716-91F0-4EFD5B9F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099-2BF0-4869-B4E8-BA459951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0884-4828-4324-9870-1FEA8025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30B1-5220-4427-A80C-49B9F986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3A31-FBF6-4AE0-987A-7F32F365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1BCD-1F71-48C4-994B-1910B5FF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D581-CBDD-4325-BD28-19F35C83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40410-0D2F-4B6F-B2F6-601EE048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E33A5-330E-43F1-8CD7-DB757D7C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16B124-23B2-4D9E-BBDE-4EE5FAFB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E9DDC-133B-4E98-B25F-35C65287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6DA9F-01E8-4A53-9987-537159D1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B11-6C34-4589-8B99-5B9716D2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3233B-84B2-4717-8C6C-D7A6DA89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345DB-6389-419D-A175-85D45FB6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84DC7-F4C1-48E8-868D-072FFD8B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652F9-3108-46E3-898C-44439DA1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37A6A-E812-442E-BB99-6D6E01F4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0D312-0DE8-41D7-8EEA-43453D72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FCB15-3444-4AF3-97A4-6752AB67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A3E-7946-4866-8F43-61BC1D6A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931B-6F2C-4E4B-A452-A6375E24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5C9-6C38-4095-A2B3-1EED9481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3BC-5D4D-4B03-96CF-160FC1E9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B1E-65D4-4542-A1AC-EB5F1971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7A8-196C-4C6A-8346-3551DF15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A08B-60BC-4777-9EC0-C50EC1AB67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9BFA-CC73-4887-BC94-31998560BD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8401-E82D-4450-8183-7E27364C04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e zálohami u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Zálo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63640" y="2349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Účtování záloh u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tování záloh u dlouhodobého majet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i pořízení dlouhodobého majetku dodavatelé často požadují zálohu po odběratelíc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ato záloha představuje pro odběratele pohledávku vůči dodavateli, která zaniká po dodání dlouhodobého majetk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 vyúčtování dodávky se poskytnutá záloha zaúčtuje jako snížení závazku vůči dodavateli, takže odběratel bude platit dodavateli rozdíl mezi částkou faktury a poskytnutou záloho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užíváme tyto účt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51 – Poskytnuté zálohy na DN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52 – Poskytnuté zálohy na DH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4360" y="148428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poskytla zálohu na dodávku stroje ve výši 50 000 Kč. Dodavatel uskutečnil dodávku, kdy vyfakturovaná částka za stroj činí 120 000 Kč. Tato faktura byla následně uhrazena z B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687060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79280" y="1484280"/>
            <a:ext cx="827424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bú – Poskytnutá záloha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50 000 Kč 052/2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P – Dodávka stroje     120 000 Kč  042/3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– Zúčtování zálohy    50 000 Kč 321/05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bú – Doplatek faktury    70 000 Kč 321/2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343080"/>
            <a:ext cx="687060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poskytla zálohu na dodávku softwaru, a to ve výši 30 000 Kč. Dodavatel dodal softwaru v hodnotě 70 000 Kč. Tato faktura byla následně uhrazena z B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0:50Z</dcterms:modified>
  <cp:revision>62</cp:revision>
  <dc:subject/>
  <dc:title>Náklady</dc:title>
</cp:coreProperties>
</file>