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D9C5-0CA1-4BB3-AA1B-4E96DC628AD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03D4-6F6B-458A-8846-55AFE9AAC06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D401-1EF6-4D0B-9E3C-086C2DB775D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B6BC-2E62-466E-9217-765EAE88025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F1B1-5619-4B55-B913-0D03A05EB19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04A3-E206-4071-A1FF-8692DF37E57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24DA-24CF-4AE8-8D91-701BCE8D531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2EF0-C470-4F89-9BF7-101BF10779E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A236-43FF-4323-92AE-3DD280D54AA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FC5A-283C-45DE-9EF5-11C442BD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19B9-A2E4-46C7-8763-2D22EF53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891-A0F6-4E46-BD8B-7C1854EB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2CEA-B823-41D1-A64D-5980C06F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26A9-8DC8-473A-B295-BCE688F2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2C9F-FDA2-421D-8E3A-14B228BE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E32B-9C34-4BDA-8516-F0AE2FDD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75FE-A0A5-4514-A389-80889E57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22FD-38C2-41C4-A20F-4C6568B4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4100-194F-42A3-A94D-6C465A32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6602-5698-48BE-BE15-6E33319C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AC2F-26E8-48DC-B7D4-A3654AE8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84D1-9783-4797-9972-5A1BADC6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1FC1-FA60-414E-8F12-69F7F17D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4F4D-6360-4E77-9AE0-9CAF0B7B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DD7D-1809-465A-AA07-D7F1D249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086D-B94D-45D2-95DA-EFCB800D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F67E68-2E8B-461E-895D-40CA479A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A2EFF-6106-4682-940A-0C96E1E5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24694-0C80-4ACD-A411-5CD0EB28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AC275-EC89-452F-BC6F-BA7BB2B0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A67A71-7338-4BC6-8055-7169A781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B95-6284-4A24-BFF3-D42042A0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42A26-17AD-4489-9C98-90BE2B6A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881B40-FAA7-4E4C-A7DF-AFC5E749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84438-D12B-4CF6-8836-7F623B68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A0552-CB76-4C8D-B862-31503283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97D7E-96D8-424F-A2BD-54960693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773D2D-81F4-4E97-853B-EA600A9E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8C9A9B-172B-4B9A-BD1D-E90D500C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BDC5-E4A0-4807-8C63-296028CD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71C5-F642-43FF-AC16-06AE40F5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3778-6F68-451E-A5C5-D5F4AC56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E69C-E6B6-47DE-993D-7E340514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BD17-403B-427A-A57A-9A3D20DB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CF84-5779-49B7-9D7C-6836D8F3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9F41-892F-4716-87D4-3CF363C217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2593-786B-4C85-AE58-3C72762894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6A9E-B2FB-4BCA-8D69-693FABA596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louhodobým hmotným majet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hmotn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Dlouhodobý hmotný majetek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Garamond"/>
              </a:rPr>
              <a:t>Dlouhodobý hmotný majet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omic Sans MS"/>
              </a:rPr>
              <a:t>DHM zahrnuje: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zemky, budovy, stavby (bez ohledu na pořizovací cenu)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amostatné movité věci, jejichž vstupní cena je vyšší než 40 000 Kč a doba použitelnosti delší než jeden rok (např. stroje, dopravní prostředky, inventář atd.)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ěstitelské celky trvalých porostů (lesy, louky, sady, vinice, chmelnice)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ákladní stádo: užitková zvířata (stáda krav, kozy, ovce) tažná zvířata (koně, voli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upina 02 - DHM odpisovan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1 – Stavb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2 – Samostatné movité věci a soubory movitých věc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5 – Pěstitelské celky trvalých porost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6 - Dospělá zvířata a jejich skupin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9 - Jiný dlouhodobý hmotný majete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436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upina 03 - DHM neodpisovan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31 – Pozem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32 – Umělecká díla a sbír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3:12Z</dcterms:modified>
  <cp:revision>36</cp:revision>
  <dc:subject/>
  <dc:title>Náklady</dc:title>
</cp:coreProperties>
</file>