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DFDB-DE01-4A33-A201-868540BE64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D32-6BED-4686-A106-3C78F47E1E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40D9-6E18-4C5F-ACF5-2820F48C006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A0AC-AC3B-4707-8E05-412F72327F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050-22A4-420A-81D4-E6CFA25C57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98B5-92F9-474D-938E-E462947FDA2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6F93-8F5B-4FC3-8507-D4DB289E466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F1D-D6A0-46DB-9612-A1C44FCF57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2D45-11D8-4EE6-86AA-BE51D71C52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98A8-92F6-455E-9B81-09BA481AEA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9B3-91D2-4BBE-BCE1-6B1D1463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B1A-8384-4506-A220-5A4F917A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C45-A0D2-4E93-82E4-B3EDD10B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764-8F21-48A5-BAEB-999643A6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662A-A531-48FB-92EE-BFEECD9A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7F6C-D500-4176-8A15-F707CB38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EBAD-3995-4DCA-8146-0B4A2336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1661-2CBF-4940-927E-D69D6A2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A65-5C01-48A2-BA18-9B11D89A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4E9E-070E-4C01-9E98-EF8DA7A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1E1D-C110-4354-9F2E-D45B69C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686-EDB6-4D98-8BBC-66F8A2DE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0F45-CD08-46E0-91B9-7C7D5D3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09BD-812E-4991-9645-4A4BA75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90E2-6DBE-4D81-8A0E-75DFD7C9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115-7551-4DF1-9388-A58F9CDF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54F-1BC4-435C-8EFD-C5BCFB45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D0E72-F823-40BA-A8AD-D84C3317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DF3F9-F274-479A-997E-6E2A07D5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09B78-011E-4548-8BD6-33C80474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FC3E2-027B-43EE-8EC3-CA268C54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8B977-53B3-4894-A554-DD32AAE6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3E4-D009-4E53-8553-71343C5D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88FDC-B72E-4B04-8138-BBF190B3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5E934-3DB9-4EAC-9680-499512B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2D4EF-23D0-41F2-8F4B-5F573AD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D7DDD-E6F8-4254-A26D-E8927D1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E81AB-83E8-41C2-9B6F-61619F3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8BC24-2601-4D3D-9656-7437A62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388FF-8768-4C80-81D7-9C4C9BEF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CC0-1C68-4709-B487-1F80FA0F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595-BD0B-4CC5-B02E-CE4061EA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696-2C48-4656-B02A-1C320CA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AE4-9AA2-437F-977C-B57AC3F7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B0F-0DBD-4754-B4E8-C55865D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66D-F57F-40A8-AE0A-769C3FE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BA4C-1C0C-4FF0-BAB5-E20D01D3A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B2BE-AF97-48A7-AEB7-04BDB76F9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A42F-A849-467C-9FCB-859CF03DE2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vod do osobního uží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do osobního užívání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do osobního užív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(podnikatel) vyřadí dlouhodobý majetek z podnikání do osobního užívání musí zaúčtovat zůstatkovou cenu na účet 491 – Účet individuálního podnikate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11970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(plátce) musí odvést DPH z vyřazeného majetku, a to i v případě, že je majetek již zcela odepsá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automobil jehož VC činila 390 000 Kč, dosavadní oprávky činily 150 000 Kč, a odpis za část tohoto roku činil 32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32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208 000 Kč  49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43 680 Kč  491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9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počítač jehož VC činila 42 000 Kč, dosavadní oprávky činily 30 000 Kč, a odpis za část tohoto roku činil 6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, a vyřazení počítače z evid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09Z</dcterms:modified>
  <cp:revision>56</cp:revision>
  <dc:subject/>
  <dc:title>Náklady</dc:title>
</cp:coreProperties>
</file>