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DD53-D2FF-4A29-83C8-A0AC1CB2FDE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6DDD-37F9-42EB-A8A7-0F54D00D8144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84D6-3288-4E88-856D-EEBC7EA4DDE9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2208-F01F-48EA-8173-20B27D047FB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56CC-E448-4425-AECC-4B6E8B3426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3D25-103E-4126-B22C-0AB6FD9C42A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8A20-F938-401F-A9E2-B2DC906FA9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3ACD-EB3D-496E-BC43-4601F2ED08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C8EA-F9C5-408E-A3F4-526981359E9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B012-CC0B-4C4F-B66F-1D02276D5471}" type="slidenum">
              <a:rPr b="0" lang="cs-CZ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552-0F1C-4356-98A4-260C249C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4F09-031B-4D04-97A3-7E47D4F2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7A05-9AE4-4463-BD6A-D4CB66C1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A61-4681-4FCC-8D28-C0188D5F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A880-72F7-445C-BB6C-D9CA860F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21A0-6B97-4173-BD97-B9EEC8A3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48E6-3104-4CEE-8AE7-1AFF617B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B462-FCBC-4BC0-87EC-5848C580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D9B5-0C2E-475D-AF2B-537694387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354F-92CA-43FA-BCAA-B0D4F742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712D-256B-4D12-8046-E07615E1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82CF-F9B1-415E-898E-93806C1E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A1F0-9C8C-4962-9132-2408CC9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746F-0BF2-4D1F-A0C9-2798A008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CC6A-998E-4CD9-91E3-1583B32B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4D1F-F641-45AA-849A-F2052732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5468-74E7-4B4D-83EA-1D87A51F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C0166-0598-4195-B269-22F10D61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627D8F-D126-44FD-B8AE-E03E9597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CF7A4-AC89-4E06-BD6A-25DA32C1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78D44-50FE-4503-BF0A-9B226379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E07B1-FC54-417D-A8E0-D9479849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7F4-7085-4029-A6F0-A667FD6F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209C5-4752-4209-B813-825F096E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33156-DB02-485E-B4BF-07F4DDE9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ADACB-5825-4FA2-8982-F420C28E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2498D-B778-4427-AA69-623D81E5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60230-4A90-41DE-9EAC-2CBF1871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CF4A6-0CEA-49B8-86AC-44F708D86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9D294-C176-42DD-81BF-12F99FDC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C91-68F1-4C5C-B130-BBF9A0D9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A48-5694-4354-945F-7BE6C2B5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6DA-1ED6-424C-9CB7-AC46E275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D6A8-9534-4C97-8E33-DC2A4231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764-CE05-485F-863C-0D047AC0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AE4D-5952-423E-9053-C4F0955B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7518-6BFB-43C3-8AEE-D997CCDA6817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4303-3DD8-4FFF-9BA8-D722E8D0735B}" type="slidenum">
              <a:rPr b="0" lang="cs-CZ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61B2-2B9B-48FE-99F0-93DE2BB1D54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890720"/>
                <a:gridCol w="917640"/>
                <a:gridCol w="1655640"/>
                <a:gridCol w="3097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Y_32_INOVACE_2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539640" y="4724280"/>
          <a:ext cx="7561440" cy="118908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gr. Miroslav Hruš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. roč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/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468360" y="1413000"/>
          <a:ext cx="7991280" cy="41130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7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inanční 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í uzávěr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Účetnictv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k seznámení studentů s účtováním zákonných rezer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Zákonné rezer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rezentace s úloh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08000" y="2781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500"/>
            </a:b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7416720" cy="37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vorba zákonných rezerv se účtuje do nákladů, a to na účet 552 – Tvorba a zaúčtování zákonných rezerv podle zvláštních právních předpisů (na stranu MD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erpání (rozpuštění) zákonné rezervy se zaúčtuje na stejném účtu na straně 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tiúčtem je účet 451 – Rezervy podle zvláštních právních předpis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6633"/>
                </a:solidFill>
                <a:latin typeface="Garamond"/>
              </a:rPr>
              <a:t>Účtování zákonných rezerv</a:t>
            </a:r>
            <a:br>
              <a:rPr sz="3100"/>
            </a:br>
            <a:endParaRPr b="0" lang="en-US" sz="3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 účtován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rušení zákonné rezervy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jednotka se v roce 2010 rozhodla tvořit rezervu na opravu výrobního stroje. Oprava bude provedena v roce 2013. Rozpočet opravy 300 000 Kč. Tato oprava byla v plánovaném roce provedena dodavatelem. Fakturovaná částka činí 387 200 Kč, včetně 21% D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účtujte tvorbu rezerv (za jednotlivé roky), fakturu od dodavatele a zrušení rezerv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Úloha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6633"/>
                </a:solidFill>
                <a:latin typeface="Arial"/>
              </a:rPr>
              <a:t>Řešení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tování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1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Tvorba rezervy 2012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52/4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P – Oprava budovy 2013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2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11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67 2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43/3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úD – Zrušení rezerv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00 000,--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451/5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g. Pavel Štohl – Učebnice účetnictví 2. díl pro střední školy a veřejnost, vydavatel vzdělávací středisko       Ing. Pavel Štohl, 201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8:08:18Z</dcterms:created>
  <dc:creator>Ing. David Holzbauer</dc:creator>
  <dc:description/>
  <dc:language>en-US</dc:language>
  <cp:lastModifiedBy>Igor</cp:lastModifiedBy>
  <dcterms:modified xsi:type="dcterms:W3CDTF">2014-09-13T15:40:36Z</dcterms:modified>
  <cp:revision>17</cp:revision>
  <dc:subject/>
  <dc:title>Dohadné položky</dc:title>
</cp:coreProperties>
</file>