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FC8-91A7-4050-A63C-3E6DAF39AE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1F5-AB0F-45BD-AB71-23AA68000FC6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60FC4-4DA2-4287-9069-86631BCD535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C17C-2348-41D0-A752-7476E3BDF3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FA43-E103-4A1D-840A-648B725A277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6B04-A71B-42D3-ADBE-EB403E1FC8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8363-1BBA-4216-A74F-E39F9AAD8B2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06CE-BF73-4CB0-8D75-091FD9FE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2E5-9D54-4080-80BE-C405535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A706-D722-4765-AE59-6567C72F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671-94D2-4CC9-9564-B9E70657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4953-C98B-4CFE-8A66-F20189012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7ACF-128F-463D-A0AD-58CBA71D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C74B-BF6E-4A80-AA14-A8F43796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7243-CAE2-4FE2-A547-C9F6D530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DC67-A866-4F81-BE63-32557660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35B3-FE8E-44AC-A33A-5BC0731D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C883-D64A-47B7-A79D-70DE4BBE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4AD-4D7E-4F40-B5CC-A3E530BB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8454-4FD5-4EF1-B32F-41E8CE8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3412-2996-4FE3-83D3-B927B56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8471-02A7-470A-90A1-F08131BD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6D87-E1BF-480E-BAD4-45B021F5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696-3868-41EE-963F-662AF8D1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CE50B-CDBE-4384-833F-1991DD18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EC849-D010-49EC-B13C-13CAED5E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76D7D-800A-42BD-8103-5AAC8435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67AE8-8448-470B-8E87-C927EBB6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43825-2148-406F-8A9B-7E5236F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E8F-D8EB-4DE8-B6D1-D25D634A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805B28-D454-4B6F-B417-587E27EB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BBF06-3337-4509-8D21-068AC349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E86DDD-9F4E-4395-B164-8A2D308E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9647F0-EFE5-4476-A4BB-D2A57944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0AF8D-1E3D-4FF9-BC1B-0F06B603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24546C-A42E-4AD6-9DF5-E4C19F41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92E46-D679-4BBB-8360-BE172A31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B4FD-22D8-4FEB-BCBA-07DADAD7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AB8-9852-403A-B8FF-0EA46A7A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FA76-005B-4994-9DD9-7D41E98F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017-3B2C-41BD-99F8-24011AE6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376-9A5D-4AF8-8A02-33376825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EDE-C198-4B21-962D-115C6C23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76CD9-DA90-47DA-8129-28564CB3E183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A82A-A310-4EFF-9DF5-DA9BA18AC2A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D4EB-48A0-4098-8396-A82DC10467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etní uzávěr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onec účetního obdob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6364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Garamond"/>
              </a:rPr>
              <a:t>Charakteristika účetní uzávěrk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uzávěrka se provádí na konci účetního období (předchází účetní závěrc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účetního období se musí uzavřít účetní 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 uzavřením účetních knih se musí prové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ntar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ování účetních operací na konci účetních obdob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6633"/>
                </a:solidFill>
                <a:latin typeface="Garamond"/>
              </a:rPr>
              <a:t>Účetní uzávěrk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ále následu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jištění hospodářského výsle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počet základu daně z příjmů a zaúčtování daňové povin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zavření všech účtů a převedení konečných zůstatků na uzávěrkové účty 702 – Konečný účet rozvážný a 710 – Účet zisků a ztrá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4:29Z</dcterms:modified>
  <cp:revision>16</cp:revision>
  <dc:subject/>
  <dc:title>Dohadné položky</dc:title>
</cp:coreProperties>
</file>