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20B2-E280-431D-B0EE-83E46379316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1E41-C8B6-4FFE-81CC-0ED1AC793BD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B702-F00D-4692-A4BF-5195CE900C30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6246-E40F-4CA9-89CA-9B9A8F06780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DDD9-A60D-42B7-9130-28033ED92E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0352-556E-4B28-8972-009FA8E7E65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091A-CAF2-43CC-BA25-50AAD5B5B21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C6F3-844B-4A01-9A7E-80CA9F82212A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4D3-C1EE-4C8B-A10C-3752D0B5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B3D-FA71-420C-89B1-4D5305BE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740-8F04-4ACE-9BE9-55CBF036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B8E-C7D4-44AE-A554-F7E0FC61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82A3-0367-4B75-970B-96EBA9938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C793-4876-4BCF-9068-02D390D6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614-1838-4EA5-8DD9-8B19DDDA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AB59-C840-4B00-980B-3ADB3E34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B001-B4A2-4EC6-866E-2C194BF3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6B81-B886-41CA-9AB3-BB16921B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DACF-028C-4424-A8E6-006499AF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D4F6-4D40-48A2-8797-338C870C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1F35-7D1B-4A75-B0A2-DF409D5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CDB6-36D9-4712-B2FF-1559A6A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7ED5-7229-4490-AF3F-F07DC56F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4360-A1A1-4EFD-95F7-BE1C0A11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24B4-375E-4283-91A5-1F0707DE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76A44-C80B-44F9-9058-DA744811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A740C-F374-4452-B457-F968865A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569B9-E808-45AC-99A4-3C8E5C9A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2D1487-9E78-4B02-AE49-07D5DEF8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22D61-D826-4723-96A0-E5C2B9B4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4D9-F867-4433-BF00-88E9CABC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64D16-D803-45C1-83EB-1DDFF3AC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0FB11-3B20-4FDC-96A2-34EBE3ED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26C3E-AA52-4DF6-B05B-172569F5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D3F5D-389C-4AF1-926D-AC8855F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817A9-2C8F-47F0-A18B-4695E12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922DC-B89D-43BD-A60C-B81A2F118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164809-FFD9-4012-9B49-14A27059C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D58-3326-458E-93BF-33CBFD27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C74-571E-40CB-8359-A36ABD92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613-C7B7-4DFA-9EA7-8A116908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250-70A9-4FA1-AA57-2BB2AE4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0162-E017-4266-8873-D6EBEF2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D9F-2111-44EB-8555-87F0308E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BAC-1124-42A5-AEF2-9A1E892F9AF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18C4-46EC-4F00-A61E-54F41EF00B6C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4F92-8DB8-4719-B858-6FC6B38DA25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84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lohy na tvorbu a čerpání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vorba, oprava, čerp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- úlo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000" spc="-1" strike="noStrike">
                <a:solidFill>
                  <a:srgbClr val="006633"/>
                </a:solidFill>
                <a:latin typeface="Arial"/>
              </a:rPr>
              <a:t>Úlohy - rezervy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33"/>
                </a:solidFill>
                <a:latin typeface="Arial"/>
              </a:rPr>
              <a:t>Určete, zda a jakou rezervu může firma vytvořit (účetní období 2013):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74167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čítač, předpokládaná oprava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ůdní vestavba 20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sobní auto, instalace klimatizace 201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budova, předpokládaná oprava střechy 20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6633"/>
                </a:solidFill>
                <a:latin typeface="Arial"/>
              </a:rPr>
              <a:t>Úloha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4995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jednotka se v roce 2013 rozhodla tvořit rezervu na opravu budovy. Plánovaná oprava bude provedena v roce 2016. Rozpočet opravy 600 000 Kč. Oprava byla provedena dodavatelem v roce 2016, částka 786 500 K00 Kč, včetně 21%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4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 000,--  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50 000,--  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36 500,--  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00 000,--  451/55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1:04Z</dcterms:modified>
  <cp:revision>16</cp:revision>
  <dc:subject/>
  <dc:title>Dohadné položky</dc:title>
</cp:coreProperties>
</file>