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1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936F-BB26-4060-B637-A918F9DD0E83}"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5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12588-517F-4719-A2BB-8207CE88D711}"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8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4420-B414-4B21-A8A4-CF820F55E7CB}"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97E21-1024-4A58-B91D-CB6BF2C48FF5}" type="slidenum">
              <a:rPr b="0" lang="cs-CZ" sz="1200" spc="-1" strike="noStrike">
                <a:solidFill>
                  <a:srgbClr val="000000"/>
                </a:solidFill>
                <a:latin typeface="Comic Sans MS"/>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B735-C9CC-4D35-8A80-F089285D3A0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6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0B36-6B2B-44FD-9108-187DA83616F4}"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4660-F304-432A-A706-79A33EB4127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7E21-6D4F-4A65-A7B1-4E711D150A5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341E-5AC3-47C5-AD64-E19CBC1144B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7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288E-77FD-42C3-92FC-0D82E06EC50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8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08E6-065A-41CB-9464-6157815B25BC}"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85144-E91B-4F36-97DD-E3C6CB460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1B27E-0D92-4500-8BDD-8B0A2C014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F8EAC-C64B-4D11-9AEE-2C27E4C19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F2732-53A5-4500-8DEC-CFFCEDB48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F60F6F-E1A0-4B46-93CC-868821E0F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F8392-AE1A-48C8-8F72-C3AF12C9E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8771F-55C5-4E55-96D4-134F7683C1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280115-AB10-4FDD-A756-AA0398F13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F2FCD-DD9E-4A15-956F-012A17261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352C5-3A43-44BA-B62B-C3649116B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C001B-5674-4CD7-B934-BF219C3FB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70650-0896-4E6B-A471-7300BA9F5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D94BB-C930-46C5-A47C-A833527DD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5ACFD-445B-4EB8-A8BB-52699F822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80568-0BBA-4E1F-9DDA-FCFDE653F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4DE8B-C024-43DD-8C03-796770AD5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C8F7DA-3857-47FA-9604-D7197EE1D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2C7A8E1-CF18-4D8A-841F-B7E1BE762E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1420F6B-D4EE-47CC-A14F-7D4BB18BFD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B748BC5-755A-4980-9179-7223220271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30263A7-FCD8-4F7B-A08C-A920769CC2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03D7584-E84F-42EE-97C6-6D0EDF7A4C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556D6-1EC2-4C62-98E1-470B8351E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954BEC5-1E93-4509-ACCC-0AF372E84E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34A28B4-5DFF-4403-84B7-69E00B6A37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3BD9441-35B5-494E-B875-E10466A57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1ACEA3-B3B2-48D9-9FC4-0934EE84F9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AFACE57-59ED-476A-BBCD-5625BE7E98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D917780-4331-44B5-879A-BBF15D5FC8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7B8834C-5180-4398-B529-83D251C492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51A99-18FA-42E5-B447-BC93782F3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1D01B-81A0-4E80-A4BC-F99F79241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CA011-ECA7-4C60-A240-03F11AB1D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58CD7-BBE4-4A2D-9ACD-460B1CF7C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61284-BBFC-4E6E-A361-2BA07C735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839A4-1082-4392-9F14-D321FEDE2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D36F-68C8-4E21-9897-659ADB431533}"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8E81-B4C3-4610-82FD-E9C42F20203A}" type="slidenum">
              <a:rPr b="0" lang="cs-CZ"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0" name="PlaceHolder 3"/>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7280-B2C4-4C72-8BDA-5B8ADB4DC1D5}"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 name="PlaceHolder 5"/>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0" y="2060640"/>
            <a:ext cx="9144000" cy="439272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Výukový materiál zpracován v rámci projektu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EU peníze školá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      </a:t>
            </a:r>
            <a:r>
              <a:rPr b="1" lang="cs-CZ" sz="2400" spc="-1" strike="noStrike">
                <a:solidFill>
                  <a:srgbClr val="000000"/>
                </a:solidFill>
                <a:latin typeface="Arial"/>
              </a:rPr>
              <a:t>Registrační číslo projektu: CZ.1.07/1.5.00/34.0208</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7" name="Picture 3" descr=""/>
          <p:cNvPicPr/>
          <p:nvPr/>
        </p:nvPicPr>
        <p:blipFill>
          <a:blip r:embed="rId1"/>
          <a:stretch/>
        </p:blipFill>
        <p:spPr>
          <a:xfrm>
            <a:off x="1258920" y="333360"/>
            <a:ext cx="6083280" cy="1487520"/>
          </a:xfrm>
          <a:prstGeom prst="rect">
            <a:avLst/>
          </a:prstGeom>
          <a:ln w="0">
            <a:noFill/>
          </a:ln>
        </p:spPr>
      </p:pic>
      <p:graphicFrame>
        <p:nvGraphicFramePr>
          <p:cNvPr id="138" name=""/>
          <p:cNvGraphicFramePr/>
          <p:nvPr/>
        </p:nvGraphicFramePr>
        <p:xfrm>
          <a:off x="539640" y="3573360"/>
          <a:ext cx="7561440" cy="736560"/>
        </p:xfrm>
        <a:graphic>
          <a:graphicData uri="http://schemas.openxmlformats.org/drawingml/2006/table">
            <a:tbl>
              <a:tblPr/>
              <a:tblGrid>
                <a:gridCol w="1890720"/>
                <a:gridCol w="917640"/>
                <a:gridCol w="1655640"/>
                <a:gridCol w="3097440"/>
              </a:tblGrid>
              <a:tr h="78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Šablon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III/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Č. materiálu</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Y_32_INOVACE_29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9" name=""/>
          <p:cNvGraphicFramePr/>
          <p:nvPr/>
        </p:nvGraphicFramePr>
        <p:xfrm>
          <a:off x="539640" y="4724280"/>
          <a:ext cx="7561440" cy="1189080"/>
        </p:xfrm>
        <a:graphic>
          <a:graphicData uri="http://schemas.openxmlformats.org/drawingml/2006/table">
            <a:tbl>
              <a:tblPr/>
              <a:tblGrid>
                <a:gridCol w="3781440"/>
                <a:gridCol w="3780000"/>
              </a:tblGrid>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Jméno autor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Mgr. Miroslav Hrušk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řída/roční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4. ročník</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atum vytvoření:</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4/201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68360" y="1700280"/>
            <a:ext cx="7848720" cy="45352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Zdroj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Ing. Pavel Štohl – Učebnice účetnictví 2. díl pro střední školy a veřejnost, vydavatel vzdělávací středisko       Ing. Pavel Štohl, 2011</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55">
                                            <p:txEl>
                                              <p:pRg st="0" end="0"/>
                                            </p:txEl>
                                          </p:spTgt>
                                        </p:tgtEl>
                                        <p:attrNameLst>
                                          <p:attrName>style.visibility</p:attrName>
                                        </p:attrNameLst>
                                      </p:cBhvr>
                                      <p:to>
                                        <p:strVal val="visible"/>
                                      </p:to>
                                    </p:set>
                                    <p:anim calcmode="lin" valueType="num">
                                      <p:cBhvr additive="repl">
                                        <p:cTn id="7" dur="2000" fill="hold"/>
                                        <p:tgtEl>
                                          <p:spTgt spid="155">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55">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55">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55">
                                            <p:txEl>
                                              <p:pRg st="1" end="1"/>
                                            </p:txEl>
                                          </p:spTgt>
                                        </p:tgtEl>
                                        <p:attrNameLst>
                                          <p:attrName>style.visibility</p:attrName>
                                        </p:attrNameLst>
                                      </p:cBhvr>
                                      <p:to>
                                        <p:strVal val="visible"/>
                                      </p:to>
                                    </p:set>
                                    <p:anim calcmode="lin" valueType="num">
                                      <p:cBhvr additive="repl">
                                        <p:cTn id="14" dur="2000" fill="hold"/>
                                        <p:tgtEl>
                                          <p:spTgt spid="155">
                                            <p:txEl>
                                              <p:pRg st="1" end="1"/>
                                            </p:txEl>
                                          </p:spTgt>
                                        </p:tgtEl>
                                        <p:attrNameLst>
                                          <p:attrName>ppt_w</p:attrName>
                                        </p:attrNameLst>
                                      </p:cBhvr>
                                      <p:tavLst>
                                        <p:tav tm="0">
                                          <p:val>
                                            <p:fltVal val="0"/>
                                          </p:val>
                                        </p:tav>
                                        <p:tav tm="100000">
                                          <p:val>
                                            <p:strVal val="#ppt_w"/>
                                          </p:val>
                                        </p:tav>
                                      </p:tavLst>
                                    </p:anim>
                                    <p:anim calcmode="lin" valueType="num">
                                      <p:cBhvr additive="repl">
                                        <p:cTn id="15" dur="2000" fill="hold"/>
                                        <p:tgtEl>
                                          <p:spTgt spid="155">
                                            <p:txEl>
                                              <p:pRg st="1" end="1"/>
                                            </p:txEl>
                                          </p:spTgt>
                                        </p:tgtEl>
                                        <p:attrNameLst>
                                          <p:attrName>ppt_h</p:attrName>
                                        </p:attrNameLst>
                                      </p:cBhvr>
                                      <p:tavLst>
                                        <p:tav tm="0">
                                          <p:val>
                                            <p:fltVal val="0"/>
                                          </p:val>
                                        </p:tav>
                                        <p:tav tm="100000">
                                          <p:val>
                                            <p:strVal val="#ppt_h"/>
                                          </p:val>
                                        </p:tav>
                                      </p:tavLst>
                                    </p:anim>
                                    <p:animEffect filter="fade" transition="in">
                                      <p:cBhvr additive="repl">
                                        <p:cTn id="16" dur="20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
          <p:cNvPicPr/>
          <p:nvPr/>
        </p:nvPicPr>
        <p:blipFill>
          <a:blip r:embed="rId1"/>
          <a:stretch/>
        </p:blipFill>
        <p:spPr>
          <a:xfrm>
            <a:off x="1741320" y="274680"/>
            <a:ext cx="5661360" cy="1143000"/>
          </a:xfrm>
          <a:prstGeom prst="rect">
            <a:avLst/>
          </a:prstGeom>
          <a:ln w="0">
            <a:noFill/>
          </a:ln>
        </p:spPr>
      </p:pic>
      <p:graphicFrame>
        <p:nvGraphicFramePr>
          <p:cNvPr id="141" name=""/>
          <p:cNvGraphicFramePr/>
          <p:nvPr/>
        </p:nvGraphicFramePr>
        <p:xfrm>
          <a:off x="468360" y="1413000"/>
          <a:ext cx="7991280" cy="4113000"/>
        </p:xfrm>
        <a:graphic>
          <a:graphicData uri="http://schemas.openxmlformats.org/drawingml/2006/table">
            <a:tbl>
              <a:tblPr/>
              <a:tblGrid>
                <a:gridCol w="3995640"/>
                <a:gridCol w="3995640"/>
              </a:tblGrid>
              <a:tr h="78408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zdělávací obla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Finanční účetnictví</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Tématická oblas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í uzávěrk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ředmě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Účetnictví</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Výstižný popis způsobu využití, případně metodické pokyn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 k seznámení studentů s čerpáním rezerv</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80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Klíčová slov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Zrušení, čerpání rezerv</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Druh učebního materiálu:</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aramond"/>
                        </a:rPr>
                        <a:t>Prezentac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08000" y="2781360"/>
            <a:ext cx="7623360" cy="1752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06633"/>
                </a:solidFill>
                <a:latin typeface="Arial"/>
              </a:rPr>
              <a:t>Zrušení rezervy</a:t>
            </a:r>
            <a:endParaRPr b="0" lang="en-US" sz="5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105264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000" spc="-1" strike="noStrike">
                <a:solidFill>
                  <a:srgbClr val="006633"/>
                </a:solidFill>
                <a:latin typeface="Arial"/>
              </a:rPr>
              <a:t>Zrušení rezervy</a:t>
            </a:r>
            <a:endParaRPr b="0" lang="en-US" sz="5000" spc="-1" strike="noStrike">
              <a:solidFill>
                <a:srgbClr val="006633"/>
              </a:solidFill>
              <a:latin typeface="Garamond"/>
            </a:endParaRPr>
          </a:p>
        </p:txBody>
      </p:sp>
      <p:sp>
        <p:nvSpPr>
          <p:cNvPr id="144" name="PlaceHolder 2"/>
          <p:cNvSpPr>
            <a:spLocks noGrp="1"/>
          </p:cNvSpPr>
          <p:nvPr>
            <p:ph/>
          </p:nvPr>
        </p:nvSpPr>
        <p:spPr>
          <a:xfrm>
            <a:off x="468360" y="2349360"/>
            <a:ext cx="7416720" cy="378144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Zrušení (čerpání) rezerv je nutné zaúčtovat jako snížení nákladů v roce, kdy pominou důvody pro tvorbu rezervy.</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100" spc="-1" strike="noStrike">
                <a:solidFill>
                  <a:srgbClr val="000000"/>
                </a:solidFill>
                <a:latin typeface="Arial"/>
              </a:rPr>
              <a:t>	</a:t>
            </a:r>
            <a:r>
              <a:rPr b="0" lang="cs-CZ" sz="2100" spc="-1" strike="noStrike">
                <a:solidFill>
                  <a:srgbClr val="000000"/>
                </a:solidFill>
                <a:latin typeface="Arial"/>
              </a:rPr>
              <a:t>Rezervy rušíme z těchto důvodů:</a:t>
            </a:r>
            <a:endParaRPr b="0" lang="en-US" sz="21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yla provedena oprava DM</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ajetek byl prodán</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ajetek by jinak vyřazen z evidence (např. z důvodů škody)</a:t>
            </a:r>
            <a:endParaRPr b="0" lang="en-US" sz="2000" spc="-1" strike="noStrike">
              <a:solidFill>
                <a:srgbClr val="000000"/>
              </a:solidFill>
              <a:latin typeface="Arial"/>
            </a:endParaRPr>
          </a:p>
          <a:p>
            <a:pPr lvl="1" marL="743040" indent="-2858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vinné zrušení – v případě, že nebyla zahájená oprava, a to nejpozději rok po předpokládaném termínu provedení opra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bude oprava, na kterou byla tvořena rezerva, dokončena již ve zdaňovacím období, ve kterém byla zahájena, musíme v tomto zdaňovacím období celou rezervu rozpust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Účtování:</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2200" spc="-1" strike="noStrike">
                <a:solidFill>
                  <a:srgbClr val="000000"/>
                </a:solidFill>
                <a:latin typeface="Arial"/>
              </a:rPr>
              <a:t>VúD – zúčtování zákonné rezervy </a:t>
            </a:r>
            <a:r>
              <a:rPr b="0" lang="cs-CZ" sz="2200" spc="-1" strike="noStrike">
                <a:solidFill>
                  <a:srgbClr val="000000"/>
                </a:solidFill>
                <a:latin typeface="Arial"/>
              </a:rPr>
              <a:t>	</a:t>
            </a:r>
            <a:r>
              <a:rPr b="0" lang="cs-CZ" sz="2200" spc="-1" strike="noStrike">
                <a:solidFill>
                  <a:srgbClr val="000000"/>
                </a:solidFill>
                <a:latin typeface="Arial"/>
              </a:rPr>
              <a:t>	</a:t>
            </a:r>
            <a:r>
              <a:rPr b="0" lang="cs-CZ" sz="2200" spc="-1" strike="noStrike">
                <a:solidFill>
                  <a:srgbClr val="000000"/>
                </a:solidFill>
                <a:latin typeface="Arial"/>
              </a:rPr>
              <a:t>451/55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nebude oprava, na kterou je rezerva tvořena, zahájena nejpozději ve zdaňovacím období, které následuje po zdaňovacím období, ve kterém je předpokládáno zahájení opravy, na kterou je tvořena, musí se celá vytvořená rezerva rozpustit (zruš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íkla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V roce 2012 měla být zahájena oprava DM (na který byla vytvořena rezerva).Pokud tato oprava nebude zahájena ani v roce 2013, musíme tuto rezervu zruši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Účtování:</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2200" spc="-1" strike="noStrike">
                <a:solidFill>
                  <a:srgbClr val="000000"/>
                </a:solidFill>
                <a:latin typeface="Arial"/>
              </a:rPr>
              <a:t>VúD – zrušení zákonné rezervy v roce 2013 </a:t>
            </a:r>
            <a:r>
              <a:rPr b="0" lang="cs-CZ" sz="2200" spc="-1" strike="noStrike">
                <a:solidFill>
                  <a:srgbClr val="000000"/>
                </a:solidFill>
                <a:latin typeface="Arial"/>
              </a:rPr>
              <a:t>	</a:t>
            </a:r>
            <a:r>
              <a:rPr b="0" lang="cs-CZ" sz="2200" spc="-1" strike="noStrike">
                <a:solidFill>
                  <a:srgbClr val="000000"/>
                </a:solidFill>
                <a:latin typeface="Arial"/>
              </a:rPr>
              <a:t>451/552</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bude oprava, na kterou je rezerva tvořena, zahájena nejpozději do konce zdaňovacího období, které následuje po zdaňovacím období, ve kterém bylo předpokládáno zahájení této opravy, je nutné rezervu rozpustit nejpozději do konce zdaňovacího období následujícího po zdaňovacím období skutečného zahájení opravy, a to bez ohledu na to, zda byla oprava dokončena či nikoliv.</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6633"/>
                </a:solidFill>
                <a:latin typeface="Arial"/>
              </a:rPr>
              <a:t>Zrušení rezervy</a:t>
            </a:r>
            <a:endParaRPr b="0" lang="en-US" sz="4200" spc="-1" strike="noStrike">
              <a:solidFill>
                <a:srgbClr val="006633"/>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íkla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V roce 2012 měla být zahájena oprava DM (na který byla vytvořena rezerv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Oprava byla zahájena až v roce 2013. Pokud by oprava byla dokončena ještě v roce 2013, tak musíme rezervy rozpustit v tomto roc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okud oprava v roce 2013 nebude dokončena, tak musíme rezervu rozpustit v roce 2014 (a to bez ohledu na to, zda bude v tomto roce dokončena či nikoliv).</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8:08:18Z</dcterms:created>
  <dc:creator>Ing. David Holzbauer</dc:creator>
  <dc:description/>
  <dc:language>en-US</dc:language>
  <cp:lastModifiedBy>Igor</cp:lastModifiedBy>
  <dcterms:modified xsi:type="dcterms:W3CDTF">2014-09-13T15:36:46Z</dcterms:modified>
  <cp:revision>12</cp:revision>
  <dc:subject/>
  <dc:title>Dohadné položky</dc:title>
</cp:coreProperties>
</file>