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D125C-4029-4280-88A8-9610FA8D2CD4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ACD60-A245-4CAD-A275-70B9A44FE11F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C4673-62E6-45F9-9E4B-7BDD53A4AD7A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6B686-E3F1-46F9-9421-7031E510703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B48CD-83BF-4FD2-80FE-61D04336A51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5137F-A513-4410-A3B3-4CA30400C7D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5F3B8-FF80-480A-B0FA-D53E4551E74D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F39C-FABB-42BF-97D0-87FFD19C1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F747-C1EE-4C2F-BFAF-5B4CD0571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DBC4-7844-41ED-A094-9B80B5C76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05CB-BC41-4A21-A4F6-EFDC0466B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9FA28-D22F-47A6-851E-937279C92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67BD7-E8DA-4AC7-A24F-6AB47E2B3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FFBF1-B275-48FA-9A2B-90F705718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3E457-FE6B-422F-BB07-12CED7306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9AEA5-FBA5-494E-9CF5-0B81A484D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697CB-9110-42EC-BB2B-5E97BFB27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31125-983D-4AC1-AEF7-BA075D84E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8BED-CA91-4B0A-8FFE-AE12E9564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2797F-AC22-4082-95DE-5266A1FAC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6773F-3F90-4D78-92EF-C2A8D1B82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A57D3-FF15-43AF-81AA-DBD562122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AA036-9A15-40BD-A743-60BB64D20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D146F-F65F-4805-B5F0-A648437B8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D8A76C-8578-4CCE-B799-219E67A4D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057D51-9A47-4380-A1E0-2712246BA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FDB132-E4E2-4965-921D-6CC9218D7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B935F0-A010-4557-93D8-3EA2BEB0B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7C26A0-4BAC-4308-8767-53B34B105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A7AE-91B8-48FA-84EE-62BB198A7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E6596A-2A79-4738-9DD6-F5D5C175D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75DE89-A7E4-46E7-8FF0-6ABE37DCE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59F543-61B6-4636-B777-D85C319FA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33FE1D-3B62-43AB-9E69-C24A0AFD1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452672-627A-4569-96AC-626909A2D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03122E-EF2D-4FD5-9E79-B70E42D93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33A3E3-4F5D-4371-B057-7C422A631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2B4A-49DC-4EEB-B354-2C5845419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CD6E-3B66-4DEF-A1E0-1535D1EA6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A9E7-4A4D-404F-B5A7-AE06A2868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9D91-CD4C-41DC-BEE5-C6CB15337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7E1C-66D5-4CCD-A638-1174B8C60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0112-D38C-4AC3-AE42-3DBF4071B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76800-80E8-45E1-AFC9-D6EBD8BE151D}" type="slidenum">
              <a:rPr b="0" lang="cs-CZ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AD27E-159F-48AA-89D7-811F7E06887D}" type="slidenum">
              <a:rPr b="0" lang="cs-CZ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2F94B-EF35-4A55-9240-2BA92028AFAB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8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5/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1" name=""/>
          <p:cNvGraphicFramePr/>
          <p:nvPr/>
        </p:nvGraphicFramePr>
        <p:xfrm>
          <a:off x="468360" y="1413000"/>
          <a:ext cx="7991280" cy="411300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784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í uzávěr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 rezervam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Cizí zdroj, tvorba rezerv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908000" y="2781360"/>
            <a:ext cx="7623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000" spc="-1" strike="noStrike">
                <a:solidFill>
                  <a:srgbClr val="006633"/>
                </a:solidFill>
                <a:latin typeface="Arial"/>
              </a:rPr>
              <a:t>Ostatní rezervy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1052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000" spc="-1" strike="noStrike">
                <a:solidFill>
                  <a:srgbClr val="006633"/>
                </a:solidFill>
                <a:latin typeface="Arial"/>
              </a:rPr>
              <a:t>Ostatní rezervy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7416720" cy="37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Tvorba ostatních rezerv je upravena vnitropodnikovou směrnicí účetní jednotk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Jejich tvorba není daňově uznatelným náklade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Mezi ostatní rezervy patří například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Rezerva na splatnou daň z příjmů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Rezerva na záruční oprav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Rezerva na opravu DM, který nesplňuje  podmínky ZoR (majetek v první odpisové  skupině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Ing. Pavel Štohl – Učebnice účetnictví 2. díl pro střední školy a veřejnost, vydavatel vzdělávací středisko       Ing. Pavel Štohl, 201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8:08:18Z</dcterms:created>
  <dc:creator>Ing. David Holzbauer</dc:creator>
  <dc:description/>
  <dc:language>en-US</dc:language>
  <cp:lastModifiedBy>Igor</cp:lastModifiedBy>
  <dcterms:modified xsi:type="dcterms:W3CDTF">2014-09-13T15:36:33Z</dcterms:modified>
  <cp:revision>15</cp:revision>
  <dc:subject/>
  <dc:title>Dohadné položky</dc:title>
</cp:coreProperties>
</file>