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E3E9-537C-467B-9FDC-092C9B8F0B3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0CAA-5A4C-4166-AD6B-DC71B54D791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357B-9DBD-4136-BAD8-1D5096240C0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2178-3E3D-4370-94A6-5C8E77E915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6A2B-893E-450D-B3C4-81C7FED4CB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689AC-EC1B-4950-8B38-D7AF360C9C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F15A-80DE-47C5-B647-6E47880EA5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53FD-95AF-4CD6-B4D8-845740CC7E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8764-5BF5-4798-8FFD-3661439A98F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6FDD-D572-4D70-84C0-EA56EDA8B75C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B5D6-F13E-4020-B4B3-C934AB5A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270-6292-4DF4-9F10-D16F0A5B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C8F-D9CB-4AAE-B97F-53F423CD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25A-4E73-43F6-BF2A-FC1AF614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2602-3146-43D8-A101-D98A7F86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5E35-E4B4-448A-9926-30CA5CEA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5EBA-B4EF-42AC-95BD-F0356051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F512-2312-43F1-89CF-F1111D44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B7C7-9EEB-4600-AE34-FB0BD784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759B-FE98-495A-9842-8B2D6EA7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D14-EEB8-48F1-8CE9-56DCAD4B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E4C-44D2-4F0A-BE31-A7F5D428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86F8-3257-4746-AFC7-9D6E636E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48A8-ABCE-49ED-84E1-7A584A93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B046-7BB9-4D22-A4AA-A7A1F99F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573E-BF2A-4C6A-AFFB-1C43B93F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52B4-69D1-4074-A4E7-FBED4CC9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BAB9E-EF53-43D0-AD81-F9F29285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A9E08-8976-4A36-BDA7-30B18279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B4716-5CE7-4234-8818-B76D862B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40875-6619-4EC4-B32C-D6F7D995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B3765-90D6-423D-9562-5CC52AB0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F62-8BC0-4668-B389-1FA2B25A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CCD67-1A6A-4CE1-8873-DDCA2A22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2DDB5-DAAA-4DE8-95BF-7089CD01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6FB1E1-CB70-4B50-BA4C-C19B12CF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8D704-8231-41A1-8F6E-AE157D18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0D55B-3D29-41E7-A567-A0427BA0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F50506-3FF7-4516-858D-580DDF00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076C6-2AE3-4844-920E-700580A5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3DC-4410-4753-BB75-F2490250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709-7FC4-4C9E-AD6A-37770E55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6BF7-F558-46CB-82A4-C63F35B9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A6A-6055-478C-B783-860D8A70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3BED-83A5-4A38-891A-5D2FDFC7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EBF-529A-4C60-8CD0-A652749C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DC07-35BE-4849-8BDC-D3B17A1E53F2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C8C0-64D2-43C3-B472-09AFC144476A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01B2-44EE-4EB9-913C-FDB4A86FC1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inventarizačními rozdí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bytek, mank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73360"/>
            <a:ext cx="7427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porovnávání skutečného stavu se stavem účetním mohou být zjištěny tyto inventarizační rozdíl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n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účetní stav je vyšší než skutečný stav (rozdíl mezi skutečným a účetním stavem nelze doložit účetním dokladem, nebo prokázat jiným způsobem stanoveným záko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a manko se nepovažuje tzv. norma přirozeného úbytku (u zásob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rmu přirozeného úbytku si stanovuje účetní jednotka sama (musí být uvedena ve vnitropodnikové směrnic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i stanovení její výše vychází ze zkušeností z minulých l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orma přirozeného úbytku se stanoví např.  u takového materiálu u kterého dochází k vypařování, vysýchání at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 zboží se stanovuje např. v důsledku ztratného v obchode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Inventarizační rozdíl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62864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Přebytky – účetní stav je nižší než skutečný 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    sta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96640"/>
            <a:ext cx="801360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anka a přebytky nelze vzájemně kompenzovat. Výjimkou jsou pouze případy, kdy došlo k chybné záměně podobných druhů zásob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tomto případě se zjištěná manka a přebytky vzájemně převedou (případný rozdíl je pak přebytkem či mankem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56Z</dcterms:modified>
  <cp:revision>25</cp:revision>
  <dc:subject/>
  <dc:title>Dohadné položky</dc:title>
</cp:coreProperties>
</file>