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C1C5-9203-4375-82F2-962A6890088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269D-E190-4515-B8A0-571A017C1E0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3008-7C3B-468C-BC3A-4B7039D8D81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8245-22A2-4E78-AB06-E04D144A48E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EBF3-402A-4288-9E0B-0E7C3CA7712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F3A4-B49A-4C7A-B948-E5B9B506867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705F-9EB8-42D2-9F02-1C21B1FF2AC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8450-F507-40EF-AA72-C87CA539F13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1835-B8DE-43CB-8CE2-ABB1AF82C54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ACD8D-C1B7-45D1-BB7B-6AA0F6B2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0A6E6-ED56-46EA-B51A-02690EC9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3E04B-EA30-457B-A38E-CF8264A3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2A0D5-757B-413A-9F44-84312867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6B3C9-64FF-4957-B56D-DBFC32C1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6BA36-3857-48AB-B729-A135981C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CAD27-9C17-43EB-8FA6-D3A87DE9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57CE4-79CD-43FC-96B5-AFC2DB8A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7DB73-CAA5-493F-8DD8-750D8CBD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7ECDE-312B-4804-A3A1-FD34075A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16522A-EBE0-4713-869F-66D99C9D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763F3-38C5-43A9-B80A-6F201681D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5A7F2-B91B-49F3-973B-8A031B24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564E03-39A6-4713-9DAA-233C52E7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2D6A56-E1F2-4AFC-921B-3EBCDF98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B90E4-E4DE-4E2F-AB8E-10AFA38B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17D90-9A72-4496-B536-4E27A1A9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09A66-B12F-47FB-BEEA-0E244018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C9B92-36FF-4016-B0AD-6213E619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DB117-AC17-42E7-8FF3-1EC4C5CA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DDB72-153E-41EB-8906-15CDC024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93A0C0-2BFB-47AF-A5D5-6008241C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5F941D-B6D6-42E6-8CA6-C942C97D9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B7E0A-A47F-4AAC-8C75-A85901513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5038C-D640-48D5-90E5-E4B22AB18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B9119-A9B1-44C3-B3FF-7FFC1F26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07C5A-1A3B-4927-98C0-6CDFFD1D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B577EC-4AB3-4002-8CE8-09B8C243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E7AC3-3939-481E-9C75-F474E7964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47E85-C01F-49D6-A2EA-E2AF7635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1FD06-69C5-4F2F-9D38-D4D592F7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57BF1-AD5E-4170-8351-490F409DE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3F33F-26C5-4A0F-8F64-EE0CF3F4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2C5BE-ED49-45A1-8298-7581ACC3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848E-D329-43F5-8589-AC895793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1D7AD-3923-4D5A-BEA0-6B189827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ADBEE-939C-4BA8-B218-AE29BE182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B4467-6517-4A2E-99F0-E2A9B571A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31B2BC-5E94-4ABC-BAAB-9A35E724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F3324-4AD1-4E6C-A092-3C26AD32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E4BDC-B555-44F2-B171-B7990338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87331-70AB-47E3-AD3F-FBC36B8B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43709-68B9-4538-9445-DF9818FD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CB29A3-A9F1-49E3-A72A-92BBFE8E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CF43CF-569B-4DCF-B734-5AC80CFA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95DC-36F5-40AB-B8F3-78BB9231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47518A-16A7-442A-8CEC-5F770B81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82ED63-B718-4E1B-A954-20B3754C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04F0D-6E0D-498A-86C7-3EC6E209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7353A5-75C7-4662-8729-E68E61927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BD0518-4F30-4EF7-B936-4CF2B4E9D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D91649-26D8-49DE-A4FA-B018225D9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BEE267-40D3-452B-9BD7-52803A9E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BDB0D4-7C4E-4C83-951C-73144BBE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464D5B-CC48-431F-AF32-8A72614A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621CF0-7121-4D93-B6E2-7961AB7A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621E-4F6D-40FF-92CE-C659084C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125C62-CDC9-4663-9277-54898648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27F1E4-7B6B-4175-879A-A6A9FBDE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A1BCB7-99C3-458E-B659-F42D12CB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AF04D7-C10B-453B-8E21-A49B8161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F2A99A-75D5-48F8-87B4-E235281F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93ED91-4697-49F1-AC3A-66460A3E9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0CD1DE-CE78-4935-99C8-7E74F89B5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50167F-5A32-4421-85AA-5E13C5F43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962680-10E7-4BA6-8B77-80BE6264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443CA0-5B96-442B-95D1-2C0BFB82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B525-07BB-407F-BAF1-C30DA76E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0B2ACA-5CB6-4C13-AF0A-4CD42AA3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77AC56-1772-4FA5-BC04-C17B4AA4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27BF72-5AF6-401F-A49F-DDE1363C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E3F207-7618-4547-8748-B71BCF51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EED02D-53D9-4C1C-BC39-2F981BE2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44930C-FF71-4B37-B60F-C6662802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3079DC-56BC-4257-BC66-28548682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4A0CA3-F14B-49DB-B896-FF835492E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54676C-61A7-49AB-89FF-C4D69062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A21632-2526-403E-ABD8-6F1A36DE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2512-0C2A-4DEA-98CB-381D643C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142A71-55CC-450A-B722-5736A33F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3368F4-D5B4-4E66-A3AD-BB791960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A134A3-CC39-4D5C-BCD4-2B9E9360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4B5B25-AFC5-41C8-B17D-FE045496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CD07C4-186A-4235-8548-0FA0E15D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9F7A57-06A2-4F36-BF0B-4B5825B7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637775-2F7B-445F-BE3A-A32090FF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0A0546-12CE-475E-8876-307A5E51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38781E-1327-429D-AEDE-86DF08B5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02288B-5CC9-42C3-88E4-244AD9AAE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85EF-7108-4612-B577-0EFE19AE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815E86-2F10-4DB9-8F8F-57BD5D149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D81E62F-2943-42A6-8F68-8D1ADA64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CD3CF69-4D34-4BB9-9F21-42B1A73A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F51D801-8A3A-4EC6-9A74-376B1FA9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EC88B95-7151-4601-B58C-910717FC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1CE66BA-D986-4D80-8A3A-EF331A3C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9C81ECB-EB1B-4D8D-8159-FBE084E5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4A5665F-3689-49D4-B233-D409E9AA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94387AE-C0B1-49F0-AB77-A65DFE94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1C49E5D-EC69-4A84-9C00-123061D4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EC6A-8971-45E9-9A49-35F3D067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98FBA9D-D707-4186-9EE2-191E15FE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33896BC-EC50-4672-8E5B-E72A68F70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495126C-B1C9-4BBD-A31E-96247314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BB80D6-51E6-40DE-89CF-BABF4F77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149278-7DE2-4E86-A343-47ED979C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5A41AB-7261-4DC3-AA2D-5C922A19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D01299-1622-45B6-8709-544EEF2F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1E8DCA-032D-4063-9F81-2DBAF4CF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AFDDD9-79FB-4182-8230-12AF41D9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D5CD4D-5AF8-43CE-B364-A13293B0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C2565-26CF-4D4E-A871-31B99CB5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38CB-06EE-41BB-A9FC-693D7C8D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574185-0D45-460A-9685-D810FCBB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AB91A9-3188-4A18-813A-9038D66C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736B25-9F12-4395-A812-E25308C6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78AAED-3276-4157-AB3C-DE42F6DDC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BFC963-864F-49F9-8DC8-33BE3EF1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4A54-87DD-4775-B131-AE1CD424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0188-9523-4690-A08E-45804131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AF68-C1AF-4762-97CB-E4D210521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41B9-1E1F-4DA5-B787-6558F5532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808996-6ED8-4E89-814C-FDA629CE0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CCC634-3FD2-48FE-BAA1-68803619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6ECFA4-FE6F-481D-BE51-3F2CEF0A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EC70F8-0912-431A-9C87-763E55AF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80B23E-FB16-4203-868A-602D37DC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4EE36-9238-474D-B34A-E99AB254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8B6E3A-6F9A-4243-A2A5-4DD9F8BA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E7A455-010D-4008-9B44-A113D5F7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9D4E32-D905-49B9-90C3-53A6B156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61E024-F241-4A6E-A71A-03149565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CDE9CF-B71C-426B-9C3D-7DC7A8D7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69E732-3180-49E0-ADE2-D57B72B5C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5D8E34-8AC9-44E2-B0B4-7AD300AD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5F74D-F59A-487F-A714-E531DD78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459EF-E931-49B2-B3C7-10EBF150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88D64-F326-470D-8A1E-CF263DC5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03B77-63B4-4FAA-862E-36079B7F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81473-0935-4D78-8C63-4C38B3528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0EBD6-9179-4E13-B3CC-180CBB59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09929-B80B-4F5D-9BB9-81933BA9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63F02-BA22-4E69-909D-757E4B35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C37FE-E415-46C3-851E-C4522C7B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F049C-8495-4199-B766-7B228EE4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B0DD8-B781-47A0-A238-32F00439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D8E88-08DB-4E78-BD67-078156484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56D84-B6AA-44D9-8538-01471F7F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BE7C2-A2AC-41D7-9490-3A4429F9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783C3-205A-406E-9223-0BAA5794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1BB06-3B26-4F0E-AE69-EA3B0A7F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CED20-305E-44C4-A7FD-CED40EB0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003F9-1AB9-4807-859B-6FA6CED4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24927-3712-41C0-8637-D881DB65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B54A9-1702-45CB-86FA-6CF97510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23A50-8F38-407D-8643-8D624405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13AD2-7CCE-4209-8980-7E6B921B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AA99B-B6AF-43BB-9A7D-EB67CB1A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1566F-6C8D-45C1-8CFC-BE70C4C7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2F600-C5CD-4CE0-BD0F-38C85123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26AC1-829B-45E1-A373-457F16971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D16D3-9039-41B8-B78B-94B413237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A563E-06FA-40F3-A927-D1D0A608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8F5F1-91FC-4474-8E29-34CAB7BE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2F96A-FEF5-4F57-95CA-C187C54F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BFE5B-03A7-4252-9DA6-42449C56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A9DEE-2087-43B4-AA22-DFD436C7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6EB0B-B1B0-4087-BBCB-EF2354FC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8432D-B495-46CF-999B-8BF0AAA9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DA6A8-2BA7-4369-AF57-62B9DA52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34B36-E747-4BDD-93AD-E5703ABF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24263-59EE-4417-A486-264638FA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3CD14-6DD8-43C0-AFB4-37817637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9DBF6-EA56-4DF1-9D78-701638E76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FECE0-5FC6-4D9A-965F-18CE07BC8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A8D32-CF1F-4CEB-9177-3DA5A17D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9EF53-4140-425B-9BF0-F3AEE38C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AF659-DFC7-48CB-A1D9-A3BF7F95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9AC5E-A2E8-4081-9CF4-0ED14D0B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1BDA4-5127-4DE5-9B3F-12FDD648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E40BD-5240-421B-BF69-FD8725C3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56CB5-96DF-4D17-9E7F-0D22B9D1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D2C58-B784-4C7E-8ADB-4BD82BE8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76A2A-106D-49A9-A187-0B765F1F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D47BF-C9B5-40EB-BE51-DEF0FA87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26F50-F757-48B0-BDA9-C2B6D1D7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909E4-2D52-4E48-8315-08CB87D45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89307-536F-4BC3-AE20-8FD498D1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1E9CB-DD3A-4F4E-ACF6-0E7480C0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F7713-7D68-4DB8-B08B-105C49CD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C7C61-DEE0-4CC3-9B91-023E6DA1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2B1BA-70C9-4D30-8E90-B8F01672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B7B69-7F8F-4ACD-A781-1AE0971F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6C151-5772-479B-9D1E-52120DDA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6B238-CA6D-488E-978F-3B5E2F9A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A8E31-6D19-4215-9EB5-F5999835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2ED5B-C745-4971-806E-E7D3E9F3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CE2CC-E6AF-417E-ACF9-48D2CA51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C448C-FA4E-4C59-A517-DB08715B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6A61F-C970-40E7-899A-1358010BE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1D05C3-F4AD-4EED-9446-8CD72E82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909C2-F68E-4700-BE57-6D3AD6F9C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B7710-F403-4C80-B641-E4995EF3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950E1-3EDF-45CB-B474-DB861073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7492-853A-4A5C-B2DB-6C83AE79E192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9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9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CF81-BACC-4A3B-B023-E9200C9EB016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4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5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5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6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7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7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8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1943-E7C2-4E0C-A120-350CFB139EF6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3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4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4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5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6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6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6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6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97E1-7ECB-41F4-BC52-D66800D5999F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2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3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3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3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4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5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5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5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9E42-B2CF-46B6-9FDA-5DFC30280529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0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1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2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3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03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03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04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dt" idx="4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ftr" idx="4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 type="sldNum" idx="4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317B-11B7-4B8F-A152-52D3D3163187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9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0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0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1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2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2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12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12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12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208E-3F63-46BA-ABBA-018DCA7A0C54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8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9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9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0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0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1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1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1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dt" idx="4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4B5E-9585-4C63-ACE1-9F1CCA398237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ftr" idx="4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F595-1540-4285-B91B-22DD920A92E6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07B6-7EC6-4B53-BC25-C5D0B9855D33}" type="slidenum">
              <a:rPr b="0" lang="cs-CZ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7CC6-3454-436C-8250-B33AC8A48A56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9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7674-4FC5-4A57-98DF-A539FD59A5CB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4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5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5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6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9756-B5CE-47AB-A338-E2E77918FFDE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4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4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EB0C-94DA-4C08-946A-C54AD2D7BD29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9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0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1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1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2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2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3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3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A313-9824-402D-BFCB-12AD153A8DEC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8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9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9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0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1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1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1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1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FE24-7C24-4D1C-98C0-A7F4E5F272B9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7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8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8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9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9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0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0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0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0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0C34-F914-4498-84EB-BDE94E2CCD2D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2e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2e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2e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2e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2e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8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9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Y_32_INOVACE_2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0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2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rezentace k seznámení studentů s časovým rozlišením nákladů a výdaj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Náklady, výda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ffff"/>
                </a:solidFill>
                <a:latin typeface="Garamond"/>
              </a:rPr>
              <a:t>Náklady a výdaje příštích obdob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81 – Náklady příštích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stavují částky zaplacené účetní jednotkou v běžném účetním období (výdaj), které však zčásti nebo zcela patří do následujícího účetního obdob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íklad -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jemné placené přede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za příští rok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likož se nejedná o náklad tohoto období, nemůžeme nájemné zaúčtovat do nákladů na účet – 518 – Ostatní služby, ale musíme ho zaúčtovat na účet 381 – Náklady příštích obdob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říštím účetním období toto nájemné přeúčtujeme z účtu 381 – Náklady příštích období na účet 518 – Ostatní služ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7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 roce 2012 jsme uhradili nájemné za pronájem budovy, a to za období   1/2013-6/2014. Celková výše nájemného činí Kč 180 000,- Měsíční nájemné  činí Kč 10 000,-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Účtován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k 20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BÚ, úhrada nájemného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80 000,-     381 / 2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k 2013 (12 měsíců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ÚD, rozpouštění poměrné části do nákladů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75 000,-    518 / 3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k 2014 (6 měsíců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ÚD, rozpouštění poměrné části do nákladů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75 000,-    518 / 3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383 – Výdaje příštích obdob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nto účet používáme tehdy jestliže nám vznikl náklad, který s běžným účetním obdobím souvisí, avšak výdaj na něj nebyl dosud uskutečně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íklad -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jemné hrazené pozad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tože se jedná o náklad tohoto období zaúčtujeme toto nájemné do nákladů na účet  518 – Ostatní služby, jelikož to bude uhrazeno až v příštím roce musíme použít účet 383 - Výdaje příštích obdob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říštím účetním období (po úhradě) přeúčtujeme na účet 221 - Bankovní účty nebo 211 - Poklad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íkla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e dni účetní uzávěrky nebylo uhrazeno nájemné za 4. čtvrtletí tohoto roku, a to ve výši Kč 30 000,-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jemné bylo uhrazeno v lednu příštího rok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tování v tomto roce (k 31.12.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, zúčtování výdajů příštích období        30 000,-   518 / 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tování v následujícím ro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BÚ, úhrada nájemnéh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30 000,-   383 / 2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    Ing. Pavel Štohl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8T08:07:38Z</dcterms:created>
  <dc:creator>Ing. David Holzbauer</dc:creator>
  <dc:description/>
  <dc:language>en-US</dc:language>
  <cp:lastModifiedBy>Igor</cp:lastModifiedBy>
  <dcterms:modified xsi:type="dcterms:W3CDTF">2014-09-13T15:35:10Z</dcterms:modified>
  <cp:revision>16</cp:revision>
  <dc:subject/>
  <dc:title>Časové rozlišení nákladů a výnosů</dc:title>
</cp:coreProperties>
</file>