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1C47-912D-41AE-9338-FC655622D5F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65FB-4F90-4AC9-BCCE-BE5D5C2992C2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950C-1C4A-4F69-857F-3DD5A039C85D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53DB-9F4E-40F8-89C9-507972D8C7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9F13-E299-4E2E-912C-7FB6F86ED9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0CA3-0E97-43D4-9863-0AF65D95C31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2D8A-0DC0-4670-A3E5-FED4CA5B1B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FA69-F7A3-4619-8B19-FDE200273D0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C6B1-A3C2-4E20-A683-7706C60385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AA3-E3CF-4DB3-AD3F-ACB47A0E4CB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DC6-EF86-4247-BAB8-FF03D675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998C-F6B3-4701-A9FA-AED5D67E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49BE-1E7D-4BA2-A3C9-8462D4A0A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E00-C3FC-41E5-9B68-4D7F3207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ECA87-5084-4F0F-898E-226E9BFC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8A66-FBE4-4CA7-B9C6-B6102F8F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3BA1-C954-4324-97E5-5D2561FA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B76A-0E6A-4EF9-8380-B6D399D5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AB58-2C08-40CB-AAFB-DFE2767C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3C32-9FE1-48C2-9564-11167A7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7842-6D92-4005-A420-90025AA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5D3-C7FB-454F-869A-D85A09CD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95E9-1DD3-4F5B-9F52-BDC886DC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69E-C42B-4CF9-9FC4-C9DCD501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D86A-3970-4EF8-87AB-C539B86E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6873F-7EBB-4075-8EC0-F6125D6E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7E31-E026-40C4-95DE-AD268070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63F46-7004-46C5-8CB6-5D461C62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DC18CF-C467-42DA-96EF-82503854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5D791-2DA8-4076-90ED-371A92EB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A8BD3E-E091-4F08-8DF7-53AD77B2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6B41A-4174-46FB-92BF-E4F10CC4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93F9-12FA-4BAB-AD50-2D6C8698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C5FDA2-0C45-4BC7-9079-592C51F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856E21-C129-4398-86C3-8BD844B7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C628EC-D1FB-4BC2-B875-68C2297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2CD0E-243A-41E9-8188-B87E4440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1E5547-E53A-4199-B3F2-43646093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D558ED-CD7B-46DB-99BD-7F6B2155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9DB3A-8C52-48B0-A837-4D5969351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5B8B-853F-4187-885C-07DE7839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E10-EC28-4B21-AFAD-034802D7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9AF5-0FD0-4213-9F7E-C9023647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86AA-59F2-49F9-8FF7-91739F9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A84B-0A0E-42F6-860A-AE2130AF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BF88-C6E2-419E-8BF0-C34DFCDC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C5C2-3781-4578-AA38-DA909CF64ED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F8BA-B2B0-4B9F-AD57-3CDF267CE579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59FB-7A11-4B76-8099-B6BFC5474E4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ostatní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Ostatní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ostatní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orba ostatních rezerv se účtuje do nákladů, a to na účet 554 – Tvorba a zaúčtování ostatních rezerv (na stranu M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tiúčtem je účet 459 – Ostatní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počítače (1. odpis. skupina). Oprava bude provedena v roce 2012. Rozpočet opravy 80 000 Kč. Tato oprava byla v plánovaném roce provedena dodavatelem. Fakturovaná částka činí 99 22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4/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počítače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2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7 22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8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9/5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38:31Z</dcterms:modified>
  <cp:revision>17</cp:revision>
  <dc:subject/>
  <dc:title>Dohadné položky</dc:title>
</cp:coreProperties>
</file>