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562B-FB3C-4359-AF3B-4FE7A1D0FF8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172C-16DA-43A1-BD4C-63661441B57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C2B1-C97A-4FD0-8F72-00A4AC41770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0BB9-E5BD-4246-8EFE-93F31B80592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174C-AA93-4010-B0FE-B64486D36F1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A4DA-AB46-4315-95BA-61BED4ACB57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0DB6-4224-49ED-91A4-8BBCBE0A07D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C58F-61D4-408F-B58C-40155B70C50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8359-7BFA-41D3-835A-0B3DA89E67C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1C37-D8D0-4451-9604-722450AC57B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6348-31A6-43B5-A6A0-E4F4A8C7406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E9AA-4695-4773-A5B4-D94022DEB65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4559-E2C0-4469-9BD2-E8469A8F206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ED42-F5B8-4507-9C88-F522880D829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ECDD-539F-4148-AE06-62B06A1D9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5937-A3C5-4CBB-9C1F-E24121AF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25AF-EBBD-4D3F-AB5B-490710E98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EC32-4EAC-4DA6-BB6F-CE88E6915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64EE-D8B4-4748-A51A-0AE11562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E17F-2C31-4A25-855F-B741580A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5785-94E9-42BC-8608-5B51F33A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D573-A65E-42EB-8C3A-A5247E36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0B88-B7D3-44EB-BDE7-6AEE6613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1EAF-BFCA-4454-BDD5-314E333E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94A7-D6C9-47E2-B23E-C8C0D64D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E7CB-7CDF-40A1-AC1F-2EC922BF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C3C2-4ECB-451B-8A7C-5A81803E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B3F5-1D06-47A4-BA9F-669B56F2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C006-DDED-4599-ABC4-F6B0A0AF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4646-DA5A-4727-9020-8D8FED351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EC7B-3F05-47D5-B414-D697A4866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DE6038-4985-4C7F-A592-81FB4E51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2EEB76-090F-447F-AD3D-833946B8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B48554-6D52-4822-B03E-6E346664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32D15C-68D4-4148-93CE-5125242A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03B26E-396C-4353-A21E-4262056B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92C9-146C-48CC-B360-97EFB76F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B9AE55-9C28-436D-925C-F6D24265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4C21E9-7CC2-41F8-A30C-D018B81D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90F9EF-3047-4D85-B0BC-EB5535C2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26F77B-C0BA-4336-B67F-C3324C13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390913-D6ED-4D60-BA30-1986EBDD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571907-3A17-4A73-9256-5DADA76A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F26311-6B32-4190-87A6-1CCC060A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59AA-D33C-4586-A2E3-EE1441AA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DC2C-CF4B-4F2C-8CA0-E3AC7AA4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F8F9-9F85-4A4E-8017-9E117CB02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AEED-E194-4775-A79C-F58D3F07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C017-7A9A-493F-8E6F-CA47BF1D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8D58-6094-4800-ADBE-56876719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57C4C-CAF6-402F-8073-67388EA8233F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5A4B-2202-429E-87E5-5E7AA3F58C0B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BCBB-C63C-41BC-A963-066FC3CF3AD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6633"/>
                </a:solidFill>
                <a:latin typeface="Arial"/>
              </a:rPr>
              <a:t>Tvorba rezervy dle ZoR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1. Minimální doba tvorby rezervy – musí být tvořena minimálně na dvě zdaňovací období (rok předpokládané opravy nesmí být započítán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apříkla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irma se v roce 2013 rozhodla tvořit rezervu na opravu D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ezervu musí tvořit v roce 2013 a v roce 2014. Předpokládaná oprava DM bude nejdříve v roce 201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Tvorba rezervy dle Z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Maximální doba tvorby rezervy – je dána podle jednotlivých odpisových skupi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odpisová skupina – 3 zdaňovací obdob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3. odpisová skupina – 6 zdaňovacích obdob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4. odpisová skupina – 8 zdaňovacích obdob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5.-6. odpis. skupina – 10 zdaňovacích obdob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Inventarizace rezerv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a konci účetního období se v rámci inventarizace posuzu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důvodněnost rezerv – zda stále trvá důvod pro provedení oprav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ýše rezervy – např. při výrazném nárůstu cen vstupů můžeme zvýšit částku rezerv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rezerva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izí zdroj, tvorba rezer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800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06633"/>
                </a:solidFill>
                <a:latin typeface="Arial"/>
              </a:rPr>
              <a:t>Rezervy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Rezerv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4167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zervy jsou cizí zdroj, protože představují budoucí závazek (např. rezerva na budoucí opravu budovy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i tvorbě rezervy známe jejich účel, ale hodnotová výše a období se pouze odhaduj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Druhy rezerv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zervy se člení n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. zákonné rezerv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ostatní rezerv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Zákonné rezerv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zervy vytváří účetní jednotka na rizika, ztráty, ztráty, předpokládané výdaje v případech stanovených Zákonem o rezervách pro zjištění základu daně z příjmů, které tvorbu rezervy považují za výdaj na dosažení, zajištění a udržení příjmů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zerva je daňově uznatelným náklad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33"/>
                </a:solidFill>
                <a:latin typeface="Arial"/>
              </a:rPr>
              <a:t>Účetní jednotka může tvořit zákonnou rezervu na opravy HM za těchto podmínek: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usí být vlastníkem dlouhodobého majet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smí být tvořena na technické zhodnocení  nebo na údržbu hmotného majet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zervu lze tvořit pouze na majetek, u kterého je stanovená doba odpisování více než 5 let (od 2. odpisové skupin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33"/>
                </a:solidFill>
                <a:latin typeface="Arial"/>
              </a:rPr>
              <a:t>Rezervu nesmíme vytvářet na opravu HM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28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 opravu majetku, který je určen k likvid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 opravu důsledku škod a nepředvídatelných či nahodilých udál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 každoročně pravidelně se opakující opra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6633"/>
                </a:solidFill>
                <a:latin typeface="Arial"/>
              </a:rPr>
              <a:t>Tvorba rezervy dle ZoR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še rezervy na opravy hmotného majetku se vypočítá jako podíl rozpočtových nákladů na opravy a počtu let, které uplynou od zahájení tvorby rezervy do předpokládaného termínu zahájení oprav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edpokládaný rok zahájení opravy nesmí být do počtu let započítá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42:33Z</dcterms:modified>
  <cp:revision>13</cp:revision>
  <dc:subject/>
  <dc:title>Dohadné položky</dc:title>
</cp:coreProperties>
</file>