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D235-C2BD-49C1-9110-0C26181691F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0345-F496-4F20-B51F-3234CB4B2D68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A216-2F94-4997-A88D-6449A54703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20AF-E702-42E4-8091-22595A7D48F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7B89-C635-45B9-AD9B-C94E566415A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815C-957A-4DF1-9A2D-129BB0B279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2A0A-E97B-48CB-A91A-E1C62EA71F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917D-E0EB-44A0-8118-A26271DCF6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73E-39D8-404A-923F-3873A7DF97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7A05-D5DC-44C0-9525-33944D3C0E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2C20-3637-4F2F-8931-5D24A48314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ABF4-FF21-4E8D-8E1A-6139757A577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2B54-8871-45A7-89DA-9FCEEBF6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8CE-9480-47BC-B08E-CB2F49F7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0AB1-3357-42DF-92EF-B703B5FA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4B7-E3A2-4115-BE02-CBD8FD2B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EAA4-05F0-4A8B-AE6A-9E50D779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3A7A-C4AF-4A23-9B9F-17ABF3DE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961B-4A58-46FA-852A-F132062A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947B-AD60-4BEC-B880-89C3E192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1642-B750-4DC4-8AA4-4814C87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87F9-F430-4AE3-9532-6E0890BB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0D607-B41E-4B97-A071-E49693F1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D62-94E2-4886-9E7A-A267432D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7B2D-0876-48CC-BC62-714EB379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FD67-11C7-4076-998A-49856317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0E0F-6DEB-4B16-A22C-8C37B03F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2DA7-1241-4F88-9928-10533E2D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D5A4-4564-4DFA-894D-9A117DF2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301926-8BAB-4CF3-AF4B-6DF02DB3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048E5-4287-4C0A-9042-9F49634A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DE52B-8515-405A-B9FB-106654014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9338AB-FBD3-4D66-B843-9B835E4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1452B0-FCB4-46D5-9ED8-814BCA87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794-7F56-4D26-AECA-FD3FF4CA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FEFAD-0C90-46E0-8231-6974534E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45C33-0734-410A-A1D4-B1B9FD40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44BF2-2C47-432A-A023-E92E074E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9237B8-A210-4190-AD16-CEE52F7E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91CC5-C0E3-4222-B185-5F271C92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AC67C-4698-4526-835F-821584EF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C05C7-DBC3-4DF0-9525-47D52B4E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977-E4E6-491A-ABBE-2141FEC1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EB6-08C4-4F6F-8592-8488FBAD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F57-EFB7-4541-B38A-E3728132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CBBE-AE59-408B-8423-F54497C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E59F-5295-467B-B4AB-EADFD1B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C96-CED8-4961-AF71-B3DB1193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35CC-9782-4EDE-B8B8-327E2F636BD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529A-84F3-4469-ACC0-1ADF3FAEF9A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D499-2414-4BF7-B519-CDC7080A17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55 000,-     389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11 550,-     343 / 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2 000,-     389 / 5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66 550,-     321 / 2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Nevyfakturované dodáv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 pasivní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pas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389 -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tento účet se účtují například nevyfakturované dodávky (např. materiál již byl dodaný ale nemáme k němu fakturu), nákladové úroky, které nebyly zahrnuty do bankovního vyúčtování za běžné účetní obdob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ke konci roku obdržela dodávku materiálu, ke kterému však do konce roku neobdržela fakturu. Předpokládaná hodnota faktury činí 28 900,- Kč. V novém účetním období jsme obdrželi fakturu od dodavatele na částku 30 000,- Kč + 21% DPH 6 300,-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 30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1 100,-  112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v případě, že hodnota faktury bude 28 000,- Kč   + 21% DPH 5 880,-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.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Nevyfakturovaná dodávk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8 900,- 111/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– Dodávka materiálu – cena bez DP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8 000,-  389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21%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5 880,-  343/3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900,-  38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irma neobdržela do konce účetního období fakturu za dodávku plynu. Odhadovaný výše spotřeby plynu činila 57 000,- Kč. V novém účetním období firma obdržela fakturu za spotřebovaný plyna na částku 58 300,- Kč + 21% DPH 12 243,- Kč. Zaúčtujte nevyfakturovanou dodávku plynu, fakturu přijatou a její následné uhrazení z B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- Nevyfakturovaná dodávka plyn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57 000,-     502 / 38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FAP - Faktura za dodávku plynu – cena bez DPH    58 300,-     389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12 243,-     343 / 3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1 300,-     502 / 38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70 543,-     321 / 22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účtujte v případě, že hodnota faktury bude 55 000,- Kč   + 21% DPH 11 550,-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afbf39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- Nevyfakturovaná dodávka plynu 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     57 000,-     502 / 3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FAP - Faktura za dodávku plynu – cena bez DPH     …………………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PH  21%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- Úhrada dodavatelské faktury                            ………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39Z</dcterms:modified>
  <cp:revision>11</cp:revision>
  <dc:subject/>
  <dc:title>Dohadné položky</dc:title>
</cp:coreProperties>
</file>