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D8DE-6C0C-4203-89B0-5D16AA90470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64C5-33AD-4D2C-9A74-F20771BB4F6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736B-6B02-4D34-821F-BC187EA3A56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391C-8907-4472-BCE4-45DC567EEDD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89FE-85AA-4938-AE76-3802F63862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0BB8-4EA5-47F6-BD4D-2DE5D05964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49E6-579F-49DE-B33F-A1D3F65467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9445-07AC-49F9-B808-D0E0298204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C424-C702-4EE8-9219-70EE500C34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FA70-39F8-4B5F-A5CA-491BB9F472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3BBE-7089-4EB1-A8F1-E8EF067BD0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861C1-9114-4214-821D-579FC5F8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B7E87-932E-4BB6-9B4C-7225DC4D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63A1C-C720-43D8-80F8-3027A5D2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A1DD9-F9EA-489C-8E9A-497501D7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B183F-34F0-4ECD-BE1F-C76E7DE8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679054-BAA8-42F9-AD08-484A1FA3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4D4ED-C8E0-4CA8-95A5-DFDAE488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78956-DF06-4F74-ABB9-2CF4570D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5FD5D-878D-43E0-8C21-BE792E22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116E86-729D-4679-8F8D-90BB9204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51AE3-E105-4546-9F9C-94A00DD1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51AC6-8F64-481E-9FB7-64C55DBC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3E46-50B4-428D-B473-CB774039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C44DE-ED43-4433-92E5-A80DB81A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E97D1-BEE3-40FF-B09C-644012DE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89C71-9431-470A-97FA-999D2ED1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DCC7A0-08E4-47AB-BBC5-2D0E80D5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0EFF5-7F9F-44DE-AD9B-9E467DD7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46A06-199C-45DC-B868-34F7E580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50608-4F0D-4F2D-B54E-339DDDE6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40834-020E-4132-8253-267C2D96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4CA1D-FB55-420D-B80C-D4FA83E7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A1D9F-69E6-4DD7-9D9C-A78DA7C8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08C87-8907-4EA9-ABE5-1187DA19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0441D-3B38-4479-A305-A2B4EC53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17DDC-E3FE-477E-A4A5-585916F9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244D5-F1BE-46DA-BFF8-B58A62A6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88916-456E-44DB-B02E-5A3708B3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A1EED-7A4E-4FEE-95CE-C631976D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BAF25-CCF8-490C-BF8E-9F3BF24F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1E77F-E46C-4A03-82CE-9CE19C50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BB5FB-4496-4295-A3BA-664A51AC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CFAD1-D04D-47AA-825F-791116CF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3869C-C00C-41B8-8A74-E3FA52B5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7A8F-3CBF-41C9-ABFD-63F25734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B4A04-7986-4055-9769-2937756F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BBB22-8497-4739-AE1B-EC773730A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DB390-E0F5-4FE9-B5D8-CEC959FD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15036-A41E-4CE0-8A0F-C8C82EED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90D73-096F-4C30-9D28-FE733238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23A3E-7063-44A8-BE4B-DB9C388E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3DE5E-64A3-46C0-B44B-5BB425B8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4EA63-45D9-4159-A6CD-13F4C564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331F37-ABCC-4520-AE11-A688139D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68536-D369-4CAD-A933-C7AF70FA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8156-B69C-4BFD-8607-1FF15B13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A54B5-2E8F-434D-9228-94A5AB8B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BFE84-CC83-41C7-B82B-6969D25A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7B40BA-EA4C-46C9-8F71-6D27F916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1F6DC-331B-400D-858B-9E86C76F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EDF4A-6C75-4CBE-B9AB-30F35397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1650F8-A8A5-4B19-A502-9085468F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8E4F0-6D11-4597-A481-7EE53B02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B9DBB-8ACE-4273-8CDF-3A3827B5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97DEB-030D-402D-B6D5-0BFDFE88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17F21-4317-4BDE-B972-F6B96C0C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3E49-4DC4-4A65-A6C4-397DAC19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1CD20-7087-4C9C-A6EE-6C41DF75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E8D91-17CF-4476-9209-4E6AD534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96085-AE9E-49C1-84E6-C52DE5D3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2D30E-AD7B-4876-A7F6-7C57F297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8DB02-539F-4DFC-82C6-BA01EBB1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661FA-9151-4858-A0A4-43271A28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B25BD9-3C06-4DEC-AE4B-09C2239D7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5EB337-EDE6-4FFB-A83B-3B9F7E5B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22D2CC-966D-40E7-B860-A66CA709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C66A3-778B-4B6C-A41C-6FEE9E4F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EAEF-ED68-4ED7-A245-70F8A624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E5E53D-ADCA-4DFF-B35A-4DF397E7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2B022-EB0A-4B0A-8DC2-C9A32462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45703-F608-423A-B12D-D7F2125C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A1535B-7D4E-47C5-B3B0-BB738D42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5D5A9-EF3D-4FA6-91F4-843EFF50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A6BBA-F619-4D87-B079-7D2CCBF8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B6B25B-0180-40B3-BB88-1D654145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EC73B3-1C82-4AC1-942F-09D4B87F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795C2C-CBED-4790-9D9D-29303334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DDD77-3D2E-44C2-9356-E3A511A7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0297-C5D2-47AB-9E85-74282ACB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2F4212-6469-434A-9135-E5FA9FC8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ABB43-676B-4DFA-908B-FB861324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B3F5BC-2B06-4C0D-A994-FFCE9DC9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E73A16-8B7C-489E-AB97-EEE90D8F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2B01F-CD13-410A-947E-5683CE99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7735EF-BBBA-4C90-BC3C-E1C26924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AD645D-2BAA-4A98-8D3E-A67EE1A0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92C520-B712-46C4-8B62-537F59AC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77612-0C8C-4E97-BEEB-CE1AC847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8EFB2-F2F1-44CA-9994-99E2502F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105B-D7CE-4763-9E37-AAAAAF88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8BB92-AD0F-4B21-9E2D-A083BCA0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E554A1-3AA0-41CE-9FBE-36777D06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913DB7-C81E-48A2-97A6-358A328D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86C188-0488-48E5-876D-25894252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22A8D0-8C5D-44D5-B084-95D9FA6E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8C85DA8-6F30-4C10-8E95-F79ED7B2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8FFCED-B416-44D7-8A34-785B33D4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484B13-2F8D-48A6-83BA-22828EB9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6B124C-8F03-4D06-A741-359494F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4FCBE0-8FB2-4CEB-A427-19F9D01F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9302-2840-4352-916A-D31F679D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53FFAF-ABD7-4DB6-81BA-94CF0496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34978BD-A43D-403C-BC9B-B5806C5C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0DF8E5-0A66-451B-90A2-3691665C7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7EF81-19C4-49FD-A859-D1539179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9246BE-2194-4C77-987E-915A1490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7CF7B7-6E50-4C4B-AC13-1AD8C5A9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4C1D5D-8C84-42C7-A4E3-D8FFF4A5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43C679-C503-4772-96A3-EA9FEAFF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46EF5F-CBA9-4D9D-BDB4-1169840E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10C2B-33C3-49C9-9566-17DD84D7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DE05-EEA3-4C74-80EA-D901517F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11C70-B197-4CB6-8DCC-C802CCDE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E8E17B-AFD2-4349-A0D8-676D10FD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47ED3-051A-4EF9-ABC4-245EC19F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E63801-B085-4046-B895-D6A9ACB5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48398A-36CD-4EDF-B7AB-C32AAFA6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EA30C-B055-4664-B090-B4356B577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0CB0-D895-45DD-9ACE-D7FA6430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5C64-9326-40C1-9607-674B7FF5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2273-623D-4657-8330-6036E7F7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08BB-8565-43E3-BEFE-D1008BC8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219B6-5EA0-468B-83C0-C3166DA46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2DC3C-97C6-4BD8-A86F-58EA3952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BD0067-8198-4F1A-BA92-43C95444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1FDD31-9DD8-4597-BF49-23DB55CA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EB4DF-577D-4A7B-B6E0-91E72304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079E-6AAA-4CEF-B0EC-3515FAAA3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E53B1-5D86-4B6D-ADE2-F988A8DF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1A2FB-8CD1-4508-B2DD-8B64841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7011E8-ACF9-4C2A-B61D-2E8B0937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D6861-7BE4-43F5-8099-DC765177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F5705-4D21-4C83-A516-499F7067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9A934-D6A2-469E-87ED-F7A32771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8566B2-84A4-496B-8EE9-40F6B6A6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A902-63C1-4259-A54B-E67C03A9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DEEFD-BFD2-4858-BBE5-1BFD2283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16999-754D-4F6C-996C-DB0ABFEF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7503F-3A05-43B0-9ABA-4BC5AF02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BC731-AF59-4DED-A401-AAA3505B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DDB16-D5A2-4CC4-83EE-CA93C829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E1A51-2B36-4462-922F-BC3ABA99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4D150-5F3C-448D-BABD-3D906CA8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A2958-1B04-422E-AE2F-AE2B2BA3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283DB-2115-4AB9-AA99-95CF3D54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C2BD8-EE97-4465-A8CA-39E07846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24761-9D47-43D0-BECD-7E753C62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B198B-19F9-4413-ACA0-2124A631C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4D662-6C42-49C0-95D8-7E3484FC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1BD1A-FBE8-40FA-A465-17347AC1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D9B00-AB03-4D17-89D9-E9DD6939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F9F7E-93B3-4FE0-B9F7-2999371B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D6E21-4A2A-470C-A9F5-1DB69E9E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0D605-665B-4031-ACCB-53A546E3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45CC5-612B-4C13-A783-B2BD207D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E65EE-8C49-4843-9F81-542D1256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4C23B-34FF-430E-A2E2-2C2DD9C6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B5C5C-9D2B-465F-93FD-30F01D21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118B2-4DF6-4528-B759-3FE73E50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63F32-435A-4F04-B290-59205453B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84187-3EC0-48F2-B9EF-1DAE2AD9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7C01E-2270-4FFA-B306-8E0E3760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CD06F-C301-460E-A02A-B0F1A84B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E1145-74C0-41C2-BE7F-2112F329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606E1-CFDC-404C-91F2-B98B4507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7672F-ED43-4677-B6A3-5EEE6BD8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F38FA-AD4B-48AF-9025-1E0F4F5B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A2D6F-3701-482A-8032-6CFD3AF1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8D664-0CAB-4F45-93EB-381EBF26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ED30A-AF77-406D-A12D-6C7BECA9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CE4D8-C7A4-4C89-986B-91CC6D04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D2119-C1ED-453B-B29E-9E5079DD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7C848-7713-4F18-A7F5-6BEBD9AD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997DE-7E7A-49D3-B2C6-1AB47218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098BF-750B-41CB-870E-CD0D755C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4F91D-2CB3-439D-8A98-132E48E2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DD0B6-CFE0-494B-9174-8F4200BF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D8FFD-8C1B-44D0-A979-50D0077F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4A269-A95C-4B82-A87C-2DA711FA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352E7-C828-41F7-B6D0-394D0FBF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98A76-C7FC-4314-8213-5CC7F48B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09275-9E37-4E0B-AFA6-027672A8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F9D9-C8D8-4F6E-94B7-32059215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55B1F-D904-44D7-A9CD-FF069CB6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065A3-D11B-45FF-8397-17FDD1E9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8F070-68DF-4635-858D-E5CA0245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90A05-2057-4550-AF94-1AF97839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0D0C6-058F-4659-B832-3EA19916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509AA-B9EB-4DA1-9609-88DC7FA35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D5E84-876C-4FE1-A535-F78E81247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4F975-8D27-4027-9530-2407D505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7400E-FFB7-438E-8857-D7E40D49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CBBD0-D7A9-41AD-9EA7-2A68D4AD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122AF-A5D1-4F7B-B60C-CC9C027A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9137A-992C-443D-AE68-0E8ED56C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8E082-ECDE-4D86-9CC9-A4E1B488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50137-68D9-42B2-93C1-527C1CE9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99404-BA32-4E65-82E5-281ABB76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9BBA6-F90A-4902-AF92-20899427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3A132-A9B4-4F83-B0EF-CA1F9C26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635BF-7B74-46C4-8E34-E0E87B6A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82E81-8A6D-4D12-AD7B-277CB022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39314-8B41-4864-8F2C-BB2871C0E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C4A9C-E179-4D89-A5EF-D5CB0819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7D59-3466-4549-BB21-873A36399891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F221-38AD-4B3F-9318-E7E323FA846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4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5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5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6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777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77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9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78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FA92-154A-45FA-9AEA-05294982664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3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4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4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5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6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6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6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8CCE-044C-40C8-9401-3CCA9C74A036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2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3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3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3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4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51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5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3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54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F90E-6A5F-414B-B63D-039BD622AD5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0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2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03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038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03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0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041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4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4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4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3E60-3037-410C-B414-0A2BA9CC9FCE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9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0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0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2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2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125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12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128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230C-090F-442B-AA63-75BAB1769AE8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18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9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9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0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1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1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 type="dt" idx="4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7E22-09E1-4130-A836-D4E936F6C70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 type="ftr" idx="4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7A6F-3AAC-4D17-A150-666842674DEE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262A-F890-4368-8F71-CDA25C2037A9}" type="slidenum">
              <a:rPr b="0" lang="cs-CZ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9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7D56-C584-4363-B435-9BF0E43F8E6A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9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C060-9CD5-48F9-BB65-49827E4B25E2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4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5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56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6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0260-6E0B-488B-A09F-B69F45463FF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3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2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11E0-207B-4070-8375-45A6E8ADC22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1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3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3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D5F63-3976-4FD4-A2D2-E7133E39382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0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1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1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6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9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AF29-B4A8-4F9E-8CAA-614D1828378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8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8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9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0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60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60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60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70F1-F923-4786-966E-82DFEA3FFC7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9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Y_32_INOVACE_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0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    Ing. Pavel Štohl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2" name=""/>
          <p:cNvGraphicFramePr/>
          <p:nvPr/>
        </p:nvGraphicFramePr>
        <p:xfrm>
          <a:off x="468360" y="1413000"/>
          <a:ext cx="7991280" cy="4167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 k seznámení studentů s časovým rozlišení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áklad, výnos, příjem, výda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Charakteristika časového rozlišení nákladů a výnosů</a:t>
            </a:r>
            <a:br>
              <a:rPr sz="4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průběhu účetního období dochází k časovému nesouladu mezi výdaji a náklady a mezi příjmy a výnos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hospodářského výsledku účetní jednotky se musí zaúčtovat pouze náklady a výnosy, které souvisí (časově a věcně) s daným účetním období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ý nesoulad mezi výdajem a nákladem, či mezi výnosem a příjmem (např. výdaj v tomto roce, ale nákladem to bude až v příštím roce) se řeší pomocí přechodných účtů (účtů časového rozlišení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nákladů a výnosů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ové rozlišení se provádí na konci účetního období při uzavírání účetních knih za pomocí těchto přechodných účt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1 - náklady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3 - výdaje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4 - výnosy příštích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85 - příjmy příštích obdob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zvaze zařadíme tyto účty následovn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Aktiva                        ROZVAHA                          Pa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1 – Náklady příštích období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3 – Výdaje příštích období 385 – Příjmy příštích obdob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84 – Výnosy příštích obdob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Účty časového rozlišení používáme v případech, kdy přesně zná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.účel vynaložení – věcné vymezení, čeho se daná operace přesně tý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. částku v K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. období, ke kterému se částka vztahuje, kdy příslušná operace nastala nebo nast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čty časového rozlišení se nemusí používat v případech, kdy jde o nevýznamné částky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řípadech, kdy jde o nevýznamné částk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íklad předplatné periodik, nákup kalendářů, diářů apod. na příští rok, a je zřejmé, že tím účetní jednotka nesleduje záměrné upravování výsledku hospodař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bo pokud jde o pravidelně se opakující příjmy, (např. úhrada činnosti auditorů, daňových poradců vztahující se k předcházejícímu obdob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8T08:07:38Z</dcterms:created>
  <dc:creator>Ing. David Holzbauer</dc:creator>
  <dc:description/>
  <dc:language>en-US</dc:language>
  <cp:lastModifiedBy>Igor</cp:lastModifiedBy>
  <dcterms:modified xsi:type="dcterms:W3CDTF">2014-09-13T15:34:11Z</dcterms:modified>
  <cp:revision>17</cp:revision>
  <dc:subject/>
  <dc:title>Časové rozlišení nákladů a výnosů</dc:title>
</cp:coreProperties>
</file>