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1A57-1F47-4F23-B617-747C3BAF766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0CAD-5809-4317-BE9A-9045C725DB9E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293D-3435-48F7-8DD6-EDF9DE11A0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D639-A3C2-4D80-A9E0-036E53D133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57D3-B66B-4759-AD1C-5A688D066E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DB01-F32A-4C9F-BAB0-88CE2E2A16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110A-AE97-434A-8376-50E8FF509293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FA69-FB83-41C7-8D7B-7F62BF2FFAC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7DD2-EB03-480E-AA27-755B6E82F9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F4A3-608E-42C8-8556-D5AF43D761D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E429-B209-47F6-95CE-CF1D589DE8B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79C4-7569-4368-91BF-8774B957E8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F47D-1AC7-431B-AC9B-381A2A001C6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2A38-CCB7-4A76-888F-9FDEC6B36F6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0C10-E9F6-4388-ADAE-F7AAD77BD3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0133-317E-47FB-8510-5A34C8D9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8F0-3B9D-4E60-95D5-9A3E93D8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33F-CC32-4D78-8DF9-92582C87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945-E6B3-442B-8173-FFF946E2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F894-6FB5-4F0A-B302-98B55AB2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2486-06FE-47FC-8536-6AA8EB46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C66E-8FBC-4A45-86A3-41220A90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D690-70CE-4D63-B740-E81D2279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8FA0-C73D-4285-8FF8-2DD1F9C0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4EDD-CA36-41F7-8F84-DC802DFC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325A-BBAC-4CBD-AC27-AB5FA2AB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182-10DB-4E29-8DA0-EE0063C5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C730-20A2-4FE9-8A1B-37A910F2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627F-D40A-425F-BCE8-1FE16D2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0A6B-53D9-49FD-959F-E95BA2E2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97B1-71AD-46A3-9550-8ADC1ED8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C384-416A-4ABF-9217-E9FFE7B57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C9A8F-4964-4F14-9BA1-4E7CF69D9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E48FF-5DD0-427F-8E6F-833353E7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45231-7012-45A0-A5ED-1ABD39BB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43E34-C202-4C49-A76B-14377F72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6A9A40-139A-4FE7-9355-5C6106F2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89BD-86C8-4519-885C-71DC1516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06F52-611F-449C-A04E-FB8C92E3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1B404-BFB1-470D-9BED-1C60E29C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F3B1E-6C83-4287-81E3-53DE3A10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F2ED2-7C86-4FA6-A27B-353A7829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7C4DE-9A34-41F3-A76E-1FC98B44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22381-A4AC-462F-9894-9AD58722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07AB4-A546-48BB-B537-4E4FB8A3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E36F-1902-453C-9059-C1522A43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C5DB-5C2A-493E-8120-FC7AC472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FE9-5118-4EEC-A571-27D861F8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F19-D237-4CBB-BED6-3F4BCA0C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D55-7A24-41D1-A4EB-D9332ACA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954-2DD3-491F-A59B-8457E8F9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5B93-5B7F-4CD9-84CD-FA19B46C5DB8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25AD-8BFC-4C55-A1B6-75D8A63291CF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C5F7-5C38-445B-A049-2383903CB52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kud rozvahová hodnota pohledávky 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kamžiku jejího vzniku nepřesáhn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0 000 Kč, může být po 6. měsících                                   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řena opravná položka do výše 20 %,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 to i bez návrhu na zahájení řízení prot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ov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 nevýznamných pohledávek lze vytvořit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ou položku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ž do výše 100 %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j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uhrazené rozvahové hodnoty, pokud od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once sjednané lhůty splatnosti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uplynulo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ejméně 12 měsíců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významnými pohledávkami se rozum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promlčené pohledávky, jejichž celkov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odnota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nepřesahuje 30 000 Kč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ůč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už dlužníkov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ě, že se jedná o pohledávku z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em v insolventním řízení 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hledávka byla u soudu řádně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hlášena, může se vytvořit rovnou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100% opravná polož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Účtování opravných polož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irma měla k 31.12. 2013 neuhrazenou pohledávku vůči odběrateli, a to ve výši 70 000 Kč, která je 6 měsíců po splatnosti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nejedná se o pohledávku za dlužníkem v insolventním říz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Dále firma dočasně snížila hodnotu jiné pohledávky o 21 000 Kč, která je 4 měsíce po splatnos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e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Tvorba opravné položky 20%  14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8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Tvorba opravné polož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21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9/3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69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pravnou položkou u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očasné snížení hodnoty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Opravné položky u pohledávek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Opravné položky u pohledávek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é položky u pohledávek použijeme v případě, že pohledávky jsou již po splatnosti, u kterých však předpokládáme, že nám budou uhrazen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pravnou položkou dočasně snížíme hodnotu pohledáve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 uhrazení pohledávky se vytvořené opravné položky zruš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U pohledávek můžeme tvořit tyto opravné položky: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1280" y="2420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ě účinné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účtujeme  558/3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ě neúčinné opravné polož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- účtujeme  559/39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aňovou účinnost opravných položek řeší zákon o rezervách pro zjištění ZD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ši opravných položek závisí na době, která uplynula od konce sjednané lhůty splatnosti,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ech, kdy věřitelé podali návrh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zahájení řízení proti dlužníkovi podl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isů o rozhodčím řízení nebo soudu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 příslušné řízení bylo zahájeno, lze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řit opravnou položku v závislosti na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bě, která uplynula od sjednané lhůty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platnost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é opravné položk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 více než 6. měsíců – až do výše 2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 více než 12. měsíců – až do výše 33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více než 18. měsíců – až do výše 5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 více než 24. měsíců – až do výše 66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) více než 30. měsíců – až do výše 8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) více než 36. měsíců – až do výše 100% hodnoty poh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6:18Z</dcterms:modified>
  <cp:revision>22</cp:revision>
  <dc:subject/>
  <dc:title>Dohadné položky</dc:title>
</cp:coreProperties>
</file>