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A77-839A-45EA-8B27-7AE55B7401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8F62-C26E-4FF0-8808-B74BAAB6E147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3480-623E-4A6D-B5D2-D80DA7079C9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3CC7-C36A-4B3E-97B4-376FDE3435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8016-177E-474C-876E-FCAEFC0FE1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0E7F-B994-4230-A1B6-2AF3727D85A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2617-12F2-4C16-B352-925DFFF175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2DF-1FEE-4388-8AE3-9E1181217A6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5F0E-FD20-445A-84F7-59F8DA6467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50DC-6EFB-4D85-977E-FC72103F28C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E36B-C872-4090-A532-3257359B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227E-7174-451E-8095-E35D0B4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31B-4E03-4FEC-A988-BF2C7D95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4F4-1542-4DC2-89E5-1E106BAE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1B4E-AD09-44D8-BACE-2C92DD24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5352-5BED-41D5-BA41-23E92A5D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B109-2D40-4981-8B33-006158F2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39CC-6EBC-4146-9DE6-7666CC6A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E76E-C24C-4563-9BB3-DCDD6C26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336C-4942-48A5-82DE-9DDCBBDB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3DC8-43AC-4A34-9AE0-A7317F94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69F-FCC3-4010-B9D8-BD10C761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D1EE-D7AB-4929-88C0-275A2D99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C373-448C-406E-94A7-C9392C71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9854-6610-440D-B2DE-37428CE5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77B9-79DD-45D0-BA01-8097EA2D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ACCF-27D3-4790-A635-1540A9BA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48E81-D362-4E6A-BA50-02DCBA5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4E64A-CEEB-473D-851D-FB1CE7D7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AD356-ED8C-44A5-8F0C-FFE5CAE7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00FBB-B3FF-401B-9A4C-F7266186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82000-78D1-4E52-AC4C-447780F0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DA8-E377-499C-969C-261DA024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C51D3-1A7E-4937-926E-F2E68174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FDDCB-000F-4818-AFF0-CDEA15A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168B9-E5F7-42F4-BA0A-E354A63F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1C87D-FEFF-4A21-9E80-AB0AEB53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41F71-C5D7-4E4E-818C-5E3E2ECD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F5197-11F8-487A-9FDF-2C945CC2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101BE-5BCC-4B38-AF17-F07C4B35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594-9B8E-42C2-B575-3F1E5626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9D78-F0F4-42E1-A294-0B5FA4AB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81D-A389-4AA3-919D-07C8D22E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476-A531-4FC8-8651-034B8E7F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BD34-EFE7-49EC-BF72-6656F3E8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6AD-9AA2-4D9A-9C75-F7212036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EBD6-57DF-4368-89A2-3031DC3305C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69CE-A09A-43CD-837F-DD873AC11335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A98-7FEA-49C7-A5D7-0A0CB2C99F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inventarizac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trola, účetní a skutečný 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Garamond"/>
              </a:rPr>
              <a:t>Charakteristika inventarizac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2349360"/>
            <a:ext cx="74278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ákon o účetnictví ukládá účetním jednotkám povinnost inventarizovat majetek a závazky a stanoví pravidla pro provádění inventariza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kolem inventarizace je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964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věcné správnosti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jištění zda skutečný stav majetku a závaz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povídá účetnímu sta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rola reálnosti ocenění majetku a závaz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musí vzít do úvahy všechn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vídatelná rizika, které se týkají majetku a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azků a jsou známy ke dni účetní závěr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95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dle toho, kdy se provádí rozlišuje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Řádné inventariz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eriodick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na konci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účetního období (ke dni sestaven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věrk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provádí se postupně v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hu celého účetního období (termín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ůběžné inventarizace si stanoví účetní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jednotka sam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Garamond"/>
              </a:rPr>
              <a:t>Druhy inventarizací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odle rozsah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Úplná 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– týká se vše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Dílčí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 – týká se pouze některých složek majetku a závazk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6633"/>
                </a:solidFill>
                <a:latin typeface="Garamond"/>
              </a:rPr>
              <a:t>Inventarizace zahrnuje tyto etapy: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ovnání skutečného stavu se stavem účetní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čísle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asnění příčin a vypořádání inventarizačních rozdí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43Z</dcterms:modified>
  <cp:revision>21</cp:revision>
  <dc:subject/>
  <dc:title>Dohadné položky</dc:title>
</cp:coreProperties>
</file>