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CCCC-DE50-4EE1-BCD1-1D0DACB057B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EBB0-FC9F-4636-A117-4B88FDA9BAB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DC64-F644-4121-B406-E3D761E199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5909-F25B-4D96-8E7F-30293BA48EA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8963-FBAF-4D68-ABDA-08CFF87BC81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D26A-26B0-4463-847A-DE47259305A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AEF8-58CE-4D2D-9BBD-6124E3D3D1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5FA6-C507-4623-B6DD-5A4FA9541B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BF5A-BEC5-4CFF-8AEF-9D6AF461DAF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046F-153C-45CC-A7E1-A6969C2974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2CAC-676D-42CE-9AF0-0A68646502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0E15-D5A4-4C88-AB7B-CD3C23A355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F634-1D23-42C1-A48E-7252E117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8B7-926B-45E3-B87B-AF28AF0E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D96C-57EC-485B-92C3-50F336B5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551-7988-48CE-8888-96E0233FA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2BC8-7FE2-4869-A6E9-90A6337E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EB13-B7CC-494C-9F9A-E35E39BA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D82C-F083-4E1E-81A0-F4B5F66E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7816-46C3-4F62-93E2-42FF44E9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42C7-BA9E-41AB-83D4-F6704252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80C4-0190-4E42-B048-8EB11729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6F2A-17C0-4ECD-AE02-5CCF05D6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3E4A-D4C8-4774-B6E8-BE70C899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1E3C-108A-43C1-9BC8-4DF6B2E8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5505-3BB9-45D9-8B73-C19DD2F4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8AC8-F704-42E0-AE82-7EA8AB30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DB55-A11D-474E-A0D8-680AB737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30FF-D16C-42C2-AED1-0D27F704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A153A-12CE-4AE9-BF83-A4DDDFCC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72C16-0D5B-481F-AE20-A16B1482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0BFCE-F0B3-4EAC-9261-715AB4F6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25D97D-06BF-42A6-AD6C-013A2AAF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2283B-C82B-427C-9F3D-3AED8F56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5D1-4B30-4690-96AD-A7FDBE66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62CA5E-7517-41CC-A1F4-D4D8BC31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2B2C3-023C-43BF-9C27-3BA29FB2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8AC0A-CEA2-4FCC-921A-96FCCD4A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70AC0-0A72-4C3E-AAA4-C9932336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2C0A4-F141-43B4-8EFC-A7271384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EE98C-F361-480E-8877-04FDE336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C5AE5-3748-41D2-80D4-D4BAA498C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C9BD-9AE4-4B43-9740-5AC9CFBE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4C76-62B8-4986-AC67-79C26007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4C3-82DC-4EC5-A878-DC511DEE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CCFE-23A1-4F03-8F1F-DCB89B1B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400-5FA9-42D6-8766-1F245ECD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3E13-E5C7-4C96-AA6C-7EFF0768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DA19-A707-464F-850B-89F22D733E3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6C1A-5250-45E3-892F-D630202FE360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20A8-27DC-428A-A4E5-D7E088AA06D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FaV – Prodej výrobk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500 000,--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11/6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VúD – Tvorba opravné polož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5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8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VúD - Odpis pohledáv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5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46/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. VúD – Zrušení opravné položky   5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91/5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2884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e zrušením opravných polož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ominutí důvodů, nedobytná pohledáv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79280" y="24210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Zrušení </a:t>
            </a: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opravných</a:t>
            </a: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 položek u pohledávek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33"/>
                </a:solidFill>
                <a:latin typeface="Garamond"/>
              </a:rPr>
              <a:t>Zrušení opravných položek u pohledáve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é položky u pohledávek se zruší, poku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minou důvody pro jejich existenci (např. pohledávka, na kterou byla vytvořena, byla uhrazen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hledávka byla odepsána jako nedobytn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6633"/>
                </a:solidFill>
                <a:latin typeface="Garamond"/>
              </a:rPr>
              <a:t>Zrušení opravných položek u pohledávek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rušení (čerpání) opravných položek u pohledávek se účtuje následovně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daňově účinných opravných položek 391/5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daňově neúčinných opravných položek 391/5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rma měla neuhrazenou pohledávku vůči odběrateli, a to ve výši 70 000 Kč. Na tuto pohledávku vytvořila k 31.12.2012 opravnou položku ve výši 14 000 Kč (20%). Dne 21.2.2013 tato pohledávka byla uhrazena odběrate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 VúD – Tvorba opravné polož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. Vbú  - Úhrada od odběr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. VúD -  Zrušení oprané polož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VúD – Tvorba opravné položky  14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8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Vbú  - Úhrada od odběratele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7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21/3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VúD -  Zrušení oprané polož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14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91/5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irma Senox, a.s., vystavila dne 5.3.2012 fakturu odběrateli za prodej výrobků, a to ve výši 500 000 Kč, která nebyla uhrazena. V prosinci 2012 byl na tohoto odběratele vyhlášen konkurz a firma Senox, a.s., přihlásila svou pohledávku. ve stanovené lhůt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následujícím roce soud zrušil konkurz pro nedostatek majetku dlužní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účtuj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Zaúčtujte: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FaV – Prodej výrobk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VúD – Tvorba opravné položky (100%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VúD - Odpis pohledáv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VúD – Zrušení opravné polož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2:48Z</dcterms:modified>
  <cp:revision>27</cp:revision>
  <dc:subject/>
  <dc:title>Dohadné položky</dc:title>
</cp:coreProperties>
</file>