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ED1E-F589-4278-B02D-7E2F0CAD80C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8C2A-EB68-4215-A2DE-1428B2443EB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9EF-11EA-4D43-8A0B-79107519BFF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407E-3585-402A-A219-03E87EB5F2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0943-4D69-4388-98A8-A9CA47748D8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44CF-592D-44D2-B967-6C0F7101473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12E-A291-4535-88AF-EC5AD2683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56FD-0838-4787-8502-F2984128BB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B2C5-C377-4392-9889-6377F0415C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695-D004-4817-8A0C-9D95AA85AD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0F6-3EED-41C3-B4C6-D50CCE68743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D276-C27B-4E86-940F-D57300FFC8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ADC3-3498-434F-B8D9-BA6862D11C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A385-2CCB-4D05-A581-A975C82E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E39-E820-4F50-AE90-E9BB8DBD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BCCC-270A-4691-B1B3-19CA3DC9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3A6-AD40-4145-AFF1-6F489767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8637-DC4D-4DDB-8C3C-10F703FE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F4F8-C105-4503-926C-DCA509AB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6F94-1A52-4987-8026-B4CA1C64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73D7-B9FB-43E4-96FD-0006A47F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0EFE-A435-42C6-82D7-DC6C9F48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A1D9-9FD9-4E9F-A148-AED15057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161-D057-4E9B-8F4C-0E13719A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C747-ED87-4CB8-B152-15561A73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D78-7FE2-4CCB-847E-D1D149D8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1DE6-AFB9-442F-BAF9-4A2F370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BB09-FAE0-431A-8482-F1BDDC62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EC12-2C28-46D9-9823-0906B23E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31FE-D00B-440B-8158-AF5475F1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72979-EB0D-4C52-A66E-0419F18E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C7344-FD0E-4EF0-BD5A-8AA055B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45CAE-8484-4F6E-8E6C-476E0143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BD7DB-E557-4809-A853-2CE5800A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39DC38-5996-4474-A614-0D5DD5F2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C74-72BB-4E24-AF56-38464EBB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46E8A4-B3FC-4B7E-99D6-28DEE231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9CE2E-9DBA-4532-A2CA-018E75B5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FA7451-261B-4BEA-B216-187517BC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22C6F-B36E-4D02-88F2-F2AC260B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B2026E-DB7A-4FD8-B00B-219B7F10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ABD7C-8FC6-4300-809B-2BB38DF1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541A7-58C2-45F0-8896-5ADCC125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B20-FA89-4320-9F6B-8C823BD7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061-A42F-4BCD-9E0A-BB0714F7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3929-4EF6-4AA9-B05C-26AA7962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E5D-2B7A-4E32-A0A3-E465867B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01F-85CA-4B1E-8412-CB8111B8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B4C-917C-4075-8918-12A448D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FB55-7843-4D1B-8A33-6B49A06B18F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3D6F-87C9-47BF-A10E-FCE683E8DFD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105-0E2D-4720-A173-9683147820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prosinci vznikla firmě škoda na havarovaném automobilu. Do konce účetního období firma neobdržela předpis od pojišťovny o náhradě této škody. Odhadovaná výše náhrady činí 89 000,- Kč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novém účetním období pojišťovna přiznala náhradu ve výši   87 000,- Kč, kterou následně uhradila. Zaúčtujte odhadovanou výši plnění v tomto roce a předpis a přijatou náhradu od pojišťovny v příštím roc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VÚD - odhadovaná výše škod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9 000,-    388 /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VÚD - předpis pojistné náhrady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37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VÚD - z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2 000,-    648 / 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87 000,-    221 / 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dohadnými úč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hadné polo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hadné položky představují nepotvrzené pohledávky či závazky, u kterých je znám účel a období do kterého pohledávka či závazek patří, ale není známa přesná částka (nemáme fakturu, výpi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ozlišuje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 Dohadné účty akt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Dohadné účty pasiv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ohadné účty aktivní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28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388 - Dohadné účty aktiv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jedná se především o pohledávky, které věcně patří do běžného období, ale u kterých neznáme přesnou částku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apříkl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okud nám vznikla škoda na majetku, který jsme měli pojištěný a pojišťovna nám do konce účetního období nevyúčtovala náhradu plnění (za vzniklou škodu na majetku), zaúčtujeme pohledávku, u které neznáme přesnou výši (nemáme doklad) na účet 388 – Dohadné účty aktivní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6633"/>
                </a:solidFill>
                <a:latin typeface="Garamond"/>
              </a:rPr>
              <a:t>Příklad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 důsledku havárie nám vznikla škoda na materiálu, a to ve výši 59 000,- Kč. Pojišťovna nám do konce účetního období nepřiznala náhradu. Předpokládaná výše náhrady činí 57 000,- Kč. V novém účetním období nám pojišťovna přiznala náhradu ve výši 56 500,- Kč, kterou nám následně uhradil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tomto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37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4. VúD - Doúčtování rozdílu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     500,- 648/38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56 500,- 221/37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kol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účtujte v případě, že pojišťovna poskytne plnění ve výši 57 500,- Kč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Účtování v tomto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1. VúD – Škoda na materiálu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9 000,- 549/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2. VúD – Dohadná pohledávka (k 31.12)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afbf39"/>
                </a:solidFill>
                <a:latin typeface="Arial"/>
              </a:rPr>
              <a:t>57 0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ovém účetním obdob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8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. VúD – Předpis pojistné náh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000,- 378/3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. VúD -  Doúčtování rozdíl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500,- 378/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. Vbú – Přijaté plnění od pojišťov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7 500,- 221/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3:56Z</dcterms:modified>
  <cp:revision>12</cp:revision>
  <dc:subject/>
  <dc:title>Dohadné položky</dc:title>
</cp:coreProperties>
</file>