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FF38-2AAE-4F47-A589-0E9BF2C382F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CBF-1232-4CE0-AE51-2E6F9F7FA34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9C96-F56B-4F2B-9700-EF8E74F0485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5DA7-C81E-4644-9782-D22D5B456E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21CB-DEFF-4525-8857-05376A1F1C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E5A2-D05C-4884-966B-F125A1D0F0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0EFE-CDF6-4FF3-B5BC-C74E6CC68E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9828-D9B5-4E9F-AE6D-CE214312A45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D4E2-68C9-4CE0-9EAB-C13BBBA731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D39E-6895-40F8-BE9B-D9A7AD0DA3F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433C1-F418-4035-9284-E9276F3AE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2A074-4CEC-434E-9448-D4BFF21B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699D0-F54E-4F36-8AB9-0B6A0343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F2E6E-DD4E-4119-A82C-692BFEA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4E0EFB-A3B3-43A5-B572-302C6D6C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B6AEF-198E-4C30-B9E3-3634C34E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C02C-1066-43B9-A97A-610017E6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A3DF-CC4A-49B6-B6EA-3F8D5B27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401A2-7ABC-4D62-B559-CBB12B15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B4AB1-5EBE-4DAE-B9C3-DC3399E7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A41CA-EB61-430D-B0D1-CE1422940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217656-29FD-420D-B9CA-F0E12B46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1E412-3C88-4276-80CF-890FECC4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729F7-AD29-40D8-819F-7EA20CC5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5F833-970A-43A8-8B22-67FA8433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54246-1750-4C51-8F1C-05F49640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1F594-B7F2-4087-95DF-3E798303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F10FB-F6FC-4B06-B8D1-70E0022B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4C420-A3B6-484B-A4A4-920FAE9B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3E995-5F4A-4586-9220-DD4C7E7D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3A051-53E4-4E1C-AD16-58EF2D05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B7026-A81F-4AD7-92B4-8034932D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6C9E2-C206-4955-8C71-07C4D1A9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065F0-BCE8-4B3F-B388-2F5FB177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F1A02-271D-423F-880B-EB6F9DDC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B7527-FE89-44D9-BBBF-22380A62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94F92-4E8A-48A1-9C3A-BB3B8D88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2E11A-6911-409F-B446-35BD0ECF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D08F4-3E37-42D1-B4F9-A8BC2FCF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A1FEBC-E1C5-47F2-9870-84D19FC7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D60D8-08F1-43AD-8D75-F9CF1616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D06C6-069A-4B7C-868E-469F7FD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9F95E-0348-4545-96CA-549F23BA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68F6A-AA6A-40B6-816A-A2BEB8F5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B583-A407-4094-B5BC-FCD80AFD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D9B44-D7D3-4A19-9D09-54D56905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4A6A3-42A3-4539-8737-DAAD462E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98F1A-372C-4E8D-991B-546E565D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CE3DB-7C1A-4C52-9552-F6E9B1FF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7B9A5-116C-4E0E-8889-D96F7BE3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35F3F-0764-406E-A916-0DB9C9C4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BAF9E-71E9-4294-BA89-B1BD57EC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66754-A3B6-4215-A0F7-381BD6D5F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9F052D-D0E7-406C-8921-7BBC5E28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D63A5-7304-4202-BE6B-2E9BAB23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B6CE-7A91-4924-BA1A-2DE21127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8A8E0-17EC-40B7-A49C-18670CD9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EA5916-C79B-445F-93B8-177D0DAF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88B0E-1787-40BF-B01D-531CD6EF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BC965-2E5F-4E2F-9659-618B568A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9A628-0F5D-4F94-AAC3-3B6553B1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3385CC-7406-45B4-A6F8-E2495BB5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D01C0F-3C7A-4B14-9D97-F2AABA45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88EB64-EEE0-4F39-9ED5-BF0C7783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B6EEC-2044-4280-9FD2-3811C007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41FE4B-0751-478E-B8E3-7166C9B1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5C0B-3C14-45B0-BB62-14C26083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A5EA2-D24E-4F7A-84B7-4C71B962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093D4-5F93-4AD5-9B96-4B0E140A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CD4DC-A462-40A2-9CFB-379E6797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5F1D4-6828-4E2E-BA84-7FEB14F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7A908-DD36-4D41-AE30-B42AFA55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D6127-80CC-401B-82E2-CFF3C23A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7ED74-04C3-4696-89C1-17366721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1EB6C-B2CF-4700-8346-AEF22E56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3761DC-DCEE-4741-A26A-08910D55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6CB2E-1B0F-4C74-BE31-2BB7EA0D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393F-906F-4655-813D-E27A7BB1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B1393-7E87-43FA-AFD4-37155C8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5241B-02FC-4CED-87CA-EAFFF74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70914-2268-4DF7-9A1F-16A8FC2F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153F6-19FB-491E-98CC-F3658DD3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CA13DD-4478-444A-97E9-9C2B26A0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191EA-5B27-4D64-B8FF-DA7B7E649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9CC89A-A152-4EF4-A389-6E06BDD6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FEEA6-0493-447B-81EB-F7D0DBB0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983948-04CB-4971-B862-7B67004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CE372C-B5B9-47C9-97AC-C6BC40CA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C80-DCAC-461D-AD91-CB720953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AF5FD-612A-45D3-AEA8-3FB54FEB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CA0C54-8DC4-42C7-8A3A-3A9C7A30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1A100-99B4-45E3-BDC0-23882C19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D0B58-8AD5-4B76-81CA-42CC607E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9CC987-2F49-416C-9FB9-5E44E591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401F8-0749-4BB2-8558-297CB641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EDEC4-C269-420D-AC7F-4B51808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3F3F2D-C232-4E00-B665-A9AD2199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EA477-7706-452F-8AAA-C7591B6C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393CA-F491-4E63-989E-B193131C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7820-0965-457B-B05F-98E277E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B8D51-F2D8-43B1-8443-70D4358D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D7DC881-0B6F-4C66-B0B7-F3F1B8D9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721DFFB-693D-437C-89B8-6D2045D2B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8C56D3-49A2-4025-96E9-F564D38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4AD41A-43E0-4EFF-AD55-24FF39DC0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E3F50A-EC22-4F43-86CB-49498FFA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6C6695-019D-4BFD-9DBE-B34ED94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BF8BD5-89E5-4489-98C7-B5A09AEA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0B9FFB-D3EA-45EE-B1C9-4D5DDDE0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A9F56B-C8E5-4887-B040-9BD1AA3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31FD-646C-45D7-8960-48AE085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E72D3D-D130-4DCC-90C4-3DE03386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C13B84-A399-43F7-98D6-4EA8627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C3F00B4-3CF8-46FE-BC66-9DDFE09B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167B4-36EB-49AA-925D-5739ACDE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7BEA74-2F9E-49C6-8605-4B2E1AE3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3E900-0FA0-472F-8951-888AE986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69D5D-5CA3-4F02-B922-3AC7F513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41183-EB95-4E80-AAE9-56C3AA87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6CB8E-4759-4A28-AD07-F82003C8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AADDA-C343-4534-9DC5-B047D0E7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626A3-2F70-4973-AB3B-C3AE7B1B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38E1-6F07-4F97-9135-1059508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22B285-D4F6-420E-B31F-25115C37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46F55-7DCC-488E-8C61-12924124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D93BA4-4489-4008-9E74-AEAD633E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F39D8-97F8-4552-8C1E-0EF2CDF6F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FD67F-B4A1-4286-93D7-988EC472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E5933-9FFE-4E37-A68B-AF95D4AD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1254-3A37-483D-82A6-AED318D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AE5B-686B-439D-9593-AB7BD238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9CF7-BC93-45C5-90DB-76B2C29C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6DCD8-6A36-4B81-A9CA-D307B2A5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38BDB5-81E8-4C80-BA22-5D1D97DE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A93E1-B833-43FC-B9DC-0A25089E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97C15-E3B1-47F4-A976-537FC711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B0083-53A1-4110-834E-1BC74242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7CEB3-BB1F-435C-BA52-04FBDCFF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C473D-C19C-4ED1-8440-AF793240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19222-6836-4731-BFB9-40B60CF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48AF0D-3AB8-4930-8E49-24F6569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5DA9E-F62A-4A11-B3DF-E0EC9EFE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C66F0-94F6-4901-B973-8778C766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DD6F2B-5E12-457D-A331-6DEFB66B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C0ECC-05A2-483D-87BB-AB83868E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0907-558A-4BCB-BC52-92C2B573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5B04E-A016-4440-977C-475F7C75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04BCF-5290-451A-9829-59A29CEA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82A26-D6BD-4CA7-98DF-B42FF1431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D143-69EA-4AB3-98CB-515E6219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C80C3-78C6-4945-AF2A-8360BDB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96AD5-088F-465E-90E1-985D0E4E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541DE-A0CF-4948-86F7-5A2ED467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5AC72-B97D-4CA3-895F-7A861980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D8B1-3990-4A7C-97BB-CF5D008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7773C-0D50-4CA2-B0B8-9C3DF1ED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39466-35F7-4563-88CE-B5BDA061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A9DDA-A3CA-4F41-876B-7384C74C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AF536-5D8C-44D9-98C1-D9A82BA8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62E9-4413-42E0-AB80-1ADCD1D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6EB2-3C6B-4805-8949-6380E9DA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4F19C-165F-45B3-9A09-A3868320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0402E2-BA16-4862-960E-E9314DF2D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945E4-3804-4B52-9290-E4C8B44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16D5-44F8-4DEB-85BC-290E3AF8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A63A-341A-44CE-B880-D66AB4A9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86BF0-AF26-4BD4-B660-42A63347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8E476-58F4-4F5D-AD9A-DD57585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50D04-980D-4F89-A748-AE014E49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2FC13-83D6-4E5A-9185-8E5C6268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D640-FB29-42F5-A3CB-5534DEF3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15B1-1A9F-47EB-8242-A34F40C5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EFE92-F54C-457B-8C7E-620CA82C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26BC0-57E4-4830-A108-B76CBF23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7F6D-EF26-44A8-B380-F1BCDEC5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925CA-453A-43FC-927F-A28EDE10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F1877-6C66-4EC1-BE58-CFB8CA89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AF618-6242-4B21-BF57-544FFA4A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E9E4-38EF-47C4-8BEE-565E817D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7B933-7F1F-4C98-91E3-C96E0C47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54EAF-28D5-4B25-AA14-7C8D8DEB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16F1F-1273-48BD-AAB9-1524626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C76F0-816C-4E31-8BC2-39F47BF3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5F5E-AE23-4BBA-A4F6-EA477DAD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4C5E8-E03F-45EA-9E2F-37C5AADC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DCD2-2B2F-4F21-BFBB-D5D5DE49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FA16B-2D92-4C21-8F38-0F6BD200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73527-2596-45CF-B024-E7D8356A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CF343-C55E-4078-9D5B-B8D977D7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13FF2-AD93-4459-BBAE-DBBB2B93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1C6F-D366-41F7-A1FF-CE607944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52BD-8019-4DC7-A4F1-13183789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E901-4BC4-4C44-B0F5-9856E593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768F7-D51F-4EC4-B715-C7BCCF2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FABBD-E4F1-4073-BF08-980AEF0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625F1-9439-40A4-B862-4E3BBAB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5A5B9-BD86-4292-BBBF-16F44361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B43AF-8A24-4036-8323-8A881C1F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E23F-8074-4290-BC8B-15ECD116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DC44D-D690-4170-A63D-1DFC2D2D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DC462-1EBE-42A6-BDBA-0D17FCB2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1956-78B8-46F7-9188-67E9D8FB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F5F0A-1903-430F-9A17-A1428985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7F2AC-3C44-47AD-AB70-5E0D7C26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BD3F1-F1F0-4303-94CC-BFA7334B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50E95-8345-4A38-92F0-8B46C72D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544C6-7681-48D9-AF01-51F78BA2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89EE3-0116-49D8-986A-6174C6D7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83EB2-8EDD-4D8B-922E-CEA5BB43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21BB5-489C-4E48-A594-CB0A2674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D5CC2-5948-4D04-8A82-F3261588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E0DF1-BD00-4DC3-B5E9-C1D6E287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66BD5-6E83-4A1B-B0F8-DAF70FE7B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E60F9-A0A4-43C5-AF07-CD5BE87F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7A5-969C-40F6-9AA0-C2F1F0D4BC95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1B53-AC67-40A8-832E-CA4CA5C6296B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FB02-4298-4250-9AE0-D1076E6C748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6D24-3B20-4468-913F-3BD6879DDB2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0FB6-2511-4AB8-927E-470609D23A0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55DD-00A7-4A25-BD1A-494A324FE91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7EF8-41FE-4554-92EC-D8F1DC4BF6D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A88E-5304-43C1-8BDB-9F802B6E3182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300E-8103-408A-959A-54C646CD6B84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53D8-9998-4A91-B559-C1A7C2F3824C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AA1B-BF71-44F0-9045-7BD50BC48497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4D02-BDD4-4E1A-A2A8-54FED1B4D03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72C0-3CD0-4955-BD02-3F1CD5BD0BC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6092-4DD4-4B0B-8E32-9BC4360E603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AD34-5BA5-470B-B0D6-F5DE9786DCD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0BEA-91E9-4420-A8E6-B758651C7DA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6054-AC73-4686-A993-C028769E886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 výnosů a příjm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nosy, příj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Výnosy a příjmy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, jestliže jsme dopředu obdrželi peníze za službu, kterou poskytneme v příštích le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řijat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jatou částku zaúčtujeme např. na 221 – Bankovní účty, ale protože službu poskytneme až v příštím období, nemůžeme tuto službu zaúčtovat do výnosů tohoto období, ale musíme zaúčtovat na účet 384 – Výnos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po poskytnutí služby přeúčtujeme na účet 602 – Tržby za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přijala v prosinci 2012 nájemné za pronájem garáže v roce 2013, a to ve výši Kč 60 000,-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2 (31.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příjem nájemného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221 / 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roce 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rozpuštění časového rozli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výnosů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60 000,-          384 / 6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5 - Příjmy příštích obdob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tento účet účtujeme tehdy jestliže jsme poskytli službu v tomto účetním období, která nebyla inkasována ani zúčtována přímo na účtech pohledáv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íklad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jemné, které nám bude hrazeno pozad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rovedené a dosud nevyúčtované práce, výnosové provize 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žbu, kterou poskytneme v tomto účetním období zaúčtujeme na účet 602 – Tržby za služby, ale jelikož se nejedná o příjem v tomto roce, tak musíme zaúčtovat na účet  385 – Příjmy příštích obdob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štím období, po přijetí částky přeúčtujeme např. na úč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21 – Bankovní úč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859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tní jednotka v tomto roce pronajala budovu. Nájemné ve    výši Kč 60 000,- ji bude uhrazeno až v příštím roce ( v tomto  roce nebylo vyfakturováno ani inkasován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ÚD, předpis nájemného za tento rok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385 / 6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BÚ, příjem nájemného za minul. ro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60 000,-   221 / 3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světlete kdy účtuje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jm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aje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nos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41:34Z</dcterms:modified>
  <cp:revision>16</cp:revision>
  <dc:subject/>
  <dc:title>Časové rozlišení nákladů a výnosů</dc:title>
</cp:coreProperties>
</file>