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B96D-CE8C-49B4-916A-229F402808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1FC3-8244-4BA4-810A-D68B7170FB4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F198-A3DA-4D2B-966B-7AE1C2418D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460F-15CF-4901-B693-703FE862F035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AC90-6067-4738-92D8-6BE87AD510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AF86-D515-47B4-9D73-FFD204B79C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54AA-F97E-453A-80FB-C22A6D6A41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BE5B-0C1E-4F31-B30B-11234C5863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0BE9-629B-4D8D-BD9C-4466379B7C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F3A5-1A73-43DC-BBB1-FDE78C3F8B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6546-8C61-4340-9A28-DFB2F771334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FE2-B19A-4C0E-A63A-44D01ED57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1C20-F5D6-4067-A5B7-F34858F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9AA-B569-4AB1-85D2-36C010DB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725-11F2-4E9F-B746-92670AAA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334E-438E-4C4D-9F79-4266191B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9FD1-E583-43F6-9D5D-ACC18CEE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3EB7-1EF2-43A2-8215-C4A8DD3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A964-A945-42D5-838D-FB22E9C7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A2C0-43AC-4AC6-94CA-94BAC99F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532F-5C9A-49EE-A024-105F6DF8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10F6-8D85-4428-860C-F5C96326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771-4EC1-4351-9C20-650883E1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392A-19FD-47EC-990C-471DE019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22CC4-94CB-421F-93AB-AD94FF27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CC97-4C33-41F8-A3A4-B89A7614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D6E8-1764-4393-AFE5-15A05A84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598F-1EA6-4F4B-B435-1AD3A22E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9D642F-9FF4-4672-A566-5DD6D653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51600-66CB-436F-92FC-2AFCED95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ABBE18-7FDB-4D78-ABEA-079C4E55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FABB6-51A6-403A-9B5F-070EB119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4C60D-6247-43D2-88EB-FB4B93418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5F9-AFB0-458D-A79F-57586153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61B76-F849-449C-8DE4-48DC4D15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4CD324-4227-47B0-8D8F-19D0DECF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47C9F-0CC4-46DB-A68E-F8546589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52154-2532-46A8-8980-C2F55700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1E7730-3E73-47B5-B9A0-93A281DE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672E0-6C93-4E86-BCEB-DAF3ECAA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784EA-4BBA-4C5D-B559-D0AA8B99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173-D76F-4AF3-BB4D-17A89EFB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D64-7F81-4FA1-906D-E0D803EF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6D4A-8848-4A42-B755-C6213BC6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1DD-4EB0-4309-B0F3-537393A1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C8D-5D45-47EA-BF20-2B50AC56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BB0-1F60-4E0F-BDAB-3E32DE59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F2F0-039F-4DAC-B399-BA01C11D291F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A0FD-3BB0-456E-B2A6-03DBB1AA3741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1454-7C64-4141-AB79-88C0ED14FE1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odpisy pohledá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ňově účinný a neúčinný odp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99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Odpisy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y odepisují pohledávky, které jsou tzv. nedobytné (tzn. že se jedná o trvalé snížení hodnoty pohledáv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odpisování pohledávek musíme rozlišovat zda tento odpis je daňově účinný či naopak daňově neúčinn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rázově lze (dle zákona o dani z příjmů) zahrnou do daňových nákladů hodnotu pohledávky za dlužníkem v těchto případec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oud zrušil konkurz z důvodu nedostatku majetku dlužní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je v úpadku nebo mu úpadek hrozí na základě výsledků insolventního říze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užník zemřel a pohledávka nemohla být uspokojena ani vymáháním na jeho dědicí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ávnická osoba zanikla bez právního nástup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aňově neúčinný odpis pohledáve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se může rozhodnout odepsat pohledávku, a to např. v případě, kdy je zřejmé, že náklady na vymáhání přesáhnou výtěžek z této pohledávk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dpis této pohledávky bude daňově neúčinný a bude zvyšovat vyměřovací základ pro výpočet daně z příjmů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Příklad účtová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 jednotka měla pohledávku po splatnosti za odběratelem, a to ve výši 575,-- Kč. Účetní jednotka se rozhodla, že tuto pohledávku jednorázově odepíše a nebude vymáhat tuto částku soudní cest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000000"/>
                </a:solidFill>
                <a:uFillTx/>
                <a:latin typeface="Arial"/>
              </a:rPr>
              <a:t>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FaV – Prodej zbož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311/6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úD – Odpis pohledávk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46/3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případě, že dlužník tuto částku dodatečně uhradí zaúčtujeme následovně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bú – Úhrada odepsané pohledáv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75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21/6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5:50Z</dcterms:modified>
  <cp:revision>15</cp:revision>
  <dc:subject/>
  <dc:title>Dohadné položky</dc:title>
</cp:coreProperties>
</file>