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2DB9-FCFA-4B4A-9156-751D9331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ADBF-9895-475A-A91C-F116AD6A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D626-AD8B-4CDF-8CC4-B7F47A4C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C974-1B71-45EF-B468-476407AF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0263-7067-4873-BDB5-338F1F3B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752B-D666-4549-8B18-9213A5E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9010-C5CA-4662-9D8B-99DFC4F3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73B6-1ACC-4588-B45B-8EAD6222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9262-1D2C-4A4A-B90F-CF4A53E2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666C-846E-4BE7-9C2F-25FDA6E9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ED0C-CBD0-41AD-A00B-C9A4470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13B8-9BC8-4FBD-8913-9F530C99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3DAE-3E0E-4DF8-A329-2E50CED9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C84C-9E4E-409B-9EF7-194062E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50C7-7139-4605-A98D-C30ACD9E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E4B-31E9-42CB-A486-7350116C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4C57-238C-4919-A1A7-C0C1CB7D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0C3A-4A03-43AB-96B3-163295AC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AF8D-1A20-4FCC-9BD3-41F44CE0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B1DA-9011-496D-9505-F4C0446E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1A67-0292-4802-923B-5D47DDAB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3743-FE36-4B90-8AFA-C87D10B2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EB51-71C6-41E1-9F85-EA3D59B6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1CBF-DF7D-453E-88B2-C432D9A5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E14F-6FA6-4FF7-843B-C9DC154C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F270-69A6-4624-B9CD-F3662E85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44D3-696A-4DBD-9D12-C4180B9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3B9E-621C-4EFD-A556-A23086AA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A8A7-BE75-45D1-AD61-D5CDD73E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289C-E6D5-4527-B4C7-A2BAE74C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8ABF-4919-468A-A9D0-5CDABC5E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CD0A-7CB3-4DCE-A215-7A011170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E699-A5F0-4514-AF8C-69B69D11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3766-39C7-43AB-AC68-89A9D253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D359-4F9A-4E04-BF0B-B66564B2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86CA-36C8-410E-886E-248A3CD7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0336-4B70-4ADD-B5F5-1123618FEFE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A54-17FB-45B1-9DD8-3AD8E0D5433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8067-B232-4F59-B7E7-022F1FE9CF0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9640" y="4581360"/>
          <a:ext cx="7561440" cy="1517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ová měna odvozená ze čtyř světových mě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 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větová banka ( World Bank Group) je zastřešující organizací pěti institu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ním orgánem skupiny Rada guvernérů, zastoupeny všechny členské stá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, předsedou prezident SB, vždy Američ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 nejvýznamnější publikace  patří každoročně vydávaná Zpráva o rozvoji svě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Washingto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banka pro obnovu a rozvoj  IBR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    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ůjčuje peníze zemím středně rozvinutým a rozvojovým za podmínek výhodnějších než na komerčních trz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 oblasti, na které se zaměřuje, jsou rozvoj hospodářské infrastruktury, jako například silnice, doly, továrny či elektrárny a přehr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spolupráci se soukromým sektorem a poskytuje levné úvěry na komerční projekty (většinou nadnárodním společnost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ezúročné půjčky vládám těch nejchudších zemí na odstraňování chudoby či programy udržitelného rozvoj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39640" y="1700280"/>
          <a:ext cx="8229600" cy="422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 a jejich výz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měnový fond, Skupina Světové banky, další mezinárodní ban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na starosti vytváření příznivých podmínek pro zahraniční investice v rozvojových zem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 Multilaterální agentura pro garanci investic M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nekomerční pojištění firmám, které podnikají v rozvojových zemích a mají strach z politických a jiných faktorů, které by mohly ovlivnit návratnost jejich inve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řešení sporů vzniklých v oblasti invest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pro mezinárodní platby - B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organizace pro podporu mezinárodní měnové a finanční spoluprác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pro centrální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Basilej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investiční banka EI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louhodobých půjček na kapitálové investice subjektům ze soukromého i veřejného sektoru, včetně ban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zce spolupracuje s orgány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Lucemburs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zemí eurozó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1. 1.  1999  odpovídá za provádění měnové politiky v eurozó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Frankfurtu nad Mohan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cenová stabil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CB je nezávislá na ostatních instituc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banka pro obnovu a rozvoj - EBR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 roce 199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Londý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máhá zemím střední a východní Evropy při budování tržního hospodářství a demokrac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Rozvojová banka Rady Evropy - CE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spívá na rozvoj sociálních investičních program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 půjčky členským zemím nebo finančním institucím schváleným vládam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 Paříž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banka hospodářské spolupráce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6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devět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ffff"/>
                </a:solidFill>
                <a:latin typeface="Arial"/>
              </a:rPr>
              <a:t>Mezinárodní finanční instituce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investiční banka - MI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7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osm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Jaký význam má MM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Jaký význam má Světová banka 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ČR  je členem mezinárodních finančních institucí. O jaké se jedn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Jaká je úloha mezinárodních finančních institucí v hospodářské kriz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Mezin%C3%A1rodn%C3%AD_m%C4%9Bnov%C3%BD_f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Sv%C4%9Btov%C3%A1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Banka_pro_mezin%C3%A1rodn%C3%AD_plat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investi%C4%8D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centr%C3%A1l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banka_pro_obnovu_a_rozvo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ceb.html http://www.mfcr.cz/cps/rde/xchg/mfcr/xsl/mfo_mb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mib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fond – IMF (International Monetary Fund)  začal finanční činnost v březnu 1947 a stal se přidruženou organizací OS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znikl na základě potřeby vytvořit poválečný světový ekonomický systém - podpora vzájemného obchodu, směnitelnost měn a rozvoj válkou zničených ekonom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sou základní listinou  a zahrnují tyto cí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u měnové kooperace prostřednictvím spolupráce a konzulta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né odstraňování devizových ome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evizových úvěrů k vyrovnání dočasných obtíží členských zem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lavní orgány IMF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guvernér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a finanční výb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daje o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IMF ve Washington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člen přispívá do společné pokladny  finančním obnos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5 % příspěvku ve své vlastní měně a zbytek  v podobě SD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9:28:10Z</dcterms:created>
  <dc:creator>Marek</dc:creator>
  <dc:description/>
  <dc:language>en-US</dc:language>
  <cp:lastModifiedBy>Igor</cp:lastModifiedBy>
  <dcterms:modified xsi:type="dcterms:W3CDTF">2014-09-13T14:45:03Z</dcterms:modified>
  <cp:revision>26</cp:revision>
  <dc:subject/>
  <dc:title>Mezinárodní finanční instituce</dc:title>
</cp:coreProperties>
</file>