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CF5F-FACE-4CE1-A473-764DA5D9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6CC76-DC03-4344-98D8-FBB07450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C40C8-5FEE-44AC-9660-CCA8F12E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F58C5-A1CB-4E52-AB1A-03BFAC1C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4707-43CD-4B80-AD41-607CA254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070E-0A00-4BB0-B641-A1944E4D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C303-D1A3-4AF3-9A0D-E45F5BFF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4233-B5E7-446A-9847-7F32EC99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D600-09D2-41AE-9039-20A0FFC4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FBA5-955A-4711-AD1F-C67F0575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BE0C-2979-4BCC-BB31-AF64C26C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90EE-24FC-4551-8624-477950CA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14DE-EFA5-4CD6-9C3B-5BE52CF5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4DAD-A386-4BFC-AFE4-AAE03626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15E4-8CF4-4B7B-AABB-E2EAE58E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6BD8-1AB5-4FD3-9C37-C72ABCF7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8623-7FC4-4C37-87D6-24FF1649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04BAA-59B7-4A1C-A76C-5E3C69AF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323D2-BAC5-4C94-A638-F8E64D62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92A84-496D-4FBA-9E70-F56E57A5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E96F1-D978-443E-9ECF-278DE58E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4A475-6B65-406B-9B8F-22E674BA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95D1-BF11-46C8-9EFE-C3DCB814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BEEA2-CC8E-41AF-83EF-8E0A89F2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21813-B7DA-4DDF-BE1A-3F637179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5EC4F-57CA-4BE3-8320-D7C7EF77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EB634-E23F-4056-9126-9B43840D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69D86-2E16-4123-A980-03366C97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C1FA7-6BB0-42AA-85ED-8F07BEB8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D89FE-1240-4E2A-89B2-992B792A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346EA-AD06-428E-9BF7-62490927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41010-C6F4-4562-BBD2-F4F35FA3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C9DE-701C-4C1E-BEA5-9217075C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DE74-CB68-49A4-95E9-69687E98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1168-7C0B-40EF-AA42-22F69D20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84ACB-8CF8-44EC-B706-28E551E3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109F-D537-4DC2-8B19-7C66F8A4763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00F2-3745-4418-8762-EFC4B6CDACC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A5F1-4C2A-4522-A312-E240AB60903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11280" y="3860640"/>
          <a:ext cx="7561080" cy="4255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11280" y="4500720"/>
          <a:ext cx="7561080" cy="1554120"/>
        </p:xfrm>
        <a:graphic>
          <a:graphicData uri="http://schemas.openxmlformats.org/drawingml/2006/table">
            <a:tbl>
              <a:tblPr/>
              <a:tblGrid>
                <a:gridCol w="3456000"/>
                <a:gridCol w="410508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erace na volném trhu –repooprace, od bank přebytečné peníze, za ně cenné papíry (kolaterál), po uplynutí dohodnuté doby odkoupí ČNB cenné papíry zpět i s úrokem, 2 T reposaz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utomatické facelity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pozitní facilita -  možnost bank uložit přes noc u ČNB  svou přebytečnou likviditu Minimum 10 mil. Kč, depozita úročená diskontní sazb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Marginální zápůjční facilita  - možnost bankám vypůjčit si přes noc od ČNB formou repo operace likviditu. Minimální objem je 10 mil. Kč, úročeno lombardní sazbou ( nevyužívá 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vinné minimální  rezervy – banky mají  uloženy u ČNB 2 % (ze závazků kratších než 2 roky, tj. z vkladů klientů), slouží pro plynulý bankovní sty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bankovním sektorem, kapitálovým trhem, pojišťovnictvím a penzijním připojištěním, družstevními záložnami, směnárnami a dohled nad institucemi elektronických peněz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699920"/>
            <a:ext cx="7010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děluje lic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tření k nápr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stranění nedostatk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měna osob ve vedení a dozorčí rad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í nebo zákaz některých čin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699920"/>
            <a:ext cx="7010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tření k nápr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imořádný au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uta až 50 mil.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nížení základního kapitá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ucená sprá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nětí lic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NB stanoví pravidla, která chrání stabilitu celého finančního trh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grace dohledu do jedné instituce (ČNB) od 1. 4.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í stížnosti na finanční instit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ídá dodržování zákazu nekalých obchodních praktik, zákazu diskriminace spotřebitele a dohled nad řádným informováním o cen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68360" y="1916280"/>
          <a:ext cx="8229600" cy="4168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eská národní ban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ČNB, její funkce a úko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eská národní banka, měnová politika, dohled nad finančním trhem, emise oběživa a peněžní oběh, devizový dohled, banka státu, platební styk a zúčtování ban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bor ochrany spotřebit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ůže rozhodnout o náhradě, zrušení smlouv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ůže rozhodnout o porušení zákona (sankce pro finanční instituci), což je pro klienta důkaz pro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centrální registr úvěrů – úvěrové závazky podnikatelů (fyzických a právnických osob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častníkem všechny tuzemské banky a pobočky zahraničních bank na území Č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nopolní právo vydávat bankovky a mince včetně mincí pamětníc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bá o plynulý a hospodárný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avuje zásoby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huje z oběhu a ničí opotřebované peníze a poškozené vyměňuje za nov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jišťuje technickou a uměleckou přípravu platidel, jejich výrobu a dod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ílí se na přípravě právní a technické ochrany platidel proti padělání a na její realizac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uzuje a eviduje všechny peníze zadržené pro podezření z paděl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áva devizových rezerv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erace na devizovém trhu (devizové interven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regul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kupuje a prodává cizí měnu, tím ovlivňuje její kur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noví pravidla provádění platebního sty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avidla pro vydávání a užívání elektronických platebních prostředků  a pro bezpečné fungování platebních systém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ozuje systém mezibankovního platebního styku CERTIS (zúčtovací = clearingové centru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účty a poskytuje služby platebního styku zejména státu a banká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státu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bankovní služby pro stát a veřejný sek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účty organizacím napojeným na státní rozpočet (ČSSZ, ÚP, celní úřady, státní fondy) a rozpočet Evropských společenství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státu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í operace spojené se státními cennými papí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 oblasti měnové politiky reprezentantem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stupuje stát na jednání MMF a Světové 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Česká národní banka</a:t>
            </a:r>
            <a:r>
              <a:rPr b="0" lang="cs-CZ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ladní údaje o b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ová polit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Platební styk a zúčtování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Banka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Stížnosti na finanční instit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9. Zjistěte aktuální úrokové sazba stanovené ČN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o_cnb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menova_politik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financni_stabilit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dohled_financni_trh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platidl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platebni_sty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financni_trhy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dohled_financni_trh/vykon_dohled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trální bankou Č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on o ČN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itická nezávislost ČNB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istence zakotvena v úst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jvyšším řídícím orgánem  bankovní rada, v čele guverné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leny bankovní rady  jmenuje a odvolává prezident republi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rada předkládá poslanecké sněmovně Zprávu o inflaci (4 x ročně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formuje veřejnost o své činnosti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veřejnoprávní subjekt se sídlem v Pra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bočky: Praha, Ústí nad Labem, Plzeň, České Budějovice, Hradec Králové, Brno, Ostr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petence správního úřad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spodaří samostatně s majetkem svěřeným stá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 její činnosti lze zasahovat pouze na základě zák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smí přijímat pokyny od vlá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íle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m cílem je péče o cenovou stabilitu k vytváření podmínek pro udržitelný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spodářský rů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ora obecné hospodářské politiky vlády, pokud není v rozporu  s cílem hlavní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souladu s hlavním cílem tyto úkol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ová polit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55:44Z</dcterms:created>
  <dc:creator>Marek</dc:creator>
  <dc:description/>
  <dc:language>en-US</dc:language>
  <cp:lastModifiedBy>Igor</cp:lastModifiedBy>
  <dcterms:modified xsi:type="dcterms:W3CDTF">2014-09-13T14:42:14Z</dcterms:modified>
  <cp:revision>34</cp:revision>
  <dc:subject/>
  <dc:title>Česká národní banka</dc:title>
</cp:coreProperties>
</file>