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FE3-B3E7-4A75-B245-EE575753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A61-F7C5-4FB3-8722-3B67B584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189-77AE-43B4-9A62-7DBFE941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8C8-612E-4155-97ED-5736B70F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A204-D9C6-49E9-9E94-F0114D26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14CD-DAA1-4FD5-97C6-AC30AC23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4AA8-B6EB-43A9-99E4-BC3B7D58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D8EC-21AF-4A46-B414-DC0AC6F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2456-E5CC-444D-A904-3AD40D37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804-782C-4FAB-B468-1BF7C065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100D-E60B-44D6-969D-B3937771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24B-AA60-453C-A201-34AF6C4C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70A8-3953-4BB7-B883-F77369E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B4A9-9F13-4287-881C-631528A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5C74-8263-412C-AF4A-6114B495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3C70-BF35-4509-9A08-6BDF5951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5893-8C24-4F67-9365-8279857C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145C-B834-4D16-A74A-4D8AF4C9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A6BD-9D54-49AF-AE2A-DEE1CC6F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1110-5444-4B44-A2D3-FD5C746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B3E8-7600-4A4D-9B56-8EB08E4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7E95D-4350-4281-AFD5-FEF8C588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D13-55C5-4D43-B462-7D3FA5A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3744-21DE-49B1-81BD-68D62302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5692-F294-4159-B653-0F4289C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1893-812D-4CD6-A7E4-FE8C887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7601-7908-4386-B149-AFBBA2CC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FA62-55F8-4485-B7B1-CDD004E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5677-0FDF-4CEE-BF44-2FB8A688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4C68-D81B-4B65-8594-52567365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7FE4C-C485-4176-AE5F-E6D541C2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107B-CCB1-4ED8-976F-E0892F01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6E1A-1154-42F9-8480-37D452DA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B09-373A-4282-94CE-CF88D3B6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B04C-9F95-4F4A-A935-EEDD5C3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74D4-FE0C-49C4-97FA-A88636F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EC2D3-B204-4719-8D20-98ADC9B8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16B6-8170-45B1-9496-C4FCBA4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0141-3070-4259-A8F8-53E781B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AC989-ECD3-46EA-A7ED-C1103FC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C13A-A074-4EC3-9431-F7A4920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75FB-E129-4048-BD0D-45F779B1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1064-5C77-4B82-A1BA-BC74DFE5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59573-9DB5-42F4-9080-DAABC38A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9C7-881E-4137-8EB1-57E25C84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DDECD-827A-401B-A2B1-0EC9E66E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0510-0EDA-4D16-9B70-0C27AB3C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BC5C-82D2-4CBE-A3AC-126663CF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E988-1338-48D2-B5FE-043B35D7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EBC1-4EF7-428B-A447-A4AB151D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F728-422A-4BEA-9F75-68D1B53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F07A-5DAD-45B6-ABA6-06E379E1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E3EE-4573-41EA-B406-6232C9A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EE97-8731-4D7C-B2B3-F4AC539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43A9-ACEB-4E89-B65D-8BCD105E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805-31A6-4E1F-82CD-B2110524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2FD5-36FB-48C3-8DEE-80390684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39A7B-3CDA-4ADA-9DEF-16D1D1F0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83F9-5173-46FC-BBB1-6D2ADB2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439B-947D-4AF9-B572-B076B3BC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16951-D0C3-4A8B-B317-8CB22D74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0FF6-3E17-4239-9BF9-896503F3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9A0CB-70D6-43FA-BBA4-1DD6214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F198-0159-429C-921F-BB85EFB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FF0E-5BCB-4FD6-A12F-3654C96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6492-B1CB-48EE-92CE-0295097D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9FA-3EE4-4064-9801-CF7E2D7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12456-F7DA-4B4C-BF53-2632C91D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1338-5608-48FA-B2F4-733EF780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A627-817B-4F54-82D6-D4250833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CE2C3-C475-413A-8227-FEC76AD6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FFF5F-695F-4EFB-A537-7FDA4D82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5D37-0121-4F68-B3C0-29D1E22D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5C9D-2581-4C29-A536-E3E03FA3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381CD-4FA0-405B-A57F-B18E910A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7C26-FD2E-4887-9789-90386DFB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5B86D-2AF0-40D0-B5DB-778CC55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E23-4D5B-4454-BB2C-81B9F80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9F04E-8074-48F3-AA6D-ED5B52E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AB954-83DB-457D-A84A-88307ECD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480E-11C9-4B5D-BF93-E928696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3895A-C0A9-4863-A39B-496FEA95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A048-9F96-4611-9970-4D57DD5E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8FB5E-872D-455A-A848-4CD5732D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A85F-5D74-402B-9F11-DD15AE1C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97C3C-8951-48B0-AA50-D77B059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A0E9-8306-4EBE-B03E-3654C21F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50B3-1ED0-42EF-ABBE-AF22E8BF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260-E84F-4ED5-AF1E-966E9CA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F2D9E-431A-4C22-B3E3-2F3862EA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57E6-8FBC-4A95-BB48-E9E5897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49AE-FE1E-4231-8221-C9CE584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42571-7CFE-4090-AF79-88CFF3D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E2481-1EFE-44E2-9DF4-F16EED1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E3566-291B-4875-A767-83107AE1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2367-CCF1-4049-B2E6-8BF1B5D1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448C-8B84-4FB2-8C02-42775FB23C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874-B64E-4D54-96BD-15A607A072CC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C54C-1E26-467D-82E6-08DD1C5F41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BF3-888E-4232-AC4B-03B03871403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3C7-D5B4-4AF9-B6A3-8D0CABFEF8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C16F-2909-41A4-A9C3-7BEB2AABD5B3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74B1-D3C1-4447-9461-09AB1E0FAB28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D7C4-5A66-49BC-B4F3-8561542EAA6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remix.nicm.cz/wp-content/uploads/2010/11/POuk%C3%A1zka-C.jpg"/>
          <p:cNvPicPr/>
          <p:nvPr/>
        </p:nvPicPr>
        <p:blipFill>
          <a:blip r:embed="rId2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gor</cp:lastModifiedBy>
  <dcterms:modified xsi:type="dcterms:W3CDTF">2014-09-13T14:44:22Z</dcterms:modified>
  <cp:revision>34</cp:revision>
  <dc:subject/>
  <dc:title>Poštovní poukázky (složenky)</dc:title>
</cp:coreProperties>
</file>