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jpeg" ContentType="image/jpeg"/>
  <Override PartName="/ppt/media/image26.png" ContentType="image/png"/>
  <Override PartName="/ppt/media/image1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4C22-3C9C-4A86-B1DF-92302EE37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9CB3-6E00-4C52-8FD1-32A9DA10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B187-E5D8-40AD-80E9-9721D6340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0B45-23CE-4709-8845-A60B3C8AE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E1C4-4A6F-4098-AC40-C419BA19C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D5F6-7277-409C-8400-B5C8B5FC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C7A2-1A95-4006-B738-14E38B7E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EB10-69F2-47FD-864F-7D3C32C4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0453-FA8B-432B-B101-F46211B0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18EF-FC7D-4683-BB68-95F48A36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072D-1DFA-4606-9F99-38BDE696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64C8-E01B-49DD-9485-DA3252CC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D3B8-C150-4E59-970B-F38020DA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DA83-202C-4EDA-B54C-86415B65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A6C7-1C89-4673-A942-574A3864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D92F-F976-4F79-8BCF-F64846743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DDFD-F0D6-439A-94A0-B9EE61940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B93EF-AC4A-4C51-84EE-E3125CD86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F82D5-FCB1-416C-A7D8-5401E0EE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9AA1F-4B4A-4CFA-87BE-F859E3EA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A60E6-38BA-4D27-A30B-984EC8AE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2371E-386A-4ECB-8547-08DC4E1E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BCB0-E770-42A2-B503-36E1D9A0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3E3D5-B5F2-4FC3-9AB8-95C9D947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2DFB6-7C0F-4D5A-8B96-1F188AA2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570EB-2776-49B5-8058-233CF79A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95B70-4A73-4F1C-A3D1-FF8C7C30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790E0-8009-427D-9376-C076E45C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D21FB-9030-46B9-ABFB-F04FD42D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B2AE3-D1D6-43DD-8AFB-F7A3B2701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9D6EF-3AB2-4CB0-81B2-4DCB25BF7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FFC62-D411-4398-99DE-F8178AA2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EAD07-7D9D-456F-84D8-03343D14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3525-04AB-4227-B76F-08321470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ACC2D-12AB-44EE-B996-4F44C184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8A8AB-05EE-4EB8-B565-801B2752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8617C-9391-4868-A407-9E809E71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D38E8-649A-4873-8B20-2D66C7B8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5367B-8403-442D-9716-FFF50434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0C9FF-B829-439E-A5D8-E7B316A9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3AFC3-DAAF-454C-9465-ECFB4D94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98206-E188-48DB-943E-5803ADBD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1A014-C04B-472B-818D-D173445C6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DC37A-90D3-4402-957A-E2213057B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197D-178F-455B-A685-B3C8F870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89D57-827F-42C1-BD25-918156D2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EB873-81C1-4AB4-A10E-59A1121D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AF377-FE36-426D-A530-9FEDC7D6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4DAFD-EE7B-44D7-B564-C609ADDF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82033-DF77-4696-B90E-A909A4A6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CC178-900C-436C-A2F2-979DA47B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ADB84-E0F1-4EDA-B394-3FFC1A5F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9F3AC-D003-40EE-872A-15589730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5E551-B19F-458E-9C34-7D00B72D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D61E9-1385-4B10-892D-86D445FDE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5D01-AD2E-40E3-B021-E126D4E4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0422A-FA89-49B1-A71A-36407831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80150-28D8-42B0-A5DA-611C7C027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2D62B-469A-49E8-9DC7-D8C23C4D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B5201-1C93-408A-A77C-1E19DBB7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B3670-EFA5-4F98-8EFD-F8C2F765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4F680-A908-4628-9A02-32EA9BC9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469E0-207C-4D8A-B42B-9E884B5F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331ED-D922-46A0-9191-BEB37D4E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E027E-5DB3-42D0-BC61-845416D2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29265-00CE-45EE-922C-6521229E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17D5-2528-410C-8694-DCCC82F1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C35FF-050F-4934-A7D3-13903EAD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C920E-F2F3-406B-98E7-360C78A9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43DBD-8639-4276-AE99-FE3714D52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98942-D5FD-4E65-AC24-49425DD1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D48DC-3AC1-42B6-9012-E505440B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D2841-9395-426B-91C2-B48733C5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2386E-E6E6-4962-8AFD-8DAB96FB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48EB3-19C8-414D-8A43-08AE54EE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C4F4A-14A3-43A0-AEC4-5AE56758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C7635-05EC-4E87-820E-76B8210D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3C47-05E8-4FF7-B578-5EEAD862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2BDA6-2360-449D-9D6B-ADD1EC26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B5FC7-F964-47FE-87C4-1260CD07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9BFE6-30B3-40F0-88AF-4F892B0D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7FC94-B1BD-4333-9D71-BC5227271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54BA3-564A-4B6D-8964-647B7EB9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D808A-B203-4076-879D-8DC07A65C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5BAC3-1FAF-4AD1-BA4E-CA3F5359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745EF-EDE9-4292-AEDD-96096A32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8F7E9-1601-4E5D-BD1B-2D8707E3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FBF55-4700-46B1-98A6-BEA45A56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A722-E004-46E0-A7F2-F3010212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70F14-66DB-4CC2-93B7-E13F8430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0E71B-0902-4022-B250-7F363DE5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A414D-DCAA-4DB2-98D3-8313A596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6D865-1374-45DD-9165-E07BC1B4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E1AEA-285A-4002-B1B0-783196C1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79C0A-7860-42FE-BFD9-55EAFF71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0152A-BCB5-46CC-98D9-8ECCEEB8E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8BB1-1609-43AC-BF14-DDD7A39F452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Rovnoramenný trojúhelník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79B6-6B6A-4DC8-8F61-7C39E6C36AE4}" type="slidenum">
              <a:rPr b="0" lang="cs-CZ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9BDA-6603-4899-BF1F-BD6888A76EF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ravoúhlý trojúhelník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Rovnoramenný trojúhelník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římá spojnice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římá spojnice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BD40-0069-4293-9B1B-640D44BB6877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8B29-84AE-4362-A74E-6F89FFDDAD3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9E40-044D-4C10-B4DD-90EE49D00683}" type="slidenum"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9C8F-F94F-4C0C-AAF6-3B3F3E317805}" type="slidenum">
              <a:rPr b="0" lang="cs-CZ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520D-5C10-4BEE-A5B2-6B545FE203AE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ceskaposta.cz/cz/sluzby/penezni-sluzby/cr/postovni-poukazka-a-id254/" TargetMode="External"/><Relationship Id="rId2" Type="http://schemas.openxmlformats.org/officeDocument/2006/relationships/hyperlink" Target="http://www.ceskaposta.cz/cz/sluzby/penezni-sluzby/cr/postovni-poukazka-b-id256/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2" descr=""/>
          <p:cNvPicPr/>
          <p:nvPr/>
        </p:nvPicPr>
        <p:blipFill>
          <a:blip r:embed="rId1"/>
          <a:stretch/>
        </p:blipFill>
        <p:spPr>
          <a:xfrm>
            <a:off x="0" y="2011320"/>
            <a:ext cx="9283680" cy="4444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"/>
          <p:cNvPicPr/>
          <p:nvPr/>
        </p:nvPicPr>
        <p:blipFill>
          <a:blip r:embed="rId2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7" name=""/>
          <p:cNvGraphicFramePr/>
          <p:nvPr/>
        </p:nvGraphicFramePr>
        <p:xfrm>
          <a:off x="539640" y="3573360"/>
          <a:ext cx="7561440" cy="50328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539640" y="4365720"/>
          <a:ext cx="7561440" cy="1662120"/>
        </p:xfrm>
        <a:graphic>
          <a:graphicData uri="http://schemas.openxmlformats.org/drawingml/2006/table">
            <a:tbl>
              <a:tblPr/>
              <a:tblGrid>
                <a:gridCol w="3456000"/>
                <a:gridCol w="41054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/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Nadpis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V. (variabilní) symbol</a:t>
            </a:r>
            <a:br>
              <a:rPr sz="3600"/>
            </a:b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S. (specifický) symbol</a:t>
            </a:r>
            <a:br>
              <a:rPr sz="3600"/>
            </a:b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K. (konstantní) symbol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okud uváděny, vyplňují se zprava. Prázdná okénka  možno doplnit nulami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úhrada poukázané částky 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- bezhotovostně z bankovního účtu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ýplata poukázané částky - 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úhrada poukázané částky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- 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ýplata poukázané částky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- 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" descr="http://remix.nicm.cz/wp-content/uploads/2010/11/POuk%C3%A1zka-C.jpg"/>
          <p:cNvPicPr/>
          <p:nvPr/>
        </p:nvPicPr>
        <p:blipFill>
          <a:blip r:embed="rId3"/>
          <a:stretch/>
        </p:blipFill>
        <p:spPr>
          <a:xfrm>
            <a:off x="1187280" y="2781360"/>
            <a:ext cx="6651720" cy="29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úhrada poukázané částky 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-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výplata poukázané částky - 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 hotovosti ve lhůtě jednoho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racovního dne ode dne podání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soustředěné inkaso plateb obyvatelstv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inkasování plateb obyvatelstva ve prospěch PO a dalších osob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edtištěný platební dokla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každý plátce – osobní spojovací číslo (žádost na poště)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jemné, energie, TV, rozhlas apod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arianta i pro podniky a bank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hotově na pošt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hotově u poštovního doručovatel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jednorázovým příkazem k úhradě z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trvalým příkazem k úhradě z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rychlá  hotovostní platb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ro zákazníky e – shopů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zákazník  předá obsluze vygenerovaný čárový kód a částku platb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obdrží  potvrzení o zaplacení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stroj zahraničního platebního styk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evod hotovostních peněz na účet v zahraničí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0" name=""/>
          <p:cNvGraphicFramePr/>
          <p:nvPr/>
        </p:nvGraphicFramePr>
        <p:xfrm>
          <a:off x="457200" y="1905120"/>
          <a:ext cx="8229600" cy="4152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štovní peněžní služb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ientace v poštovních peněžních službách, vyplnění poukáze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štovní poukázka, variabilní, specifické a konstantní symboly, SIPO, super CASH, Western Union, EUROGI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stroj zahraničního platebního styk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úhrada poukázané částky hotov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ýplata poukázané částky hotov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expresní zasílání peněz v hotovosti po celém svět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íjem a výplata peněz v ČR v Kč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íjem a výplata peněz v zahraničí v místní měně, příp. USD, EUR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služba Poštovní spořiteln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stroj zahraničního platebního styk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úhrada poukázané částky hotově nebo bezhotovostně pro majitele běžného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úhrada vyplacené částky hotově nebo bezhotovostně pro majitele běžného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ariabilní symbol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– identifikace plátc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číslo faktury, rodné číslo fyzické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osoby, IČO právnické osoby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Specifický symbol </a:t>
            </a: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–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dodatečný symbol identifikující např. jednotlivé měsíce u plateb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Konstantní symbol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–určuje charakter služby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1. Vyplňte podle návodu poštovní poukázku typu A a C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2</a:t>
            </a: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.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Jakým typem poštovní poukázky zaplatíte např. zálohy na elektřinu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3. Jakým typem naopak dostanete přeplatek za elektřinu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4. Zjistěte, jaký  konstantní symbol se používá pro platby služeb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5. Jaký je rozdíl mezi platbami zahraničními poštovními poukázkami a platbou přes Western Union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6. Jaký je rozdíl mezi platbou prostřednictvím zahraničních poštovních poukázek a službou EUROGIRO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7. Jaké jsou výhody platby přes superCASH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8. Kde kromě pošty můžete zaplatit v systému superCASH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Nadpis 1" descr=""/>
          <p:cNvPicPr/>
          <p:nvPr/>
        </p:nvPicPr>
        <p:blipFill>
          <a:blip r:embed="rId1"/>
          <a:stretch/>
        </p:blipFill>
        <p:spPr>
          <a:xfrm>
            <a:off x="542880" y="774720"/>
            <a:ext cx="8058240" cy="17604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9. Jak si zařídíte SIPO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10. Jak zařídíte platbu SIPO trvale z účtu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Zdroje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17bbfd"/>
                </a:solidFill>
                <a:uFillTx/>
                <a:latin typeface="Century Gothic"/>
                <a:hlinkClick r:id="rId1"/>
              </a:rPr>
              <a:t>http://www.ceskaposta.cz/cz/sluzby/penezni-sluzby/cr/postovni-poukazka-a-id254</a:t>
            </a: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http://www.ceskaposta.cz/cz/sluzby/penezni-sluzby/cr/postovni-poukazka-b-id256</a:t>
            </a: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cr/postovni-poukazka-c-id257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cr/postovni-poukazka-d-id258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cr/sipo-id259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postovni-poukazka-z-a-id260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postovni-poukazka-z-a-id260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western-union-id262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eurogiro-id263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úhrada poukázané částky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 -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hotově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ýplata poukázané částky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-bezhotovostně bance  na úče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539640" y="2173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7" name="Picture 4" descr="http://www.optys.cz/data/foto/-3/999-3_l.jpg"/>
          <p:cNvPicPr/>
          <p:nvPr/>
        </p:nvPicPr>
        <p:blipFill>
          <a:blip r:embed="rId2"/>
          <a:stretch/>
        </p:blipFill>
        <p:spPr>
          <a:xfrm>
            <a:off x="755640" y="2349360"/>
            <a:ext cx="76201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Nadpis 1" descr=""/>
          <p:cNvPicPr/>
          <p:nvPr/>
        </p:nvPicPr>
        <p:blipFill>
          <a:blip r:embed="rId1"/>
          <a:stretch/>
        </p:blipFill>
        <p:spPr>
          <a:xfrm>
            <a:off x="457200" y="4932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Částka Kč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yplňuje se zprava, prázdné místo před částkou se proškrtne dvojitou vodorovnou čarou.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údaji "haléře"  dvě nuly, příp.  zamezovky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Nadpis 1" descr=""/>
          <p:cNvPicPr/>
          <p:nvPr/>
        </p:nvPicPr>
        <p:blipFill>
          <a:blip r:embed="rId1"/>
          <a:stretch/>
        </p:blipFill>
        <p:spPr>
          <a:xfrm>
            <a:off x="457200" y="4932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e prospěch účtu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yplňuje se zprava. Číslo účtu se může skládat z předčíslí a hlavního čísla účtu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Nadpis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Kód banky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yplňuje se zprava.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Musí být vždy vyplněn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Nadpis 1" descr=""/>
          <p:cNvPicPr/>
          <p:nvPr/>
        </p:nvPicPr>
        <p:blipFill>
          <a:blip r:embed="rId1"/>
          <a:stretch/>
        </p:blipFill>
        <p:spPr>
          <a:xfrm>
            <a:off x="457200" y="92160"/>
            <a:ext cx="8229600" cy="18889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Odesílatel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a </a:t>
            </a: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Zpráva pro příjemce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hůlkovým písmem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gor</dc:creator>
  <dc:description/>
  <dc:language>en-US</dc:language>
  <cp:lastModifiedBy>Igor</cp:lastModifiedBy>
  <dcterms:modified xsi:type="dcterms:W3CDTF">2014-09-13T14:44:01Z</dcterms:modified>
  <cp:revision>34</cp:revision>
  <dc:subject/>
  <dc:title>Poštovní poukázky (složenky)</dc:title>
</cp:coreProperties>
</file>