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4DF9-40B7-470E-B354-AAB43E25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7D1F-81CF-4447-8DCA-CB9CDC20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25A-AE89-4E2E-8029-ABD71B44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D14-34DE-4C9E-890C-9F6232D6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BA8C-B48D-4E72-A201-A70FB97B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C404-DB3B-4371-8F13-5D823F93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0D87-439C-483D-9636-64487A40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2AB1-1CAC-40E0-8498-D4BA0C4F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38E9-6C38-4727-B194-3248E3CD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BD40-FDF5-4046-9643-5AD7AFB3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F8FF-A5BD-4D47-9149-9D218A1B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233F-E45C-4C9D-9394-0B11E11C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292D-1187-4CFB-80A1-53180519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6FA8-3E30-4940-B9F0-2B1A5838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6D2C-9210-44DF-8E5C-5B544E39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819D-83CF-4CB8-8C82-C48EF568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C50E-5B03-4F63-A548-096DA5EC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BB7A-44C4-45BE-BE07-6F46323A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9E4-3F81-422D-AF6F-0B9879AD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F342-8C37-4CF3-AE62-07C855FB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892B-E9BD-4F5B-B36A-9D4C4801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0DF2-859E-41BF-B780-D7A50CA4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055-73D4-4744-9D84-DBA95F20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F298-C875-452C-B67A-4283B3C4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7296-D085-41D7-BF87-02AB6795EBE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E900-A58E-4332-8629-519A65593BA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s.wikipedia.org/wiki/Konvertibilita_m&#283;ny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365720"/>
          <a:ext cx="7561440" cy="158904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Členění mě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konvertibilní měna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na platná  pouze na územ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ného státu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jí kurz je dán státní institucí, nesmí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e vyvážet ze zem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vláštní práva čerpání</a:t>
            </a: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SD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nová a účetní jednotka Mezinárodního měnového fond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mělá mě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šová měna odvozená  od průměrné hodnoty měn USA, Německa, Japonska, Francie a Velké Británie (EUR, USD, GBP, JP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vláštní práva čerpání</a:t>
            </a: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SD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ód XD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louží jako rezervní hotovostní fond, ze kterého mohou země čerpat v případě krize platební bila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vláštní práva čerpání</a:t>
            </a: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SD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ím větší jsou příspěvky jednotlivých zemí, tím více si pak v období tísně mohou půjčov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jem  poplatků se pro každý stát určuje na základě ekonomických ukazatel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Otázk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o je to likvidit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harakterizujte jednotlivé měnové agregát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veďte příklady konvertibilní a nekonvertibilní měn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do používá SD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 čeho vychází kurz SD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ŠVARCOVÁ, Jena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Ekonomie – stručný přehle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Zlín: Nakladatelství a vydavatelství 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ng.  Jena Švarcová , Ph. D., CEED, pro rok 2012/201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978-80-87301-16-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cs.wikipedia.org/wiki/Konvertibilita_m%C4%9B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ttp://cs.wikipedia.org/wiki/Zvláštní_práva_čerpá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905120"/>
          <a:ext cx="8229600" cy="3862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3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měny a základní členění mě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ěna, měnový agregát, nadnárodní a národní měna, zvláštní práva čerpá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cc"/>
                </a:solidFill>
                <a:latin typeface="Tahoma"/>
              </a:rPr>
              <a:t>Měna</a:t>
            </a:r>
            <a:r>
              <a:rPr b="0" lang="cs-CZ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ěn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krétní peněžní jednotka daného státu se označuje měn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ěnové agregá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rčité formy peněz mají určitou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ikviditu (jak rychle lze použít k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bě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likvidity se obecně dělí n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kupiny měnových agregá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ěnové agregá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1= hotovostní oběživ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2 = M1 + vklady na běžných účtech v banká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3= M2+ vklady v zahraničních měnách v domácích banká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ěnové agregá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4= M3 + vklady v nebankovních institucích v domácí měně + krátkodobé cenné papíry v domácí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5 = M4 +ostatní cenné papíry v domácí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Členění mě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cs-CZ" sz="4000" spc="-1" strike="noStrike">
                <a:solidFill>
                  <a:srgbClr val="ffffff"/>
                </a:solidFill>
                <a:latin typeface="Tahoma"/>
              </a:rPr>
              <a:t>Konvertibilní měna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měna směnitelná s ostatními měnami v určitém kurzu, kurz je dán poptávkou a nabídkou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Členění mě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) plně směnitelná (konvertibilní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na směnitelná všude na světě, nejsou překážky výměny (konverz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částečně směnitelná (vnitřně směnitelná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át stanoví omezující pravidla výměny své mě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07:20Z</dcterms:created>
  <dc:creator>kabek</dc:creator>
  <dc:description/>
  <dc:language>en-US</dc:language>
  <cp:lastModifiedBy>Igor</cp:lastModifiedBy>
  <dcterms:modified xsi:type="dcterms:W3CDTF">2014-09-13T14:44:34Z</dcterms:modified>
  <cp:revision>23</cp:revision>
  <dc:subject/>
  <dc:title>Peníze a měna</dc:title>
</cp:coreProperties>
</file>