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C13-6961-4D2B-8362-BAE2B3A2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EB2C-A718-414D-B563-BC5F4137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1CE-A42B-4CFC-A67E-8D2CB631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43F-E652-48E1-81F7-D947A753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B65B-B9A1-454C-8FB3-2AE0EBE8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BDA8-9E2A-4C28-B9A2-FC69B569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2E4A-F2C0-44D2-87BA-8355F16D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F157-C710-429E-BA94-97E78E23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64C6-128E-4EF0-BE71-D85AF962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BE39-9A3F-4442-9CCA-15DDF6DC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7BA0-E3AB-4AAD-ABBC-E69DAD32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3D6-E2FF-48E1-AF73-C45D4ED0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4BA4-953A-4D00-BFCF-611FE5D6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6AE7-1585-405D-898E-1500A404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B403-4DC9-4B1D-B8AF-58C912B2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669F-69DD-4DD0-9557-D228CE33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2FA0-D737-40CE-8E46-8ADC9C73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5C1-BDEC-4E5A-A7CB-836B1462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33E-24D6-4D5E-96C6-C31F7375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9CB-46F3-4883-9E76-3604E20E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173-8996-4B81-93D2-88C38605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9B9-8AFF-48C0-ACFC-6314537E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22E-B99D-4B6A-B9EE-1536110F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1A6-A189-4FF0-909E-91FAD51C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25D4-C945-4A9D-A544-3198B9817D4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88E9-D5C8-46F4-AAE7-95B0FF22439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221000"/>
          <a:ext cx="7561440" cy="1590840"/>
        </p:xfrm>
        <a:graphic>
          <a:graphicData uri="http://schemas.openxmlformats.org/drawingml/2006/table">
            <a:tbl>
              <a:tblPr/>
              <a:tblGrid>
                <a:gridCol w="3311640"/>
                <a:gridCol w="4249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evalvace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pokles (znehodnocení) kurzu domácí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evalvace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výšení kurzu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 jakého hlediska je sestaven kurzovní lístek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ý je rozdíl mezi valutou a devizo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pomoci kurzovního lístku vypočítejte přímý a nepřímý kurz Kč k EUR, USD a GBP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počítejte křížový kurz zahraničních měn z minulé otáz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Jak ovlivňuje Česká národní banka plovoucí kurz české korun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asopis Ekon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3686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rzy mě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cvik práce s kurzovním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ístk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rzovní lístek, deviza, valuta, typy kurz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ahoma"/>
              </a:rPr>
              <a:t>Kurzy mě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ímý kurz – počet peněžních jednotek měny domácí k jednotce měny zahraniční Př. 1 EUR = 26,-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přímý kurz - počet peněžních jednotek měny zahraniční k jednotce měny domácí Př. 1 Kč = 0, 038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řížový kurz  - kurz dvou zahraničních měn k sobě navzájem vypočítaný z kurzu třetí měny, např. kurz EUR k USD a naopak vypočítaný z kurzovního lístku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ovoucí kurz (floating) – kurz měnící se v závislosti na nabídce a poptáv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vný kurz (fixní) – kurz pevně stanov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ficiální kurz – kurz stanoven centrální banko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oficiální (černý) kurz – kurz u překupní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deviza nákup - příjem cizí měny na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deviza prodej – nákup cizí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valuta nákup – prodej valut směnár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valuta prodej - nákup valut ve směnár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střed – aritmetický průměr kurzu nákup a kurzu prodej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obrazuje aktuální kurzy komerčních bank (směnáren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dejní i nákupní kurz je uvažován vždy z hlediska banky (směnárn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peníze v hotovosti – valu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peníze bezhotovostní - devi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5:15Z</dcterms:modified>
  <cp:revision>30</cp:revision>
  <dc:subject/>
  <dc:title>Peníze a měna</dc:title>
</cp:coreProperties>
</file>