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A811-88B8-489B-8653-444B881EA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6CFA-6FAE-4EBF-87FF-0E35BEF84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6E89-AC6B-4A8B-A349-875EC6CA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3C1-0F8D-4ECF-852F-AF5DEE73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BC1C-4A82-4968-AB73-F7209D1D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8FE5-DB8B-43A3-9A34-FE2A9E4A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068C-C5EB-4A57-9FBB-C7F539FE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D8EC-DC79-4DFC-90D7-9F3E72F5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E5DB-9BD7-4000-A8EE-34E415D7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132C-22ED-400D-80A4-E2BD7C6E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7884-9801-416D-ABB2-C30282FF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DD13-7AB9-4D47-8AFA-0A1E3EC7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4E9A-EE55-41B2-9E32-37B73B76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DD5-204A-45BC-A4CA-72252B96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0DB5-5095-4981-927D-7FBD5E9C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0C6E-77A9-4175-A26C-56CCA9D0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093E-8A3B-4F25-A38E-B73FBAB5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04FF-412E-4BAE-AA67-C5B1E783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019D-1A46-4D7C-A02E-75A4D90F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98D8E-06C3-46A5-8D2F-E376A315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AB48-B012-4258-9467-4CE3F44A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23B7A-EA1C-4148-BA23-067C2306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67056-B14E-4FD5-A27F-C891F674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5CC26-CCA1-43CE-809A-B64288A2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6D14-512F-4E58-9D9E-9C58705E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4FC31-2909-427E-AEBC-E2EBB6EF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ABA3B-5A92-4254-BD50-E9AAE8DA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FC94B-AAA7-4299-9223-319BFA30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0CC22-3519-492F-8FCC-30D9B5B3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59227-25C0-46D8-B4CE-D5583DC5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A044D-A12A-4E8D-91EA-104A9AA8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310BD-A9AD-4553-A570-59646793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06D-D489-4852-9F86-5C628572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ACB-46AB-455A-9AC5-DBF2FC8C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AFB8-56BF-4F1E-949F-BB800DAF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8E95-5672-4FC3-B824-9627CD08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0501-5512-4116-A361-07291EC6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CB22-C92C-4950-92D0-46967734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C69B-F0E2-4C46-A63D-D95F36A20781}" type="slidenum"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EAC3-3C9E-47A7-B514-3392DD9C6B0A}" type="slidenum"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4A2D-FA5A-4B02-BD41-71D8F6B4209A}" type="slidenum"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cnb.cz/cs/platidla/ochranne_prvky/ochranne_prvky_5000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98989"/>
                </a:solidFill>
                <a:latin typeface="Century Gothic"/>
              </a:rPr>
              <a:t>Výukový materiál zpracován v rámci projektu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98989"/>
                </a:solidFill>
                <a:latin typeface="Century Gothic"/>
              </a:rPr>
              <a:t>EU peníze školám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98989"/>
                </a:solidFill>
                <a:latin typeface="Century Gothic"/>
              </a:rPr>
              <a:t>Registrační číslo projektu: CZ.1.07/1.5.00/34.0208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Y_32_INOVACE_12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39640" y="4221000"/>
          <a:ext cx="7561440" cy="1662120"/>
        </p:xfrm>
        <a:graphic>
          <a:graphicData uri="http://schemas.openxmlformats.org/drawingml/2006/table">
            <a:tbl>
              <a:tblPr/>
              <a:tblGrid>
                <a:gridCol w="3527640"/>
                <a:gridCol w="40338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4. Soutisková značk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2" name="Zástupný symbol pro obsah 3" descr="Soutisková značka CR"/>
          <p:cNvPicPr/>
          <p:nvPr/>
        </p:nvPicPr>
        <p:blipFill>
          <a:blip r:embed="rId1"/>
          <a:stretch/>
        </p:blipFill>
        <p:spPr>
          <a:xfrm>
            <a:off x="1692360" y="1700280"/>
            <a:ext cx="5616360" cy="2305080"/>
          </a:xfrm>
          <a:prstGeom prst="rect">
            <a:avLst/>
          </a:prstGeom>
          <a:ln w="0">
            <a:noFill/>
          </a:ln>
        </p:spPr>
      </p:pic>
      <p:sp>
        <p:nvSpPr>
          <p:cNvPr id="163" name="Obdélník 4"/>
          <p:cNvSpPr/>
          <p:nvPr/>
        </p:nvSpPr>
        <p:spPr>
          <a:xfrm>
            <a:off x="1258920" y="4365720"/>
            <a:ext cx="67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íc                      rub                     průh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4. Soutisková značk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z jedné strany bankovky je viditelná pouze jedna část značky, z druhé strany část zbývající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v průhledu proti světlu je značka vidět celá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soutisková značka je kruhová a tvoří ji písmena "ČR"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 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5. Skrytý obrazec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Zástupný symbol pro obsah 3" descr="Skrytý obrazec"/>
          <p:cNvPicPr/>
          <p:nvPr/>
        </p:nvPicPr>
        <p:blipFill>
          <a:blip r:embed="rId1"/>
          <a:stretch/>
        </p:blipFill>
        <p:spPr>
          <a:xfrm>
            <a:off x="1908000" y="1700280"/>
            <a:ext cx="54007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5. Skrytý obrazec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viditelným tehdy, sklopíme-li bankovku ve výši očí do vodorovné polohy proti zdroji světla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tvoří ho vždy číslo označující nominální hodnotu bankovky 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je umístěn na lícní straně bankovky v ornamentu na rameni portrétu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entury Gothic"/>
              </a:rPr>
              <a:t> 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6. Proměnlivá barv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71" name="Zástupný symbol pro obsah 3" descr="Proměnlivá barva"/>
          <p:cNvPicPr/>
          <p:nvPr/>
        </p:nvPicPr>
        <p:blipFill>
          <a:blip r:embed="rId1"/>
          <a:stretch/>
        </p:blipFill>
        <p:spPr>
          <a:xfrm>
            <a:off x="2195640" y="1773360"/>
            <a:ext cx="475272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6. Proměnlivá barv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založeno na optickém efektu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šestiúhelník s hlavou českého lva vytištěný speciální tiskovou barvou mění své zbarvení v závislosti na tom, v jakém úhlu se bankovka sklopí proti dopadajícímu světlu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2f5897"/>
                </a:solidFill>
                <a:latin typeface="Palatino Linotype"/>
              </a:rPr>
              <a:t>7. Iridiscentní pruh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75" name="Zástupný symbol pro obsah 3" descr="Iridiscentní pruh"/>
          <p:cNvPicPr/>
          <p:nvPr/>
        </p:nvPicPr>
        <p:blipFill>
          <a:blip r:embed="rId1"/>
          <a:stretch/>
        </p:blipFill>
        <p:spPr>
          <a:xfrm>
            <a:off x="2843280" y="1557360"/>
            <a:ext cx="3600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7. Iridiscentní pruh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f7f7f"/>
                </a:solidFill>
                <a:latin typeface="Century Gothic"/>
              </a:rPr>
              <a:t>duhově lesklý pruh o šířce cca 20 mm na lícní straně blíže pravému okraji bankovky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f7f7f"/>
                </a:solidFill>
                <a:latin typeface="Century Gothic"/>
              </a:rPr>
              <a:t>při běžném pohledu průhledný, proti světlu barevný nádech zlaté a fialové barvy s kovovým odleskem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f7f7f"/>
                </a:solidFill>
                <a:latin typeface="Century Gothic"/>
              </a:rPr>
              <a:t>vpravo negativně (světlé) vyznačené číslice 5000 a čtveřice lipových listů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f7f7f"/>
                </a:solidFill>
                <a:latin typeface="Century Gothic"/>
              </a:rPr>
              <a:t>při sklopení  tyto číslice a symboly  tmavé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8. Mikrotext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79" name="Zástupný symbol pro obsah 3" descr="Mikrotext - líc"/>
          <p:cNvPicPr/>
          <p:nvPr/>
        </p:nvPicPr>
        <p:blipFill>
          <a:blip r:embed="rId1"/>
          <a:stretch/>
        </p:blipFill>
        <p:spPr>
          <a:xfrm>
            <a:off x="1979640" y="1557360"/>
            <a:ext cx="2305080" cy="3024000"/>
          </a:xfrm>
          <a:prstGeom prst="rect">
            <a:avLst/>
          </a:prstGeom>
          <a:ln w="0">
            <a:noFill/>
          </a:ln>
        </p:spPr>
      </p:pic>
      <p:pic>
        <p:nvPicPr>
          <p:cNvPr id="180" name="Obrázek 4" descr="Mikrotext - rub"/>
          <p:cNvPicPr/>
          <p:nvPr/>
        </p:nvPicPr>
        <p:blipFill>
          <a:blip r:embed="rId2"/>
          <a:stretch/>
        </p:blipFill>
        <p:spPr>
          <a:xfrm>
            <a:off x="4788000" y="1557360"/>
            <a:ext cx="2232000" cy="3024000"/>
          </a:xfrm>
          <a:prstGeom prst="rect">
            <a:avLst/>
          </a:prstGeom>
          <a:ln w="0">
            <a:noFill/>
          </a:ln>
        </p:spPr>
      </p:pic>
      <p:sp>
        <p:nvSpPr>
          <p:cNvPr id="181" name="Obdélník 5"/>
          <p:cNvSpPr/>
          <p:nvPr/>
        </p:nvSpPr>
        <p:spPr>
          <a:xfrm>
            <a:off x="1187280" y="4797360"/>
            <a:ext cx="73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 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íc                                               r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8. Mikrotext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tištěn jak tiskem z hloubky, tak tiskem z plochy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na lícní straně tvoří konturu velkého hodnotového čísla, vnitřní šrafuru paprsků pod šestiúhelníkem se lví hlavou a pruhu základní barvy vybíhajícího od portrétu do pravého bílého okraje mikrotext číselně označující hodnotu bankovky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457200" y="1461960"/>
          <a:ext cx="8229600" cy="491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8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chranné prvky bankov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známení s ochrannými prvky českých bankovek a praktická ukáz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doznak, okénkový proužek s mikrotextem, barevná vlákna, soutisková značka, skrytý obrazec, proměnlivá barva, iridiscentní pruh, mikro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8. Mikrotext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7f7f7f"/>
                </a:solidFill>
                <a:latin typeface="Century Gothic"/>
              </a:rPr>
              <a:t>šrafuru dvoubarevné stuhy tvoří mikrotext ve formě iniciál „TGM“ a její konturu v pravé části mikrotext ve formě zkratky „ČNB“</a:t>
            </a: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7f7f7f"/>
                </a:solidFill>
                <a:latin typeface="Century Gothic"/>
              </a:rPr>
              <a:t>na rubové straně v pruhu základní barvy mezi státním znakem a pravým okrajem skryt mikrotext slovně označující hodnotu bankovky a v obou spodních rozích mikrotext PRAHA</a:t>
            </a: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2f5897"/>
                </a:solidFill>
                <a:latin typeface="Palatino Linotype"/>
              </a:rPr>
              <a:t>Úkoly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1. Praktické cvičení – poznejte ochranné prvky na skutečných bankovkách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2. Na některých bankovkách nejsou všechny ochranné prvky. O bankovky jakých hodnot se jedná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2f5897"/>
                </a:solidFill>
                <a:latin typeface="Palatino Linotype"/>
              </a:rPr>
              <a:t>Úkoly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3. Co je to chybotisk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4. Jaké ochranné prvky navíc má euro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5. Jak se u nás člení padělky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2f5897"/>
                </a:solidFill>
                <a:latin typeface="Palatino Linotype"/>
              </a:rPr>
              <a:t>Úkoly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f7f7f"/>
                </a:solidFill>
                <a:latin typeface="Century Gothic"/>
              </a:rPr>
              <a:t>6</a:t>
            </a: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. Kde se tisknou české bankovky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7. Jsou české bankovky kryty zlatem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8. Jsou napodobeniny peněz padělkem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f7f7f"/>
                </a:solidFill>
                <a:latin typeface="Century Gothic"/>
              </a:rPr>
              <a:t>Zdroj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3399ff"/>
                </a:solidFill>
                <a:uFillTx/>
                <a:latin typeface="Century Gothic"/>
                <a:hlinkClick r:id="rId1"/>
              </a:rPr>
              <a:t>http://</a:t>
            </a:r>
            <a:r>
              <a:rPr b="0" lang="cs-CZ" sz="2400" spc="-1" strike="noStrike" u="sng">
                <a:solidFill>
                  <a:srgbClr val="7f7f7f"/>
                </a:solidFill>
                <a:uFillTx/>
                <a:latin typeface="Century Gothic"/>
              </a:rPr>
              <a:t>www.cnb.cz/cs/platidla/ochranne_prvky/ochranne_prvky_5000.html </a:t>
            </a:r>
            <a:r>
              <a:rPr b="0" lang="cs-CZ" sz="2400" spc="-1" strike="noStrike">
                <a:solidFill>
                  <a:srgbClr val="7f7f7f"/>
                </a:solidFill>
                <a:latin typeface="Century Gothic"/>
              </a:rPr>
              <a:t>(zkráceno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2f5897"/>
                </a:solidFill>
                <a:latin typeface="Palatino Linotype"/>
              </a:rPr>
              <a:t>Ochranné prvky českých bankovek</a:t>
            </a:r>
            <a:br>
              <a:rPr sz="8000"/>
            </a:b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1. Vodoznak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47" name="Zástupný symbol pro obsah 3" descr="Vodoznak"/>
          <p:cNvPicPr/>
          <p:nvPr/>
        </p:nvPicPr>
        <p:blipFill>
          <a:blip r:embed="rId1"/>
          <a:stretch/>
        </p:blipFill>
        <p:spPr>
          <a:xfrm>
            <a:off x="2340000" y="1341360"/>
            <a:ext cx="4392720" cy="312912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4"/>
          <p:cNvSpPr/>
          <p:nvPr/>
        </p:nvSpPr>
        <p:spPr>
          <a:xfrm>
            <a:off x="1332000" y="4797360"/>
            <a:ext cx="76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hled z líce               průhled z rub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1. Vodoznak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viditelný, jestliže se na bankovku podíváme proti  světlu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při pohledu z lícní strany je stranově obrácený oproti portrétu vytištěnému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cs-CZ" sz="4400" spc="-1" strike="noStrike">
                <a:solidFill>
                  <a:srgbClr val="2f5897"/>
                </a:solidFill>
                <a:latin typeface="Palatino Linotype"/>
              </a:rPr>
              <a:t>2. Okénkový proužek s mikrotextem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52" name="Zástupný symbol pro obsah 3" descr="Okénkový proužek s mikrotextem"/>
          <p:cNvPicPr/>
          <p:nvPr/>
        </p:nvPicPr>
        <p:blipFill>
          <a:blip r:embed="rId1"/>
          <a:stretch/>
        </p:blipFill>
        <p:spPr>
          <a:xfrm>
            <a:off x="2771640" y="1844640"/>
            <a:ext cx="3600720" cy="3240000"/>
          </a:xfrm>
          <a:prstGeom prst="rect">
            <a:avLst/>
          </a:prstGeom>
          <a:ln w="0">
            <a:noFill/>
          </a:ln>
        </p:spPr>
      </p:pic>
      <p:sp>
        <p:nvSpPr>
          <p:cNvPr id="153" name="Obdélník 4"/>
          <p:cNvSpPr/>
          <p:nvPr/>
        </p:nvSpPr>
        <p:spPr>
          <a:xfrm>
            <a:off x="1835280" y="5157720"/>
            <a:ext cx="71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ohled z líce        průhled z lí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2f5897"/>
                </a:solidFill>
                <a:latin typeface="Palatino Linotype"/>
              </a:rPr>
              <a:t>2. Okénkový proužek s mikrotextem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proužek z umělé metalizované hmoty zapuštěný do papíru, široký 3 mm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při pohledu proti světlu je  vidět z obou stran jako souvislá tmavá linka s prosvítajícím  mikrotextem ČNB 5000 Kč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vystupující části mění svoji kovově lesklou barvu v závislosti na úhlu dopadu světla 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Obdélník 3"/>
          <p:cNvSpPr/>
          <p:nvPr/>
        </p:nvSpPr>
        <p:spPr>
          <a:xfrm>
            <a:off x="2286000" y="17208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3. Barevná vlákn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58" name="Zástupný symbol pro obsah 3" descr="Barevná vlákna"/>
          <p:cNvPicPr/>
          <p:nvPr/>
        </p:nvPicPr>
        <p:blipFill>
          <a:blip r:embed="rId1"/>
          <a:stretch/>
        </p:blipFill>
        <p:spPr>
          <a:xfrm>
            <a:off x="2411280" y="1700280"/>
            <a:ext cx="4392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3. Barevná vlákn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v papíru zapuštěná okem viditelná vlákna oranžové barvy v délce 6 mm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nejlépe zřetelná jsou na bílých okrajích bankovky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or</dc:creator>
  <dc:description/>
  <dc:language>en-US</dc:language>
  <cp:lastModifiedBy>Igor</cp:lastModifiedBy>
  <dcterms:modified xsi:type="dcterms:W3CDTF">2014-09-13T14:43:39Z</dcterms:modified>
  <cp:revision>20</cp:revision>
  <dc:subject/>
  <dc:title>Ochranné prvky českých bankovek</dc:title>
</cp:coreProperties>
</file>