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0F4-CB68-4971-8819-B984ABC8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B04-1B10-4683-9F21-6B54AA64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491-5D1E-4511-A261-978B041B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D77-8B7A-4788-A0D9-DC3D8E89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9C69-4A10-4E5A-A4D8-CFE7D16B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2A09-4451-4AFF-91B9-65F5E897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165A-2BC9-444F-80BF-971D3F21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D8CF-4F56-46C6-A2E8-94886CE6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7468-3FB8-45D3-83BF-2389453C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B26F-0BA9-4D91-8222-0F39B84A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E06F-E461-4A38-A3F3-8E93F535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55D-41CD-4330-8621-F5B77B3F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0107-1462-4EAB-BFC4-2A6C09B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743B-B81A-4AAC-B98F-B0EDBD6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6240-6CB0-45AB-B05D-07C00948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A1BC-76CE-426C-9944-C598F49B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29E0-1D3B-46E6-AB2A-7F3A7AEB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5D0-4F75-45BE-9400-D1ACE803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99A-4A5E-40C8-A27F-828D8D15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7EF-1EA1-49F2-84FD-96570E5D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6B7-6B24-4B1F-9D27-E9E0BC18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3D8-9C80-4B62-B98F-636484D4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F46-503A-4736-B7C2-210F9159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250-CF4A-46FB-AB34-CFC78B91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2FC2-D388-4629-967F-0B26D84FCE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0DA2-73F5-4075-8783-ED26A46C738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64764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00536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řízení majetku bez nutnosti mít cel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átkový kalendář – rozpis splátek po dobu trvání leasin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erativ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nedochází ke změně vlastnických vztah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běžný náj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ou krátkodob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prodá bance majet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zavře s bankou smlouvu, že tento majetek bude užívat po sjednanou dobu za jednorázovou platbu nebo na splá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acto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orfa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stata leasing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č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perativ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3755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tatní platební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ostatních platebních nástrojů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oring, forfaiting, lea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Ostatní platební nástro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krátkodobých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věř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louva o faktoringové spoluprá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loha 60 – 90 % z pohle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ový poplatek a 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uzemsk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portní (vý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mportní (do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rizik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s rekurzem (regresní) – riziko nezaplacení  zůstává na klient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bez rekurzu (bezregresní) – riziko nese ban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orfa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y zajištěny jinou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těny směnkou, dokumentár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reditivem, bankovní záru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a ihned proplacena s určitou sráž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poskytuje banka pří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prostřednictvím dceřiných společ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ilná konku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finanč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operativ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pravidelné splátk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vní zvýšená splátka (akonta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dochází ke změně vlastnických vztahů z pronajímatele na nájem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= finanční pronájem s následnou koupí najaté věc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40:22Z</dcterms:modified>
  <cp:revision>25</cp:revision>
  <dc:subject/>
  <dc:title>Platební nástroje</dc:title>
</cp:coreProperties>
</file>