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BCE-B236-45BA-AF51-A7F29A0C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D90-6987-458B-BB98-B2DFF764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397-D6EA-47A2-BCD5-C4ECBDE9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E3C-AAA7-4BE7-A7EB-347DDD6A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1C46-A2C9-4FE9-845B-CD4C55FC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210D-3157-43A7-A25D-46B449DA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AEB7-FF77-4F32-A248-DE3E6F7A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1A99-CE79-468D-8AC0-826CF020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AFB4-047A-4B92-904B-136A7C03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521F-EA33-4DCE-A508-C7F773A6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C6CA-9139-4DFB-A491-436D5D8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98D-E58A-42DD-B435-9BDA7601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CD2F-773E-4296-9AD3-558C062D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3369-1A13-44A2-992F-0DCC834A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64EF-6E9E-4E5C-B20B-838B7D1A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A6E7-8C7C-4D76-9818-23230E13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6FAD-75CA-43C8-B0AB-BB0561A9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9C6-549B-46CD-BFE0-19CD1CA4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D72-CF7E-44C5-BCDF-D0273518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2D0-5885-4F88-BA0D-CB594CE4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D86-7F29-43A1-90F7-10A9292C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4CE-3A8A-47ED-B0A7-A2A05ABD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003-045A-4272-9A17-FD0E52A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694-E267-428D-B328-B6A19783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E8B6-72E8-455E-8C4B-42A2BD2CA4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DA37-AE84-4116-A04B-25E7C0664B2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2852640"/>
          <a:ext cx="7201080" cy="720720"/>
        </p:xfrm>
        <a:graphic>
          <a:graphicData uri="http://schemas.openxmlformats.org/drawingml/2006/table">
            <a:tbl>
              <a:tblPr/>
              <a:tblGrid>
                <a:gridCol w="1508040"/>
                <a:gridCol w="1440000"/>
                <a:gridCol w="1509840"/>
                <a:gridCol w="2743200"/>
              </a:tblGrid>
              <a:tr h="78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789360"/>
          <a:ext cx="756108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užité technologi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gnetický proužek – v něm údaje o účtu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technologie – údaje ukryty v čip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ybridní karty -  magnetický proužek i č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karetních asociac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merican Exp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iners Clu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ash  back – hotovostní výběr na pokladně obchod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– brandová karta – vydána ve spolupráci s obchodníkem, u kterého jsou při placení touto kartou výh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říbrná, zlatá, platinová karta – k účtům s vysokým zůstatkem, za kartu vyšší poplatek, výhody: cestovní pojištění, odtahová služba ap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dotyková – pro platbu do 500,- Kč varianta embosované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platební kar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ý platební terminál – zúčtovací cen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chanický snímač (žehlička) – pouze pro embosované platební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pážky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o internetu – aktivace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kamžité oznámení bance telefonicky nebo na  pobočce banky (důkaz o oznámení -  zákazový kó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okamžiku oznámení karta zablokována (blokace – u elektronických karet, stoplistace – u embosovaných karet), poplatek dle sazebníku, může být i zdar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Zablokovaná karta se dostane na stoplist – seznam zakázaných kar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Odpovědnost od okamžiku oznámení nese banka, někde spoluúč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Žádost o novou platební kar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Nalezenou ztracenou kartu odevzdat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žnost pojištění zne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debetní, kreditní, charge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podle potisk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druhy kar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tráta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sobní účast na školení o bankovních produkt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platebních kar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, debetní, kreditní, charge, embosovaná, elektronická, cash back, co-branded, blokace, stoplista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troj k bezhotovostní platbě, který vydávají fyzickým i právnickým osobám nejčastěji banky (nákl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placení v obchodě nese obchod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 výběru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e vkladu do bankomatu (vkladomatu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betní – k běžnému účtu, vybírá se do zůstatku na účtu, možno zřídit k účtu kontokorent ( krátkodobý úvěr, vybírání do sjednaného úvěrového rám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editní karta 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ge karta – k úvěrovému účtu, vyúčtování na konci měsíce, bezúročné období pro splacení  celé částky do konce následujícího měsíce, jinak vysoké ú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kupní úvěrové kar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karty - hladký potisk (ident), slouží pro výběr z bankomatu, placení u obchod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</a:t>
            </a: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bosované karty - s tzv. reliéfním (plastickým) písmem, pro výběr z bankomatu, placení u obchodníka, navíc v mechanických snímačích a pro platbu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17Z</dcterms:modified>
  <cp:revision>35</cp:revision>
  <dc:subject/>
  <dc:title>Platební nástroje</dc:title>
</cp:coreProperties>
</file>