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25F5-BFDA-437F-B2E9-BEEF2391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B401-0AD4-473B-B0BB-204172A5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D1C0-DFEF-4ABE-87E8-264699C9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87C1-4902-4A3A-A09A-1C0DDB39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16D1-3DEE-432C-B7E0-46431A5A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8129-9F4E-431C-B922-AF799D9B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654E-660D-42B7-8AB9-7EF63BB7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6785-183C-4904-A5A8-F46DEDB1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666D-66B7-4CC8-AD2A-2996A8FD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EE2A-3342-4840-A699-CD2670C4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15CF-701D-4946-BCFD-21EA5813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B967-04D6-40FB-920A-C38624E0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B3F7-6F29-4DD8-90D5-AB295BD6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2792-A485-4FF6-99E3-47EB0609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2EEF-E4AB-4A13-BCC6-50D25C98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8952-3E30-4932-9779-E1E1FFB6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80E0-EA4F-494D-A638-D3C0188F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C800-1E53-4313-9D52-6A87561C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B036-51C8-41B0-BEDD-539427DB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B810-6634-4B7D-875C-21F3F2B8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3684-E308-467B-A4BD-4F7A190D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9A8E-3FCA-4F1A-87B3-E60428F6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A86C-F1BE-4FE5-A577-ECBF82F8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7817-1011-4BC9-8957-0F8EC255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FE92-0E25-4188-A245-0B2E6E25D44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5F7B-597C-42D4-B0CA-7C6BCCE201F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5295960" cy="1295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11280" y="3284640"/>
          <a:ext cx="7561080" cy="576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11280" y="4149720"/>
          <a:ext cx="7561080" cy="169848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50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4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měnka ciz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5637_l"/>
          <p:cNvPicPr/>
          <p:nvPr/>
        </p:nvPicPr>
        <p:blipFill>
          <a:blip r:embed="rId1"/>
          <a:stretch/>
        </p:blipFill>
        <p:spPr>
          <a:xfrm>
            <a:off x="755640" y="1700280"/>
            <a:ext cx="7632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ležitosti směn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značení listiny jako směnka  v nadpisu i v text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ezpodmínečný příkaz zaplatit částku uvedenou ve smě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méno toho, kdo má platit – u směnky vlastní je to výstavce, u cizí směnky směneční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latnost směnk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ležitosti směn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ísto, kde má být placeno -  není-li místo uvedeno, místem placení je uvedené sídlo nebo bydliště směneční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atum a místo vystavení směn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lastnoruční podpis výstavce pod textem list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ezaplacení směn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ěnka musí být předložena k proplacení majitelem směn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ní povinností dlužníka majitele vyhledáv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 odepření placení musí být sepsán písemný záznam – protestní list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ezaplacení směn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testní listina -  zákonný důkaz o nezaplac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ůže vydat soud, notář, obe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kud na směnce doložka „bez protestu“, pak bez protestní list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sleduje soudní říz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ezaplacení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měn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ěnečné řízení u soudu rychlejší a jednodušš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ačí předložení směnky u soud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ůkazní břemeno na obžalované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zkoumání listin soud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ěnečný platební rozkaz (splatnost nebo námitka 3 dny od doručení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Nezaplacení směn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avomocný rozsudek lze vymáhat exekučn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mlčecí lhůta proti přímým dlužníkům 3 roky, pak nárok zanik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měnečné úvě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skontní úvěr – odkoupení směnky bankou před datem splatnosti, částka snížená o úrok (diskont) a poplatek bance (eskontní provizi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eeskontní úvěr – odkoupení eskontované směnky před datem splatnosti od banky centrální bank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Směnečné úvě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učitelský (avalský) úvěr – banka se zaručuje směnkou zaplatit za svého klienta v případě nesplácení 3. osob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ombardní úvěr – úvěr u banky zastaven směnk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gociační úvěr- obdoba eskontního úvěru v zahraničním obchod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Opakování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harakteristika směnk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ěnka vlastní a směnka ciz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kon upravující směnk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tup při nezaplacení směnk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ýznam protestní listi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mlčecí lhů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457200" y="1905120"/>
          <a:ext cx="8229600" cy="4238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měnk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měnka, její význam, použití, druh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měnka, směnka vlastní, směnka cizí, použití, náležitosti, protestní list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KON Č. 191/1950 Sb., ZÁKON SMĚNEČNÝ A ŠEKOV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ovelizace č. 29/2000 S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Směnk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měn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ákon směnečný a šekový č. 191/1950 S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ovelizace č. 29/2000 S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měn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věrový cenný papí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epsaný v přesně stanovené form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ezpodmínečný dlužnický závazek, který dává majiteli směnky  právo požadovat ve stanovenou dobu stanovenou část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oužití směnk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středek k získání eskontního nebo obchodního úvě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středek placení a ruč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středek k získání hotovosti před dobou splatn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oužití směnk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oučástí dokumentárního akreditiv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izí zdroj  financování fir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ruhy směn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ěnka vlastní – bezpodmínečný příslib dlužníka zaplatit a obsahuje slovo „zaplatím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ěnka cizí ( trata) – bezpodmínečně přikazuje jiné osobě, aby byla směnka uhrazena a obsahuje slovo „zaplaťte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měnka vlastn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5676"/>
          <p:cNvPicPr/>
          <p:nvPr/>
        </p:nvPicPr>
        <p:blipFill>
          <a:blip r:embed="rId1"/>
          <a:stretch/>
        </p:blipFill>
        <p:spPr>
          <a:xfrm>
            <a:off x="826920" y="1844640"/>
            <a:ext cx="7417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20:45:37Z</dcterms:created>
  <dc:creator>Marek</dc:creator>
  <dc:description/>
  <dc:language>en-US</dc:language>
  <cp:lastModifiedBy>Igor</cp:lastModifiedBy>
  <dcterms:modified xsi:type="dcterms:W3CDTF">2014-09-13T14:39:47Z</dcterms:modified>
  <cp:revision>38</cp:revision>
  <dc:subject/>
  <dc:title>Platební nástroje</dc:title>
</cp:coreProperties>
</file>