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A0A21-4797-4ED5-9C8B-F018216AB5E3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47DB9-E6C7-4668-9FEE-EAD884297873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E6DB-6383-4696-B205-2AEEB3DC7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40AC-A971-40B4-90C8-E7C364FA3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7EB1-79D7-4DF9-9F54-D736F396A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B51B-5B69-41FE-8E5B-23744E508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86464-FEA5-47DA-9E34-4F55CD865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69AEE-B2A3-426E-A7E8-9BB0441BB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6AB92-3BED-4B2A-B76F-CE36EB681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B8D59-254A-42CB-AEEF-D7932A3FA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79AE7-0333-436D-BE5E-3226A7BDE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0749E-1AAE-4F04-9DAE-456F4BE48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ED2D3-5B45-460E-B258-BC1C4C32A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FB42-2701-407B-A36C-E2D15DB32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FB537-8A80-4E01-BC2C-BED9A709E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437A7-902A-459E-A2F1-9C443F544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355D8-3104-4ECF-9F4A-7884B0F8E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9C7A4-2EF4-40BA-8E51-85E75E07D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89090-D81A-4DF5-AF78-024BA5DC1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CF1B-8BE6-4B51-A56F-4BD91BD57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D4C7-42C1-4186-87A2-D61E45A45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4040-BA8A-4FB0-99B2-D30FA3872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D32A-5B25-4FCB-B132-ADBE7EB2B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C5F7-5EC1-41F5-B92A-8E5192559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C5B7-4BA7-47BC-9A01-F12372231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F39A-09EB-4784-A33D-414D4738F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E06AA-B87C-45CD-8AF1-15B2CE3819E8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8B33B-B62F-4BDF-85E1-4D72EDD36FC4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csas.cz/banka/nav/podnikatele-firmy-a-instituce/podnikatele-a-male-firmy/dokumentarni-inkaso/o-produktu-d00010045" TargetMode="External"/><Relationship Id="rId2" Type="http://schemas.openxmlformats.org/officeDocument/2006/relationships/hyperlink" Target="http://www.finance.cz/zpravy/finance/214007-bankovni-zaruky-aneb-jak-snizit-podnikatelska-rizika-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1908000" y="189000"/>
            <a:ext cx="5295960" cy="129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Výukový materiál zpracován v rámci projektu EU peníze školá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11280" y="3357720"/>
          <a:ext cx="7561080" cy="50292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080"/>
              </a:tblGrid>
              <a:tr h="786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_32_INOVACE_1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611280" y="4149720"/>
          <a:ext cx="7561080" cy="1836720"/>
        </p:xfrm>
        <a:graphic>
          <a:graphicData uri="http://schemas.openxmlformats.org/drawingml/2006/table">
            <a:tbl>
              <a:tblPr/>
              <a:tblGrid>
                <a:gridCol w="3600360"/>
                <a:gridCol w="396072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. Yvona Špíl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7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3-41-M/02  Obchodní akademi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5/20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Dokumentární inkas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Účastníci platby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odavatel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anka dodavate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anka odběratele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odběrate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Dokumentární inkas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Inkasní podmínky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ydání dokumentů proti zaplacení 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ydání dokumentů proti akceptaci  směnky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ydání dokumentů proti otevření bankovní záruky apod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Dokumentární inkas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1.  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uzavření obchodní smlouvy mezi dodavatelem a odběratele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2.  zřízení dokumentárního inkasa u banky dodavatele a předání dokumentů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3.  mezi bankou dodavatele a odběratele předání inkasních příkazů a příslušných dokument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Dokumentární inkas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4. dlužník je informován o přijmu dokumentů a o inkasních podmínkách</a:t>
            </a:r>
            <a:br>
              <a:rPr sz="3600"/>
            </a:b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5. příslušný  inkasní úkon</a:t>
            </a:r>
            <a:br>
              <a:rPr sz="3600"/>
            </a:b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6. předání dokumentů</a:t>
            </a:r>
            <a:br>
              <a:rPr sz="3600"/>
            </a:b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7. inkasní plnění</a:t>
            </a:r>
            <a:br>
              <a:rPr sz="3600"/>
            </a:b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8. vyzvednutí zbož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 závazku je dlužník (odběratel)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Dokumentární akreditiv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1.  mezi vývozcem  a dovozcem    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uzavření kupní smlouvy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2.  dovozce požádá svou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banku  o otevření akreditivu</a:t>
            </a:r>
            <a:br>
              <a:rPr sz="3600"/>
            </a:b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3.  vývozce odešle zboží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Dokumentární akreditiv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4. vývozce  prostřednictvím své banky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odešle doklady bance dovozce,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terá je v případě splnění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dmínek předá dovozc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5. banka dovozce  proplatí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akreditiv vývozci z účtu dovoz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Riziko nezaplacení nese banka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Dokumentární akreditiv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ývoj směřuje k elektronickému akreditiv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třetí osobou elektronická tržišt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tradiční papírová podoba pro složitější případy a rozvojové zem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Další platební nástroj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Cenné papíry osvědčující vlastnické právo (dispoziční)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onosament – v námořní doprav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říční náložní lis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železniční nákladní lis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ilniční nákladní lis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Další platební nástroj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Cenné papíry osvědčující vlastnické právo (dispoziční)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letecký nákladní lis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áložní (nákladní) lis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emědělský skladní lis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Bankovní záruk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rozšířená forma ručení v mezinárodním obchod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tzv. závazkové úvě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anky neposkytují žádné finanční prostředky, ale zaručují se za svého klienta, že provede svůj závazek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457200" y="1905120"/>
          <a:ext cx="8229600" cy="42782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44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nce, daně, finanční tr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latební styk a jeho nástroj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ictví a fi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zev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Zahraniční platební sty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harakteristika zahraničního platebního styk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Zahraniční platební styk, hladká platba, dokumentární platba (inkaso, akreditiv), IBAN, cenné píry osvědčující vlastnictví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Bankovní záruk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ákladní typy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1. záruky platební - banky se zaručují za provedení peněžního plnění odběratele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2. záruky neplatební – banky se  zaručují za kvalitu provedených prací dodavatele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Záruky platební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a zaplacení faktu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a splacení úvěr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a zaplacení leasingových splátek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a zaplacení spotřební dan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a zaplacení směnk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Sjednání bankovní záruk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žádost, kterou banka posoud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ověří bonitu žadate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rozhodne, zda se za klienta zaručí či nikol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 kladném vyřízení banka s klientem sjednává smlouvu o poskytnutí bankovní záruky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Záruky neplatební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áruka za předloženou nabídku do veřejné soutěže (záruka v tendru)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áruka za vrácení platby předem (záruka za vrácení akontace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áruka za náležité provedení kontraktu (kauční záruka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Sjednání bankovní záruk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anka vystaví záruční listinu obsahující písemné prohlášení banky, že uspokojí věřitele do výše sjednané finanční částky, pokud klient nedostojí svému závazk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eškeré náklady spojené s bankovní zárukou obvykle hradí klient bank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Úkoly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Co je to IBAN a jak je konstruován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ajděte ho na výpisu z účtu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okumentárního inkaso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okumentární akreditiv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Cenné papíry osvědčující vlastnictví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ankovní záruky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Zdroj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ŠVARCOVÁ, Jena. </a:t>
            </a:r>
            <a:r>
              <a:rPr b="0" i="1" lang="cs-CZ" sz="2000" spc="-1" strike="noStrike">
                <a:solidFill>
                  <a:srgbClr val="ffffff"/>
                </a:solidFill>
                <a:latin typeface="Tahoma"/>
              </a:rPr>
              <a:t>Ekonomie – stručný přehled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, Zlín: Nakladatelství a vydavatelství  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Ing.  Jena Švarcová , Ph. D., CEED, pro rok 2012/2013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ISBN: 978-80-87301-16-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HARTLOVÁ, Věra  a kol. </a:t>
            </a:r>
            <a:r>
              <a:rPr b="0" i="1" lang="cs-CZ" sz="2000" spc="-1" strike="noStrike">
                <a:solidFill>
                  <a:srgbClr val="ffffff"/>
                </a:solidFill>
                <a:latin typeface="Tahoma"/>
              </a:rPr>
              <a:t>Učebnice bankovnictví pro střední školy a  veřejnost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, Praha: Nakladatelství FORTUNA , 2004. 1. vydání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ISBN:  80-7168- 990-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http://www.csas.cz/banka/nav/podnikatele-firmy-a-instituce/podnikatele-a-male-firmy/dokumentarni-inkaso/o-produktu-d0001004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http://www.finance.cz/zpravy/finance/214007-bankovni-zaruky-aneb-jak-snizit-podnikatelska-rizika-/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Zahraniční platební styk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Platební styk z hlediska form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latební styk hotovostní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latební styk bezhotovostní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Zahraniční platební styk hotovostní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ahoma"/>
              </a:rPr>
              <a:t>prostřednictvím směnárenské činnosti a oblasti cestovního ruchu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Zahraniční platební styk bezhotovostní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Formy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hladké platby (nedokumentární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okumentární platb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Zahraniční platební styk bezhotovostní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WIFT – společnost pro celosvětovou finanční telekomunikac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orespondentský způsob propojení bank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IBAN – mezinárodní číslo účt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IC kód – mezinárodní kód bank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Dokumentární platb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okumentární inkas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okumentární akreditiv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Dokumentární inkas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ezhotovostní bezzávazkový systém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upraven mezinárodními pravidl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anky pracují s dokumenty nikoliv se zboží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15:12:52Z</dcterms:created>
  <dc:creator>Marek</dc:creator>
  <dc:description/>
  <dc:language>en-US</dc:language>
  <cp:lastModifiedBy>Igor</cp:lastModifiedBy>
  <dcterms:modified xsi:type="dcterms:W3CDTF">2014-09-13T14:37:48Z</dcterms:modified>
  <cp:revision>36</cp:revision>
  <dc:subject/>
  <dc:title>Platební styk tuzemský a zahraniční</dc:title>
</cp:coreProperties>
</file>