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3C9-263B-4EBD-B979-D5E5CE8A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DD9-7A37-4AA9-99AA-3264897F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9A4-600C-4995-8F4F-A16D9356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B2B-EB44-430B-9053-66CDFB28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6580-ED22-436F-B0D7-F7B6686A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48A3-6B9B-40DA-87B3-C5F14042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F658-4B7F-4B92-905F-BA9D3610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9769-9271-4D08-9300-E5467D43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9398-C963-4C20-8B20-6DA1B0CC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EA64-44FC-4C57-BF1C-1B4204F1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61C1-D280-4152-8AA1-765F0036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993-6984-443E-A6A3-AA8EAC4A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D872-8964-4789-9366-6272FE98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60D7-D664-466C-B181-552097A8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D402-8F6E-4B3A-A252-862F72C5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8E07-516D-4B25-A8E1-A3C31856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CE1D-2B47-41BB-BCCD-EE870D46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129-4E06-43B3-A8A4-99BCD10D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83F-1C6B-4B6B-9118-E8664B86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BF5-2CFB-4B77-9065-74653691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D7A-8E72-4D53-9B90-0C51625F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04CA-BBAF-437E-A5C2-134B4E64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383-E5C5-431A-9178-2039BC71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F8A-D878-4E51-8E4E-7E20F83D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22FD-5B9F-4042-AA15-90FDBB2231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83D5-7885-461C-B165-F71E7419610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29560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068640"/>
          <a:ext cx="7561080" cy="5047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3860640"/>
          <a:ext cx="7561080" cy="162720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2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šek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značení „šek“ v textu listiny v jazyce, ve kterém je šek vystav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příkaz zaplatit určitou peněžní sum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méno toho, kdo má platit (šekovní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šek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daj místa, kde má být placen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-li uvedeno, je to sídlo šekov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tum a místo vystavení še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is výstavce v souladu s podpisovým vzorem B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může požadovat další údaj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stovní še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měle vytvořeny pro potřeby cestovního ruc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jsou to skutečné šeky, nevztahuje se  šekové prá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praveny Obchodním zákoník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stovní še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upují se, proto plně kry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dávány velkými bankami a finančními instituce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 světových měn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zaokrouhlených nominálních hodnot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znam a charakter še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č u nás nejsou šeky příliš rozšířen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eky bankovní a soukrom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on upravující še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voditelnost šek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stovní še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ON Č. 191/1950 Sb., ZÁKON SMĚNEČNÝ A ŠEKOV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38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, jeho význam, použití, dru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, šek bankovní, soukromý, převoditelnost šeků, náležitosti, cestovní š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rátkodobý cenný papír, který obsahuje bezpodmínečný příkaz výstavce šeku bance (šekovníkovi), aby vyplatila z jeho účtu oprávněnému majiteli šeku peněžitou částku uvedenou na še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praven Směnečným a šekovým zákonem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. 191/1950 Sb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cházejícím z Ženevských konve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ovelizace č. 29/2000 Sb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á přímého dluž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ždy splatný na viděnou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osoby výstav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y bankovní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uje banka na žádost svého klien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u plně kryt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ho vystaví až za něj klient zaplatí z účtu nebo v hotov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osoby výstav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y soukrom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uje soukromá osoba - klient, který má v bance vedený úč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ován na předtištěném formuláři v tzv. šekové kníž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způsobu převoditelnos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řad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 na určitou osobu, převod  indosamentem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jméno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 jméno oprávněné osoby, nelze indoso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majitele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-  majitelem šeku je osoba, která  šek momentálně vlast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způsobu použit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kladní šek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k výběrům hotovosti z 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k zúčtování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 - šekovník ho může vyrovnat jen bezhotovostně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na šeku uvedeno „jen k zúčtování“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8:46Z</dcterms:modified>
  <cp:revision>25</cp:revision>
  <dc:subject/>
  <dc:title>Platební nástroje</dc:title>
</cp:coreProperties>
</file>