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83C-1B4B-4AB0-B8E1-2D3BD3D1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B79-01DA-4A63-8D16-8FAC831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5A0-9AAC-4F71-8A6F-250F09D2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103-D190-4310-B190-9861A883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A120-8F1E-4D80-9019-17124402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860-D1C0-4269-89B0-A0271C5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6C79-ED21-4B0F-A62F-C74C4FD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0D2F-AAB1-474A-97CE-82436F02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FA26-0960-4C8D-AC0D-07F3B73B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950-6E2B-40A7-8321-D4284D6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954-BE32-48F6-8E86-86CE051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FA6-AEBF-4EEB-8265-61C5EDD6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9751-506E-4518-B4F4-E462624A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EDE-9AE6-43F6-993C-761CA24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82AF-3588-4E25-93B9-AE38DD4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6E05-B3F2-409F-97FB-A373F56C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5DA-6A3D-41C7-9D5B-538D6104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897-1ED3-437C-91F5-26B2D134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20D-30B8-404B-B35B-A1E2192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A5E-7588-4F21-BF0A-46ED2011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8BC-A77D-40B4-BD70-F2AD629D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FB4-27A4-45CF-8088-7BFFF5B5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817-E0AA-4AB3-BE9A-4BF5162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3A4-E1FF-40B7-B0B8-9D6E91F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AE9A-7BD2-45F9-803C-E1169856E8E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D4E-814B-45EA-9FE6-E68BA926D6B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573360"/>
          <a:ext cx="756108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22100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a v české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, elektronický podpis nebo jiný kó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 - vyjadřuje ekonomický charakter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splatnosti - den, kdy mají být prostředky odepsány z účtu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- slouží k identifikaci platby pro příjem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– identifikace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slo faktury, rodné číslo fyz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y, IČO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fický symbol – dodatečný symbol identifikující např. jednotlivé měsíce u plat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říkazu k úhradě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–určuje charakter služby, pro platební styk s účty státního rozpočtu povinn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xtová zprá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vystavení příka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e vnitro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 mezi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příkazem k úhradě a příkazem k inkas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veďte příklady k jednotlivým příkazů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97200"/>
          <a:ext cx="8229600" cy="383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druhy, náležitosti, vypln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jeho druhy, náležit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úhrad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přikazuje bance, aby z jeho účtu poslala peníze na ji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inkas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dává souhlas k tomu, aby si z jeho účtu stahoval  peníze příjemce platby, může být nastaven lim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jednorázov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neopakující se plat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trval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platbu pravidelně se opakuj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jednotliv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pro jednu plat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hromadn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více plateb  najedn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elektronickou form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internetbanking, mobilbanking, homebankin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na papírovém formulář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zda se jedná o příkaz k úhradě nebo k inka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látce - číslo účtu a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říjemce - číslo účtu a 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56Z</dcterms:modified>
  <cp:revision>29</cp:revision>
  <dc:subject/>
  <dc:title>Platební styk tuzemský a zahraniční</dc:title>
</cp:coreProperties>
</file>