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443-3066-486C-A997-44941918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05F-442F-44F3-B6B8-17660710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E81-ACE9-46A2-BBD4-FD3AA2D7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8A5-1A20-4ACC-935F-A40791F4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531B-289B-4809-B05D-97788770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AEB4-0CFC-45C4-A466-6233724D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288D-2386-45CD-BEAC-0AF0435A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A595-8B51-480D-A1CB-8F464FAB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6A84-8BEE-4DE5-8CFF-542E6448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E097-F364-42AE-BD1C-BBFD7107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5AAE-13DD-498A-9C07-A41D96A1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E9E-E058-41A0-91EE-6FF8C173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B9C3-E90F-40E0-91F2-905EACD4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A34B-7CA6-43AA-83B4-40BAABC0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9D8F-0689-4128-8352-5B284172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6823-50C3-4174-8264-C528C45F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1B06-BA13-41E4-BF66-63BC3D9B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FA9-6CC8-45CB-B534-5C334FB7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F38-A097-4AC1-A7BA-6649547D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791-3958-4A02-9A02-22BA085D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325-FC7E-45B0-B9C8-E240C6B8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E5A-6D65-430C-B135-5CD63267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DD4-4FE0-4A52-8C13-B1D0E3CE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12C-E1D9-41F5-88BD-C3F6E9D1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2FD3-464C-4892-83CD-E82352EBEE0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4B61-9FE1-46C6-A5E4-7A34EB2A5A5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11280" y="3645000"/>
          <a:ext cx="7561080" cy="5047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11280" y="4400640"/>
          <a:ext cx="7561080" cy="162072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respondentský způsob propojení bank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ájemné zakládání účt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ostro účet – účet, který má banka otevřen u jiné zahraniční ban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respondentský způsob propojení bank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oro účet (vostro účet) – účet, který vede zahraniční banka pro jinou ban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zahraničním platebním sty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learingový způsob propojení bank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tuzemském platebním sty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chodní banky mají u clearingové banky účet a přes ní jsou spoje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learingové (zúčtovací) centrum ČNB, systém CERT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e to vkladom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Co je to platbom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Vysvětlete podstatu výběru hotovosti na pokladně obchodů (cashback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K čemu slouží zúčtovací centrum ČNB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Způsoby propojení ban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lší způsoby hotovostního platebního styku tuzemskéh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Bezhotovostní platební styk tuzemsk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847880"/>
          <a:ext cx="8229600" cy="4173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zemský platební sty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tuzemského platebního sty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zemský platební styk, vklady a výběry v hotovosti, vklady a výběry na účet, cle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Tuzemský platební sty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styk z hlediska form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bez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styk z hlediska teritor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tuzemsk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zahrani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ormy hotovostního platebního styku</a:t>
            </a:r>
            <a:r>
              <a:rPr b="0" lang="cs-CZ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žením hotovosti ve prospěch účtu příjemce - pokladní slože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o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ukazem peněžních prostředků ze svého účtu k výplatě v hotovost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em k výplatě v hoto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ormy hotovostního platebního styk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běrem prostřednictvím výběrního lís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latební kart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pokladně obchodů cashbac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skutečnuje se na základě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mou příkazů k zúčtování (platebních příkaz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ů k zúčt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ch platebních kar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lektronického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 tuzemsk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zv. hladké platby na základě příkaz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nitrobankovní platební styk - převod peněz mezi 2 klienty stejné ban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ezibankovní platební styk - převod peněz mezi 2 klienty různých bank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ba převodu v tuzemsku  do 24 ho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12:52Z</dcterms:created>
  <dc:creator>Marek</dc:creator>
  <dc:description/>
  <dc:language>en-US</dc:language>
  <cp:lastModifiedBy>Igor</cp:lastModifiedBy>
  <dcterms:modified xsi:type="dcterms:W3CDTF">2014-09-13T14:28:34Z</dcterms:modified>
  <cp:revision>29</cp:revision>
  <dc:subject/>
  <dc:title>Platební styk tuzemský a zahraniční</dc:title>
</cp:coreProperties>
</file>