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0005-02AE-45D9-AC76-252F8C65CB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5F2B-E147-458A-864D-8F44C7DAD1D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E3CC-B170-4F28-9404-B53EC17C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A45-CC0A-4E10-89BB-244A6A0E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532-CEC4-4651-833A-7E1B520E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91F-078D-4D6C-9EAC-E3E7FE34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386B-3CF8-4C7E-BCB3-0E56D057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6696-F5E1-4E0D-8D1E-1171FFA3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0123-115C-4630-A20A-86146C12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2A99-7F74-4858-A3B4-8CA2AD05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2628-53D1-4369-AF48-2CBACE29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1DC7-0ABF-4E5F-8984-39D7FF01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169F-A12F-4F11-935D-72B6BB66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DB0-1C35-41FD-9485-FBC4762A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00DC-C4BF-426A-91EE-1689F17F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306E-7025-426D-97A7-8CE23FBB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19A4-9942-47B1-B7D1-7022A0A1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1109-79B7-4D9B-8A68-1B57B5F6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A3C2-5A37-4740-992A-18B88C63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F61-64E3-416B-B514-B734279C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985-4171-4A60-873E-F70A55D8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51F-51EC-4177-A80D-3F5F57DC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6F79-5180-4B73-8D7D-22C8FA29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78A3-472A-4012-9B78-69FD1564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ADC-535B-4165-9B49-418A9384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B747-B004-4630-BB95-2A19CBC0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F8A7-E2D3-4D22-820E-4E6178DCFAF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4BE0-C200-4639-9AF4-C4644352505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sas.cz/banka/nav/osobni-finance/servis-24-mobilni-banka/o-produktu-d00019607" TargetMode="External"/><Relationship Id="rId2" Type="http://schemas.openxmlformats.org/officeDocument/2006/relationships/hyperlink" Target="http://www.csas.cz/banka/nav/osobni-finance/servis-24-mobilni-banka/o-produktu-d00019607" TargetMode="External"/><Relationship Id="rId3" Type="http://schemas.openxmlformats.org/officeDocument/2006/relationships/hyperlink" Target="http://www.kb.cz/cs/lide/obcane/ucty-a-platby/internet-telefon-mobil/mobilni-banka.shtml" TargetMode="External"/><Relationship Id="rId4" Type="http://schemas.openxmlformats.org/officeDocument/2006/relationships/hyperlink" Target="http://www.csas.cz/banka/nav/osobni-finance/mobito/o-produktu-d00018799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11280" y="3068640"/>
          <a:ext cx="7561080" cy="5763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11280" y="3860640"/>
          <a:ext cx="7561080" cy="155448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3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obil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íjení kredi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cení přes mobilní peněženk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ychlé zaplacení v obchod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ternetové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ýkoliv počítač připojený k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4/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duché ovlád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utorizace plateb = bezpeč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finan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ča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ternetové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ádění plat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edování pohybů na účt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lektronické výpi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jednání úvěru, kontokorentu, platební karty nebo pojiště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íjení mobi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ternetové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měna limitu pro platby kartou na internetu a pro výběry hotovosti v bankoma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jímání a placení faktur, pojistné a složenky elektronicky (e-faktu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ehledné grafické ztvárně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omeban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iremní bankovnictv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ojení s bankou pomocí internetu a nainstalovaného speciálního program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ipová karta s elektronickým podpisem (nutná čtečka elektronických kare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omeban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4/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ádění plat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duché ovlád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finan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ča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munikace s bankou on–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lektronické výpi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omeban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jímání a placení faktur a složenek (aktivace elektronických faktur, e-faktura = předvyplněná faktu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urzovní líst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istence účetních programů podporujících homeban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lší výhody jako internetban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Virtuální platební kar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šestnáctimístné číslo (+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 platnosti a kontrolní kód CVC/ CVV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bezpečení SSL -zámeček, údaje obchodníkovi šifrovan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ené použi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latební embosovaná kar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ento způsob není příliš  oblíben, strach ze zneuži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rta musí být pro placení na internetu aktivována v bance, nastaven limit plat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latební embosovaná kar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tšina internetových obchodů podporuje systém 3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daje o kartě (číslo karty, datum platnosti, CVV/CVC kód)poskytuje přímo b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rázový kód pro autorizaci plat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457200" y="1628640"/>
          <a:ext cx="8229600" cy="4748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ektronické bankovnictví a elektronické platební prostřed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hled elektronického bankovnictví a elektronických platebních prostředků, použití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lefonní, mobilní, internetové bankovnictví, homebanking, embosovaná karta, elektronická peněženka, PayPal, PayU, PayS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ayP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 společnosti založit účet, na něj převést např. z běžného účtu určitou část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pojit se svou embosovanou platební kartou aktivovanou pro placení na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ayP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 možno platit i platby přijí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ozující společnost si strhává poplatky, platí je obchodní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ay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 placení v internetových obchod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bchodník musí být přihlášen do systém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 platbě propojení obchodníka s platební bránou Pay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ay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kazník platí přes internetbanking nebo embosovanou  platební kartou aktivovanou pro int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bezpečení SS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platky provozovateli obchodní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Elektronická peněženk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lient banky složí hotovost do peněženky = neúročený plovoucí úč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tby obchodníkovi z tohoto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tby internetem, mobi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íze se dají z peněženky vzít zpě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aySec, Mobito…… 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elefonní bankovnictv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obilní bankovnictv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ternetové bankovnictv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omebank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cení na internetu – embosovaná platební kar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Placení na internetu – elektronická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ěžen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. Placení na internetu –  PayPal, Pay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8. Vyhledejte další systémy placení 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ternet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Zdroj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http://www.csas.cz/banka/nav/osobni-finance/servis-24-mobilni-banka/o-produktu-d000196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bdélník 4"/>
          <p:cNvSpPr/>
          <p:nvPr/>
        </p:nvSpPr>
        <p:spPr>
          <a:xfrm>
            <a:off x="411120" y="256536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http://www.kb.cz/cs/lide/obcane/ucty-a-platby/internet-telefon-mobil/mobilni-banka.s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http://www.csas.cz/banka/nav/osobni-finance/mobito/o-produktu-d000187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bdélník 5"/>
          <p:cNvSpPr/>
          <p:nvPr/>
        </p:nvSpPr>
        <p:spPr>
          <a:xfrm>
            <a:off x="372960" y="348768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www.csas.cz/banka/nav/osobni-finance/servis-24---internetbanking/o-produktu-d0001903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www.csas.cz/banka/content/inet/internet/cs/faq_ie_12.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s://www.erasvet.cz/pravnicke-osoby/ostatni/stranky/firemni-bankovnictvi-max-homebanking/popis-produktu.a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http://finance.idnes.cz/nejbezpecnejsi-platby-kartou-na-internetu-nabizeji-tri-banky-pu5-/bank.aspx?c=A110914_143118_bank_b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s.wikipedia.org/wiki/PayP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Elektronické bankovnictví a elektronické platební prostřed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lektronické (přímé) 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elefonní bankovnictví (telebank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obilní bankovnictví (mobilbank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ternetové bankovnictv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internetbank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mácí bankovnictví (homebank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Telefon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platné zákaznické telefonní li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éř nebo automatická hlasová služb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ístup k účtu 24/7 z tuzemska i zahranič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ktuální přehled o zůstatku na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SMS, e-mai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Telefon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ntrola pohybu na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operace zadané telefonicky levnější než na poboč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ča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rázová bezpečnostní hesla pro komunikaci s bankou (SM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obil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Phone, iPad, iPod touch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ím víc funkcí, tím širší nabídka služ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4/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plikace internetového bankovnictv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duché ovlád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pojení kdekoli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obil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hlížení stavu a historie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ádění plateb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hledání nejbližší pobočky nebo bankoma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kenování složen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inanční úspora (levnější příkazy než na poboč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obil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ča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ehledná grafika aplik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ísná bezpečnostní opatř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munikace s bankou on–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pisy z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stavení vzhled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39:21Z</dcterms:modified>
  <cp:revision>47</cp:revision>
  <dc:subject/>
  <dc:title>Platební nástroje</dc:title>
</cp:coreProperties>
</file>