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7FA-4FBA-4575-82EB-CA6E2D71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738-1F21-4E5F-B2D0-96BF4105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F5F-A5D1-4554-B824-01EACB1D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90A-3DCF-478D-B373-F7EF34D5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6FAE-6876-461F-ABB3-63A461DD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8AAB-6DB5-4A32-88E9-07D8722D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FBC9-21E5-4190-B0DD-7F531B84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D6D9-7148-4FAE-9B2B-B5272CF8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902F-5B3A-42BC-B3F4-13CB756A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47FE-11EA-497B-994F-DB31101C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3442-AA87-4634-8FCE-AC689A54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79F-69D9-4D05-BC82-D545EB6A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1F2D-291B-4AE7-B1B2-A6E48D1F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1342-8197-4E9C-828C-7E7DD1AD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B9FF-B5A1-49B6-8775-10484E8E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166C-9D74-43C6-A148-36CD16CE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E922-830E-4E04-8449-65EE6266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470-4557-411C-87C4-2611884B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316-7C52-4BA5-BD3D-66FACE5F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26F-FFB0-41C0-B32E-56CC77F8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FBE-5706-43F2-9A21-11F1351C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B0F-915E-4409-9848-87FA414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8B5-9712-4E1F-9E20-9AB5AC2A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64F-42C2-4A07-9B78-301DA0A7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DB03-03B9-4BCE-8FB3-CB2B4BFF7F3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F740-321F-498A-8B3A-A9B7390B092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672000"/>
                <a:gridCol w="3889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lužníka: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átní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unální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dávají obce a kr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obchodních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oukromé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emise CP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romadně vydávané - 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dividuálně vydávané -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odle podob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nihované – zápis v Centrální evidenci cenných papírů (dříve Středisko cenných papír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né – fyzická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kladniční poukáz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dluhopis, získání peněz pro různé úče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á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epozitní certifiká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obchodovatelný úročený cenný papír, který vydávají převážně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zní na maj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ho úkolem je aktivizovat dočasně volné peněžní prostřed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tím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razuje akcie do doby splacení jejich jmenovit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ominální) hodno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sou s nimi spojena práva, která vyplývají z akci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ato práv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zisk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vid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řízení společn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ávo na podíl z likvidačního zůsta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yto povin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platit za akci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antiém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íly na zisku představenstva a dozorčí r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má nominální a tržní hodno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ominální hodnota (jmenovitá)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hodnota akcie na ní napsaná a za tuto částku se  emit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ržní hodnot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(kurzová)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výše závisí na vztahu nabídky a poptávky po akciích na trhu s 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ob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listinné pod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itulní list: základní úd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pónový arch: pro výplatu divide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alón: pro vydání nového arch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zaknihované podobě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zápis u Centrální evidence cenných papí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é papí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cenných papír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ý papír, pokladniční poukázka, depozitní certifikát, zatímní list, akcie, dluhopis, podílový list, finanční deriv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řevod této akcie na jinou osobu probíhá tzv. rubopis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je převoditelná předáním jiné os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kladatels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dány při založení podniku, jsou zároveň kmenové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priorit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 přednostní právo na dividendu, majitelé nemají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kmenové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městnane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rodávány vlastním zaměstnancům za výhodnějších podmínek, motivační charak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při odchodu povinnost nabídnout k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kupu fir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tvoří max.  5 % základního kapit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luhopis (obligace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dlouhodobý úvěrový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závazek emitenta vůči věřitel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mitovaný s cílem získat peněžní prostředky na delší do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atnost je pevně stanove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dluhopis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aneck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ypoteční zástav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CP, forma dluhopis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vají hypoteční banky k získání prostředků na poskytování hypotečních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y zástavou nemovit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riz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ílový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jetkový cenný papí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jeno právo majitele podílet se na výnosu fondu, který list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o na odpovídající část majetku podílového fondu (otevřeného nebo uzavřenéh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tav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Cenné papí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inanční deriv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vozené cenné papíry, právo koupit nebo prodat jisté aktivu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w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warr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a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cenné papír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finančního trh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majetkových prá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převoditelnosti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 Druhy cenných papírů pod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chodu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 Pokladniční poukáz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 Depozitní certifiká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 Zatímní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hopis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Podílový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2. Další typy cenných papírů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a, která zachycuje právní vztah mezi 2 nebo více subje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žitosti určuje Zákon o cenných papír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kapitálu, se kterým se obchoduje na finančním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dlužní závazek nebo majetkový nárok vlastníka vůči tomu, kdo CP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finančního trh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eněžní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krátk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kapitálové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dlouh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 majetkových práv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ěcn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zajištění pohledávek vě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užni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, šeky,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majetk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akcie, podílové lis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spozič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 práva na nějakou věc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převoditel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ajitelem je ten, kdo je předl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jméno oprávněn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řad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oprávněnou osobu jménem, s doložkou na ř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ůchod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e stál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 proměnn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eúroče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31:47Z</dcterms:created>
  <dc:creator>Marek</dc:creator>
  <dc:description/>
  <dc:language>en-US</dc:language>
  <cp:lastModifiedBy>Igor</cp:lastModifiedBy>
  <dcterms:modified xsi:type="dcterms:W3CDTF">2014-09-13T14:52:42Z</dcterms:modified>
  <cp:revision>34</cp:revision>
  <dc:subject/>
  <dc:title>Cenné papíry</dc:title>
</cp:coreProperties>
</file>