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397-9A24-467A-9F2E-C3DAD40F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6B4-F9DB-4F5C-8A9A-9A4911E1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501-EBD3-4DFE-BB7C-F5B2282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143-3BF3-4B90-A7FB-807D80B5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7299-97A1-40DB-9BEE-B94B14CE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CAFF-BEBB-4423-B6DD-3D2F7EB9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311-BEF8-4A11-8606-7F2FC59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CF8-86DA-42C1-BB9D-29B906D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2BD4-EE87-470B-B87A-CC8B9DF3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CF1-E8FE-45F4-8E28-E8569337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D61F-A0E8-4CC0-B7DA-9E737549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595-DA34-4663-9481-A8FE0B91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1880-C68E-417B-8B90-DB660C55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A2A3-3F96-4425-88BF-A1114228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D533-82C7-4901-A786-35F27157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A8A7-3E04-401E-993E-211C75C9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CA12-B2B0-4950-9011-3B16AFF0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C3E-A79A-4525-84CE-0419EDB7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E68-4DF6-4C2B-A6C7-87AD076A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418-523A-4635-8A70-DB4FC9D7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B6B4-3D8D-473F-9ADC-9EE52FF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3E9-D4A0-4006-A4F8-B4BF50CA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C1F-815E-4789-B2E7-E24A7C1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5F52-BAD0-47E8-A4E2-D43CE0C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A8F-3685-449F-A4B5-A5D82CD63EF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F970-3DE0-453B-8F70-4D8844DD924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 na dobu určitou s  předem stanovenou úrokovou sazb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je vyšš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ankce za předčasný výb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na 6 let s výhodným úrokem a státním příspěv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 spoření není omez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poskytnut výhodný úvěr k potřebám bydl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spořící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ody běžného účtu a termínovaného vklad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 úročen vyšší úrokovou sazb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(některé s výpovědní lhů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ývá doplňkem běžného účtu (přebytečná hotovost se převed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zákona pojištěny neanonymní vklady u bank a družstevních záložen, u Fondu pojištění vkladů do výše ekvivalentu 100 tisíc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u poboček zahraničních bank na našem území pojištěny za stejných podmínek v mateřské ze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anonymní v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jméno, adresu a datum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rození vkladatele u fyz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obchodní firmu nebo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zev, sídlo a IČO u právn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patření proti praní špinavých peněz</a:t>
            </a: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identifikaci klienta se zpracovávají identifikační údaje fyzických osob i osob jednajících za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ce se provádí zpravidla při osobní přítomnosti klienta a na základě platného průkazu totož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utrální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atří do rozv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y, při nichž banka nevystupuje ani ve věřitelském ani v dlužnickém postav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šechny poplatky a provize, které neovlivní rozva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platky ze směnárenských činností a devizových opera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jímání a vydávání peněz, výměna peněz poškozených, prodej pamětních mincí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kazy k inkasu a k úhr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 (úschova a správa cennosti za  popla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užby poradens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u 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řící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ní kníž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 vklad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atření proti praní špina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utrální obchody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447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sivní a neutrál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vkladových produktů bank, neutrální obchody b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ěžný účet, vkladní knížka, termínovaný vklad, spořící účet, pojištění vkladů, neutrál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agační materiály ba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asivní a neutrál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asivní bankovní obcho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, v rozvaze na straně pasiv, banka v postavení dlužníka, klient v postavení věř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plácí úroky (náklad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termínovaný účet, běžné vklady a výb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 hotovostní a bezhotovostní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vazují další produkty – platební karta, 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dka odlišná pro občany a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úro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pomocí příkazů k úhradě nebo k inkasu (papírová nebo elektronická form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tovostní platební styk na přepážce nebo pomocí bankoma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 doklady totožnosti u občanů, doklady o existenci firmy- podnikatel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čáteční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á smlouva (úročení, poplatk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ový vz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pisy papírové nebo elektron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starší forma spoření u nás, dříve anonymní, dnes na jmé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, vedení, vklady, výběry zda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duchá obslu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ehled o zůstatku na vkladní kníž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 výpovědní lhůtou – vyšší úrok, ale je třeba při porušení termínu sank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– výběr kdy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erní – není úročena, slos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ětská vkladní knížka – s výpovědní lhůtou, zvýhodněné úroky, do 18. roku vě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9:51Z</dcterms:modified>
  <cp:revision>25</cp:revision>
  <dc:subject/>
  <dc:title>Bankovní obchody</dc:title>
</cp:coreProperties>
</file>