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3BCBF-7788-4AEE-9D91-6C544814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43C39-E7C2-4679-827B-27BF9B5A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553B5-B191-4E94-AFE4-06008825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CE4AF-475A-41D0-B048-8E7BE912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2807-E42E-44BB-AA26-48946CA0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E264-A12C-4CE6-BF58-FAB42D3F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3B1B-801C-43CC-9407-F0D740A7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128A-254D-407E-B031-A473F029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03F8-4743-4611-AA46-56633C87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0F2F-BA36-48D3-87A9-C2133FA0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CD94-4C7C-4330-8FE9-E36E89F2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CE3E3-3065-4AB6-BF42-612A0D0D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4419-4CB4-41B6-8E8F-9E4F7253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2D01-7DD5-46E5-8439-A92B3AFD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81B7-EFFA-4054-91E6-B410D7EC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E4B1-F5A1-4A92-BC64-F4957520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1679-B857-4766-B43B-546B88565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161FF-C670-4707-BD88-82636FBD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93563-63BA-4B56-AB36-074C4C76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1B199-2014-48F3-8CA4-ED8B8ADC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B9385-2C0F-46F9-82BA-7F309EE4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FD701-0313-47A2-A8DF-2E129BDC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A863A-9D39-435E-8EBF-F224B5F7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8CAD7-A3E5-4BBD-BA8E-FA44A6F7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2A30-40B6-4724-B4CE-56E2CB4D2A5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933A-AF09-4F77-A6B4-3AB4A7CD47F4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muj-bankrot.cz/dokumenty_k_oddluzeni" TargetMode="External"/><Relationship Id="rId2" Type="http://schemas.openxmlformats.org/officeDocument/2006/relationships/hyperlink" Target="http://www.penize.cz/exekuce/18830-osobni-bankrot-petileta-cesta-z-dluhu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2533680" y="45720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900000" y="1989000"/>
            <a:ext cx="73152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6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539640" y="4221000"/>
          <a:ext cx="7561440" cy="1663920"/>
        </p:xfrm>
        <a:graphic>
          <a:graphicData uri="http://schemas.openxmlformats.org/drawingml/2006/table">
            <a:tbl>
              <a:tblPr/>
              <a:tblGrid>
                <a:gridCol w="3384720"/>
                <a:gridCol w="417672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Návrh na oddlužení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ároveň požádá, aby její úpadek nebo hrozící úpadek byl řešen formou oddluže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vrh je ochranou před exekutory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Návrh na oddlužení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lnSpc>
                <a:spcPct val="80000"/>
              </a:lnSpc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xekuce, mohou  soudem nařízeny, ale nemohou být vykoná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7720" indent="-1659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7720" indent="-165960">
              <a:lnSpc>
                <a:spcPct val="80000"/>
              </a:lnSpc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ěřitelé musí přihlásit své pohledávky za dlužníkem v rámci insolvenčního řízení</a:t>
            </a:r>
            <a:br>
              <a:rPr sz="3600"/>
            </a:b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7720" indent="-1659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Způsob oddlužení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. rozprodáním majetku dlužníka neb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. splácením podle věřiteli schváleného splátkového kalendáře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Způsob odddlužení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mínkou je, aby  bylo splaceno alespoň 30 % celkového dluhu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Splátkový kalendář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lužník zaváže do 5 let uhradit maximální možnou část dluh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  výši jednotlivých splátek rozhodne sou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usí zůstat životního  minimu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Splátkový kalendář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lužník musí pracovat, aby měl dostatečný pravidelný příje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zaměstnaným soud splátkový kalendář nepovol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Zrušení souhlasu s osobním bankrotem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 případě neplnění stanovených povinností může soud zrušit souhlas s osobním bankro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Zrušení souhlasu s osobním bankrotem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oddlužení se musí podílet manžel, manželka, pokud nemají zúžené a vypořádané společné jmění manželů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Insolvenční rejstřík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šichni dlužníci, kterým soud osobní bankrot povolí, vedeni v  insolvenčním rejstřík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eřejně přístupný na interne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Insolvenční rejstřík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 něm  všechny důležité úkony spojené s osobními bankro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 ukončení insolvenčního řízení soud dlužníka ze seznamu vyškrt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611280" y="1557360"/>
          <a:ext cx="8229600" cy="4956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sobní bankr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světlení podstaty osobního bankrotu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sobní bankrot, podmínky, návrh na oddlužení, způsob oddlužení, splátkový kalendář, zrušení, insolvenční rejstř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Úkoly: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1480" indent="-457200">
              <a:spcBef>
                <a:spcPts val="901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o je osobní bankro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spcBef>
                <a:spcPts val="901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mínky osobního bankrot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spcBef>
                <a:spcPts val="901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vrh na oddlužen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spcBef>
                <a:spcPts val="901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působ oddlužen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spcBef>
                <a:spcPts val="901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spcBef>
                <a:spcPts val="499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spcBef>
                <a:spcPts val="499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Úkoly: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5. Zrušení souhlasu s osobním bankro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6. Insolvenční rejstřík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187e3"/>
                </a:solidFill>
                <a:uFillTx/>
                <a:latin typeface="Arial"/>
                <a:hlinkClick r:id="rId1"/>
              </a:rPr>
              <a:t>http://www.muj-bankrot.cz/dokumenty_k_oddluze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187e3"/>
                </a:solidFill>
                <a:uFillTx/>
                <a:latin typeface="Arial"/>
                <a:hlinkClick r:id="rId2"/>
              </a:rPr>
              <a:t>http://www.penize.cz/exekuce/18830-osobni-bankrot-petileta-cesta-z-dluh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516040"/>
            <a:ext cx="7315200" cy="25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8600"/>
                </a:solidFill>
                <a:latin typeface="Arial"/>
              </a:rPr>
              <a:t>Osobní bankrot</a:t>
            </a:r>
            <a:endParaRPr b="0" lang="en-US" sz="6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516708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Osobní bankro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dlužení fyzických os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zákona č. 182/2006 Sb., o úpadku a způsobech jeho řešení (insolvenční zákon)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Podmínky osobního bankrotu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lužník je v úpadku, pokud má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íce věřitelů (nejméně dva) 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eněžité závazky, s jejichž úhradou je více než 30 dnů v prodlení po splatnost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Podmínky osobního bankrotu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lužník je v úpadku, pokud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ní schopen tyto závazky plnit (tzv. platební neschopnos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má dluhy z podnik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Návrh na oddlužení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fyzická osoba, která není podnikatelem, podá soudu na speciálním formuláři návrh na prohlášení insolv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vrh se podává na krajský sou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Návrh na oddlužení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 návrhu  na povolení oddlužení fyzické osoby musí  připojit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eznam majetku a seznam závazk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klady o příjmech dlužní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Návrh na oddlužení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 návrhu  na povolení oddlužení fyzické osoby musí  připojit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ísemný souhlas nezajištěného věřitele (= dostane méně než 30%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gor</dc:creator>
  <dc:description/>
  <dc:language>en-US</dc:language>
  <cp:lastModifiedBy>Igor</cp:lastModifiedBy>
  <dcterms:modified xsi:type="dcterms:W3CDTF">2014-09-13T14:50:18Z</dcterms:modified>
  <cp:revision>18</cp:revision>
  <dc:subject/>
  <dc:title>Osobní bankrot</dc:title>
</cp:coreProperties>
</file>