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F79E-E8C3-46B0-A9AC-15F8AED3E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F135-DB05-4E8A-AFCF-FE27C109C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6EE4-2FAB-4CAB-A853-3FEAEC094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7ABB-2EF6-4B90-B509-DFFFE10A3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3AAF1-1221-492E-8D2E-8EC0062D6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EC1C1-412E-45F7-A845-14C6DB6C7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C1EBB-0E6E-4048-A9DB-70D8C06A8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73BCB-1CE0-408E-AC0E-5E1E54265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D04C7-FA4A-41CD-BCBF-D8A0075A8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BE4BC-BAF0-4FDF-B14B-6850E3CC6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27A60-A96A-47F1-A007-BA45C523E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0B07-271E-4204-88E4-2F0A99594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3F2B1-4030-45ED-B697-81D213C28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A1772-A044-4057-8494-F827006ED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7A08A-F7A2-4BE6-8FA4-C92A59775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E1775-678E-413C-B67B-8046D9256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DAE11-087F-4B06-A8FC-C2DBD9ED8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AAD5-8421-4B12-909A-EC2C903B0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262C-75FA-4E40-A06E-C0D76585D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F627-F1A5-4826-AEFC-CD9656CC6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D3E7-0BC5-4C9A-8B97-5B0904B55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5537-11C3-45E1-B4C0-AB87AC36C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4B05-5E16-43F4-B37B-B0AF964DD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AA7E-7C04-4B4E-A644-530563047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DE470-4394-4F6A-A77E-D709C240A75D}" type="slidenum">
              <a:rPr b="0" lang="cs-CZ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9EDF1-848D-447E-9934-9BD4D1F83FB2}" type="slidenum">
              <a:rPr b="0" lang="cs-CZ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finarbitr.cz/cs/financni-arbitr/pusobnost.html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3" descr=""/>
          <p:cNvPicPr/>
          <p:nvPr/>
        </p:nvPicPr>
        <p:blipFill>
          <a:blip r:embed="rId1"/>
          <a:stretch/>
        </p:blipFill>
        <p:spPr>
          <a:xfrm>
            <a:off x="1989000" y="304920"/>
            <a:ext cx="5699160" cy="14317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1476000" y="1989000"/>
            <a:ext cx="6705720" cy="13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ahoma"/>
              </a:rPr>
              <a:t>Výukový materiál zpracován v rámci projektu EU peníze školá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ahoma"/>
              </a:rPr>
              <a:t>Registrační číslo projektu: CZ.1.07/1.5.00/34.0208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539640" y="3573360"/>
          <a:ext cx="7561440" cy="432000"/>
        </p:xfrm>
        <a:graphic>
          <a:graphicData uri="http://schemas.openxmlformats.org/drawingml/2006/table">
            <a:tbl>
              <a:tblPr/>
              <a:tblGrid>
                <a:gridCol w="1584360"/>
                <a:gridCol w="1511280"/>
                <a:gridCol w="1584360"/>
                <a:gridCol w="2881440"/>
              </a:tblGrid>
              <a:tr h="786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Y_32_INOVACE_16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539640" y="4149720"/>
          <a:ext cx="7561440" cy="1590840"/>
        </p:xfrm>
        <a:graphic>
          <a:graphicData uri="http://schemas.openxmlformats.org/drawingml/2006/table">
            <a:tbl>
              <a:tblPr/>
              <a:tblGrid>
                <a:gridCol w="3456000"/>
                <a:gridCol w="410544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g. Yvona Špílová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49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 ročník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3-41-M/02  Obchodní akademi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/201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eaeaea"/>
                </a:solidFill>
                <a:latin typeface="Tahoma"/>
              </a:rPr>
              <a:t>Finanční arbitr - působnost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442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spory do výše částky  50 000 eu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442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cs-CZ" sz="3600" spc="-1" strike="noStrike">
                <a:solidFill>
                  <a:srgbClr val="eaeaea"/>
                </a:solidFill>
                <a:latin typeface="Tahoma"/>
              </a:rPr>
              <a:t>Důvod vzniku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áklady soudního sporu vysoké, často převyšují spornou částku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zdlouhavost soudního řízení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harmonizace práv ČR v rámci Evropské uni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eaeaea"/>
                </a:solidFill>
                <a:latin typeface="Tahoma"/>
              </a:rPr>
              <a:t>Návrh klienta na zahájení řízení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ísemně poštou, e-mailem opatřeným zaručeným podpisem nebo prostřednictvím datové schránky, osobně, resp. ústně do protokolu v sídle Kanceláře finančního arbitr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cs-CZ" sz="4000" spc="-1" strike="noStrike">
                <a:solidFill>
                  <a:srgbClr val="eaeaea"/>
                </a:solidFill>
                <a:latin typeface="Tahoma"/>
              </a:rPr>
              <a:t>Návrh klienta na zahájení řízení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ávrh musí obsahovat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442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identifikační údaje navrhovatele a finanční instituc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442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doklad o tom, že instituce byla neúspěšně vyzvána k nápravě (vyřízení, zamítnutí reklamace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eaeaea"/>
                </a:solidFill>
                <a:latin typeface="Tahoma"/>
              </a:rPr>
              <a:t>Návrh klienta na zahájení řízení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úplné a srozumitelné vylíčení rozhodných skutečností 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důkazní prostředky nebo označení důkazů (smlouvy apod.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označení, čeho se navrhovatel domáhá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eaeaea"/>
                </a:solidFill>
                <a:latin typeface="Tahoma"/>
              </a:rPr>
              <a:t>Návrh klienta na zahájení řízení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rohlášení, že nepodal v téže věci žalobu k soudu nebo k rozhodčímu soudu nebo rozhodci ,že neuzavřel s institucí dohodu o mimosoudním vyrovnání a je si vědom závaznosti nálezu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eaeaea"/>
                </a:solidFill>
                <a:latin typeface="Tahoma"/>
              </a:rPr>
              <a:t>Návrh klienta na zahájení řízení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lnou moc, je-li navrhovatel zastoupen na základě plné moci,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datum a podpis navrhovate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eaeaea"/>
                </a:solidFill>
                <a:latin typeface="Tahoma"/>
              </a:rPr>
              <a:t>Průběh řízení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ýhradně pro klienty, návrh podává klien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bezplatná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edená proti finanční instituci nikoliv proti klientovi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eaeaea"/>
                </a:solidFill>
                <a:latin typeface="Tahoma"/>
              </a:rPr>
              <a:t>Průběh řízení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finanční arbitr rozhodne do 30 dnů ode dne zahájení řízení, ve zvlášť složitých případech  do 60 dnů, nelze-li rozhodnout ani v této lhůtě, může ji  přiměřeně prodlouži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eaeaea"/>
                </a:solidFill>
                <a:latin typeface="Tahoma"/>
              </a:rPr>
              <a:t>Průběh řízení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finanční arbitr rozhoduje nálezem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roti nálezu lze uplatnit opravné prostředky – námitky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ález je soudně vykonatelný a má účinky srovnatelné se soudním rozhodnutím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2195640" y="0"/>
            <a:ext cx="5187960" cy="1436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4" name=""/>
          <p:cNvGraphicFramePr/>
          <p:nvPr/>
        </p:nvGraphicFramePr>
        <p:xfrm>
          <a:off x="539640" y="1484280"/>
          <a:ext cx="8229600" cy="51735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inance, daně, finanční tr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nkovní obchod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nkovnictví a fina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zev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inanční arbit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4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ýznam instituce finančního arbitra pro klienty finančních institucí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4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inanční arbitr, spory, působnost, návrh klienta, průběh řízení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eaeaea"/>
                </a:solidFill>
                <a:latin typeface="Tahoma"/>
              </a:rPr>
              <a:t>Průběh řízení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  případě nesouhlasu s konečným rozhodnutím finančního arbitra je možné podat k soudu proti němu žalobu o přezkum rozhodnutí 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eaeaea"/>
                </a:solidFill>
                <a:latin typeface="Tahoma"/>
              </a:rPr>
              <a:t>Spory mimo působnost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apř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442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spor nenáleží finančnímu arbitrovi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442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o věci již rozhodl soud nebo bylo zahájeno soudní řízení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eaeaea"/>
                </a:solidFill>
                <a:latin typeface="Tahoma"/>
              </a:rPr>
              <a:t>Spory mimo působnost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apř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442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spor již řeší nebo řešil finanční arbit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442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bylo již rozhodnuto v rozhodčím řízení nebo bylo zahájeno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00000" y="5493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eaeaea"/>
                </a:solidFill>
                <a:latin typeface="Tahoma"/>
              </a:rPr>
              <a:t>Úkoly: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74400" y="2334960"/>
            <a:ext cx="6705720" cy="35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75480" indent="-375480">
              <a:spcBef>
                <a:spcPts val="901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Instituce finančního arbitra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75480" indent="-375480">
              <a:spcBef>
                <a:spcPts val="901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Důvod vzniku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75480" indent="-375480">
              <a:spcBef>
                <a:spcPts val="901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ůsobnost finančního arbitra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75480" indent="-375480">
              <a:spcBef>
                <a:spcPts val="901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ávrh klienta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75480" indent="-375480">
              <a:spcBef>
                <a:spcPts val="901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růběh řízení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75480" indent="-375480">
              <a:spcBef>
                <a:spcPts val="901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Spory mimo působnost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cs-CZ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Zdroje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http://www.finarbitr.cz/cs/financni-arbitr/poslani-a-ukoly-fa.htm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ffffcc"/>
                </a:solidFill>
                <a:uFillTx/>
                <a:latin typeface="Tahoma"/>
                <a:hlinkClick r:id="rId1"/>
              </a:rPr>
              <a:t>http://www.finarbitr.cz/cs/financni-arbitr/pusobnost.htm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http://www.finarbitr.cz/cs/financni-arbitr/pruvodce-podanim-zadosti.html#for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515680"/>
            <a:ext cx="7315200" cy="1776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eaeaea"/>
                </a:solidFill>
                <a:latin typeface="Tahoma"/>
              </a:rPr>
              <a:t>Finanční arbitr</a:t>
            </a:r>
            <a:endParaRPr b="1" lang="en-US" sz="6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066320" y="4768560"/>
            <a:ext cx="7543800" cy="13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5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eaeaea"/>
                </a:solidFill>
                <a:latin typeface="Tahoma"/>
              </a:rPr>
              <a:t>Finanční arbitr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mimosoudní orgán k řešení sporů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finanční arbitr s právem rozhodovat spor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sídlo Kanceláře finančního arbitra v Praz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eaeaea"/>
                </a:solidFill>
                <a:latin typeface="Tahoma"/>
              </a:rPr>
              <a:t>Finanční arbitr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finančního arbitra jmenuje vláda na návrh ministra financí na 5 le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finanční arbitr je odpovědný za svou činnost vládě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eaeaea"/>
                </a:solidFill>
                <a:latin typeface="Tahoma"/>
              </a:rPr>
              <a:t>Finanční arbitr - působnost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spory mezi institucemi provádějícími převody peněžních prostředků (zejména banky) a jejich klienty – např. o správnost zaúčtované platb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eaeaea"/>
                </a:solidFill>
                <a:latin typeface="Tahoma"/>
              </a:rPr>
              <a:t>Finanční arbitr - působnost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spory mezi institucemi, které vydávají a zpětně vyměňují elektronické peníze (platební karty) a jejich držiteli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eaeaea"/>
                </a:solidFill>
                <a:latin typeface="Tahoma"/>
              </a:rPr>
              <a:t>Finanční arbitr - působnost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spory mezi věřiteli nebo zprostředkovateli a spotřebiteli při nabízení, poskytování nebo zprostředkování spotřebitelského úvěru (např.o správnost výše úvěru nebo účtovaných poplatků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eaeaea"/>
                </a:solidFill>
                <a:latin typeface="Tahoma"/>
              </a:rPr>
              <a:t>Finanční arbitr- působnost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spory mezi investičními fondy, investičními společnostmi a spotřebiteli z fondů kolektivního investování, které shromažďují peněžní prostředky od veřejnosti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(např. o správnost poplatků) 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Igor</dc:creator>
  <dc:description/>
  <dc:language>en-US</dc:language>
  <cp:lastModifiedBy>Igor</cp:lastModifiedBy>
  <dcterms:modified xsi:type="dcterms:W3CDTF">2014-09-13T14:50:31Z</dcterms:modified>
  <cp:revision>22</cp:revision>
  <dc:subject/>
  <dc:title>Finanční arbitráž</dc:title>
</cp:coreProperties>
</file>