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FAC-592F-4973-A293-0F001650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BB4-FCE0-4DDB-839F-CF821396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B6F-1EDB-4D2C-AEB2-433D4319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FBE-699E-4443-8F7E-6C3FE510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AC72-2221-4218-812A-00837CB9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9A11-7E92-4E7E-BB28-36DEB34E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8EEF-9986-42C3-9F41-F46EB207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1FB9-EF79-4E95-8383-7E31AB25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8510-A1BB-401F-8434-04DBB8AD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702E-5C8C-48FE-81BD-9930DC04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1C18-2C06-4199-BF3C-17D9B106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DA6-80DC-4443-8BD2-2D60C605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A2B5-A774-447D-8404-28B28976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3137-59E2-4211-8801-36865F51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A13A-AC0B-4ADC-B4DB-8CDA95CC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5715-7BCC-47DE-8E5B-775467BA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60EB-D350-46F7-AAC0-24AE4FA9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1130F-2B79-4D33-9432-60C0B12C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892CF-EF32-4017-A266-90F79ABA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3A5D9-B3D8-4568-895C-D9CFEE13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AA41C-BEC0-491F-8C58-6878DAB9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A4644-2BB8-464E-9406-7E4B698A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849-9B1A-4C8A-A122-94BF5C10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0A1C1-6CFE-402D-AAC6-5E1CA69C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9931A-E98D-4938-97EA-B05143BB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3708C-A9D5-44F4-A21E-427C38E3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9A12C-76B5-4301-8B34-1B9F62A5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C5418-945E-4A8B-9160-7E24894D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83157-078F-4257-A8C9-12FDAF8D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B2373-60DD-4717-B8E8-39EC1CB7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2E1-F8B9-4771-A28B-613608AB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8DA-990A-4A7D-85AF-349F8EAD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DD7-BE92-4BF7-B20C-98602FDD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6CD-C1F2-4B56-BFBE-0848BE4F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F8B-FE61-4018-8CC8-A749EA52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3BE-AB08-40C8-AD4B-0D9B7529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99FD-93CE-473C-A100-E6B9ADD841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C1C6-66E8-4CB3-B45B-4A7127F2E5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2E2E-EFDE-44D0-BDC6-50951CD091F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295600" cy="1295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39640" y="4221000"/>
          <a:ext cx="7561440" cy="1662120"/>
        </p:xfrm>
        <a:graphic>
          <a:graphicData uri="http://schemas.openxmlformats.org/drawingml/2006/table">
            <a:tbl>
              <a:tblPr/>
              <a:tblGrid>
                <a:gridCol w="3384720"/>
                <a:gridCol w="4176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2556000" y="2637000"/>
                <a:ext cx="4176720" cy="24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…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čet období, po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erá se úroč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…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nu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1908000" y="1700280"/>
                <a:ext cx="547236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Rectangle 7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1908000" y="4005360"/>
                <a:ext cx="547236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2987640" y="1700280"/>
                <a:ext cx="3384720" cy="19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Rectangle 7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6"/>
              <p:cNvSpPr txBox="1"/>
              <p:nvPr/>
            </p:nvSpPr>
            <p:spPr>
              <a:xfrm>
                <a:off x="2340000" y="3860640"/>
                <a:ext cx="489744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3059280" y="1700280"/>
                <a:ext cx="324144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t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7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8"/>
              <p:cNvSpPr txBox="1"/>
              <p:nvPr/>
            </p:nvSpPr>
            <p:spPr>
              <a:xfrm>
                <a:off x="2195640" y="3933720"/>
                <a:ext cx="5113080" cy="200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692360" y="2421000"/>
                <a:ext cx="540072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j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n……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očet úrokovacích 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období (ukončený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l ……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očet úrokovacích období 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(neukončený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684360" y="3068640"/>
                <a:ext cx="756108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611280" y="1557360"/>
          <a:ext cx="8229600" cy="45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ednoduché a složené úrokov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ákladní pojmy a vzorce pro výpočet úrokování. Vzorové příkla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Úrokování jednoduché, složené, dekurzivní, anticipativní, úrok, kapitál, doba splatnosti, úroková míra, anuita, bankovní měsíc, ro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ient si vypůjčil z banky  65 000,- Kč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10 % úrok p. a. dek., jednoduché úrokování, dekurzivní. Kolik musí vrát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70 254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počítej původní jistinu a úrok, jestliže půjčka i s úroky byla splacena po 327 dnech. Úrok 12 % p. a. dek., jednoduché úrokování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225 000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 525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lik si můžete půjčit peněz, pokud víte, že za 3/4 roku budete mít na úhradu dluhu  200 000,- Kč, při úrokové míře 8 % p.a. a složeném úrokování dekurzivní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88 78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dlouho byl v bance uložen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0 000,- Kč, vzrostl-li při jednoduchém úrokování dekurzivním při sazbě 0,05 na 36 500,- Kč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156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rči úrokovou sazbu, byl-li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 000,- Kč úročen čtvrt roku a vzrost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6 075,- Kč. Úrokování jednoduché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 = 0,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 = 5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konom firmy vystavil 15. 4. 2009 vlastní směnku za dodávku zboží v hodnotě 100 000,- Kč se splatností za 6 měsíců. Zjistěte směnečnou sumu, jestliže úrok je 9 % p.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04 500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vzroste kapitál  500 000,- Kč uložený do banky 3. 2. 2006, který si klient vybere 6. 8. 2009 při úrokové míře 8 % p. a.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) jednoduché úročení d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) složené úročení d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) 640 33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) 654 986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se zúročí úvěr 1 milion korun, když byl úrokován složeným způsobem při 0,05 p. a. dek., po dobu 2 let 6 měsíců 27 dnů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1 333 868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dlouho byl uložen vklad 25 000,- Kč, vzrostl-li na 29 246,50 Kč při úrokové sazbě 0, 04 p. a. dek.? Složené úrokování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4 r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kolik % byl úročen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8 500,- Kč, pokud za 3 roky vzrost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20 000,- Kč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ní složené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i = 0,02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 = 2, 63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Jednoduché a složené úrokován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vzroste kapitál 240 000,- Kč s úrokovou mírou 8,5% p.a. uložený na období 22. 2. 2006 až  17.6. 2009 při kombinaci jednoduchého a složeného úročení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 314 87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MÉKALOVÁ, Darina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Finanční a pojistná matematika pro střední školy ekonomického zaměření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strava:  Montanex,s.r.o. , 1996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85780-39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kurzivní - polhůtn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nticipativní – předlhůtn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rok – 36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měsíc – 3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a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oč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s.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olet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q.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tvrtlet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s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síč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ečítací metoda (německá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výpočet počtu dnů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. Vypočítej počet dnů v obdob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5. 7. 2007 – 4. 9. 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4–15) + (9–7)*30 + (2009–2007)*360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= - 11 + 60 + 720 = 769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0"/>
              <p:cNvSpPr txBox="1"/>
              <p:nvPr/>
            </p:nvSpPr>
            <p:spPr>
              <a:xfrm>
                <a:off x="2195640" y="2205000"/>
                <a:ext cx="489744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Rectangle 2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2"/>
              <p:cNvSpPr txBox="1"/>
              <p:nvPr/>
            </p:nvSpPr>
            <p:spPr>
              <a:xfrm>
                <a:off x="1116000" y="4149720"/>
                <a:ext cx="6840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3059280" y="1628640"/>
                <a:ext cx="381780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Rectangle 7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3132000" y="3789360"/>
                <a:ext cx="3745080" cy="21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23:34:46Z</dcterms:created>
  <dc:creator>Marek</dc:creator>
  <dc:description/>
  <dc:language>en-US</dc:language>
  <cp:lastModifiedBy>Igor</cp:lastModifiedBy>
  <dcterms:modified xsi:type="dcterms:W3CDTF">2014-09-13T14:50:43Z</dcterms:modified>
  <cp:revision>25</cp:revision>
  <dc:subject/>
  <dc:title>Jednoduché a složené úrokování</dc:title>
</cp:coreProperties>
</file>