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DE7-4B2D-43DF-9ACE-378A21AE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957-52ED-4A3D-804E-4D535A2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21A-CD6B-4CC7-BD3C-754DD13A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C73-9A13-46D4-800D-DEC8047D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FC5F-5349-49A1-A5EB-4252F3DA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612D-F484-49E5-8C26-93F0A53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0AD-D831-4F67-AD73-C9CD6BF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0F8-2E0F-408F-9A4C-D7300535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CA6-741E-4B45-94BD-BCA766F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7A4C-23E2-40DB-96D9-8879A9E7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5D5-5AF0-4C96-BE69-392B7BE5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F36-5616-4DD8-86DE-BEBEADC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5719-FD1A-4D40-8D39-DD5D673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9440-B0D9-4673-B196-5CF7CA79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64D1-BB6E-4A2E-9D73-C113E73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C61-47FE-4ACB-BF87-C5D7170F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654A-EBC8-49D4-A333-E40A55A2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E6D-179D-4CEE-B8D8-3FDEADA4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A41-A5DD-4E6C-BFF9-CAA8AD01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EF9-47F7-451A-9942-D3BEF76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D01-00E7-4988-AFCF-DFF74FE1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256-5B1E-4DB3-B7E3-5411AFE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7D0-56E5-410C-8AC7-FF100AB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1A1-B3D8-4516-ADBC-54F7D48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87C-C55E-4AA0-B9E8-0031EF21DDF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AC9-1AE1-4569-AD79-ACDB4373794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q-teste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9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tvůrčí, má mnoho nápadů, umí řešit náročné úkoly, je flexibilní a dovede vymyslet řešení odlišné od konvenčních zvyklostí a tím posunout problém výrazně dopře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zabývá se méně podstatnými věcmi, je plně zaujat vymýšlením vlastních nápadů a když je čas na realizaci věci, stále předkládá nové nápady. Nekomunikuje s ostatními příliš efektiv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lný energie a zapálený pro věc, hledá nové kontakty, objevuje další možnosti uplatn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čáteční nadšení z něj může rychle vyprchat, někdy je nebezpečně optimistick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88640"/>
            <a:ext cx="8007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spolehlivost, disciplína, dokáže měnit myšlenky na skutky, z abstraktních návrhů dělá konkrétní produkt, uvažuje prakticky a racionál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flexibilní, těžko reaguje na změnu podmín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vede volit optimální strategii, hodnotí všechny možnosti, jeho úvahy jsou přesné, od ostatních požaduje kvalitní prá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dovede motivovat ostatní členy týmu, může být příliš kritický až destruktiv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ciálně zdatný, dokáže mírnit a hasit konflikty, stará se o ostatní v týmu, vytváří příjemnou atmosfé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schopen dělat důležitá a náročná rozhodnut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tahovač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hlídá si termíny a limity, posouvá problém do konce, když už ostatní přestávají pracovat, je spolehlivý, pečlivý a svědomitý. Dbá na to, aby dílo bylo bez chyb a hotové podle zadán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asto má zbytečné obavy, neumí spolupracovat s druhými /zejména protože, by mu narušili pořádek v jeho pr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loajální a má rád svůj obor, jeho znalosti jsou velmi cenné, odhodlaně pracu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bývá se pouze úzkou oblastí, ve které se vyzná, sleduje to co jej osobně zajímá, nedokáže skupině dát dynamiku a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bevědomí, pomáhá lidem v týmu, aby spolupracovali, dává je dohromady. Ujasňuje cíle, dodává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ho přínos je především mezilidský, profesně si práci zjednodušuje, může manipulovat druhými lid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to velmi energický člen týmu, který tvoří hnací motor. Je odvážný a odhodlaný řešit i náročné úkoly a nečekané obtíž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ovokuje a někdy uráží ostatní, nepřispívá k dobrému klimatu ve skupin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www.iq-tester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i můžete zkusit testy on-line: test vrozené inteligence, test numerické inteligence, testy osobnosti a pracovní psychot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: www.iq-tester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5440" y="244440"/>
            <a:ext cx="576900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725480"/>
          <a:ext cx="8229600" cy="513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různými druhy testů, se kterými se mohou setkat u přijímacích pohovorů do zaměstn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Q testy, psychotest týmových rolí, pracovní psychotest, testy osob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8600" y="2936520"/>
            <a:ext cx="7715520" cy="14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sty u přijímacích pohovor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IQ 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Složky inte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ligence je schopnost řešit úkoly, která se dělí na jednotlivé složky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storová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D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mě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Správný IQ test by měl testovat a měřit všechny tyto složky intelig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nteligence je vrozená schop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tzn., že nelze ovlivnit její výši, ale můžeme ji pomocí modelových situací nebo zkušeností dále rozvíj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inci obvykle nevynikají pouze v jediné oblasti inteligence, ale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sahují lepších výsledků hned ve více oblastech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icméně je inteligence často zaměřená na určitou oblast, ve které vyniká více než v jiné. Překladatelé a básníci budou vynikat ve verbální inteligenci, architekti zas v oblasti prostorové představivosti. Každý jedinec má při vyplňování testu pocit, že na některé otázky se mu odpovídá snadněji než na ji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 se projevuje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hopnostmi logického myšl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logických analýz situací a problémů nebo správného používání matematických operací. Úkoly v IQ testech mají často podobu číselné řady, kde některá čísla chy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ou inteligenci mohou měřit i úkoly s doplňováním písmen, pokud mají matematický princip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př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oplňte následující písmeno: O Q S T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yjadřuje, jak člověk vnímá svět kolem sebe. Tuto schopnost mívaj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soce rozvinutou například architekti, nebo sochař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Úlohy na tento typ inteligence zahrnují otáčení tří-rozměrných objekt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izuální „2D“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izuální inteligence jd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poznání optických rozdí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obností na předmě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800748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erbální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jevuje jazykovým citem k mateřskému i cizímu jazyku, používáním vhodných slov, chápáním významu slov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měním rozlišit rozdíly ve významech slo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asto tímto druhem inteligence oplývají překladatelé, právníci či básní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rétní příklady na zjištění tohoto druhu inteligence mají podobu například vyřazování slov, která nepatří mezi ostatní nebo doplnění částí slov, aby výsledná slova dávala smy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i složk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torické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ůžeme například zařadit koordinaci pohybů, potřebu být v pohybu nebo schopnost práce a manipulace s různými předměty. Někdy se též nazývá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ligence praktick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mě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pamět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ožto další složka inteligence se testuje spíše výjimeč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Testy osobnost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800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ravidla se jedná o sadu otázek na níž klient odpovídá volně nebo volí z nabízených možností. Některé takové testy jsou také dostupné on-line, i když obvykle s nimi ještě zachází psychologov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měří testy osob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ěří především temperament. Ten představuje soubor relativně stálých a vrozených vlastností. Jeho změna je možná jen do velmi omezené míry. Typicky temperamentovými komponenty jsou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xtrovert – introver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bo všeobecně známá typologi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legmatik-cholerik-sangvinik-melancholi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lověk, který často vybuchuje a je prudší povahy, ale rychle se uklidní takový bude v podstatě celý život, stejně jako se flegmatický kliďas pravděpodobně nezačne v pozdějším věku více stresovat.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možňují jemnější rozlišení těchto vlastností. Tím se testy osobnosti liší o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Q test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racovní psycho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sty používané v psychologii práce – pracovní psychotesty zjišťuj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hodnost osoby pro danou pracovní poz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chopnosti a profesní orientaci člověka, jeho silné a slabé stránky ve vztahu k povol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kupinovou roli konkrétního jed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alší specifické vlastnosti lidí podle požadavků zaměstnavatele a pracovního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častěji 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covní oblasti používají k výběru vhodných zaměstnanců, při rozvoji zaměstnanců – pomůžou jim ukázat jejich silné a slabé stránky a také k nasměrování jedince na jakou práci se hodí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pravidla zadává personalista nebo pracovní psycholog, některé firmy používají psychotesty on-line, které jsou dostupné na internet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sychotest týmových rolí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8007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člen týmu má jistou pozi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r. Meredith Belbin popsal devět týmových rolí. Tým nemusí mít právě devět členů. Jeden člověk může mít dvě i více rolí (zpravidla máme role dvě, jednu dominantní a jednu více skrytou). Každá role je v konkrétním týmu zastoupena různou měrou. Záleží také na tom, co právě tým dělá. Společenství je schopné pracovat, i když nějaké role chybí. Efektivita takového týmu je však nižší. Belbin popisuje následující skupinové ro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otah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Belbin zdůrazňuje, že naše role nejsou neměnné. Pokud změníme kolektiv lidí, můžeme změnit i svojí roli/svoje role. Autor sestavil také vlastní test, kde se může každý otestovat a zjistit, kam v týmu patř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48:23Z</dcterms:created>
  <dc:creator>Administrator</dc:creator>
  <dc:description/>
  <dc:language>en-US</dc:language>
  <cp:lastModifiedBy>Igor</cp:lastModifiedBy>
  <dcterms:modified xsi:type="dcterms:W3CDTF">2014-09-13T15:26:16Z</dcterms:modified>
  <cp:revision>5</cp:revision>
  <dc:subject/>
  <dc:title>Snímek 1</dc:title>
</cp:coreProperties>
</file>