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8EA3-8CC0-40DC-AAD5-CAAD43357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E950-C914-4B24-BDFA-B970F17D2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A49A-53EF-4654-AA3B-C781D51DE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32D5-5C85-4B81-9BB7-0C35C92B5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2B6E-C2E0-43D4-B563-336EF4BBA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218F-4500-431A-B84D-2FB4357FA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AE48-D766-4058-84E8-3E77B4255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14B5-0EB5-4306-A5D8-69F7ABFF5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2993-4283-49D1-81CB-77B1060C7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4395-D798-4C37-BD91-97F9CB665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C8D1-F5F9-44A4-BD45-C81888F7C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30E4-64C7-4FC7-8AE2-303941994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D6D54-9795-4C21-9AA1-0FB01A05B14D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584360"/>
                <a:gridCol w="1511280"/>
                <a:gridCol w="1584360"/>
                <a:gridCol w="2881440"/>
              </a:tblGrid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_32_INOVACE_2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39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g. Bohuslava Klapuchov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. 10. 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6" name=""/>
          <p:cNvGraphicFramePr/>
          <p:nvPr/>
        </p:nvGraphicFramePr>
        <p:xfrm>
          <a:off x="468360" y="1495440"/>
          <a:ext cx="8229600" cy="51292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dnikání a podnikové činnos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ématická oblas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sonální činnos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konomi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stižný popis způsobu využití, případně metodické pokyny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udenti se seznamují se systémem odměňování, s faktory ovlivňujícími výši mezd, s formami mezd, příplatky ke mzdám a navazujícím složkám mez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měňování,nabídka a poptávka po práci, mzdové tarify, formy mezd, navazující složky mzdy, příplatk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9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dměňová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51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333399"/>
                </a:solidFill>
                <a:latin typeface="Arial"/>
              </a:rPr>
              <a:t>Jaké znáte formy odměňování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Hlavní forma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odměňování pracovníků = pení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xistují i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další formy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– zaměstnanecké výhody, pracovní prostředí, morální ohodnocení,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ystém odměňování by měl být takový, aby motivoval pracovníky k lepší práci a zároveň aby byl pracovníky považován za spravedliv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Faktory ovlivňující výši odměny za prác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333399"/>
                </a:solidFill>
                <a:latin typeface="Arial"/>
              </a:rPr>
              <a:t>Jaké faktory podle vás ovlivňují nejvíce výši odměny za prác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100" spc="-1" strike="noStrike">
                <a:solidFill>
                  <a:srgbClr val="000000"/>
                </a:solidFill>
                <a:latin typeface="Arial"/>
              </a:rPr>
              <a:t>kolik by měl pracovník dostat za svou práci ve vztahu k ostatním pracovníkům firm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práce je posuzována z hlediska zkušeností, iniciativy, kvalifikace, znalostí, stupně zodpovědnosti a rozsahu kompet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cílem je stanovit takový systém odměňování, který zajišťuje správnou diferenciaci jednotlivých prací pomocí vyjmenovaných hledisek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struktura peněžní odměny často odpovídá hierarchii funkcí v podniku, existují ale i výjimky – např. pracovníci v odbytu, kteří pracují za proviz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100" spc="-1" strike="noStrike">
                <a:solidFill>
                  <a:srgbClr val="000000"/>
                </a:solidFill>
                <a:latin typeface="Arial"/>
              </a:rPr>
              <a:t>diferenciace mezd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 – aby firma získala a udržela si zaměstnance, musí jejich mzdy konkurovat mzdám v jiných firmách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Platy a mzdy jsou určovány nabídkou a poptávkou po prác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Vlivy působící na nabídku prá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emografické vli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polečenské nor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ožnost dalšího vzděláv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áklady na další vzděláv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egulace vlády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Vlivy působící na poptávku po prác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av národní ekonomi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av mezinárodní ekonomi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ládní regu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ferenciace odměn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99"/>
                </a:solidFill>
                <a:latin typeface="Arial"/>
              </a:rPr>
              <a:t>Jakými způsoby se na trhu práce řeší nesoulad mezi nabídkou  a poptávko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5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5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5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95280" y="475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šší mzdy a platy mohou způsobit přesun pracovníků z míst, kde jsou mzdy a platy nižší do míst, kde jsou vyšší. Existují ale překážky v těchto  přesunech, např. dobré vztahy na pracovišti, atraktivní pracovní podmínky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dměna za práci – může být stanovena jak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časová mz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kolová mz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ěsíční pla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95280" y="549000"/>
            <a:ext cx="85694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Výše mzdy je zpravidla odstupňováno do tříd (kvalifikačních stupňů) práce, od nichž se pak odvozují </a:t>
            </a: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mzdové tarify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= peněžní vyjádření příslušné kvalifikační třídy za určitou časovou jednotku vynaložené prá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Kromě mzdových tarifů existují </a:t>
            </a: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samostatné navazující složky mzdy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, ve kterých se zohledňuje výkonnost pracovníků odměny, výkonnostní příplatky, prémie, účasti na výsledku hospodaření,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Základní formy odměňován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zda úkolová – závisí na odvedeném výko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zda časová – závisí na odpracovaném č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ěsíční plat – např. u státních zaměstnanc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Navazující složky mez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émie, odměny, výkonnostní složky mezd, podíly na výsledku hospodaření,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Příplatky ke mzdovým tarifů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cenění za ztížené pracovní podmínky, práci v noci, ve dnech pracovního klidu,… Jsou sjednány v kolektivní smlouvě nebo jsou dány zákon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Co je to kolektivní smlouv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olektivní smlouv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– sjednávají se zde základní podmínky odměňování práce, další podmínky práce a poskytování sociálních výhod zaměstnancům. Vychází se při tom z výsledků tzv. 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tripartitního jednán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zástupci zaměstnavatelů, odborů a státu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539640" y="134100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ŠVARCOVÁ, J.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Ekonomie – stručný přehled,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dání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o rok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012/2013 Zlín : Nakladatelství a vydavatelství Ing. Jena Švarcová, Ph. D., CEED, 2012. ISBN 987-80-87301-16-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1T07:34:44Z</dcterms:created>
  <dc:creator>Guest</dc:creator>
  <dc:description/>
  <dc:language>en-US</dc:language>
  <cp:lastModifiedBy>Igor</cp:lastModifiedBy>
  <dcterms:modified xsi:type="dcterms:W3CDTF">2014-09-13T15:04:58Z</dcterms:modified>
  <cp:revision>10</cp:revision>
  <dc:subject/>
  <dc:title>Snímek 1</dc:title>
</cp:coreProperties>
</file>