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147-3802-44BA-97F7-B23F2F18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D26-D47F-420C-8841-2E43D725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8C8D-2013-4747-9F97-752E4D22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E3B-961B-4A89-929A-23F29BB9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1A6-A7DD-4BD4-A2F6-F75192F4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2F8-AE7C-4578-8F4E-CB017FB9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451-C828-43F2-9E8F-2182325A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D07-6CD7-42E7-9D5D-E792AD17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F96-4B9E-4571-9661-A946FDC8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60A-2AEB-4333-9520-CD8FF77B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3A0-4925-4DAA-9C39-6C9FD6CB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9B4-1E35-4102-A127-F59210A1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EBC9-2A0B-4A6D-81DE-0B779E4D927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10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městnanec má hrubou mzdu 21 500,- Kč. Vyživuje 3 děti. Vypočítejte čistou mzd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1 50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0,065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 398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ZP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0,045 = 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968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uperH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1,34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8 900,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(zaokrouhleno na 100 Kč nahor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aň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8 900*0,15 =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4 335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levy na dan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- 2 07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(3*111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aňový bonu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 086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ČM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1 500 – 1 398 – 968 + 1 086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0 22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Úk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městnanec má měsíční mzdu 25 000,- a vyživuje dvě děti. Vypočítejte čistou mz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68360" y="1495440"/>
          <a:ext cx="8229600" cy="54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 postupem výpočtu mezd, počítají základní typy příklad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ubá mzda, sociální pojištění, zdravotní pojištění, superhrubá mzda, daň z příjmu, daňový bonus, čistá mzda, ostatní srážky, mzda k výplat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uhy mez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9ff"/>
                </a:solidFill>
                <a:latin typeface="Arial"/>
              </a:rPr>
              <a:t>HM = základní mzda + příplatky + prémie + odměny + osobní hodnocení + náhr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ákladní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hodinová – podle počtu odpracovaných hodin v měsí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měsíč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tál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úkol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dle odpracovaného množ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roviz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díl v % z realizovaných obchodů jednoho obchod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pl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zda za práci přes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rady mzdy za odpracované svá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latky za práci ve ztížených podmínkách a na zdraví škodlivých pracovišt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latky za práci v n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émi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dmě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pevná čás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sobní hodnoc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měsíční čás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hrady mz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volená, neodpracované svátky připadající na PO – P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kážky z důvodu obecného zá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šetření u léka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kolení, studium při zaměst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vatba, svatba dětí, rodi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ř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mr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Které zákonné srážky ze mzdy zná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Existují i jiné než zákonné srážky? Uveďte 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ciální a zdravotní pojiště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Ze mzdy zaměstnance se sráží pojistné, a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,5% z hrubé mzdy na všeobecné zdravot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,5% z hrubé mzdy na sociál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ojištění hrazené firm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% z hrubé mzdy na zdravot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5% z hrubé mzdy na sociál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aň z příjmů ze závislé čin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způsob zdanění mzdy daní z příjmů ze závislé činnosti je rozhodné, zda má zaměstnanec podepsáno prohlášení k d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á-li zaměstnanec podepsáno prohlášení k dan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ouze u 1 zaměstnavatele), je daň z příjmů srážena ve formě zálohy na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emá-li zaměstnanec podepsáno prohlášení k dan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otom je pro způsob zdanění rozhodující výše mz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ubá mzda do 5 000 Kč – srážková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ubá mzda nad 5 000 Kč – záloha na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íl mezi zálohou na daň z příjmů a srážkovou daní je mimo jiné v tom, že záloha na daň podléhá ročnímu vyúčtování, ale srážková daň je konečná a nelze ji již zúčt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počet mez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pojišt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* 0,0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dravotní pojišt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* 0,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uperhrubá mzda = hrubá mzda * 1,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ň z příjmu = superhrubá mzda * 0,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 z příjmu po slevách na da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daň z příjmu – slevy na d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Čistá mzd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– sociální pojištění – zdravotní pojištění – daň z příjmu po slev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zda k výplat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čistá mzda – ostatní srážky + nemocen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35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stnanec má hrubou mzdu 20 000,- Kč měsíčně. Vyživuje jedno dítě. Vypočítejte čistou mz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0 0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0,065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 3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0,045 =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9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uperH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1,34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6 8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6 800*0,15 =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4 02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vy na da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-2 07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1 117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 po slevá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833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Č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20 000 – 1 300 – 900 –833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6 967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0:06:20Z</dcterms:created>
  <dc:creator>Ing. David Holzbauer</dc:creator>
  <dc:description/>
  <dc:language>en-US</dc:language>
  <cp:lastModifiedBy>Igor</cp:lastModifiedBy>
  <dcterms:modified xsi:type="dcterms:W3CDTF">2014-09-13T15:25:22Z</dcterms:modified>
  <cp:revision>11</cp:revision>
  <dc:subject/>
  <dc:title>Snímek 1</dc:title>
</cp:coreProperties>
</file>