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91D7-96DF-4B15-B670-61BF7082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E10F-7444-4818-B038-AC5D3486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38CF-836E-4290-9612-5C4CB39E4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96B8-C4A3-4ECF-AFB1-3F88F55DA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A08A-F9CF-46E0-B4B7-2E071DB0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54CF-F24E-4BD3-8424-3A63552C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A42F-64E6-44DB-9728-7780B88D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5FF9-10FD-43C1-8CA6-A900DD45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A8D7-FFBA-48E9-8CB6-148F91A5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BF9B-5BAD-4B53-AB14-39CAB64E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6721-8548-496C-855E-F11B9B2E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482F-9E71-47C9-8E67-19470163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5225-13F2-4EF3-830F-9A69084D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36DC-C27C-472E-8F78-E62B2BB6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A2DD-4D99-4E69-9786-1A6B18F7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D158-FCD6-441A-9D12-3E7A954E8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685F-B35D-40C0-ACFC-6400E0D37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F095-6EBC-4650-B8F4-F6F2634C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2BB1-BF43-489C-8242-D2236DD6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7645-AC3C-4787-AAC9-778282D1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39FA-FCE4-4CE8-B04D-426555B0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A9DD-1B15-4289-9BBA-4BC11910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675D-0D25-4CD8-9770-7E4802BF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581F-70EB-4A19-981E-226073DE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5738-5191-46DD-B9A3-73E0C03AADBC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D2B0-6681-43C0-8AA2-3C2377DA6158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2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10. 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ahoma"/>
              </a:rPr>
              <a:t>Znáte nějaké situace, kdy zaměstnavatel nemůže dát zaměstnanci výpově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městnavatel nemůže dát výpověď zaměstnanci, poku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e pracovně neschopný na nemocensk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e povolaný k výkonu vojenské služ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e uvolněný pro výkon veřejné služ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městnankyně je těhotná nebo pečuje alespoň o jedno dítě do 3 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ŠVARCOVÁ, J.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Ekonomie – stručný přehled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dání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 rok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YSKA, R.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Právo pro střední školy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akladatelství Fortuna 2010. ISBN 978-80-7373-010-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1619280" y="115920"/>
            <a:ext cx="58737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9" name=""/>
          <p:cNvGraphicFramePr/>
          <p:nvPr/>
        </p:nvGraphicFramePr>
        <p:xfrm>
          <a:off x="468360" y="1341360"/>
          <a:ext cx="7704000" cy="5523120"/>
        </p:xfrm>
        <a:graphic>
          <a:graphicData uri="http://schemas.openxmlformats.org/drawingml/2006/table">
            <a:tbl>
              <a:tblPr/>
              <a:tblGrid>
                <a:gridCol w="3852720"/>
                <a:gridCol w="3851280"/>
              </a:tblGrid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dnikání a podnikové činno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sonální činno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konom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 k seznámení studentů se způsoby uzavření pracovního poměru, s jeho změnami a záni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acovní poměr, zkušební doba, povinnosti zaměstnavatele a zaměstnance, převedení, přeložení, výpověď, okamžité zrušení, dohoda, zrušení ve zkušební době, uplynutí dob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cc"/>
                </a:solidFill>
                <a:latin typeface="Tahoma"/>
              </a:rPr>
              <a:t>Pracovní poměr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Zákoník prá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3516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ahoma"/>
              </a:rPr>
              <a:t>Vznik PP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acovní smlouvou – nejčastější způso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olbou – např. poslanc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menováním – vedoucí pracovníci jsou jmenováni podle zvláštních předpis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ahoma"/>
              </a:rPr>
              <a:t>Pracovní smlouva musí mít písemnou formu a musí obsahova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ruh prá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Místo výkonu prá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en nástupu do prá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915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ahoma"/>
              </a:rPr>
              <a:t>Jaké další informace by podle vás měla pracovní smlouva obsahova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ahoma"/>
              </a:rPr>
              <a:t>Další informace uvedené v pracovní smlouvě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méno zaměstnance a název a sídlo zaměstnavatele (PO), nebo jméno a adresu zaměstnavatele (FO),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ližší označení druhu a místa výkonu prác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árok na délku dovolené na zotavenou, popřípadě uvedení  způsobu určování nároku na dovolenou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údaj o výpovědních dobách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údaj o mzdě a způsobu odměňování, splatnosti mzdy, termínu výplaty mzdy, místu a způsobu vyplácení mzdy, stanovení týdenní pracovní doby a rozvržení pracovní dob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Pracovní smlouva může být uzavřen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a dobu určit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a dobu neurčit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Zkušební dob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usí být ve smlouvě sjednána – pokud není, nepla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aximální délka zkušební doby je tři měsíce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lze ji sjednat v případě pracovního poměru na dobu určit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91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cc"/>
                </a:solidFill>
                <a:latin typeface="Tahoma"/>
              </a:rPr>
              <a:t>Jaké povinnosti vyplývající z pracovního poměru má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cc"/>
                </a:solidFill>
                <a:latin typeface="Tahoma"/>
              </a:rPr>
              <a:t>zaměstnavat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cc"/>
                </a:solidFill>
                <a:latin typeface="Tahoma"/>
              </a:rPr>
              <a:t>zaměstnanec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 u="sng">
                <a:solidFill>
                  <a:srgbClr val="ffffff"/>
                </a:solidFill>
                <a:uFillTx/>
                <a:latin typeface="Tahoma"/>
              </a:rPr>
              <a:t>Povinnosti vyplývající z pracovního poměru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ff"/>
                </a:solidFill>
                <a:latin typeface="Tahoma"/>
              </a:rPr>
              <a:t>Zaměstnavatel má povinnost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Vytvářet pracovní podmínk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Platit mzdu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Dodržovat právní předpisy, popř. kolektivní smlouvu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ff"/>
                </a:solidFill>
                <a:latin typeface="Tahoma"/>
              </a:rPr>
              <a:t>Zaměstnanec má povinnost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Vykonávat práci osobně podle smlouvy, ve stanovené době na stanoveném místě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Dodržovat pracovní kázeň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Změna P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vedení – Zákoník práce uvádí podmínky, za kterých musí být zaměstnanec převeden a podmínky, za kterých může být převeden, není nutný souhlas zaměstn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ložení – může se uskutečnit pouze se souhlasem zaměstn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394920" y="0"/>
            <a:ext cx="84358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Zánik PP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cc"/>
                </a:solidFill>
                <a:latin typeface="Tahoma"/>
              </a:rPr>
              <a:t>Jakými způsoby může pracovní poměr zaniknout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ýpověď – jednostranná, musí mít písemnou formu a musí být doručena druhé straně, začíná běžet první den kalendářního měsíce následujícího po doručení výpověd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kamžité zrušení – pouze ze zákonem stanovených důvodů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okud zaměstnanec porušil pracovní kázeň zvlášť hrubým způsobem, nebo pokud byl odsouzen za úmyslný trestný čin nepodmíněně na dobu delší než 1 rok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okud podle posudku lékaře nemůže zaměstnanec vykonávat práci a zaměstnavatel ho nepřevedl do 15 dnů na jinou práci nebo pokud zaměstnavatel nevyplatil mzdu do 15 dnů od její splatnost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Dohoda – musí mít písemnou formu a zaměstnanec i zaměstnavatel musí souhlasi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rušení ve zkušební době – písemná forma, musí být doručeno druhé straně, může dát zaměstnanec i zaměstnavatel bez udání důvodů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Uplynutím doby – u pracovního poměru na dobu určito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mrt pracovníka, zánik podnik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3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07:35:20Z</dcterms:created>
  <dc:creator>Guest</dc:creator>
  <dc:description/>
  <dc:language>en-US</dc:language>
  <cp:lastModifiedBy>Igor</cp:lastModifiedBy>
  <dcterms:modified xsi:type="dcterms:W3CDTF">2014-09-13T15:24:32Z</dcterms:modified>
  <cp:revision>12</cp:revision>
  <dc:subject/>
  <dc:title>Snímek 1</dc:title>
</cp:coreProperties>
</file>