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  <p:sldId id="272" r:id="rId35"/>
    <p:sldId id="273" r:id="rId36"/>
    <p:sldId id="274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slide" Target="slides/slide17.xml"/><Relationship Id="rId36" Type="http://schemas.openxmlformats.org/officeDocument/2006/relationships/slide" Target="slides/slide18.xml"/><Relationship Id="rId37" Type="http://schemas.openxmlformats.org/officeDocument/2006/relationships/slide" Target="slides/slide19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 type="dt" idx="4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 type="ftr" idx="5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6"/>
          <p:cNvSpPr>
            <a:spLocks noGrp="1"/>
          </p:cNvSpPr>
          <p:nvPr>
            <p:ph type="sldNum" idx="5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B8AB0-3707-4EC4-9778-CDE2BA8DCC0F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86825-E3FF-40E2-8B54-7DC5AE37D278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A1AEB-DEC6-4219-93C1-5A85BF947E5D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65C57-85F3-482D-856F-BCFE5416FC55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F795C-29BC-4058-83D2-24A6D41350D6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85642-8B0A-4E96-BE33-0F4C5F417E41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DA73C-A4D6-4FDC-AEC5-5B188F7D9A49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7AB8B-590F-4D56-8642-F98D4E39AE24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D5C84-91B8-4EA5-8637-3799B3D0F2DD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E2D7-A822-4926-9832-55E271655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73A5-CF32-4071-8195-6CE40102F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0AD350-69C2-40BC-9DDB-2DDB5EE0A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8699EF-5C67-4BB8-AF5E-8E0D1E444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397EF7-DCC3-4696-9F3E-E788720B6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48771F-6E7C-4CC7-A57D-5E9A69DFE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267B96-028E-4B24-B380-730F59DB2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2B8027-7777-4226-8CEC-84FDF2971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E5720C-66EC-4680-BB63-97B047635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24BF91-74F4-4791-B7C5-E5EAC9EA0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9C23F4-E298-4864-9CF3-ADB91EF02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EAE66A-393D-41AD-95A2-604B37DCC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0935-919B-462B-B980-6BB53FB96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95AC40-4587-4C5E-82E6-B528ECA9B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A26CB7-94D0-44CD-A0D0-35626DDBE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EFB1FF-EB76-41CA-9AFD-43BF66E32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60F06A-4C0F-415D-AD7B-34AD19132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2D74B1-D4CD-40A0-A954-782AB0524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0B0B71-A573-48CE-BEC5-F157C7B1E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6183A5-1B29-463D-B5B9-1716147C4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5964B1-9964-4E40-B5B6-572908AB6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5AA11F-770F-4BB6-854D-A111F7169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470A18-568E-44B0-8695-74A4E7425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0EB6-8F0C-4B15-B40F-8BF9E9556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EF6109-22A0-4043-B0C2-BCACB2EE7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D9F46D-A836-4848-A885-C3F364FAD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35B47F-6C3B-40D5-B265-6AF8693F4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3D2D87-25E7-49A9-B679-16E64F413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AD985A-A413-40A6-9282-B8EF52BEE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6011FE-2BC7-4DE7-8E89-5A767B3AA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35151A-9533-4681-A40C-6E542B8C0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2DB994-45DE-40C0-8D5F-99429D4D6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1E70CA-C0ED-4764-8590-75BC5473F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C28496-52BA-4700-BDB4-A92FA0AB4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015EA-A8EB-4926-BC88-F02A35002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9FD5CE-16A6-48DE-87C5-A1E963B10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95556C-DB38-45DA-93E5-B7B1AFD98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F08D3C-93AB-44E7-9633-7612DBC9F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B67636-72E3-4F60-8CA7-7B37E9485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36A1E6-51F1-4BF2-A5FA-D48DFC1DB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6D0E4F-008A-473A-AC47-81F74D866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6F5FCB-FCDC-4268-B1F4-C5145BF8F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3D6EB6-9DB5-45B6-BF98-077B115A1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2276AC-3112-47B7-BAAA-0511F77DB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CDCED0-8893-473D-9761-2F9B87C70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5B96B-E522-4673-90CA-6D5141293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A752F7-D366-4E51-AA4C-3348546FD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D16FCE-17B9-46C4-8339-ED864A554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50BF6E-BCD4-4B0D-BA59-112DC409E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5A47AA-F8A5-4EF7-96C4-619BAD954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F3B147-75C3-4057-922D-D973968C3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7A4D7E-A334-482F-AFE3-B0B74D5F3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F190F4-C1BB-4517-A9F5-26769FFAF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D5E9B5-015E-4922-94EA-42FBF2272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9A16A2-FBDD-4E8F-8505-F3181C3A8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9FC316-E0F3-4E93-84E0-213366666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BA13B-62AC-4B56-B5A9-1C2CF1E8B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A0EEAC-368C-4CC0-B3A5-96D6647CA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9EC949-B988-44F6-8783-6F793666A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528281-04FB-4E3D-B3D8-7BECA1389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6A4EB7-4826-4E14-BF31-EEA325BAE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87D9A3-4D36-4B91-90F9-FDB9FA37C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7ECE05-C79B-4571-B89C-E65A4C5AF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BB3C6F-372D-4547-B007-5F41283A6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0BCA538-19CF-4F39-9132-2A01A05CD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7CEDEF-5707-4BC8-8D3E-B7BA238B1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DA324F-4D22-449D-9598-F5AEB12D3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055AE-77A4-473D-84DB-1847E0635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D6E714-2675-4A13-812B-9C94711CF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B61D76-899E-4027-AB50-C414583EF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415B398-892E-4629-A542-53887DB8B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1D75BC-BC55-44BF-B0F0-521A0D26F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C82A99-9C22-4D12-B437-25D0EE284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D18A19-43D9-4EE5-A7FC-ED6251B15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902AC40-6A49-47EA-997B-09C31BEFF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CB05590-AD61-4705-A1D0-566939A28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AB768C-2375-4562-BA0B-0DFC1C7A4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46A8965-2EBE-4D03-8E4B-8B7991D88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F1F16-D2B3-4A68-8871-76170A1A2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2A8DA52-90A5-43DF-A386-D138BA23E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19B0622-A667-4FDA-838E-C1F81F42F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CDF2480-C7A1-4A95-9196-64BA3B816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822E7B2-AD8D-49B4-B417-4A53AA866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A68AB3A-DB46-43F3-A8D5-562E4CEFC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E30904C-D23D-46B6-8DEA-87A2EE452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CD91B27-8930-446D-859B-74F9D1D06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A30DA06-7572-40F6-BC06-64C4E8009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CD81A19-77D3-49D6-B27A-DF48EDB10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1E691A1-26C8-431A-9F1C-A477408A3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04A33-C515-4AC6-82F7-EFBB705E6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3B5C2A6-0352-4DF7-985E-DE1B959F4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57EA37D-5681-41BD-9E93-4BAC249DC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965ED4D-11BD-403C-80FC-590B85DD4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7ACFD9C-D0BC-4539-B380-316C11CB7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B591A1F-7C40-4961-BAFC-6A6101790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D1ED4DB-5042-48B3-A1C5-AE0CFDF20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6180F6B-B30F-4EB1-A7FF-9459245FB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33493C2-CEB9-40BA-904A-3A5175747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6FBBD9D-EABA-4E00-BC56-CAFB0D39B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5980B21-B4B6-4176-A28E-3A2910A71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97A9D-4943-4394-AC46-EF075E33D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A3C24E8-4020-448A-8A9C-FFCD44F5A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3013B41-B003-4F6B-98B3-90FFC655E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6D8030C-F991-4AEB-996A-C19D394B2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6519-7A10-4906-B7A4-DC9F44915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AE9A7-6C2C-47CB-9F1F-7C1D769EF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9D5C1-40CB-49E4-9362-99055E986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318CA-8211-4A14-AA84-3C220CA20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E0A9A-59EA-4298-A597-D59E948F4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C0576-5BEC-4B3C-93A9-2BAF7E07B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F9C369-0602-4DDA-B608-9F5484094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946C87-63C4-47E1-9058-7D1F2F66C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7FACD7-C377-455E-B61C-1C89586B3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8882FB-6301-4926-9373-988A57ADA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0B93EC-31C1-4500-A293-E8C09428F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25B8-DE3B-481A-9268-91FC03E67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814645-8B6D-4A15-B467-F8BA9B7AA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52F687-7570-4E56-A5A7-0CF336921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C172F4-9048-4AD7-BDD0-AD0743450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C0692C-9E89-43B4-A86B-2181678DC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A79FFB-2F90-4816-9286-48E0D962A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F3C8CD-E878-4BAC-A916-54A384F48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0AEAE0-A733-447D-8EA7-137652965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D22B89-BC38-4FD8-B967-6E6B98A31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61D4BD-9C72-4C12-BC54-83851F218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6E0D23-D61B-415F-B667-054D4A325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CB1B-54F6-4F4D-8B9A-4DB927664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BE1CF2-3D1F-4A02-B99E-BC00AE158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98548E-413A-4212-9397-64861A0DB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3F1ADC-AE8C-4EDE-8A59-068E449D4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381728-8DEC-4686-9177-2E8932E55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46336E-7D4F-4743-B788-582D4ED21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0D4158-7403-4301-93F3-0DF97757F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1453BF-0993-4FE0-954B-93A8DB744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BEF1F4-04CE-4395-B8E8-97DE81C59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F54C7A-1D2A-40C6-84ED-E02D7756A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A4697F-DCB4-4AD3-AC8B-A2332FBBD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9229-7DC7-4C74-B92B-B451E1B28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75A931-0B0E-4091-852B-441E0F4DA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463EA1-9A24-4F26-8E9E-A0FFA5A91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1E636C-28FE-449A-9145-6BF7E1490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66875B-B46E-48CA-80C4-E974496DD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A773D2-F3DE-4EA6-A118-B8087D3B0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A3BDB5-86DE-489A-8E95-8AD0F54B2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5F7252-D266-41E9-BA9D-7D912A2B5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C4963B-0084-4643-9D62-C6E5F0A5B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0F5D07-3844-4BAC-8F4D-75C516B22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E3F749-042F-439E-9BAE-3D264D8B3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B498-54B3-4432-9D41-BA501CA28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C22D08-30DA-4073-A06D-A05B6C0F3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0957DA-8D7B-49BE-AA44-87F291160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DCA87B-A17C-441D-B091-00CCE1628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0F64AC-40D8-4D24-BF8C-18DABCF5F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344318-C6EF-4BF9-9BDE-86247393A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39BA19-926A-45FF-9215-D00072D72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8D7608-58EC-4D3C-85A8-81470E062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75F4FB-8771-4E35-87A5-114707606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22E738-46B8-48FF-A315-5FEA7E5B9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F008DD-C19E-4D98-B2D4-C8E3C0158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B1C5-86C6-468A-A463-46C6FED84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5FAAD7-F02C-4213-A201-4813AB8A3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0DD97C-50E8-41DB-B24B-63E12E0B8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765EFC-E7BF-497C-BC54-DD989D7FC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CB42AA-B193-4597-A11F-8722B7E49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84DB15-22F3-46D7-9F4F-E43DE71D5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CEFD6E-92DE-42B2-94A1-BE562017D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D6CA89-7605-474A-AD41-BBAF79596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BD8236-D120-422D-9F5F-6685BE8F7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73371D-F2DF-45F7-BBB6-03D2008E3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04B39C-D101-4777-BBBD-18120FBB8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B0AE-50D9-4D3B-9A73-0532B1F4D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5EE9DA-888B-4079-850B-12912E9CD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36B149-D2D5-400A-820E-A738E15C7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483E79-BA4D-4972-B2A0-6CC2B9999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C2CD45-6F30-4501-AA4A-3C06342E2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362C63-1496-4127-9FB2-21616D9D5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994221-991D-4AEC-994D-F46BBD592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8916BC-12A2-4342-B094-9A3E0F8E4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37E80F-9AC2-480A-86F8-289ABD7A6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5218F0-4E42-4EB4-9BCA-F40EDF037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735543-F888-4951-8AD5-D351630C6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E802-6777-4567-A2C1-E0371DAC4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68C5F1-C366-49B0-99A5-54154A638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BBF3C8-A604-444C-A53B-D7D970997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DF52C1-4D2A-44E1-A889-A869C262F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C6BFE8-DBEA-4A3F-B1A9-D869828B4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FAA5DE-2351-419C-8741-8C4CF888D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B222C8-53CD-4A6C-845A-6F3C9CB2B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029341-4503-4CB0-AD09-02FE2B3D0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1A022C-90E1-426F-BA63-711F1266C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0375B9-51DD-4976-94B3-63B20E3EF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E58AEA-DC05-4CCF-A0E5-569F54705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69.xml"/><Relationship Id="rId7" Type="http://schemas.openxmlformats.org/officeDocument/2006/relationships/slideLayout" Target="../slideLayouts/slideLayout170.xml"/><Relationship Id="rId8" Type="http://schemas.openxmlformats.org/officeDocument/2006/relationships/slideLayout" Target="../slideLayouts/slideLayout171.xml"/><Relationship Id="rId9" Type="http://schemas.openxmlformats.org/officeDocument/2006/relationships/slideLayout" Target="../slideLayouts/slideLayout172.xml"/><Relationship Id="rId10" Type="http://schemas.openxmlformats.org/officeDocument/2006/relationships/slideLayout" Target="../slideLayouts/slideLayout173.xml"/><Relationship Id="rId11" Type="http://schemas.openxmlformats.org/officeDocument/2006/relationships/slideLayout" Target="../slideLayouts/slideLayout174.xml"/><Relationship Id="rId12" Type="http://schemas.openxmlformats.org/officeDocument/2006/relationships/slideLayout" Target="../slideLayouts/slideLayout175.xml"/><Relationship Id="rId13" Type="http://schemas.openxmlformats.org/officeDocument/2006/relationships/slideLayout" Target="../slideLayouts/slideLayout176.xml"/><Relationship Id="rId14" Type="http://schemas.openxmlformats.org/officeDocument/2006/relationships/slideLayout" Target="../slideLayouts/slideLayout177.xml"/><Relationship Id="rId15" Type="http://schemas.openxmlformats.org/officeDocument/2006/relationships/slideLayout" Target="../slideLayouts/slideLayout178.xml"/><Relationship Id="rId16" Type="http://schemas.openxmlformats.org/officeDocument/2006/relationships/slideLayout" Target="../slideLayouts/slideLayout179.xml"/><Relationship Id="rId17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DF496-EF5B-4640-B29B-D826F3AFBD43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Přímá spojnice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431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2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3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28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29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0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D1FF9-5BA0-4F64-8261-FEC5D680240F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475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77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478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80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481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3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3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3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27580-5489-4725-BCBF-AD8E791088F6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 type="dt" idx="3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 type="ftr" idx="3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 type="sldNum" idx="36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EC9F4-10D0-40D5-9654-16B733A26234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5" name="Přímá spojnice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566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7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6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 type="dt" idx="3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 type="ftr" idx="3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 type="sldNum" idx="39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21EEB-3920-4554-A10C-B98E15BC3F5E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 type="dt" idx="4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 type="ftr" idx="4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 type="sldNum" idx="4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51AC8-7180-42C9-8A71-37BCB76A873F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0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651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53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654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56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657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65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 type="dt" idx="4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 type="ftr" idx="4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 type="sldNum" idx="45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99D2F-6A4D-41FC-8827-8DC7609D9274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6"/>
    <p:sldLayoutId id="2147483832" r:id="rId7"/>
    <p:sldLayoutId id="2147483833" r:id="rId8"/>
    <p:sldLayoutId id="2147483834" r:id="rId9"/>
    <p:sldLayoutId id="2147483835" r:id="rId10"/>
    <p:sldLayoutId id="2147483836" r:id="rId11"/>
    <p:sldLayoutId id="2147483837" r:id="rId12"/>
    <p:sldLayoutId id="2147483838" r:id="rId13"/>
    <p:sldLayoutId id="2147483839" r:id="rId14"/>
    <p:sldLayoutId id="2147483840" r:id="rId15"/>
    <p:sldLayoutId id="2147483841" r:id="rId16"/>
    <p:sldLayoutId id="2147483842" r:id="rId17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4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4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2EAF5-6F75-458C-9302-C17A3BA6B98C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0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51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2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AE30A-4672-44A4-B4C3-3B90CBACC63A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6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ftr" idx="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sldNum" idx="9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734F1-3C70-4ADA-B72D-612644858388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103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04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6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7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146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7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8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149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0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75BCA-847A-4710-A087-7FAA7C4A2B4E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193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94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195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6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7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98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199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0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dt" idx="13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ftr" idx="14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 type="sldNum" idx="15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0E22E-A9D7-44F6-B75C-DF183826D259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Přímá spojnice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243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4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sldNum" idx="18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1CBE1-ABD1-4CA3-8A66-9A227E692389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6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287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89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290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92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293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9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0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1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BCDB6-4D23-4513-B75F-ECE911790F36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Přímá spojnice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337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3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046CA-2D15-4CA2-BFDF-44DC6BEA363B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0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381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83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384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86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387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8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FD59A-8E04-43F3-97EC-699EE80E0159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Rectangle 2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749" name=""/>
          <p:cNvGraphicFramePr/>
          <p:nvPr/>
        </p:nvGraphicFramePr>
        <p:xfrm>
          <a:off x="1332000" y="4172040"/>
          <a:ext cx="7415280" cy="36504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639720"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14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50" name=""/>
          <p:cNvGraphicFramePr/>
          <p:nvPr/>
        </p:nvGraphicFramePr>
        <p:xfrm>
          <a:off x="1332000" y="4751280"/>
          <a:ext cx="7416720" cy="109692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Mgr. Martin Frol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3.A 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/ třetí ročn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.11.201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1" name="Obrázek 1" descr=""/>
          <p:cNvPicPr/>
          <p:nvPr/>
        </p:nvPicPr>
        <p:blipFill>
          <a:blip r:embed="rId1"/>
          <a:stretch/>
        </p:blipFill>
        <p:spPr>
          <a:xfrm>
            <a:off x="1911240" y="115920"/>
            <a:ext cx="5321520" cy="131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The address - titl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3366"/>
                </a:solidFill>
                <a:uFillTx/>
                <a:latin typeface="Arial"/>
              </a:rPr>
              <a:t>Academic and aristocratic titles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are always 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BEFORE THE NAM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3366"/>
                </a:solidFill>
                <a:latin typeface="Arial"/>
              </a:rPr>
              <a:t>   </a:t>
            </a:r>
            <a:endParaRPr b="0" lang="en-US" sz="9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               </a:t>
            </a: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Prof.Arthur Whitesnak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3366"/>
                </a:solidFill>
                <a:uFillTx/>
                <a:latin typeface="Arial"/>
              </a:rPr>
              <a:t>Positions and university degrees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are always 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AFTER THE NAM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66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Mr.Arthur Whitesnake, Ph.D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The addres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a) number of the house and the name of the street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b) name of the town or city and its postcod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c)  name of the country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The addres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Mr.Neil Bradbury, Manager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Abbey Court Hot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20 Pembridge Garden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W2 4DU London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England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The salut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Dear Sirs,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Dear Sir,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Dear Madam,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Dear Mr.Jones,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Dear Mrs.Stapleton,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The body of the lett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Why you writ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Your offer, order, request, complaint etc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Keep the same style whole through the letter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The body of the lett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78375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Dear Mr.Bradbury,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thank you for your order of 10th January for 5 Electric Dishwashers, Model AZZ 567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The dishwashers will be delivered by February 20th, 2013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The complimentary clos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Depends on the salutation!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Dear Sir, ………….... Yours faithfully,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Dear Mr.Black,…….. Yours sincerely,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The signatur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33cccc"/>
                </a:solidFill>
                <a:latin typeface="Brush Script MT"/>
              </a:rPr>
              <a:t>John Walcot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John Walcott, Sales Manager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White Dishwashers, Ltd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Rectangle 2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 u="sng">
                <a:solidFill>
                  <a:srgbClr val="330033"/>
                </a:solidFill>
                <a:uFillTx/>
                <a:latin typeface="Times New Roman"/>
              </a:rPr>
              <a:t>Použitá literatura: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4" name="Rectangle 3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Bočánková, M., Hedvábná, I., Kalina, M. 2004. Anglická obchodní korespondence. Ekopress,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Dyčková, J., Neumannová, O. 1998. English for bankers. RADIX,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Henderson, D., Streitwieser, V. 2006. Business English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Jones, L., Alexander, R. 2003. New International Business English. Cambridge University Pres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Mackenzie, I. 1995. Financial English. Language Teaching Publication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Měšťan, J. 2002. Anglický obchodní dopis se vzorovými dopisy. Nakladatelství JM Píse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Rectangle 2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 u="sng">
                <a:solidFill>
                  <a:srgbClr val="330033"/>
                </a:solidFill>
                <a:uFillTx/>
                <a:latin typeface="Times New Roman"/>
              </a:rPr>
              <a:t>Použitá literatura: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6" name="Rectangle 3"/>
          <p:cNvSpPr/>
          <p:nvPr/>
        </p:nvSpPr>
        <p:spPr>
          <a:xfrm>
            <a:off x="1258920" y="1557360"/>
            <a:ext cx="770076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Radice, F. 1992. English for banking. Macmillan Publisher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Skuch, E. 2005. Fit for Business English - Fráze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Tilley, R. 2005. Fit for Business English – Korespondence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Treger A. 2008. Inside the European Union. Leda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Abbs, B., Freebairn, I., Barker, Ch., 2003. New Snapshot Pre-Intermediate, Pearson Education Limite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3366"/>
                </a:solidFill>
                <a:uFillTx/>
                <a:latin typeface="Arial"/>
              </a:rPr>
              <a:t>Obrázky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http://search.creativecommons.org/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2" name=""/>
          <p:cNvGraphicFramePr/>
          <p:nvPr/>
        </p:nvGraphicFramePr>
        <p:xfrm>
          <a:off x="1258920" y="1700280"/>
          <a:ext cx="7416720" cy="452592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Cizí jazyk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Obchodní angličtina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Anglický jazy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Psaní obchodních dopisů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 ukazuje základní pravidla psaní obchodních dopisů, představuje typy obchodních dopisů a jejich jednotlivé části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Business letter, heading, salutation, body of the letter, signature, enquiry, offer, order, complaint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3" name="Obrázek 1" descr=""/>
          <p:cNvPicPr/>
          <p:nvPr/>
        </p:nvPicPr>
        <p:blipFill>
          <a:blip r:embed="rId1"/>
          <a:stretch/>
        </p:blipFill>
        <p:spPr>
          <a:xfrm>
            <a:off x="1911240" y="115920"/>
            <a:ext cx="5321520" cy="131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3366"/>
                </a:solidFill>
                <a:latin typeface="Arial"/>
              </a:rPr>
              <a:t>BUSINESS ENGLISH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subTitle"/>
          </p:nvPr>
        </p:nvSpPr>
        <p:spPr>
          <a:xfrm>
            <a:off x="4643280" y="3357360"/>
            <a:ext cx="4013280" cy="122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6666"/>
                </a:solidFill>
                <a:latin typeface="Arial"/>
              </a:rPr>
              <a:t>WRITING  BUSINESS  LETT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Types of business letter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Enquirie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Offer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Orders and their confirmation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Execution of order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Complaints and replies to complaint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Reminder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Parts of a business lett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The heading and the dat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The inside addres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The salutation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The body of the letter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The complimentary clos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The signatur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The head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Usually on special printed notepapers with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Name of the company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The addres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Telephon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Fax number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The dat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763" name="Organization Chart 7"/>
          <p:cNvGrpSpPr/>
          <p:nvPr/>
        </p:nvGrpSpPr>
        <p:grpSpPr>
          <a:xfrm>
            <a:off x="833400" y="2565360"/>
            <a:ext cx="7632360" cy="3310560"/>
            <a:chOff x="833400" y="2565360"/>
            <a:chExt cx="7632360" cy="3310560"/>
          </a:xfrm>
        </p:grpSpPr>
        <p:cxnSp>
          <p:nvCxnSpPr>
            <p:cNvPr id="764" name="_s1028"/>
            <p:cNvCxnSpPr>
              <a:stCxn id="765" idx="0"/>
              <a:endCxn id="766" idx="2"/>
            </p:cNvCxnSpPr>
            <p:nvPr/>
          </p:nvCxnSpPr>
          <p:spPr>
            <a:xfrm flipV="1" rot="16200000">
              <a:off x="5802120" y="2735640"/>
              <a:ext cx="662760" cy="2968560"/>
            </a:xfrm>
            <a:prstGeom prst="bentConnector3">
              <a:avLst>
                <a:gd name="adj1" fmla="val 15543"/>
              </a:avLst>
            </a:prstGeom>
            <a:ln w="28440">
              <a:solidFill>
                <a:srgbClr val="003366"/>
              </a:solidFill>
              <a:miter/>
            </a:ln>
          </p:spPr>
        </p:cxnSp>
        <p:cxnSp>
          <p:nvCxnSpPr>
            <p:cNvPr id="767" name="_s1029"/>
            <p:cNvCxnSpPr>
              <a:stCxn id="768" idx="0"/>
              <a:endCxn id="766" idx="2"/>
            </p:cNvCxnSpPr>
            <p:nvPr/>
          </p:nvCxnSpPr>
          <p:spPr>
            <a:xfrm flipV="1" rot="16200000">
              <a:off x="4812480" y="3725280"/>
              <a:ext cx="662760" cy="989280"/>
            </a:xfrm>
            <a:prstGeom prst="bentConnector3">
              <a:avLst>
                <a:gd name="adj1" fmla="val 15543"/>
              </a:avLst>
            </a:prstGeom>
            <a:ln w="28440">
              <a:solidFill>
                <a:srgbClr val="003366"/>
              </a:solidFill>
              <a:miter/>
            </a:ln>
          </p:spPr>
        </p:cxnSp>
        <p:cxnSp>
          <p:nvCxnSpPr>
            <p:cNvPr id="769" name="_s1030"/>
            <p:cNvCxnSpPr>
              <a:stCxn id="770" idx="0"/>
              <a:endCxn id="766" idx="2"/>
            </p:cNvCxnSpPr>
            <p:nvPr/>
          </p:nvCxnSpPr>
          <p:spPr>
            <a:xfrm flipH="1" flipV="1" rot="5400000">
              <a:off x="3823560" y="3725280"/>
              <a:ext cx="662760" cy="990000"/>
            </a:xfrm>
            <a:prstGeom prst="bentConnector3">
              <a:avLst>
                <a:gd name="adj1" fmla="val 15543"/>
              </a:avLst>
            </a:prstGeom>
            <a:ln w="28440">
              <a:solidFill>
                <a:srgbClr val="003366"/>
              </a:solidFill>
              <a:miter/>
            </a:ln>
          </p:spPr>
        </p:cxnSp>
        <p:cxnSp>
          <p:nvCxnSpPr>
            <p:cNvPr id="771" name="_s1031"/>
            <p:cNvCxnSpPr>
              <a:stCxn id="772" idx="0"/>
              <a:endCxn id="766" idx="2"/>
            </p:cNvCxnSpPr>
            <p:nvPr/>
          </p:nvCxnSpPr>
          <p:spPr>
            <a:xfrm flipH="1" flipV="1" rot="5400000">
              <a:off x="2833920" y="2735640"/>
              <a:ext cx="662760" cy="2968920"/>
            </a:xfrm>
            <a:prstGeom prst="bentConnector3">
              <a:avLst>
                <a:gd name="adj1" fmla="val 15543"/>
              </a:avLst>
            </a:prstGeom>
            <a:ln w="28440">
              <a:solidFill>
                <a:srgbClr val="003366"/>
              </a:solidFill>
              <a:miter/>
            </a:ln>
          </p:spPr>
        </p:cxnSp>
        <p:sp>
          <p:nvSpPr>
            <p:cNvPr id="766" name="_s1032"/>
            <p:cNvSpPr/>
            <p:nvPr/>
          </p:nvSpPr>
          <p:spPr>
            <a:xfrm>
              <a:off x="3801600" y="2565360"/>
              <a:ext cx="1695960" cy="13240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HOW TO WRITE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A DATE?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2" name="_s1033"/>
            <p:cNvSpPr/>
            <p:nvPr/>
          </p:nvSpPr>
          <p:spPr>
            <a:xfrm>
              <a:off x="833400" y="4551840"/>
              <a:ext cx="1695960" cy="13240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15th May, 2009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0" name="_s1034"/>
            <p:cNvSpPr/>
            <p:nvPr/>
          </p:nvSpPr>
          <p:spPr>
            <a:xfrm>
              <a:off x="2811960" y="4551840"/>
              <a:ext cx="1695960" cy="13240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15 May 2009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68" name="_s1035"/>
            <p:cNvSpPr/>
            <p:nvPr/>
          </p:nvSpPr>
          <p:spPr>
            <a:xfrm>
              <a:off x="4790880" y="4551840"/>
              <a:ext cx="1695960" cy="13240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May 15th, 2009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65" name="_s1036"/>
            <p:cNvSpPr/>
            <p:nvPr/>
          </p:nvSpPr>
          <p:spPr>
            <a:xfrm>
              <a:off x="6769800" y="4551840"/>
              <a:ext cx="1695960" cy="13240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May 15, 2009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The dat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29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You may write the date in </a:t>
            </a:r>
            <a:r>
              <a:rPr b="0" lang="cs-CZ" sz="2800" spc="-1" strike="noStrike" u="sng">
                <a:solidFill>
                  <a:srgbClr val="003366"/>
                </a:solidFill>
                <a:uFillTx/>
                <a:latin typeface="Arial"/>
              </a:rPr>
              <a:t>4 different types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15</a:t>
            </a:r>
            <a:r>
              <a:rPr b="0" lang="cs-CZ" sz="3200" spc="-1" strike="noStrike" baseline="30000">
                <a:solidFill>
                  <a:srgbClr val="003366"/>
                </a:solidFill>
                <a:latin typeface="Arial"/>
              </a:rPr>
              <a:t>th</a:t>
            </a: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 February, 2009     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15 February 2009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February 15</a:t>
            </a:r>
            <a:r>
              <a:rPr b="0" lang="cs-CZ" sz="3200" spc="-1" strike="noStrike" baseline="30000">
                <a:solidFill>
                  <a:srgbClr val="003366"/>
                </a:solidFill>
                <a:latin typeface="Arial"/>
              </a:rPr>
              <a:t>th</a:t>
            </a: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, 2009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February 15, 2009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29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3366"/>
                </a:solidFill>
                <a:latin typeface="Arial"/>
              </a:rPr>
              <a:t>!! Use words not figures for months !!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The address - titl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78375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Mr.   –   is used for men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Mrs. –   is used for a married woman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Miss –  is used for an unmarried woman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Ms.   –  is used for both married and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                </a:t>
            </a: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unmarried woman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4T18:42:48Z</dcterms:created>
  <dc:creator>Mgr.Martin Frolík</dc:creator>
  <dc:description/>
  <dc:language>en-US</dc:language>
  <cp:lastModifiedBy>Igor</cp:lastModifiedBy>
  <dcterms:modified xsi:type="dcterms:W3CDTF">2014-09-13T14:11:32Z</dcterms:modified>
  <cp:revision>21</cp:revision>
  <dc:subject/>
  <dc:title>BUSINESS ENGLISH</dc:title>
</cp:coreProperties>
</file>