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ECB7-034E-4862-ADD8-73DF2D8B0E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0E2F-02AF-4326-8B64-7D6C9A0096A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E14C-9F97-4AE9-9497-353027A79B7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A2C0-C9B8-4143-AC33-98AC0B6E698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308C-10B2-4B72-B79E-0CCDAA92B43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86F1-A993-4501-B276-718EAAE7664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54A3-84C3-47AF-9894-A67F33EE86F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67B1-991B-4279-AC57-91F96837217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2C3D-E9E8-429C-A28C-52DDAC0E05E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F2D-7CC1-403A-BC5C-F9955D14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D86-0BFD-46AF-8D3C-AC98BC28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2DA48-9054-4071-8DFA-DB13BCE0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BC5A6-FD5C-4D56-BEAF-4094B211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CCB5F-9C99-4BCC-9622-BCA72274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63870-A314-4E64-8620-EC797BDB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1C1E8-B7B8-4423-A3E0-DF242C0C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1030D-D4CC-489E-A5F3-13C549D4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D3462-575A-4821-823D-37FD3F24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38F41-4410-476B-9171-2D94E940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3AA42-EE3B-4172-9338-F21F4482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5076F-8D26-4D32-AEE8-8DA7B142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052-AEC8-4D58-BE7B-253602D7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A4F34-8EA9-47B6-BBC8-20783884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C9165-6E8E-40B4-9491-8F692145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B9BF8-84EE-4612-91EE-4617F721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A49DD-487A-4468-8710-42F2C0EE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450FD-B532-4106-ADE8-ADFA3066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85747-3240-4DFF-8700-35340075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172F9-E181-4A64-8424-4E2BDB98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957FE-489C-4B64-ADBF-FBDCA9CB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ED091-0139-44D8-B643-E9A6F852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ED926-F730-440E-8D4C-9BA1CFE3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5B8-BB31-47A1-ACA2-CFE504AE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3D6BD-FCFB-4683-8583-6EA27A37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889E5-AF0F-4343-99D9-1EC6521A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7EDEA-253A-4682-BD93-D7EF2FFA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A2ABA-D003-4B3D-A9D7-F2D831C2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C04FB-5BF2-4479-AA2A-03DF5658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A8736-F1BC-455E-A5AE-25CCF3DE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EAAC2-6AEE-41C4-8128-52B849F7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D46A4-C0A0-4281-B515-6589A6AE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C54C1-F719-4594-B501-BE464C03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93716-F0C3-420F-B657-0F006262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FEBA-A607-4362-9D45-47BA3EE0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8C564-95DD-4F8A-A4FC-EF3CA93F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B0033-FD9B-4CFD-AB56-1408033E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5A03F-CF6C-47F1-96AC-E0A270F8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CAF54-3ACA-4E3B-83BF-E32FF539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6D9E8-0595-4B0A-8E53-1906F223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82B69-EE02-47EB-909A-722CA514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5281F-8EB5-49AC-BE68-99DAD83A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AA9EB-C42A-4E38-9B3E-379A7BBC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BDB39-827C-4AE9-9A0F-408AFC31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ED580-33D7-422E-B3BE-158F4E97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4E07-DB39-4151-B7C9-8E0675A5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54D96-EE1F-4091-99FF-3A773B45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A39D3-3449-484D-953B-F88A0C67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6F15E-5A42-495A-855F-98486D2D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D69E5-9832-4146-A868-FE685A4D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4BD3A-68B6-4D9E-9CC9-4D14A7CF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137C3-A0E5-47D9-8ED0-E0A5ABE3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BBEE2-6DFA-40AE-BCAC-69481250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481AF5-903D-488D-B191-8F9DFB3B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9E00E-7419-4A7A-BF03-A6522561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94F92-CAEC-484D-A653-C586FBAE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2C87-81E1-44B7-AC3A-676DC231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7E429-939E-4B16-AE3C-5A2FB40E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F1B5F-22CF-49A7-96C4-DDC9890F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E201D-77AE-4A17-A43C-754EECDB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F95C7-3B5E-421A-9F91-4B1B1B7B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361AB-6B42-4275-B988-5818BDE5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B92F6-923E-49DE-93F2-46FB9879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C432B-518C-4A4E-8DC2-42B899B6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ABC5E-D8FB-4CC6-B8A8-01DA663B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E3B5A-5EF2-4BFF-9304-3A35B97F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10E4F-6458-4B75-93DB-05C10FA8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798D-7AE8-4603-B9D9-D67611FE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58DFB-5EDF-488F-9DB2-70FBC3AD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15E98-1AD3-40A5-ADEB-C3135F9A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15026-C584-4AD5-85CF-F6FA9AB7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1E0B6-CBA6-48DB-B8E6-2285082F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0281D-AD24-442B-AE06-61437064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AAB2B-E175-4EDD-A63C-B76CF0FE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8FD39-A7B7-4E96-A24C-CE4D9BA5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62EB0-CEBE-4063-8DBF-1C240415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5E0C16-C6BF-4C6D-AC80-2F1374B0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2BCD11-EEDB-42E2-B8AC-DD1A610D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BD0C-46D0-491C-A987-340FD394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692EF-562E-487D-B13D-B68A0D82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6DD38-5B97-41AB-9428-1F41BB51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73D12F-EE63-4B15-9EBB-039A86FF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A872EF-7C80-4BB9-A1D9-635E9B39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AA49D-C864-47DC-9884-4A0F71D1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BDB94-F4CF-41E7-A8BC-CEAC08DB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08D09-7753-4DBF-B762-51E4BF2D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2FBD98-B810-41E7-84B2-A5281A18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45DB29-DCDB-43B0-8B1D-B059EDBF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5006A-6A2F-4D33-9553-62978D04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950D-60FA-4AD7-9101-255F037F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8617A2-9822-4EDE-96F5-E74DC9C4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CBDCB-B018-4196-A660-44CFF311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DCE15F-9AB5-4F1B-946E-D53AD7AD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529D12-ED84-45C5-9DCF-57E1BE82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51EE0-F871-494B-ADFC-876F05BF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9199BE-5D18-4072-807B-E0DA5A07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C16218-5466-4540-BA91-B8A7F3D2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9F6F7-C8A2-4A00-B432-CF240BF5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53A910-EBDB-4C4B-A6A1-F3A7727B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BD9DD-16B7-4149-BC50-14F2ABBA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F6DA-5872-4B2C-9A21-DBDB5A68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AD9D9-65E8-4BFC-B7E3-CB22BCF0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8FD96C-ECE9-4D5F-83C8-5EC0C5FE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F00399-2209-4CF6-9C4A-A24990D6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683-C15D-46F4-8AED-88C84424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FADD-67B8-41A0-A205-57F0BFE9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D45D-9C64-4DB3-A9D6-B4F7985C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6BA8-9DD5-4DD7-B8EB-86F9B099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C24E-0998-4339-B871-D52FF090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7739-E73E-40DF-AE20-4D35C5B1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6DE7-3617-4D0F-9189-E1F82F95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117D-9756-40A2-95C7-6A096AF8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5C13-C908-4DB9-9D23-747036FA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627D0-7192-4AFA-BC5E-A6532896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6423-C2C4-4818-A6E5-0DE8CA6B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60B-DC7A-411B-8B52-F97AEB6D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ED64-EF74-4BB9-AE95-89BE1579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2B011-4442-4E08-9B5C-C44DFFF5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D7600-7B06-4277-B61D-9CC3C3CE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D0BCA-D237-41C6-980E-111B8C9B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8DC1-EF11-4418-86F4-5F5E1CAF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2EBE-8AA0-4656-9778-22666203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3C086-5E7F-4CDA-B4B1-214140A0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A0756-80F3-4EF8-A41C-DBDBE890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9227C-3871-4164-B5B4-6A80AEBA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AC19F-0DFE-4113-A3E3-5EBDF511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941-0389-4137-A629-C1D1EBE6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8BD30-DF3F-4560-A6FE-FD4A2256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81B4C-4705-44A7-A2D3-C33FF27A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05BDE-0D3C-4BC5-80E7-CF92CC94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6A7BA-59F9-4727-A8DF-6C159192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6ED8D-8692-4E03-8578-32AF5FC3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DF860-5F6D-44BD-92CB-67857095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4C70A-0814-4138-ABDE-13249A3F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89E07-8807-41CA-988F-03EBE65A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3C237-FD05-4C9A-9AF6-D19F9109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0495E-E275-409E-9EFD-1F6177E7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BC5-229E-42B8-8EED-214A5365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74B5E-A867-44EC-81F5-9255AAE8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43165-2E45-4EE3-B23B-E20EE0A6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55982-0151-4B47-B117-46DC5CC0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E8D5E-FBB4-42B5-BFFF-01341874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FE1A8-6749-4142-89C3-7834C782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B05A0-5569-4E02-A474-CDFAA0DE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12E94-D161-47FD-9A84-FD62F7BE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5434F-E39C-4943-9BA5-5510EF27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C070C-5211-4389-8900-90E546E4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9C271-8558-47C3-AD03-AD565667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E35-B60E-442F-B335-225E4AA5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86129-619F-4A85-BCA3-61A1C839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1E314-8646-4E29-BEAC-AFDBF281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21D12-E284-420C-833B-C507AAA3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1A1DC-5EFF-4DDD-AD2D-AC6ECDE5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ED307-7B1E-4246-9D1C-E6A08899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4E99C-C45F-4A3A-A519-5EF35627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3E85D-C86D-43C2-8C7E-BFC4D940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6E4AA-CD10-4EDF-9891-22FAAA36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9BDC9-5BE7-47E7-89B4-7E9DABBA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2B9A7-89F1-4017-B6A8-A64F4EFF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0E8-81B6-46B5-95FD-ED56DD8E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A2D16-D09E-4F78-B039-1E45EA1D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32316-8941-4B25-9A13-B232C547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21A43-9DCA-421D-BA6F-9B19C55E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9F4B2-F520-48DE-8CA1-0A42659D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CD725-8794-4104-B898-BD772295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DB320-6A94-4CBD-AFFF-9CADDA29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2C0E1-7C0B-4D61-A726-BBEBBAA0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AA991-62A5-4983-BAE3-C314DE28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82CF7-A2FC-4749-BE5C-8DDC0418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D63B8-769C-4628-966F-B8AED34A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11F-87A6-43C9-9206-5AD2C819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B18F4-4EE7-4EC5-99A9-11AB744D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943D7-78A1-4018-A762-9B8F68FB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C987C-8ADD-485A-814A-24B0D485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3C8D0-B35A-4BD3-9518-5E04C868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49014-6605-4C2B-8E83-E0163B6D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1C90D-E1FE-4A77-A0A5-E4C21A1D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93A8A-3BEE-4A93-BD0E-101FA123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01929-F847-4EAE-8ECC-D3327C95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A4E7F-0E22-4FBE-915F-0A410A6E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8313F-5C13-4917-9EDB-F9D9489F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674-BBAE-44F0-99F9-D4576D2D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7248D-DBB0-4B96-917F-A0CA5E4A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DD212-FA6D-418E-920B-6A8F327A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068C8-F078-480A-940E-EF1EAE35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DBD8C-F499-4E1A-A6B4-1DB40EEE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603EE-E593-441A-952E-C1557C3E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D54A8-80C2-4659-B663-29B96503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90278-EF14-4EA0-8008-7BF259E5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A6DEB-624E-42B1-AC1B-91B03B6C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951C8-4CE7-4610-945F-6323577D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1D8B9-31B9-4E7C-9FD1-EA91CF51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7911-9F97-4A96-8E47-3B3D53D113C4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EB05-DFAC-460D-A942-8DF905FD4EA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24A7-993F-4A02-AE1B-69BC5CA1FDE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81B0-6462-45A8-96D7-BF1626E8AD7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0FE6-4266-41F7-A338-B8C7D716560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0CE8-63CB-4256-8988-7E589B9A561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EA29-2879-4A8B-914C-373DCADB7CF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5C32-DBFD-4528-B0B5-40BCF160BC5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D5EA-6293-4485-9C59-EE3CC7C5B60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2C54-2E6B-4A9C-8345-F663F603B30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D80E-6F0D-4727-9FAD-287194CFF32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AFBF-2349-4C4C-B046-7AA613C2626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3B3D-52D9-43D4-BE9D-6E1B4BD6ADD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E8C6-DD12-4008-B3D6-8CE08DC1C2B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9F19-5F4B-47E2-8624-007F02422D5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7CA6-BAF4-48AB-8E3D-3AD93D04E68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) Terms of deliver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ompt deliverie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orward deliver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rtial deliverie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ixed deliver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) Validity of your off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inding off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irm off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ithout engage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nabíd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nabídkou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ffer, terms, delivery, price, valid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OFF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22478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ur offers should inclu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he description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your products 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he quantit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your product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he price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your products 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erms of payment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erms of deliver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alidit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the offer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) Description of prod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ypes of produc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chnical detai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atalogu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1" name="Obrázek 1" descr=""/>
          <p:cNvPicPr/>
          <p:nvPr/>
        </p:nvPicPr>
        <p:blipFill>
          <a:blip r:embed="rId1"/>
          <a:stretch/>
        </p:blipFill>
        <p:spPr>
          <a:xfrm>
            <a:off x="5845320" y="2924280"/>
            <a:ext cx="2043000" cy="2655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The quantity of your prod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ckag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The price of your prod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ic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tra cos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iscounts for bulk ord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iscounts for cash pay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iscounts for long-term busin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Terms of pay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etter of credi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yment after delive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cuments against pay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cuments against delive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) Terms of deliver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livery tim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lace of delive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way of transpo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1:52Z</dcterms:modified>
  <cp:revision>26</cp:revision>
  <dc:subject/>
  <dc:title>BUSINESS ENGLISH</dc:title>
</cp:coreProperties>
</file>