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3D90-28F7-4716-A79B-B27EB12263E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16EE-617F-4DFA-BF49-03EEE8CE99F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4881-A395-4631-93AB-4F9FBAD5EDE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C0EC-CD5D-4D6B-AD18-4190725F693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C622-6723-42C0-BF3C-5E68B5A52AA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5494-3C18-4821-8EC8-8D83D4E4941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5920-4E99-4240-BD63-C5B79A1AE0A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5122-E31F-4376-B049-C7BF1447B0F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1540-E496-43D6-897A-B866FB9012C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A41-8DC7-4336-8701-829E2390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C1A-A26A-47FD-9234-C91719D4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E1262-04ED-4217-80E9-F710FD58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50C3D-0D1A-442C-8F5E-212C677C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BAC42-EFCC-42CD-919B-8201F2C5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E5B2D-0269-4D66-8E41-4DB3461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02B58-32CB-4B42-87DB-BB4B4F0A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4C02A-3586-4103-B7DC-8550F03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BE322-69D6-41CA-89DB-2B8FADBC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D3B7A-90D7-41CD-A12A-19AF8328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6D0AB-49E9-4538-A0C8-F380899D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5B66F-2804-488A-82F3-632A619F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76B-336B-42E8-8F8C-EFBDD9E7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F78AD-4662-4573-815C-EEEE6C5F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679AD-1284-4108-BBF3-A2ED3B84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2A909-6CF0-4CAD-A637-DD77E2E5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CEB43-F376-4AF8-B903-051A3AB3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6DE83-B792-4F9E-85C7-D7EEAFD9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36838-9881-446D-A610-39B749B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DA85E-C21C-4930-A494-3CC3D9CC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478A1-F844-4F8E-9BCA-636D53B8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B15AB-5818-4EBB-97C1-1D2D6064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0F2CB-71C2-468B-988E-1EB7EA5B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6BE-6750-4644-87FF-38F0D5C5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B0867-7014-408A-B6EE-10667B67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05902-C226-4515-B0DE-C50080B2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E9B4B-84EA-4104-BEFB-15FE3DBD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8847E-9909-449A-89FB-B752FB79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92F5A-0F7B-4BBE-A26F-8696D2C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16B8C-69AE-4874-9983-4BB2421A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A2111-3226-4791-8128-C6E4C8AE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7636F-4766-4469-A9E9-68D796D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AF465-AB92-4722-90F2-8744A065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FA3AE-273D-417B-81C3-9B76B00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9938-CB54-4C72-B46D-9F55E3AF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BC576-03FE-4BC5-9548-CD095677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82353-090D-42C4-9B69-F86D99AC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D9BCB-2F50-4952-A456-E2F257C7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3A8A4-1FDA-4780-A71F-7615B0CE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DE53C-F9E3-4841-BCE6-EFDEC9D3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16F6D-AF8A-483C-8CEA-A61534F5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D1B3E-7237-463C-9EE9-D55FC7D4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EB1EF-F3F5-4AFD-984E-8046816D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A0E84-61EB-4C76-9445-27EBC3BB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6FD7C-4232-467A-BB94-7CA0FCBA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F4A3-C556-4430-B424-D9368E8C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008FB-5E57-4FE1-94BE-E65BF51B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B5515-94AA-4A1A-9108-60DD8FEB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09AD0-E30A-4F7F-A6EE-6BD886C4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FB6CA-4568-4542-A8FC-79C6D7D2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AFC86-24AB-47D1-AC51-B001981F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3FA13-4638-4291-97D6-EFBA6420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1767A-40A7-4269-B28E-DE659EE0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030E8-E964-456C-A1B6-1E0DC517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61732-004E-4A0E-B11F-B9B32A70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D6ED4-8AF5-4D9A-AC1D-9D4F67F9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A34E-6A99-45A5-AFC3-81FF2DC0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9400D-839D-4D29-A85F-8A716FC4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839C8-8F07-4116-BE1B-2ECC4D0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D7DA8-2B29-499A-9495-4A94D496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FA798-EBDF-487B-95B7-D5BBD883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332E2-5ED8-4DE8-8ECF-F463DA6D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88B5E-DB2C-4346-9C93-15FF51C2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B6A25-13F0-4D00-9E16-4A15616D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4E224-F177-4AFF-BA46-A386AEE3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CDCAD-8A1F-46E4-B197-57E4015C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C286A-7864-4F6F-951F-9CC39593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2164-3F61-4243-B7F4-614F777D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F5D58-8524-433B-B5D7-6E1F6CB1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956F6-74D4-41A4-B5FB-42123B35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A310D-9E36-49FA-9FB3-83FACFEF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0944E-724A-4645-9076-4C0889F3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82FB1-5526-4CA5-BDD4-7D6D5A27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1D8E2-80B3-47E2-B291-FBE1524C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E0AFC-44BD-4012-96C2-025944EA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FE725-3D10-435B-AD34-FD949975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CC6BD-57A3-4020-88E0-5BDCCD3E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49560-31CA-407E-BB8B-7328670E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602B-635B-4D40-BE1A-F8E69287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AD39B-6210-4C64-99FD-FF8A20B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BB3B6-3C0C-48E3-A77B-7F26B969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226F7-34E2-48B9-BD38-AC83A139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781D6-9506-4125-B642-E582D609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5C69B-502E-445E-ACCC-21507592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99DC0-9C12-4564-BF59-EBA67F9B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A8063-2710-4BC6-88A2-BD311595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EB9E2-E325-4543-A44B-A13E01C8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2623B-0CB1-4101-88C9-C30CCD2D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9C891-E0D2-4197-A477-E46A6736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4114-E03F-45C7-A3FD-6C7EED57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8950F-1BFB-46D7-9BCA-320CC8DA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9BE560-96DD-4295-98C1-7EDE5694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984B3-8220-4447-B7B8-57E0D023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0906A-0A22-44A9-8CD1-4CABB84C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F34A8-1495-4A4E-A66E-52E79F3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E9D7CE-BB40-487C-81E1-3A104BE0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30A67-3FB9-4743-BE64-5B6DE6F0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EC5EC-34F8-4761-97D4-72C96D8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5ED21-0C80-4190-B269-04749FF4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215F0-D5CC-4226-B941-A661C451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D0A4-6B10-41C3-B8CC-E410B94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E6466-8C76-4AD5-ACAA-5EB0176E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71B52-4CF2-4C23-B313-0460580A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A3809-27C4-4D66-B391-B1C63BB3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E8252-9834-4411-B177-97C8FFA0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E93D3-F345-4B32-8D0C-E687A5ED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0878D-295E-476E-B763-8C6D6974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453EF-EA12-4C70-8244-8914F423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D6BDF-FF4E-412E-AF2C-B9D2D8B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D0BF7-FA12-40F5-9CA0-F08385BC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95872-6E81-46A4-A988-626703B0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E6D-F2C4-4939-97FC-B65B57B1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CB95-749B-40B4-AAD7-2A209E8B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2C186-1AB7-4F18-863D-CCCF728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7ED04-307A-4DBA-A7A6-FD97056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CF718-9D81-4E72-80C3-CB4FDBAA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21AB0-48B7-46A1-A2BB-BE6D76E7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648C7-8F54-4573-8159-775C1F71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CA7D8-2E41-46BD-98C5-BE7DFCF2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7D3431-E440-4994-818E-436748A5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B1C65-10FC-46AF-87A3-CEA1AF63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650028-D813-4769-9667-F03076D9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A3D1B-0D90-460C-ADD2-905E656C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4B35-C34D-4D82-A29D-5DA6E09E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65807-D451-4FA5-B0E9-F5F179B2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CBD30-E965-4BFA-8C05-ED74986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4F3BC-2563-416A-992A-3B478CF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7E610-5E83-4486-80E5-F5685F71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D9768-D728-4A2E-AEB1-CFFDD2B6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6A3982-075B-4EE8-9872-C9E22DC7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1E8738-3E6D-4B0B-B1A8-6BA75A47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DCF45-FE13-4A67-84A7-908AEEE2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3D00AC-F900-4AE5-983C-B3BC5203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48CA1-98B0-480E-B9F6-6A61D18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C9E5-018F-48D5-A033-E0E62CA8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9BE9AD-7755-4B28-88E4-F7C89433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BE42E5-5439-47FD-BA8A-94613C71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295CF-FE94-4D63-80C3-769DA1D1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5904A-99BC-46F6-A36B-26274ACD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A9625-ED19-49B5-A893-96F0383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AF8C3-6968-4388-8EB5-E87C388D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D2FF5-FBFE-474D-9C84-535FD21A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A0C39-124A-4380-968C-EEE560CD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F6ACD4-330D-479E-85E9-662C3DD1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02644-AFD5-4446-8956-9026619A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F161-E96F-41E9-9A1F-3102CD92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8D56FB-6958-48DC-8BB2-08278AAA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8AEE6-EA6B-4C33-9DDA-AA3D404E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3DD22D-04C9-410E-BCC9-2AFFB1BD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4C1B8-77CC-4013-9793-EE3A34BB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27F2B0-83C9-4298-AB5E-DFB23700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02B28-4E08-49CF-AD61-64EEA442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E462A-24C9-489E-8592-9D164D81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E81E2-B9DA-49EF-A7D2-DDCC5DD0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8CC9D-F44A-48A8-B35A-CF583C5E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93358A-203F-461A-8A71-1B0E64AE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2FF4-C817-410D-BB6F-547EC5FB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F762C-C286-430E-985A-2EB6DA97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68650F-E4F6-442C-8E17-65433316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44A32-C142-4B3E-A3C3-F59495BB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1B9D0F-061D-41D9-BFA1-68EA7614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15634-241A-4B11-B68E-C23047FC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AEF3A2-1ECF-4E15-9CD0-388862F7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4A6A7-6156-4F9B-A30D-797CC940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54D998-7D11-4935-9C06-E04A0452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8B7D1A-AF59-4AB6-AF33-EE422BEF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33B5C4-C048-4112-B421-E854D390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ECAB-B4E6-4E30-94FD-97E487AC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74B5BB-F4C4-41D4-952F-A776592C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02CD4-F6A5-47DA-AC83-7D4A9D43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9D72C9-C246-4493-8450-835A31DE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95EC1D-CC67-4CC5-939D-98467F63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A98CF-19E3-4DAF-9846-2FB55B6A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16C8A9-EFB4-4294-9CE9-470425F1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1B5280-14EC-44E5-8212-948A76BC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4A9B64-B51A-47A2-9415-5CBACC37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04BEBB-50D3-4A35-963F-36DEEF55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2301B9-06E2-4B9B-AC8D-E7C1B529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7A8C-6EEE-4578-97E0-DE3E0A61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29BFF1-50DB-41A4-8FDD-F045EC6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3421B-1E11-4B9A-8AAB-67E2AA4C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A17237-15CD-40A2-A9D1-8FAB64AE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A8DD54-6FCB-48F8-BE8E-52A11859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E0D993-D974-4E89-8C40-DA4BE6F7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5EFD77-741D-47E3-B376-B21EE6F7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E7C167-27C0-4D00-AE2C-911E0D05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BCB5E0-5212-4551-AF37-E81E1549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8EAE0-69BC-44E7-9469-3FC64270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E5FEAF-09BE-472E-B17C-670BE29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722F-4EA1-4B02-8227-0186E7C2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1E35F6-25B3-45D4-BF01-63CAC048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13EF8A-86EF-4F5F-8090-28C38E10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0175CD-7675-43FC-97E7-3DCE3066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E02C71-7708-4EA1-B1C0-502DE647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5B29EE-CA1B-4D14-BF5B-F8FCD255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504FDD-CEC3-4603-811A-3AD803EA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846786-84B1-4792-B571-E2F6F644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7D7630-280B-4250-A698-71599F99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22FA76-2313-4C83-A8C6-E1EC0292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19D20A-7E78-42F8-82AC-1039B41E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E2392-A963-4C64-BBBF-7FC75C02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29DC9B-05C5-4906-B536-F0D4BECD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EEF0A4-1259-4839-89BE-0A854353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AEA52B-7E24-4DA6-91F5-82C725CD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3AA2D5-CB3B-4F95-AD48-964E3345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1F1EE3-ECC2-4EDC-BC3C-862BDA0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26C5C9-6A67-46C7-A3D3-7276E0CA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CF62B0-5E3D-48E7-BB73-F1181361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6B507-1C22-4396-9FC4-6617D0AF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13B3C1-3EAB-4420-9DCD-036DC282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25AF50-E152-46E3-8A08-7A05081E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B4A9-141E-41D1-B171-E097D801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2FC49C-9B42-4317-A7C3-69748168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9D4415-60FD-40CA-9C1D-F6C187EA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C95E22-60C6-4BBE-94C5-4CE9FA04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1F1343-EFBB-4BE8-B6FC-DB047B4B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37BD56-2ECD-4AB5-8DD4-B5029242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FC7310-3E58-47F4-B770-83D8EFE6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76555C-AD82-4D3F-8712-2A39333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946D7D-D8B8-4367-B65A-41016A76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CA885F-80E6-4991-995E-288CE072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46357A-5CDF-4B8A-AEBB-7631F780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F44-BC3A-48CC-97D3-1F3A8927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0F96-E742-442F-AE8C-D879250A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5C5366-9911-4B2B-81BC-F5382884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72AAEA-8B42-4DF0-9538-45BD2780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4A2604-8E35-4EB9-9FBD-64352489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A85AC3-5B35-4BB2-A28C-E789444A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4ADE33-F7FB-4006-A88F-B9A5A943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B483EA-FBE8-405B-A8E5-F82BBCA1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884D0F-EC6A-4607-936B-D667C5FF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E0BB5B-64DB-413E-A101-BE00704A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1AC556-A6B7-4762-982C-5586A69B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EEAA79-A7A2-4FFB-A787-645F7DB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9D16-FC90-4297-969B-421E52CD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6019B0-BA2A-45DC-93BF-66898157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60BE20-2F55-4C21-A514-702A6D81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1F790D-3E34-4DD0-AFB8-05DF808F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8C6EEE-8135-4073-AF06-FD659715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233474-8215-4CA9-BF56-C988B4E6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E9618A-C6BA-45D2-A97B-21641A6D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108A2C-DD3D-498C-8257-D7AB16B0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689D42-8594-432D-909B-CE42DD61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D0BDF3-03FD-4F5A-BB3F-2D27C730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343FCF-2AEB-4993-AC82-E668D1BB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7A9A-DBF6-4FE7-92C3-E6BDADD7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153EC7-3FE6-425A-8C8A-F5D187B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1D40F1-2CE0-430D-A6B4-127C1EB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B81A67-31DB-43B4-882F-7060FE53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C14AD1-33F0-472D-9406-9C9710A3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071482-F414-4BC4-A0E5-AE00F9DB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10CD32-ABB8-4696-A184-9979FD14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96D4E0-AEED-4ECB-8932-60893282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4D7D52-1DDD-4C3D-8DD3-F46F18ED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086822-73F7-4B95-9E1B-5906B330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FA9CA3-63F9-4364-9E98-15A2AC8B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F46B-1981-47B9-BAE6-0A0C6D6F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E102C7-1A10-4B59-80B8-01ECD845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A0C777-04A4-4977-89D0-F4F65AA5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04AEA3-54A5-4FF5-A997-B76FEA34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ACEF18-C918-4F0A-ADB4-890C629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DD3E13-F598-48BA-9A5A-3E014819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73A43B-D828-4693-934C-7F77EF07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1646D1-8EDD-4B34-B8DD-6EF14AAD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64C8-3272-42AE-A935-A457B82C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1BE8-C76A-499D-B3DA-FA2E7CAE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EC69-0BB6-446A-86D7-B4451B06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0520-4DA9-4A45-A5A9-E8BD58AF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F74C7-C82E-4016-BB95-82E0395A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A29C-7AEF-433F-913A-893FEF94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2B8-265F-405E-83D1-15FA24A5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46C2-9E75-4246-8415-4DC04BEB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ABDC-EF58-4512-ADAF-9D76105A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EF80-AC10-4E2D-B445-4F63EEE0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D118-7BBB-4CE8-A858-C52FD5B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6F4E-A1DD-47E4-869C-1C8B6318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A6B44-3503-4FB1-9352-3544F96A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8782D-D4C3-4937-98CC-1C41C37D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3BCA6-3EDE-448C-B8C2-AD03D700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A868E-5D42-422D-A428-A248E4BE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81B52-4E15-4FD8-A9EA-C4D3C012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435-3ADC-4339-AD25-563D4D81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E24F-1382-44E9-BB41-AE61CC51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D8085-4534-4AEB-9EE3-3C75EB98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BC96C-A928-4737-8CA0-96940A8D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E5F97-EC6C-47D5-AEB4-3CC2F391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78ED8-3EEA-40F5-8541-34545BC0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1B15-CC07-4568-BEDC-31AB86BE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B7C6-9976-4055-97A0-C665FA27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72CD5-AE6F-40A8-A5BD-A9BF7C7C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C3754-B0F0-4EAF-A517-528CA480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1349E-C5E4-409D-8D50-A9171867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3E1-0750-4675-8278-2E75F22B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AA4D-A125-45B1-A04F-533B2B99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A9E87-45BF-47B4-9311-2291EFFC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6BFD6-8A35-4488-8F01-DCCB4028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5FE9B-9B17-410F-BA45-C65DC76E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D231C-1866-4EAB-9387-3D3C6B0D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CB04-402E-4DF6-B0FE-B4E4A8AC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80B9-2935-4917-9F16-B84F3804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B616-DEEE-4A24-B808-5379DD15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FD95B-9251-43D2-8E21-441F682D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28777-89AD-46C9-8CA5-21B78313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0A3-40DB-49E8-99D7-C719B45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93E05-D9DC-4B90-AD7A-FBDC7A48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A5D3B-DE04-4768-9D84-2E8F96AB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D84A0-6E27-4BFA-A432-3E125CA9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5DC57-C25F-493A-8DE6-1A14B885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59D06-EDD8-460F-BA29-08480E76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B2FD-963A-4BC9-83DE-CF6DDAE7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6C55E-EF0C-4914-AF0A-189931B1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BB43-A44C-480D-9FD7-E8B36608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3FF4E-DCF4-4272-8F20-EA67C6E0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F359F-3833-4AC0-97BC-A031E1A5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B9D-B55D-4C63-83A7-FB17D5F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43688-5399-44D3-9533-62D3BB3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478A4-A81A-4819-8F54-4142CE5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7450F-068C-4A88-8B2E-1B6102CF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6A6B6-B107-4EA6-A6B6-0D5AA525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AFAAC-86B0-4945-9A3D-5E3AB8F6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94441-F530-4585-9BF7-D1A32CC4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8F11F-4333-48E0-B906-A16327C0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6957D-4466-4665-A8E7-CBB10E6C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BBD69-9CA3-40CE-922B-9C2FAAA8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0583B-C90E-48AC-9DCB-17025F58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278-BD12-4A24-BA38-EE417DF6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391A3-0524-485E-A61D-13DE4C97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865A5-E968-4C5B-B5AB-09D84A8A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FF152-7FC2-4BF7-88D2-84A8E994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725C3-D43C-43A3-9901-28C3A96B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5F81C-A691-485C-AD5C-DD73DB71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EA5B5-BA1C-42C4-B5C9-7E1BB36B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2A315-506A-467C-9B1F-C7CEBC89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3106D-87FF-4B21-B14A-19E7A0FE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E07D6-44A0-4F3C-A35A-D8627A76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93A06-5077-4232-98A5-281FE308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9802-A646-41CB-8F04-CC942AAC51C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3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A4E0-CE92-4982-B8D9-4855281E850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4E8E-B42C-4481-903A-C2D5D4E5CF6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3DC9-955B-4222-B87C-9373D604285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3A72-21E6-4735-8E76-59D4B981F4D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1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E09B-1413-41E7-9231-41157BC9812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69C0-6F63-49C4-AB69-DC4A24FE942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3051-DEB1-4977-8234-E70B8EF7AD4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1F9C-8293-4982-8D68-1F84D63C284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79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E855-BDB1-448F-A973-9DFD63F2D1B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4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4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3539-AE34-4F4E-8335-CB45E29323A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0099-B853-4492-8D8A-0980896C7E3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8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7B2D-91AA-4378-A4DC-94475A4D99F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3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EB42-E0FE-4B03-9A4C-F7B545E8E91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8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E15F-CCD5-4C5F-92B2-AE374804C31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4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3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3552-811F-4384-AF46-68E374250B1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1431-97E5-44B3-9829-19557BEABF1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1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FB95-CC82-4B51-AE7B-6C63112779C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3C05-CB88-4CDF-8DA4-CE5090FAA57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0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FE31-9829-41CC-AD2D-3226395D742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C436-FD05-48E5-89D1-42310651421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F4F8-18DD-4FCA-A558-BACBB84A6E6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1DFF-CBE0-4684-A381-BDE58B45217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FD85-8BC8-4741-8F5C-B749D346F83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8B71-0B4D-485C-9830-CD1E86C8273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9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C0A2-9B79-45B5-9936-EA0E15ED77B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4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EAE-6342-4219-BEB8-4863F78D22D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8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B1AA-9ECB-4D83-97B6-05517DBD7EC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0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ndividual or an institution that acts as an underwiter or agent for corporations and municipalities issuing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 not accept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intain broker/dealer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advisory services to inves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rtgage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long-term loans - mortg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ng building or buying houses or fl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wer interest to b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redit un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non-profit financial institution that is owned and operated entirely by its memb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vide financial services for their members, including saving and l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is considered partial ownership in the credit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entral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ve responsibility for issuing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dminister monetar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d member banks´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acilitate the nation´s banking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k sta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anch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shiers / te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X te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tail ban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an represent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les assis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artments in a b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dquar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dit administration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ational and domestic banking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asury and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e operations division (FX, money mark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artments in a b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formation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keting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ach of them can have some sub-divisions, sections or te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1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y, jejich funkce a struktur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pojem banka, představuje jednotlivé typy bank a jejich funkce a struktur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, spread, fee, account, ATM, loan, deposi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2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N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IR FUNCTIONS,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BAN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 is an institution that accepts deposits and make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s provide a system for an easy transfer of money from one person or company to ano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 is an intermediary between a supplier of finances and their 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do banks earn mone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pread“ – the difference between the interest rate pay for deposits and interest rate they receive on the loans they m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on the securities they h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es for custome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fe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Opening and closing an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unning an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Bank stat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Financial operations at the cou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ayments from your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Consulting 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ome banking, internet ban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Withdrawals from AT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merci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tgage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dit un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ntr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ving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financial institutions which receive savings accounts only and pay interests to its depos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mmercial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vately – owned for profit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ccept demands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commercial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related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7:07Z</dcterms:modified>
  <cp:revision>15</cp:revision>
  <dc:subject/>
  <dc:title>BUSINESS ENGLISH</dc:title>
</cp:coreProperties>
</file>