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2CFB-F7BF-4B65-A7BB-5396C16AD69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4F88-872D-430E-B1F6-21CFC2A7522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075C-12AE-4541-8AC0-83112A5EE4A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23C3-742B-44C3-BC53-2FD9E6FCBB2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724E-A0C5-410A-A94E-60D1D6A3956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E4BF-6B74-424C-A916-157ADA28654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2324-018F-49BB-8922-C09DA85C3CF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5CB3-EAFC-4778-A2D0-F40F1DAED18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CD73-6E44-44D6-8020-E61851E1363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EDBD-0669-49C2-AF0B-64711E463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F6B7-0C01-4693-980E-CDCA53AB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F70AA-E926-46B9-B3C7-DD1048E9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53448-4603-48D1-A57F-4EDCC95B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AA32F-5BBC-4FBD-81EA-DE27C078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D4039-6B76-4694-B4CF-5177AE1A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369DD-0B1D-444F-A524-555FE577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6F2A1-8A88-4C2A-B3F4-F85A4728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6540F-97EF-4390-9B16-8FB3D4D2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A2137-D71C-48EA-887F-F369C04C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EB786-B916-44BA-8455-4DCE77CB7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7B4AD-66FC-4115-9111-5C9331F3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F7CA-CC86-4D22-AAB3-0DCDAD4AE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F6500-152B-4CCB-BC47-2D047640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61591-5298-4252-9554-28B84B23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A9A22-FC81-473B-AA96-85DE5478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B4710-299C-4A03-B7DF-F55ACD5A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46AB0-33F7-4EDA-B898-C83B9F5B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2AED0-0B8E-4966-88AC-95975631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3AF395-40B1-4CE0-972E-E3E15501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7300A-1F71-4A6D-8C4F-412B83F9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D56E5-3C33-4CD1-8219-46E13BBD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5FBA1-0F55-48E9-94D5-6D106644B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F01E-8D0F-47D5-B213-3FD53EF0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27AD0-DA87-4AFA-9079-1645D75E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7B5D6-C1D0-41AB-B795-CE88689F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54D58-8425-4F43-98DC-A3996DEE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5906F-E4DD-41F7-AA81-3476AEAA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A67C4-309E-4D0B-B5D5-734E41D6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DDD73-2053-47D0-BCB4-517EDCAE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10102-AB8F-4980-9094-7B1AD335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D5A5B-2659-4098-8C43-F575E737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08B9E-C551-4A6D-95A5-60D2DA9A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D34E2-C65A-4221-BA30-AF8E8ABC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3372-261D-45F2-892E-6FED8A8B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FFA24-FC8B-4C55-A503-637F0D3A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CD01A-7A72-4C92-BF7A-F93B096ED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2C918-7EE4-4539-8BA0-21F4B37F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4906CE-F0ED-4722-9A0E-2C807077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0BC339-CB13-4760-A5CD-FE1281FB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62912-6244-4497-AB79-2FE2EB7B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CF87F7-52C3-47A6-8864-CFE7A120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9F5F0-5F7E-4AC3-BAAA-D8FF8A9B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6A7DEB-AEBE-448A-B4CA-EDCA70C3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4A479-9013-46FD-8F47-9C6B1C61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BDDD-5563-48C0-8E0D-15ADD8F9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B0B813-C0D5-4C3B-AB2F-B2BB29F2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2D997-144D-45A4-ACC8-A9966FE2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5AE99-57AB-4431-9DA0-7849F7B2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804D54-B3C9-485F-A1C5-070FAF85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0C95A2-DF8A-4F45-8C51-EDD0CB26E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B9B8A8-EEC0-4579-892B-36451793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F65417-754D-495E-937B-B5F28A65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95F9F3-E44A-4A15-A70C-71F5EBD3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AE5C09-4866-45E2-BE95-4AAE4CB5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A4138D-2AD1-41FD-A79B-24C10047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F487-07D2-40E1-928A-032BB538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7387EE-991B-41C0-B06E-454E5BED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4E4A01-6CFB-42AA-8954-D59DB3CB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A42543-80C3-4EE8-85AB-6A5FAF66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FE08D6-B159-4CFA-AD2B-BE54630C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329097-F243-48EB-A881-6EBC64BB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B4D1B1-CEB6-403C-8EBB-09C02C815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01FF85-3850-43B8-A3ED-124FB1F4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756FFC-079B-470C-A319-1BEF6BCE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560F54-E5AD-48B1-B20D-7539044C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DCB89A-BEA0-4C54-8442-4FF86BAD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6755-F360-44F1-A7D7-EBE0C6FA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5E7E12-9BBB-4227-A808-1ECDF5D1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622115-10C9-40DB-9B41-E61019C8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6FCEA8-FE5E-4D69-A85D-094F8ADA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56AFDF-D61B-4F59-A703-20652CBA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DC71C7-44B0-4C5F-983F-5CE3A6F9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980D21-79D7-4380-BA38-3846A2D8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A3224B-EEF1-4C98-8825-578BB428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B46839-4ECB-463E-B2D4-9186092D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6F3BCC-81CD-48DC-9281-588075221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54AEF1-DF92-4B50-83E3-DA83CB82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B24B-7DAE-4781-A6A9-562AD0D9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E3AB3F-F379-4BB4-A4FF-08C4AC34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918CEF-E70D-436B-9B1A-4A1E5A20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9D8A67-3C53-4F76-AA75-2AC19AAC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D6E8DF-51FE-418A-A4F9-1156C419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9D49A0-4DE5-4219-A0DD-3004AB02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8491AA-D5C7-401F-AAF5-313297CF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58AD72-9A89-496D-865C-74E3B2D8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303BA3-3322-4A35-8532-C0C530DF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A4ED64-A0AD-4D0E-8EF8-E9B3EED7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607EBE-3272-45C6-9BDB-8BD3A1CC8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C655-DD17-4A5A-AFDC-5DEB3876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033ACD-07E4-430A-A9A8-31CCAFCA6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A91B1F-40DB-41C4-B268-BB908268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167059-3986-4B76-85E3-BB623E4A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F14FD0-37B9-494C-9833-011A5FAF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327572-AC50-4312-B514-0B79062D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D54CB5-74D3-4787-916A-971C7EA5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339368-E4AB-4EB0-9C46-9043495E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DFF383-621F-4BAB-BFA7-4F8D2951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B3FFB1-70BB-407F-8797-F50E86BB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F8B05D-7268-4E90-8032-88030392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727D-E286-4B79-8A01-E14EBF07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BED23A-752A-4706-AB75-EF771987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77266C-605A-4F69-B0D2-6A77C69C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931D66-1FAE-4F0B-AAC8-4FD1410E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E386-9E43-496E-BC0F-31FBC587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FFF2-F27D-4BD7-9983-FCD63CC2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EA72-999E-4EBE-A712-722CF124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6B46-EF20-4FE9-99E7-703F2531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AE34-E398-49FD-960C-409B2238B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72BE-9BA3-4FAC-AF1B-63A8C9CF0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55176-4BCF-45C1-9C1D-5BC4888F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9C945-E637-42B7-B822-55E78D0B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B9D5D-F80D-4602-A421-1A0D9542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2917C-2575-4796-8523-A11A05CC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75D69-B2CC-44C6-92A6-2CB28979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F696-33C9-4C36-9474-0A8B38F1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6C887-DE77-47EB-9C8B-04DB8302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74348-CBA0-4C2F-9834-AB4CB13F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1F872-444A-483F-BB01-8A5C802E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07BDA-1D67-47ED-B197-498F16B5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9DC8E-739E-4FA1-BA2D-EBA377A1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F031F-DCC0-4BD1-9A11-6CFDB8D5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5C8B8-134A-444E-A98F-3AAE4D73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C7B08-0C8F-4ACD-8FF4-67596EEE8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29124-76F8-4BC9-B51A-D64BA50B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0245B-82C5-42B3-B4A7-75E48161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293D-371E-48CA-9D7A-9BD55378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6CBD3-155D-4414-9E2D-0D6CC778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291AD-5BF3-4BE4-ACC0-C33A8585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14671-7CC5-44C4-809E-011E58DA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65F2B-FBD4-4485-BC32-A59D9873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7B9BC-A3A5-495E-A9C5-9170608B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D8B44-18E6-4722-B3BF-776B553E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8D9D4-54C2-4FED-A001-A01147B4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415C4-324E-4801-B9BC-48F992A6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5EBEE-4FC1-4F32-B9F0-B117FCC3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0EAF1-3345-4A1F-98B7-C4D368A17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DF30-0323-4978-8E41-0AB3A68E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1B074-686D-41FE-8C30-B68AD110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CFF21-D623-4526-B354-FB035F36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D4B08-BCE4-4EB8-89A5-03B5F6CB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48F5D-744F-4E09-8EF7-E99575C6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9AE68-51A2-4DA9-A9A1-29139CA4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4F936-EE03-46DB-AD84-14498DE6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2A37C-168B-4C08-8930-8F6DC55D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D6410-68D6-4E42-A3B2-0AF8E509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70966-4DF8-4AFE-A567-AE64A7A2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582AF-586A-4F3E-9EF0-555E20D8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4E5E-264C-4CDB-8037-04855924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A3C3F-DCD8-49CF-B35E-69B58471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EA2AF-5876-49A1-986E-637C5B8A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F0C9B-A4C8-42D6-B742-6FA639A0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49949-98B6-4314-8CB5-CB218519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5A4DF-602C-4860-BFB4-DB914D5F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5FB32-27A3-46D9-8845-EC422685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3BE6B-D9C8-44E1-A262-A06FCDFA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3227B-E353-4B88-A1F1-D51A98F2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A93D7-DDC2-4F2B-9FB9-801B0927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AED8E-44ED-4055-85EB-7E442654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6632-4817-4D83-9011-1305C776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7C37E-D3DC-4EB3-9140-A7BFFBF9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A20E9-9E83-4F2D-A250-9589B1576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2A8C1-9449-4DE6-8DF4-F879715DB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90A2C-BF29-49BF-B95C-2B364C45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520A7-B76C-4FC4-8DEC-0C3327A7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F3F03-586C-4972-ACBC-99A76DE4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2FA09-1503-44C4-AEE5-5DF0C936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C4481-7BB4-4059-A6AF-883EF7AE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9D5ED-8BBF-49BD-8B67-64493DAA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A6871-4E13-4F1B-A773-02820DC2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56DD-E095-4A2B-9F7A-05DABCF3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CC906-3D8D-4891-BD19-7CC9FA3C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190B3-A7BE-4270-B0BD-188C3961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C36BE-721E-4785-A2AF-0920CE4B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E3B21-6F7A-404E-865C-001E1125D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3718E-6E26-4835-A650-161CD611C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112C1-0B68-4955-8DF4-0FE7AE1A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07966-D1F4-4E59-AFC1-40B4AF55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7BBAD-23E5-4B80-9BF3-D32CD417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6459E-1A37-41B2-B16F-7589F1E6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270F0-807F-45C3-8B03-193786E9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5DBF-EA9E-474B-9D75-C886489A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B7FA8-63A8-46CA-810A-A46C8611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08937-A700-4D59-ACE0-B5CE285E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2C476-9977-44A9-927A-603F56CA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EC64F-B944-4840-800F-C69253C7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6058F-F873-42B3-91B7-3500F43C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D157C-2F33-4296-A69B-1C0907CB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F8960-2FBE-44BF-8567-865580D38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6CA14-3C96-4B07-AB84-F4B42EDC9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B188D-7621-496D-AF0F-B51E50AE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AE3D6-EF5A-4D11-8EA7-8BF10722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C67C-7700-4DED-8E82-5C93FBA97DBD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0C00-29C3-47CA-9788-8DAA57CC4EB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8AFB-86ED-445E-804F-4CDE56B2A40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6E1D-8D38-4318-8EC4-6248EDC13BC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5FEB-DA64-46FC-8622-60BB21C9DFE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AE35-D77A-4CD2-98F1-21D6EEA2DE1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C9DB-AE3E-4DCA-8CD7-43E3100BA7D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7407-AB8A-4333-A0C5-B24810057D9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8E8C-F9BC-405B-AE04-2A120A049B56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9CB8-AA5D-4705-88CB-E853209A03C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8BE4-009A-45CB-BF25-451CE5621D04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7C6A-7B7F-4D89-B430-307163BDE445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5E16-6898-450C-9724-DD5FC345297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CF55-8C1B-4559-B802-E82E4862E6D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9808-7D74-466A-9A71-888C04EF191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4106-3D8B-4F6E-97E8-226A8B36C0F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1 / 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lace – channels of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ducer → end-us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ducer → retailers → end-us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ducer → wholesalers → retailers → end-us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ducer → wholesalers → directly to end-us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lace – channels of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ducer → multiple store groups → end-us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ducer → marker → wholesalers → retailers → end-us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mo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ays how customers can learn about the produc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volves packiging, presentation of the product, image, brand name, advertising, slogans, brochures, literature, price lists, after-sales service, training, trade fairs, trade exhibitions and public rel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mo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Unique selling propos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eatures and benefits must make it unlike any other product in the mark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4 P → 4 C  approa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oduct   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→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ustomer val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ice     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→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st to the Custom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ace      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→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nven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omotion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→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mmunic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WOT ana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rength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akne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pportu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reate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3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Marketin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představuje definice pojmu marketing, vysvětluje jednotlivé části marketingového mixu a SWOT analýzu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Marketing, marketing mix, product, place, price, promotion, SWOT analysi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MARKE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marketing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process through which goods and services move from concept to the custome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act or process of selling and buying in a mark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du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 have to produce what customers want not what we want to produ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 must have customers focused appro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 must carry marketing resea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 must produce and supply exactly what customers w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rketing mi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1450800" y="2362320"/>
            <a:ext cx="7693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2" name="Organization Chart 6"/>
          <p:cNvGrpSpPr/>
          <p:nvPr/>
        </p:nvGrpSpPr>
        <p:grpSpPr>
          <a:xfrm>
            <a:off x="833400" y="2343240"/>
            <a:ext cx="7632360" cy="3670560"/>
            <a:chOff x="833400" y="2343240"/>
            <a:chExt cx="7632360" cy="3670560"/>
          </a:xfrm>
        </p:grpSpPr>
        <p:cxnSp>
          <p:nvCxnSpPr>
            <p:cNvPr id="763" name="_s1028"/>
            <p:cNvCxnSpPr>
              <a:stCxn id="764" idx="0"/>
              <a:endCxn id="765" idx="2"/>
            </p:cNvCxnSpPr>
            <p:nvPr/>
          </p:nvCxnSpPr>
          <p:spPr>
            <a:xfrm flipV="1" rot="16200000">
              <a:off x="5766120" y="2693520"/>
              <a:ext cx="734760" cy="296856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66" name="_s1029"/>
            <p:cNvCxnSpPr>
              <a:stCxn id="767" idx="0"/>
              <a:endCxn id="765" idx="2"/>
            </p:cNvCxnSpPr>
            <p:nvPr/>
          </p:nvCxnSpPr>
          <p:spPr>
            <a:xfrm flipV="1" rot="16200000">
              <a:off x="4776480" y="3683160"/>
              <a:ext cx="734760" cy="98928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68" name="_s1030"/>
            <p:cNvCxnSpPr>
              <a:stCxn id="769" idx="0"/>
              <a:endCxn id="765" idx="2"/>
            </p:cNvCxnSpPr>
            <p:nvPr/>
          </p:nvCxnSpPr>
          <p:spPr>
            <a:xfrm flipH="1" flipV="1" rot="5400000">
              <a:off x="3787560" y="3683160"/>
              <a:ext cx="734760" cy="99000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70" name="_s1031"/>
            <p:cNvCxnSpPr>
              <a:stCxn id="771" idx="0"/>
              <a:endCxn id="765" idx="2"/>
            </p:cNvCxnSpPr>
            <p:nvPr/>
          </p:nvCxnSpPr>
          <p:spPr>
            <a:xfrm flipH="1" flipV="1" rot="5400000">
              <a:off x="2797920" y="2693520"/>
              <a:ext cx="734760" cy="29689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765" name="_s1032"/>
            <p:cNvSpPr/>
            <p:nvPr/>
          </p:nvSpPr>
          <p:spPr>
            <a:xfrm>
              <a:off x="3801600" y="2343240"/>
              <a:ext cx="169596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3366"/>
                  </a:solidFill>
                  <a:latin typeface="Arial"/>
                </a:rPr>
                <a:t>4 P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_s1033"/>
            <p:cNvSpPr/>
            <p:nvPr/>
          </p:nvSpPr>
          <p:spPr>
            <a:xfrm>
              <a:off x="833400" y="4545720"/>
              <a:ext cx="169596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PRODUC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_s1034"/>
            <p:cNvSpPr/>
            <p:nvPr/>
          </p:nvSpPr>
          <p:spPr>
            <a:xfrm>
              <a:off x="2811960" y="4545720"/>
              <a:ext cx="169596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7" name="_s1035"/>
            <p:cNvSpPr/>
            <p:nvPr/>
          </p:nvSpPr>
          <p:spPr>
            <a:xfrm>
              <a:off x="4790880" y="4545720"/>
              <a:ext cx="169596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PLAC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4" name="_s1036"/>
            <p:cNvSpPr/>
            <p:nvPr/>
          </p:nvSpPr>
          <p:spPr>
            <a:xfrm>
              <a:off x="6769800" y="4545720"/>
              <a:ext cx="169596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PROMOTION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duc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goods or service you are marke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mage, design, quality, reliability, features and benef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ust be presented and packaged attractive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w products must replace unattractive 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</a:rPr>
              <a:t>Should includ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value of the produ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qua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ustomer´s ability to buy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ices of competi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l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ere and how the product will be so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ays of distribu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vailability of the distribution net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upplying and transp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09:57Z</dcterms:modified>
  <cp:revision>28</cp:revision>
  <dc:subject/>
  <dc:title>BUSINESS ENGLISH</dc:title>
</cp:coreProperties>
</file>