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6930-1AB0-468C-9443-03AC34A727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4B14-04E9-4D91-9F35-556B8CADE78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69D1-82E0-41F1-8B32-44C6261A74B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9C12-7A87-4B92-9D2D-09FF810F7FF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8337-CC40-4039-A76B-22225F62358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9CB9-1C6A-4EE1-A46D-138940F12F8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746C-1A94-47DE-8B9D-F24924FEE12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A9CF-B1B0-46CC-B2C4-E2E0508833D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764C-52CC-4A67-AE48-1950F8DCB70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5DE-93EB-4362-B0A8-49DC28F7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BB8-2556-4B4B-8C5E-3996EAEC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45FEF-CE96-4BF5-8059-2E0280B4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371F9-7EB5-404E-8B5C-7B41FE1F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8AAF2-57CD-498E-81C7-7D0C6AF2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A1AAC-BDD4-4794-B9B8-12A5234C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4CCC6-D26A-47EB-A517-BD8CD12A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7AA1B-1850-44BE-B49C-4D16326C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2255B-0C71-4327-9FA1-E41A1E1A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F6D2B-CEEC-486C-BE88-5C08F81C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1D0BD-10DF-4033-B12B-51028A43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9932F-4E8D-40F3-AA54-F4758AC6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104-F3B1-4372-8A61-1F5EE801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73D41-6F7B-4186-9DF9-BBCD7CF5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4354E-71D1-4896-903F-D6D72FEB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D9B8E-144A-4409-BA01-149A20D2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ABD35-4398-4FE0-84C4-D2636551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85AD8-D6D0-4989-873C-9955A653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FF6F2-0EFE-49BA-8A88-44849D55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A258F-30A7-4E86-9660-226AA777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CE105-30A2-4E2E-8179-C8D144AB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72088-83DE-41FE-986A-02A58D19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78C66-CA70-46C3-877E-B6D6C0CE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36F-31FD-4DE8-B7BA-C020C2F3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D849E-0AD7-459B-BA64-37DE701E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6FD27-DBC7-452B-AE6B-A0263373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8E4F4-23B5-4FC2-AEA1-978D9D98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AE394-75EB-423D-99A6-46399A32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ADDFE-4D1A-4922-A5A7-40C85045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D7418-9DFB-469F-9DBC-B565C694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CC783-0B82-4D0D-AF7B-1FD1AE57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DCA66-3584-4822-9591-020ECF44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8C092-B935-4822-AC38-E4DC2E6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71BBB-DCF8-4FC1-BF95-1F5B2CF6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2A7-52A0-4B3E-8562-5DC9D928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F8BFC-3492-4B2A-94D5-6361481A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C0B80-9B17-4E60-AC7D-97377DAE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0AE35-0E46-4BEE-A7D5-B4EFA241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B6CCF-B22A-4F05-BAC1-7B35C9A6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664E2-9C28-4515-9D5D-6725968A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4EE21-9E6F-4B16-98EC-1042751C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E2F2D-15F3-448E-B2F5-D149449C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57606-F594-48A3-AC22-836FCF6F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E1A03-126E-4E63-A6DD-08ACFC5C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F42B2-44A5-4F15-B2D1-F99B8D1C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D922-040C-4A36-B716-87BE0200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7626F-3289-4093-9ADB-CE7F2C92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66036-926B-49E6-8852-93C01182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195E8-0C08-4B1D-8C80-CC4CD103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3C61E-1037-4794-857A-8002EC42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2EF32-E15C-4A0B-842B-BE47ECC9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B4317-70FD-43A8-94E8-D8A909A9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1D64C-E9F4-47DF-B51D-A16A8273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CA0A4-03FC-4D3E-96A1-4AD01AC5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7FBA3-BFC7-4D8F-80C5-BC470E16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F08CF-65B6-43A1-8D39-29072EAF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98D6-2578-459F-9535-870DBCBE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75D29-85AA-4D76-AB49-B6F52D7A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7052E-21E6-4825-90DB-A956A1C0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6FD9B-8ABE-41F7-BAAF-D075B36D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B3331-A6B7-4429-BC84-C552688F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2060F-AD98-4839-A452-3678C561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2B844-55C9-4B54-8A72-5D8CF116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642CA-B70A-42E0-A338-A11CE14E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D53C1-C91B-4DF1-9ADB-AF9FE43B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00D52-FBA9-4999-B327-B480404D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DC02B-9455-474F-A7A4-4B982F9A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83F9-9156-4EDE-9566-3C508B14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8CB50-E9A2-42E9-9907-528211C2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362C1-1194-4B4B-B41F-65CE3238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6DED6-08E1-45AA-8A98-081FF7CE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0437F-8DD3-420D-8C50-50E0E76E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0ABF8-E8E8-4FEE-953D-7211EDD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1BBCC-93FE-4D79-8566-1DD47094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B339C-4FBD-47DB-AA23-2EFB4130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A16A4-91B9-4725-96CC-2F7FA3E2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C04FC-8870-43E1-A254-799A3970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05D01-271D-4859-AE49-97F5CD71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EF28-9C1B-4ED8-866B-95D59B3D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51830-DC94-4FBA-B3AD-7727AB4D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2E364-A024-45B4-A0F4-36BF58C6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C4B41-6DD8-44F4-B4E2-B8DBF6D0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C7655-2898-423C-AF3D-C262C929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BE7F1-ACFF-4DF3-8985-DEC01A5E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03DB2-5FBB-41AC-A8E6-A2E11B91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B1FD9-D37E-41F3-B449-72B89FB8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BF460-3C74-4F0B-B8FC-5168896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F2443-3439-4161-8B1B-449C66D8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9193F8-5D0C-49D7-842F-8FA8D3ED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A205-8D18-4281-AD48-C01CE768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CB1E3-F541-4DC7-838A-1A14BE91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CE4D37-80E6-4F6F-8300-C52740D2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7C812-D10A-4661-9F7D-881B71DB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2ED4F-759C-48AD-BB8D-7A763F59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F43494-0AE1-43F7-8015-29939ACD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3943E-044B-4C4C-A0D8-54370592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A1DE0-C9CC-4258-9E4B-D2DD18D5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019529-91EB-46E2-985E-75363D46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ECA5FD-0223-4774-BB9F-91483517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7862E1-CA0E-4644-808D-B319FDD5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8E90-664C-4CF2-8BD1-D0FAC50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A3455-4843-4E6D-BD33-61E25363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8A72F-3B9A-4F96-B847-347A6FC0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F281A-FC7D-4511-A4E3-DF7382E8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3F5-6F80-4600-9980-A84A412C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8756-BDE3-4710-9B3A-BACBED7A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592E-0E64-451F-8AF2-005A11D3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3C03-F69F-4C2E-A51A-71F1BEC5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5673-54FA-4112-A73D-4AB5E34E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9BD6-5723-419A-87DD-62BD6799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433A7-9E3F-4D17-928E-A083E3D8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E728-FBC9-4D40-A275-C3DE5C09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0708-60E0-4D07-9921-AE785668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FA93-78D9-4190-B1F5-7B16C942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70DD-803F-415A-BFD1-1E591D6F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BA7-E67C-4C0D-B84B-71AF41CC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E5C45-A091-4436-9EB3-F5867E15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0ED82-24BB-40D8-B895-69C2EE20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B1DBB-2074-49E1-A0FF-002A2EAF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C1C72-0E66-459C-A070-2F8F7805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52C6-9881-4AA9-B78F-572AC6F1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5236-D792-44CA-8177-67480568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AF6C-4A40-4CD4-AA45-C40E0972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F14CB-28F5-4756-A290-C5A0AD9F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9C7DD-DBF1-4804-9AF0-111F0AF2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ECEE6-EE8F-4F43-95DB-508B5C04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C1F-2A5D-4F68-811E-923C4D35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A77C2-F99F-4F2E-A9F4-D975828C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E710-3655-4037-8F34-8A2417CF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5259-F5C1-43C8-8366-FF2FB46A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66512-B4AD-4A21-89F6-36FE2910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A305-DC31-48EE-88AD-606FF00B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88B84-203F-4862-B71F-7F6C84E2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06516-31E3-4948-B646-337DF5C6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76EFF-7F34-4A9E-AE13-1FB7A6D0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58A61-8330-4F86-81E8-0EC7D080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B030B-8E86-4ED2-9862-02C8BC3B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7F3-62AB-4491-BE10-20F17C96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05DB8-5A26-4741-84B0-FC19B31E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081CD-AEBA-4721-8EE8-DA154640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21F94-D1E6-4C03-9C1F-5D154658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3039F-A68C-4AEB-B600-92ABC405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F33FA-2AD9-46C4-BFFB-8436D1FE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10A69-ABF2-474E-B941-9F1DD1BA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0F02-3DEE-48FC-BA9C-A4AEE093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707E0-B7C5-4101-AA5A-4DA64540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39844-A2F0-41E4-9BCB-EB7F9C17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F1C8F-FC3F-423D-B4A2-DD01C46C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411-37A1-4F0C-8B91-F3EBE834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EB1C8-3E91-486E-A6B1-A4C40BF7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44EC0-D2CF-4102-8E9E-BFFE7981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BE236-49F1-42DA-8A1B-2FA26540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0D798-F8B4-4BA6-9AB8-4706E4AF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58886-838F-4D52-8A9A-52E3ADA9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1DCA4-315E-4F52-ACD8-0026BAF7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93059-19E1-4F6E-B362-DB564754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36D45-C34D-42D7-9A08-F4142956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C4B7A-ED28-4C8C-9785-46EA745D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67E48-6513-4541-AB02-671B8222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FD5-9189-4FF3-B0E8-15F977EB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CFE44-BD7D-47DA-814B-6C8047D0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0A170-9A85-46B7-910D-B8303D41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8DD2F-EB9A-46A6-8B8D-0F1AB2D4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4EE96-E144-4241-8125-79620217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77215-9A90-430A-BD25-5D3B1D07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6A4B5-D834-414B-9E1D-4D7D13E4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069E5-6391-4A3D-9BA9-4AA335DC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3F19F-CF93-4247-AB7F-2254FD44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90A16-4FC0-46FE-BA6A-EE0BBECE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2DB86-C7CA-4E39-825A-75899582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023-6C6A-4B0B-BBEB-43ADB35A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A37E2-017E-4CD5-9F85-258EBE37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C3577-5EB9-4AE6-8C2F-1A54DE9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C0954-D4F4-4471-A7AA-661D5F50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F71C6-0D50-45A0-9A2E-12CE7DC8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2248E-C808-412B-A753-A2527516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A707F-61AE-4A26-8C16-3CBF148D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371AD-C9A7-4AE4-A0AB-170E01AE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33FC7-EA52-42D3-A39C-173B9BC7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F8F3D-64ED-4FA9-9587-5ECF0A0C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CE16D-69CD-4BEE-95AF-E29DA75E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A3D-AA50-4062-A264-78716413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36199-43EC-4E92-B23E-079D4F56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47134-BE0A-4516-98BB-603D8BC3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C6FEB-EA77-4995-98DA-B5F7BBAB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B00A5-3B3E-432A-8749-14B40D5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568EE-1F96-4F0D-A3D0-81923858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4E9ED-DB3F-42A1-B3FE-8C80487F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C7CD2-5A7C-43A9-99B5-664A85B0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50300-5C7D-49C5-B574-2A9047B3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A8694-CF93-48FF-A529-BECE4CF2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4DB4E-F262-4AC7-A775-D17E3F7B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FAF0-E39B-4486-903D-AB78594FCFD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B46C-D797-4EE3-B3AD-72760263C26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704D-63A5-4A68-A30D-C19F4FA835B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5E04-176A-41C9-A4A7-C4C222ED633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FB4E-9E76-4066-AAB2-173CB17867A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EB67-C5BD-481B-B2F4-A4DB176C1CD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D478-F3D7-4C33-905B-381B13D8077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D123-2053-456C-9969-7F02A19D2E5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6962-47D0-4EC9-A28C-98B64DF7518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E77B-297C-4E04-A7E9-B73A7F8D029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6B02-C321-48B8-A9BB-07D87299E5F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11D2-5DA5-4539-978C-1941B469545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18C3-3364-4959-BA30-92E3BBC90F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951B-814F-49A8-9B9D-3EAFD5C13C2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9BE7-ECD4-4D11-A6CF-79588D7F14F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99F5-B11E-4142-B420-D63D3675BE5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76320"/>
            <a:ext cx="5321520" cy="13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AN ACCOUNT -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equency of sending your bank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banking / telephone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nimum average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dra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„overdraft“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draft = withdrawals from a bank account exceeds the available balance which gives the account a negative bal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Úč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typy účtů, základní rozdíly mezi nimi, pravidla při otevření a uzavření účtu a zavádí další pojmy bankovní angličtiny spojené s tématem účt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ccount, open an account, current account, deposit account, giro account, FC accou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76320"/>
            <a:ext cx="5321520" cy="13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ACCOU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urren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iro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C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urrent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nding or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rect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ments via debit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w fees or even no fees for running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must keep a certain minimum average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osit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ch higher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rate is fixed for a fixed length of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f you withdraw money you lose the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renewed a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iro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ype of curren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t very high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laries are transferred from your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to pay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nt, gas, water and electricity b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C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current or time depos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major convertible 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is usually paid transferred into F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ient can ask for euroche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AN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need your ID and you have to fill in a 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some personal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a specimen sig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agree on the conditions of running your account and the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39Z</dcterms:modified>
  <cp:revision>14</cp:revision>
  <dc:subject/>
  <dc:title>BUSINESS ENGLISH</dc:title>
</cp:coreProperties>
</file>