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1F6E-E7DC-4205-9580-DB012A7782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AA32-2843-4096-AD75-671D014B8BA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68D4-8AF0-4F04-8949-AD610F18EA2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61ED-9536-48F5-862D-6CB2D80769E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7764-BA4D-42E3-A5B9-07EE654A36C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1961-E306-4D75-ACDE-0159D5B9EB4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19FC-7A5A-4A83-ABED-ADF8DBE1549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E2F5-2F23-4005-A820-9F47FAAA552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C614-6B62-4DF2-8086-F0AC3F5CDBC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7F9-F947-48A4-A141-047DF19E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31B-964D-4186-BB91-D341E416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4C3BD-D4D7-476B-A983-A3D14B81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7C6DE-E976-4960-BD07-153BC331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C58FA-1896-43F4-B0E5-99335A6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3FEA2-996F-4EBC-BAC6-0A5E58F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B4B05-2A07-4C28-BD09-F97FC279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4CE2B-68F3-4FB9-A1D5-D8DEDE01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ACBBF-E8FB-4E27-BB0D-59B922C9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2A403-5D2B-47FF-BD55-EBA0D669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A05FB-556E-4D57-ABA0-92BDEAA2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8765A-499A-46E4-A4D4-66EED4DC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979-150D-4B18-9B5B-36C73200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F1EC8-C42D-47D3-9E1C-31AE063A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12750-343B-438C-980F-2C712399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8F84E-FDEE-477C-BC89-A7A28AAA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A7EF0-FC00-444F-BCEB-DD79C8A7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BC3CD-6D98-490F-82F5-76289A5A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37F33-DC8C-4DA3-A471-CA78C4E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A628E-3573-4D5B-B959-A48C48B7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19ACD-F40D-4187-BDD3-9CEC238E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DA587-78D1-4B60-9607-2E110480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2CDBA-5197-4C04-ABED-C2FD4D15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28B-D875-4C30-90BA-68F25A05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6AF9A-822A-4927-B04A-2EF8A7AF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FD769-2059-4774-9819-974ECCCB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CDEBB-6C8A-4056-9E48-5990209D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FDE70-D482-4080-9A19-A670F317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D19F4-E47E-4DF3-85A2-EADD3616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83A88-80CC-420A-8C7A-D239EB4C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92987-5A29-41A3-BDA9-542C3F01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6E488-50D6-4272-A82E-0146204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D707D-2993-4C26-BD24-00E1EFB9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BC172-97D9-452F-8192-C6B3FFA9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60E0-823B-431B-883F-50B767B6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A042F-9A2B-4380-A097-AEBECE71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CE2EC-87ED-4F9D-BA87-177E7A86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CE5C9-6EC8-44DB-AE66-5AD91ACF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95402-725D-4411-8B7A-85CF3752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D022E-C6EB-41D9-BAE7-6EB00F2E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543AD-0565-4C23-8338-46BDF15B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2CC17-B783-4ACB-A0F6-090B0A3A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278D9-4B29-4EE7-AB36-01452CFD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EE1A4-E184-4A05-9D4A-8219DA4D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99267-4B6A-4312-8471-8D136A9B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5A2E-2435-49D3-9A90-309BCF7C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4B54D-7581-4D07-A7ED-918A05B4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9E843-60B0-4B81-90B7-22EA220E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3F2E1-3EE6-4EDE-A52D-F1B8D2F8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95952-86F1-4C35-9022-94A83F74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7627C-E368-4106-85FD-168F5EC2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A0DA0-1A34-4C65-A82E-65C0DE04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9283B-EA80-47BF-9AA5-7B66F4E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338D5-3E14-43B7-9D18-412399AD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1785F-1A00-46BF-9BDD-F35F36D4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378E5-B9E3-4D12-ABCF-655DF860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A26-3041-4CB5-8806-1E22AD90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15C56-AA99-4909-BC27-28565DD8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AE9F0-B65B-491B-85F6-33558948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06E5E-3BF5-4552-88C5-3F064EB6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9E4ED-73EB-43E9-80B4-31CC674E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61179-F504-4739-A3D7-72DBB6BF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B1A7A-F20C-4828-8E8E-D6DF050A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B0CF6-BE24-4F82-8F02-935CAFBB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F8392-1EF6-484B-8E40-5A28CE73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1C757-B37E-42F2-9CB1-62F2F586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04267-0E78-4910-B783-0EF390EC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1212-D7CD-4597-B360-6AB21968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8D2F4-EC13-4F6D-8B36-9C479EC1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4CD9C-D007-408F-9425-ED7985F4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C0A61-A5BF-4930-B917-DD7271BE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E20C4-212E-4C18-874E-2593C274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278A5-5E80-4E1E-9424-F1D1D338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92C5C-14A6-4F06-989B-35CE22E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8D36A-9B31-46F0-A425-1770AD7D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433D9-0F58-4F23-B759-DDB1C119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B6526-5835-40B6-A00B-CA68D1B7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275C3-55E6-407C-8696-87FC3B15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F2C0-8B43-499B-848C-53FD60D6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F1B32-6711-4A18-9288-F2454AD1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5BF03-B0BC-4FC3-B458-C91A318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828DB-734A-4776-9156-D2443971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7D1B9-7EE4-4D3C-9C87-94247EA4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74286-BB05-4DF3-B120-3C25E8D1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8DB9A-7C35-4115-B2CA-FCB0DF4F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F21E7-F369-48E1-8AA8-D0CE4C58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60A30-8AB0-457B-8338-FA97649A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A2A88-73A9-4FD6-877A-8F9E09B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A44F6-CAAD-4040-952B-F9862137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DC76-8DB3-4686-B262-A1023DA7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B74DA-B595-4DDF-8E2E-E6AE1CF8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10ED2-F88A-427C-B448-6D90F16B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30AF7-A360-4303-958A-64929288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BC6DF-D892-4AB3-A21C-2496458C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3B25B-8A78-4F49-8070-3BA54FC0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260C4-0EB6-44E9-AC83-E63542FA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F1062-A669-4769-8536-23E9F143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43EBD-3965-4582-9690-3F34996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9D135-AA59-4CBC-A4AD-F8EC508B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0B5B6-DD6F-4350-9620-498DC25D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6373-0C52-4533-88BD-22F07025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A3359-EB3D-4A4C-B150-2F720B11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B15EB-917B-402A-BA4A-E5BD3C4B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68097-DA8F-48E1-A891-0E09386F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72C-2830-4AAD-9BC8-E5B7964A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7004-255A-4795-8B5B-B5258D14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D873-3A88-4684-AE55-9EB56291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B6CC-53A1-41C4-ADAA-B1B78974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E8B8-BE4B-4053-881F-310C23D7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4C29-44F9-4924-8517-4422EF74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2800-A689-487B-9D4B-522AB17E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7A59-2A11-4742-B398-DB576C48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AA49-EB42-4A3D-A429-7BB4BCF1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3FFB-C7B1-418A-BC3D-51A4F8A7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EF8B-1C84-47C0-83B6-A68ED0FD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F7F-67ED-4E65-B36D-E12CCD7F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5220-3C6D-4013-AF39-9AFC0058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2CC4-4AB8-4C41-A9B2-DA3C3312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12A47-5969-46D0-87E8-51751473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B1D3-760C-4416-AB19-4E1CB98F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5501-A012-45F5-90B4-79A782B2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1478-5EF7-4035-BE69-6F954386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8B64-70AF-4F8F-A8FD-770248E6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8E39-4CCC-4120-9AD6-A7A9BEF2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1D33-81F8-4DF7-A125-DC129DD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2656-61F4-42C9-818B-D96643D0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4CB-9F69-4771-B5AE-AA66FA22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A783-3615-489E-B77F-7B0B3DE5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9F79-49B9-44C1-AE90-3EA85A0A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8BC6-7CD2-4D8D-8773-03B2730E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EFF3F-1263-4C19-95E4-D198F1DC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4794-10F5-4340-B7B8-6F9310FB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F1D3-604B-4B38-8885-88E1A5D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D20E8-53C8-4223-9B21-A798B4B1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1AC16-7CD1-4511-AA20-C967E565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29D7B-CAA3-4B8D-801F-0746D6A9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B46A0-1189-4981-9975-76490C80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9E6-3755-4AAD-9101-257B0A67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2B3E8-B774-47C0-9A2C-88391A55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0B841-2486-4D34-BCAF-61DC64E7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517F-668A-4589-BA4F-A99F5682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88B6D-4896-493A-BCCE-FC8F483B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F8B3-8CB3-471B-B33F-B959AE5B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E5E3-A3DF-4775-9C5F-D4D28C26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FB1FE-5259-42A5-9216-1E6E941D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9AF4E-6A7D-4E3E-99D2-07C48400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DAD1-3C89-4656-AAA2-BECDCA4A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A4157-8499-4DBF-A9F5-24DF9CE3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757-EDE0-4A78-BB6A-DAE7DB6E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5EB1A-37D8-4810-8B77-D6F73FA8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3B092-893A-4F0A-A610-8F7896A3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A3A9A-1588-45F3-8EAC-DBFBF7A8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6A100-E9CA-45FE-8AC4-AF983DDF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4244-CACA-4594-968B-4F9EE961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ABF19-F93B-4046-822C-44AF1246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252C9-F643-4BCD-A483-25878307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3C8D8-3E1F-4501-8001-19825B02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A326C-CC8A-493A-B08B-A54D86B9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AEDF1-A6C0-40C5-8791-DE6C623F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3BD-E967-4363-A34E-4502A3E9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C4C9E-7B47-48CF-8555-B3DAC256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FE07-4E0F-4869-A76C-ED0AFF3C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1F1D3-5295-4A40-AD9E-EA3C99D4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E9D36-8A4D-4AD3-9344-26BAFD94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A52CA-A23D-4E81-AC92-C754584B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97EDC-4766-49C6-9581-40626075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16967-CFE0-4DDC-82E2-5E481902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CFA37-CCAF-496C-8FD0-D154411E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BC9DD-CB20-4A6C-8F2B-C0D7BFD1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E26D1-180E-4751-9D4D-902609C4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7AB-5E01-4872-AAC3-81DE977B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24E99-8746-4AD8-8DA2-45AD0B1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A41E8-54FE-46FC-82DD-FDD9C4A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7BC20-70F9-40CF-B82A-98CEABB7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48490-0B9F-473C-BB6D-E4F2FEDE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D5807-7612-44DE-9624-62A1BFD4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2BC94-2D65-4174-93A1-2EA030AC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BD2BD-A5E9-4EFD-9E29-2FB64F2B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74578-2261-4077-BCF3-8D82A236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C277C-2792-4F8B-9750-AC780648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F33BD-8B43-4C66-837A-3C429882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C26-926F-4F87-B67F-F64FF8C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ADB76-EE39-4C96-A424-059ED622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0DEB7-6D3A-4C56-BDDD-4B6022BF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4E235-6D72-4E90-85B4-1E59A4AE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9273F-2CDD-43D1-9093-7626DFD0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157B3-D6DB-4FF8-9AE4-15558F08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38E60-D6F1-4F14-A4B6-ED656C3C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44069-9806-4AD8-9F11-EDB8F812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64A62-834D-4FAA-A880-0DCC8CFD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33878-FB8F-43C8-B4F5-7DA24DEE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B19D3-5CE1-4466-98A6-FC21ECA4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C1DA-1D18-47EA-B9E0-8871A70D5CF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923B-BE07-4705-8D52-6DE35722E78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C2B4-4471-444B-A1FF-33973193BB5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35F0-5FC3-4723-AFE4-A7180EB5F51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4D8-B482-44C9-B4D6-B239BE5F5B6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EE7E-42D0-46EC-AE5E-27A548E67B1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E30C-65FD-4AB8-9726-FBCF43A3E31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9D7F-CF56-4BAC-BE71-6DE60D207CE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5578-3592-4B5A-A853-C644A177E6E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303F-E95F-4D7E-93D1-5C819018472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1729-2F42-4394-AFF9-15E2A2BFCB6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BC49-BCAD-4745-8D3E-5CC889367D4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6352-81EC-48AB-A0ED-165D8E15D68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31B3-AC09-49F8-BA2F-EC357AE6AB5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A8B0-F61D-4A13-B9EB-83D04A21716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DD7A-D29C-46AA-B6DA-3E93F5A5D4D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would appreciate your sending us your catalogue and price lis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should be grateful if you let us know what you have to offer in the way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interested in the products you adverti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ll you please send us a sample of items listed above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like to know if you are ready to to give us a special discount in bulk orders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could place large orders with you if your patterns and prices are suit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r demand for these products i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quite consider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s we have a big turnover, we hope to be given special term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ease let us know if you have the goods in stock and when you can deliver the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shall compare your prices and if satisfied, we will send you the ord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you will shortly be able to furnish us with the information request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ope that you will shortly be able to make us an off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re looking forward to hearing from you so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should be very pleased to make business with you and we look forward to hearing from you in the near fu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ssure you that once we are satisfied with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lier we do not change the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trust your prices will be competitive enough for us to conclude this business to mutual advantag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f you can give us any further assistance, do not hesitate to contact u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poptáv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poptáv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quest, refer, turnover, satisfy, price list, catalogue, sample, discount, goo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REQUE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900000" y="3435480"/>
            <a:ext cx="2247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ur letter should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short introducti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f your compa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opening part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an explanation where you get their address or other contac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quest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some information about what you would like to get from th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closing pa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) Introduction of the compa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a leading steelworks in the region of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 am writing in reference to my company, Ocean Steelworks Corp.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an importer of .....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ur company deals with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refer to our conversation at the Milano Trade Fair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Your name has been given us by the Chamber of Commerce in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have obtained your name and address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m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have seen your stall with your products at the Frankfurt Fair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heard you are exporters of 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 have recently talked with your representative, Mr.George Black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r business partner Mr.Thomas Ward has recommended your firm to u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r.Thomas Ward from Luton was kind enough to give m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your name and address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 have been referred to you by Mr.Jones from Whitefridges, Lt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ave seen your advertisement in the local newspaper and we would like to ask 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r your new catalogue and a price lis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seen your advertisement in our newspaper and should be pleased to make business with you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ave been informed by ... that your firm is one of the leading importers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16Z</dcterms:modified>
  <cp:revision>32</cp:revision>
  <dc:subject/>
  <dc:title>BUSINESS ENGLISH</dc:title>
</cp:coreProperties>
</file>