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EC4D-9C53-486D-9374-E705657E85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F1A8-716D-4CE3-9649-4BD3D0B6CB9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AA9-CA8A-4052-808F-EB4ABA80450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7CE-8087-48F4-A0FC-0254C3491FE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2F3-1669-4C9B-BA6C-705BCE534C5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0B0F-4A22-4EF6-A6E4-909E29BB5CD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6A19-0BCC-4DE4-975D-4A35264F41E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2309-D846-43A5-A619-D90CE28C65D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EBD-469A-4DEC-87BC-6232E144D51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FC8-37D4-4956-BFA6-DED0AFB7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D50-876C-46F5-93A0-28B310C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C7927-6176-4C73-A7CD-CC91518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FAED9-1485-40F1-9270-20CD79FB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1C8D0-B617-468F-82D5-550B31A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77C7-351D-4F1F-B9C1-B6A1DD97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0BCC4-165B-4D69-B872-7D659337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1DEFC-0660-49DA-8A60-877A990D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C24B4-9BC1-442A-B946-C25E027F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DD5D9-01BB-4104-B08A-F7E0D8DB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B067B-A8F9-483B-A01D-28C7AA65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F7F92-C682-43DF-A54A-2996DCE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717-3A51-4219-B6F7-F65A42C4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2D61F-7132-4A15-A5C4-13F28748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0B7B0-67AD-4265-9B98-20E8B46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3654E-8DB6-43C0-B1D4-6F8B77C8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D4BC9-C9D1-487A-BF8B-826496B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F00C0-115C-4AEA-B67F-C2DFE05D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2A3AD-6D65-48B7-B6DE-F070FC6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81381-2551-42EA-A2E0-169E813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DDF5-71B9-41A6-A8E6-52B58D04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A5710-F062-4690-9CFC-2F0C4F80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C3210-7E8F-4496-9352-E25202B9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3F9-B385-4508-8CCE-99D75340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33CDA-27FA-453A-99D9-A0357C24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B0B6B-04B9-4664-89BD-1E58CAFB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8B5BF-DCB0-4BB7-A4BC-0782402F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DF0DA-6591-4B5B-B0A8-CE520D84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DD46B-A20E-47CE-86D2-0F8E0AA4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10745-B0AE-489C-A944-C790DF48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7F9D3-7AF7-494E-8436-0BD6AB8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30B2A-933F-4CBB-9F1B-7B926AF0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431E-5E47-4204-8988-D20146A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7514C-D9E8-4A2A-B5EC-A633BDA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D69-6328-4C7F-9524-47F5E5DC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5199F-9E90-4DAF-94D1-E832137A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0B05-2D55-47BA-B4F9-669229DD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8AEC2-763D-4AC4-93F5-7DEB667E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E9562-A138-4B7D-A74D-89A866C7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1CFA8-C406-49D8-968C-7AD5430B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4255B-62DE-416A-A56E-9BC5D0F7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48CB2-3A7D-4795-A640-DF0BCB1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566FD-1AB5-4FAF-8F1D-B30D0F11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8F9C-A6E9-4996-8BCC-6C2DCE39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E50A3-D57E-4B22-ADB5-C1520B0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B2A-B993-4D97-B1D4-5E1A9570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A9482-E8CE-49B0-8AA1-437C668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7F0EC-C220-4633-B749-ECDAE90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20516-F0C4-4809-99E0-DE7EBB8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D1CCD-3F4C-41CB-8C23-E58F407D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759C5-C25E-44E7-A000-DEE48843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4E56A-C8ED-4D05-9481-7824B0A7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83DB7-B52C-4AF9-9375-67FE32C5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4DE31-12F0-4265-A6E7-CFB098E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F460A-0B10-4748-8B2A-7F57A37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FBF81-1849-4046-9573-DEFA2256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2CBC-F0AA-4DCD-B58F-AF5224EF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B0D93-8664-4C44-B823-55A522A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27F6A-E5F9-4D19-AEB9-18816EC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83B7F-2D0C-4DF5-BD8E-3078E433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4E929-BDB9-4A07-895D-1535A7D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DCEBC-B5B3-44BF-BEB4-A0D5933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B8C88-650E-4D3D-B46B-7F4DB41C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8DD26-7751-4575-B320-F54139BD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B1D4E-0FA7-417C-BA7B-A5C29B3F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525EE-C928-47F6-9C85-71D2E2D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891BA-A498-4CE4-93AD-436B81E4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44E-5BF6-479C-9084-482A993C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BAE4D-AC4F-4F5B-893F-F701BAF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7F6B9-1F4F-4B86-BEF3-487A6D9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AD574-AABD-482A-830A-63E69840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9D306-82A3-4B90-9BBC-967A3B7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A18E0-6B50-47D6-A929-9147A171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773BD-A1B3-4421-B793-F3D87B7C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7A809-CEEB-4B9D-B083-7247D76F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CEB42-75AD-4366-BA35-6AA116EE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C5962-1AA7-400D-8C05-7FCB833F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3B45F-355B-41C6-B73F-1300018D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359-D4CD-4B38-A6F9-08DCB836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80E73-27B4-4AEC-971B-FCA2120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B5FED-5D80-4F92-8252-751FA66C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B4A35-BEB4-4A61-B3B2-3E2B1F32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78DAF-991B-48EB-B761-ACB5B7DE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75548-BDE4-4C8F-B465-6EC737A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14538-A3BA-4F9F-AC81-A76AE06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02177-78FC-4C0D-A36E-197E05C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4E65E-5756-4104-8EA8-73FA417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B6F3D-B385-4A11-9EAD-EF39138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8B150-D4B9-482A-9F2D-F86D7BD0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33A-72DC-4423-BD53-2C84FB44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E09C7-A0F7-46F3-9587-394A3B02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210A4-7BC4-43E8-8B7E-8A26D354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A410C-FD1D-49CE-8C82-EAAEB09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D4082-30AB-4B44-B199-D37B6B86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D40C7-71F7-4911-B5A1-266D0C8A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0F49A-76C2-4EFB-A8B9-1C86DF3A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57921-FE1E-4070-9872-FCB3857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7693F-DD21-4D6B-B3B3-4E09B2F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D203C-F309-46D0-B5B0-8A353DE6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E156D-F48F-440C-AB27-1385672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C47-8912-4423-81AA-5ADCBD2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DDCA3-2BD2-47BC-A6AD-4EDA01DA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1F5DA-6166-4072-A84F-8153AE84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0192B-FDD2-4A66-A6F1-7C8D3D9E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CDE-B5B4-4EC5-AC15-096F1F76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7D9-C7B6-47C0-AC96-D571EDED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9511-62A3-418C-8B0A-DEA2D92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349B-B6AB-4DA3-AE29-099CC6C6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B7C0-69AF-4A3E-A287-12AB85EE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60CB-D5F5-4CD1-9ABA-06EAB71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132F-2301-4E83-9C3B-7DF269EB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3998-1A2E-4489-AD81-029F40F9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CADED-9DE1-4777-AD6E-9A14042F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A7B8-840C-4431-BBC0-4BCDCCB7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4EA2-FD65-48B1-A7EE-D01A3592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B3E-C348-4053-AC74-6D0E059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D9E8-2B73-45D4-9829-DC3466B2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412E-2018-4A9A-BA80-5A05DED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7278-7147-416D-B5D9-3F187CF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62BE-417F-4142-9E1F-4EE77164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8BCE-75FF-4AEB-9553-D55EAC33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EEB5-24B9-4462-AAF6-A93D8672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5A91-AD82-4820-9607-5C762BE3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690F-4ACB-4F52-923C-88A13169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A411D-BBCD-49F3-AACD-32BE085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3A3C-DC9F-4C47-8F5F-ABE79E14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4E5-34E6-424A-A0E3-BD15D15D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7438-29B5-4B75-B5BF-C2D793A5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97A0-C99E-46B0-BD8F-4818714D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64EF-E3A9-464C-B86A-D5DFC6C7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BFB5-DD3B-4EAB-9712-79501C0C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B650-62B8-4EFC-911C-9145FCF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BF97B-E3CC-410E-98A8-48F05A4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FC21-B83F-4AEB-AA5A-7396B2B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9D26-168F-4A09-AA27-C9DDDA30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9E476-0879-4A47-B7B2-E256519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8443-4B7C-4A25-B144-0EECEF33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0F1-874C-4D4A-A01C-F9561672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9FB5-CDA3-4F6F-A16A-AC832048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34F3-1A44-4D02-B1D1-1DE50B3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2FFF-C922-4629-B305-10CEEC2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664B-B3DF-47F0-88B0-93B0FEC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1A402-1455-4560-853B-8BA0DA7A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DA59-7C2B-4D5F-8E78-4EA95A64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3AF94-F36D-4537-8437-EAFB73E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4F2C-84CD-42B8-9F3D-6CC005E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F916-7808-455A-B5A2-0EFF1AF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4F31-B70D-40AA-ABF6-B6D9909E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7B3-6377-4435-A22C-1168FCF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292A3-051F-4B41-A51D-D2ABF4BB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23278-F18B-46E7-B604-C28364C6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A1363-D4C4-48CF-AB3B-3EC030FF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B30AA-25F1-42B4-BE75-B0EB3936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F600-E016-4884-B3F7-9F33747F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61ACC-E26A-4C31-8A30-CAF9FCE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75D4E-69C0-45F1-AD5D-A3F4A0E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ECC7-9E8D-4E00-B5FD-A71D2F53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58A2C-045C-4131-B895-7462D7B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FCB70-F515-4E4A-BA34-AE74FDF2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18E-55A9-412E-80EA-F7DB29A8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04FB-B9E3-464F-A731-77EF79A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3B37A-EC0E-4046-ABA1-12B1A737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518C-742B-4E0F-BEC8-7AF36D32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3D4C-8E99-42E6-8621-9303FA25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A3B0-D190-49FE-AA56-D5C6A016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21406-658D-42E7-9A83-C85E6EF7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8321B-69F0-4FF6-9B23-36D88CB9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615D6-E68A-412D-9E13-87F35458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1FA4-8979-458E-BBC2-63D6BFB3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A03E0-9F87-467D-B0C1-7EC7A960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A84-1F9F-4FFF-B23C-DB4A9BF4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AD2DA-0EB4-478B-A9AB-BC51300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73D4-6AF6-47E4-9B13-A0B6611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809B-C8CC-498C-B623-0F4ECE8D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EDAB-5701-4ADB-9C51-EA9EC197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26F7-D83A-42C8-BF43-231D309F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F6B76-2A2E-4153-92D5-ED7849B0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777D4-DA1B-4BD3-B4F4-52A069A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2531-7ED3-40FA-8098-2AF40881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4502D-4748-4B59-B7F3-30758498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1F237-2EF5-4423-BD41-C61CFC71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9C8-8A12-4EFE-AD60-7271289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48CB-812E-48B1-8D80-7806DC9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FEA5-45BB-417A-84A4-C1F7B9E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E9402-5CD3-48D2-9DC9-6614C7C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DA9A-161A-4D74-A608-F8376A8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66651-0676-476C-A2B2-416174E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42F13-2863-4916-A85A-8435A987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C3201-0F13-4883-9386-CF41C215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5FB18-0AA1-4402-A366-B4C0B42C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2B992-7858-4EF0-A26A-A09F691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9375F-BBAF-4C25-9507-FE0872F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BC2A-40AA-4744-A3C3-8E60C0A8EBF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D170-965A-4419-8606-A29FCA7065F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ACE2-B39D-46D6-94A3-A3A48B1F78A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74A6-D2A4-47F8-8FD2-D73D54DA5C0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8EE-8B9D-4CC0-869E-46AECB7907C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854D-0A3E-4717-AFF2-E5091EEA762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360-01DD-44AE-9767-E40E6538E73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EF6-5173-45DC-90F1-435BEFE4364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4760-E79F-468A-8567-236DDCD6B24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136-FDE9-4BEE-B605-5D3399B697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FED6-D328-41B1-A8EF-D974E66CD20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FFA-5C44-466A-8FCF-9EA255976BD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7E57-8261-4CF9-984B-C25736E9145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AB7D-F36E-40EE-AD50-D27328BA95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6C5-1B17-479F-9124-CE191CC636E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9F93-9869-4444-AC5B-C954234AC03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 theses conditions we are forced to place the goods at your disposa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decided to refer the matter to the cour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further orders will be dispatched strictly in accordance with our wis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the delayed shipment has reached you by now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r customer sent you a letter of complaint, your answer should includ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expression of regret that the customer is not satisfied with your goods or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hort explanation of the cicumstances which caused the trou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uggestion of a fair settlement of the compl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en the claim is justified the letter is closed by an apology and an assurance th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autions have been taken to eliminate similar error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3" name="Obrázek 1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87668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reklam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reklamací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omplaint, reasons, suggestions, regre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OMPLA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omplai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laint is an expression of dissatisfaction, especially by a customer or consumer</a:t>
            </a: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f you are not satisfied with the goods you were delivered, you usually write a letter of complaint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letter of complai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A letter of complaint should include the following par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open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asons for complain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r sugg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os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 thank you for your consignment but are sorry to say that is has not given us much satisfac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regret to inform you that case No.40 of your last consignment arrived in a badly damaged condi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put to great inconvenience by this del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gret to say that the goods ordered on November 12 have not been delivered y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quality of the delivered goods is far from being satisfac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to complain of the poor way in which the consignment has been pack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opening the cases we have found part of the goods badly damag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quite clear that the damage was caused by unsuitable pac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view of these facts we claim from your indemnity to the amount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can accept the goods only on condition that an adequate reduction in price is gran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expect to make up for the dam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40Z</dcterms:modified>
  <cp:revision>33</cp:revision>
  <dc:subject/>
  <dc:title>BUSINESS ENGLISH</dc:title>
</cp:coreProperties>
</file>