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C91-1FD7-48CE-92A9-8134D8B9C2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413-8A8B-451C-B851-B1AB89332C8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967E-0522-4929-8C68-2A6213B5576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A12-9E4A-4B80-A85B-85886C59EA2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C9F-0310-4315-BD8A-FA9E97FA68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1540-2CAA-46F2-B312-CF46FF4610F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88D-EBF7-4CB6-A3B2-4DB69C345B9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9282-D9A1-441F-9765-9BCDEDC6283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553-0B24-4412-A8DA-AD913335FF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09D-6D28-4506-8F80-13BE94C6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628-51D1-4434-858C-23BF9E8F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4ACE-74B6-46C6-8CF7-C82E36C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541F3-D90B-4B5B-A339-F095D01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DEA1-4ED5-487D-998E-7F1F84D3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8AF0A-AAB6-4207-9A43-02630970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D8B2-7FE3-4004-A223-3255924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520B8-21B6-4AC7-B469-B98FD8E2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AF548-63D3-48A1-BAFF-C79EC72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08EC-8245-47E0-96B7-A43223F1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6FD3E-C823-4511-B68D-BD72EE09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8D43F-E845-4F60-9FEA-E46C2885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E0A-C8F9-4D13-AAFB-B73F515A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C5F70-D4DE-4888-A02A-74C7C96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54E6A-B1EC-4EDF-A246-30F5FFF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733B-727C-4E13-8C13-ABCABD7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4B5BF-C506-486F-B892-566853E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AFA5-CDEF-4D78-9EC5-E41193A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2E89-500D-49AA-ABA5-A96EECA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EC20C-2A01-489F-9732-7420C14A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6CFCA-D2EA-4F10-9CFC-E5A9F62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9A699-3E20-40E7-B458-12A9AA19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AD31F-2939-4245-B14C-59E40594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CA9-2A78-482A-BCAA-11CBDA7D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9353B-497D-4B4E-8F6D-300D9011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8648E-05F3-4F84-86FD-1137B3FA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8C014-0C5B-4A3E-928C-B739E42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CB2AB-4B14-4064-B2F6-812915A2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5FC2D-5FE3-49AF-BD34-039443C7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E603-3749-4B38-A3F1-4FAF4AE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E899F-4F00-4B83-8615-DE0FC336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AD574-7C83-46A2-ACB4-86110DB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1BB80-B572-4867-8A9E-0BEF09D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2736-6120-4AA1-BF59-0DD9DE4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4904-9B46-475E-A10B-ADB11F55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2CAD8-C4BD-42CF-AF20-3950B355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8CDFE-7538-4E5C-AD17-3928159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C2B8D-7D4B-4EFF-8684-F433BACE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9290-A7B4-4892-805C-887EFB7D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2B971-F984-4FBD-A6A2-48A483DC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45F36-846A-413E-9B69-A3077021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732FD-88D3-4B7F-A1C2-9FCBC418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C3A28-E34C-4885-A814-B391C19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9D857-08E5-4BAD-BD49-4669925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7ECC2-510E-4BA7-93BB-BF92321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198C-7A7C-4EC7-A495-48D00DF0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ADC50-7EA5-4134-B251-1042B592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68A28-1DFF-42D8-9DDA-08FD0A9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70168-2962-44FB-A3B4-61D45307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4D6F1-C295-451E-97E3-37406E21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734DE-AABB-445B-A3C0-35FDB80A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4FEFC-AC96-43F6-9944-DE69505E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EDB33-C4B3-47B3-8B5A-2FC14008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E3C30-7AF3-4876-86F9-93F17ED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CDBFF-405E-4000-999F-0B2B5B3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A4F9F-24F7-4B86-AC35-3D96716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A021-93FA-4E3B-BA06-75122D0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B0FDA-54F6-4CE4-B272-179D3508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8CEEF-49D2-4F7B-95BF-E38603B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C7445-2870-4BD2-87B2-8711542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7BE9A-D9FF-4770-8264-91D35EB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DB6DB-01DF-47D5-BEC2-5A04A59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94BA6-F3AD-4ED6-AEF8-B35744CA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03F5C-5D97-49D6-B698-F374644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98B67-F6F9-4522-A429-63AB9490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B33F1-A29B-4E24-86FB-86BF1C06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77958-D230-47C9-83D1-7EC63F3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8135-14DD-497E-98E2-1B07C83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32A70-541A-478F-A4D4-949FA48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1F978-3F3E-4D02-9AE4-D740C1D4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B807A-DD53-4993-A10C-3F5B486C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91708-4EF9-4555-B6E2-CC9A080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F2084-EC59-4DA2-9E50-6F82907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352A8-E180-42BB-BE69-2B85DBC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A1ED1-85D7-4606-9C0C-77E2A14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845BF-B964-4B35-B126-B3514551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A9113-EF13-4C89-B815-70DD03AA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88F3E-2CC3-42D7-A7F5-B80B65A1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0AE0-3413-4611-B16B-6D4E975A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48219-451B-4306-A815-F43FE4F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A560A-5D94-4052-8250-4832A81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2C83D-B3B1-4B03-A777-BD64D3C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8346D-0E3D-4DAC-916A-28E7ACD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8D073-AC3A-485F-B973-8630E405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56207-43E7-4510-B2FB-2C8596F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632A4-5A49-44E2-BCDF-8B57263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81E0E-A76A-423C-9608-D035CEA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85BFD-3335-454D-A6C2-898184F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89B06-08FD-4DBD-9703-25562007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FA0-5E33-4674-BD87-CCE34D68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F2D3A-6D92-4D91-8026-E925C71F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E71BB-344E-483A-B4FA-C8261D63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7FC83-214F-44AF-AF0A-1164970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01535-3D0D-45E9-9E50-DE5674D8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C2767-6B87-4FA5-A427-CC7AEDF6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D3464-3D40-4790-A786-2F39100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4B7E6-BA1B-4C4A-B83F-A3AFCA2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68A72-DB24-4CFD-84DD-9333921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E2ADE-AA67-4E7C-A4DB-B67B68C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174D9-DA1B-493F-BFF8-ACBCE3D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5017-DEC9-4C78-BAD8-281DC39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E509A-4206-4337-B283-28CC071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6A54A-4159-402F-B09B-A0B35BF9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9E4AF-5389-44C8-B918-8E2872C9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F0C-CC68-4E89-B3E7-9816FE4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32AF-8509-435B-8187-49692292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FF60-9010-4597-BE8A-D3B41E0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2279-4277-442D-8C7C-447EBF48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DCA7-CEFC-4BAD-BDAF-5935751B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08B6-C3A9-44A6-AF47-59905DBE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9EEB6-4EC4-4AAD-A4FD-E8E76D25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4AA8-F3DB-4D5F-B1A3-50EB675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74BB-0BE7-4B05-8729-99927E5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B92D-60C6-4416-99FA-9B46644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2677-1DE9-4E0E-8DDF-8403953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E1F-A758-4371-A479-CC5E340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AEE1-6367-4317-B84B-E747C0D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F125-AC26-4565-8C44-9AC4B73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481F-62B9-4DC2-A1CF-8756F13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2C79-B5FA-4F58-88D0-A0CDDE6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29E7-2A4C-42F0-9FC9-C3A744E7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55BF-CFDE-4E4D-A7D5-57C04E96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EEE1-024A-48B6-B2E7-D675F8C4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6FBF-00BD-42BB-A9B1-B219C20C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FDA1-67B6-43BF-B954-3E52A75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914E-59DD-4F8F-A3A7-C59046E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5D1-5BB1-420D-8919-769F5AC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521D-9B90-4720-B64E-73050ED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151F5-2CCE-460B-9E60-5DF6BF4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5AAE-C394-4E2A-88E5-35F6367C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1F9A0-3E67-4C7A-93E2-AABCD69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F904-B569-498F-BE1B-190157A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0E173-27EE-4B46-9965-BC624C6C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0F4E-C35D-4D29-B287-4176F7B1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9A18-B1A5-41C0-AB6D-8D69B8BC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D078-0A10-4ADF-9E23-DDB6FAEF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6217-1231-4256-AFDA-31AB7697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38A-7ACE-42F3-9EDA-369685B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0D0F2-07AA-484F-AB72-998BD7D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7C0B-8404-4D0B-AE75-1FBABE17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9C41-3669-445B-B19C-0486B5D5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E9DC-737B-4AA2-823F-003BA04D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811AB-608A-4332-9A4D-E2B44E1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04DA-2B6F-406E-857B-DC7492C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0FEC-D76F-49C5-9021-5FAB411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3437-C746-4BC5-AB6A-9CCBC0D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7B5B-E3F1-4593-8205-291B471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2DBCE-25DE-4445-BC10-8165A0E0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826-F1CC-4752-83BF-8AA8328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F624-BDBA-4F0F-8FCF-A208D40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7F39-CC1A-45FA-BB69-272B235D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91864-2ACE-4649-B5EC-DD0C568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8F95-8A76-4048-A11D-2B2E922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6A2C0-9486-4213-A91A-C8B234E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E768-BE2D-46DA-9E95-8120C3F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5D2D0-E200-4007-8E61-FF3356A9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F8C0C-A0D4-4FEA-8E8F-60E3E03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15A5-F9FA-4CC3-97BD-A47164E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98541-0CDA-41D4-A653-B40BF03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14D-6F10-4A55-A8B8-EEFA833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34A5E-4AFE-4325-937E-44CA9CB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FF9D3-D8FD-408A-84FF-FAB04DD3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34E5-3366-4976-8AF3-6A9FB29D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AB62-85A0-4465-AD60-0E3C5308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1D22-2D12-4E2E-8B1B-872E95D8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07B54-376C-4130-A9B4-6E37F85D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86AD-9AC6-4657-B3D7-5D54793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D5DA-5C71-4943-9F85-A406ECE3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E5A49-E006-4A19-9417-76297AC2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B7D3F-0BE7-46C6-8B3F-DC2BD018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D05-DBE5-4154-8B79-75A0AA6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54EED-EA21-46C7-A278-EE96F18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43CE-423C-4D23-AC99-D2B35D5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DC9BB-72B7-4FC0-B5AA-1C1BDFCE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08FA-38F9-4039-BE0D-24D74554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6E2C-DEB8-4CC0-8240-85623DD1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09287-0F6D-4573-8B06-757F5736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EE14A-E0B7-4E92-B55E-C591B9C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04F0E-5B65-4C96-B98D-13126598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A015-318F-48C8-92FD-D9D3721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823B8-8703-4F4A-BC27-30802FD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2D7-B07D-4544-9C0A-F49BD4C3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F4AD-E090-4BD0-9854-C112107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46AA-1FE4-4C0B-8704-23BADEF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8B03-1E34-4F32-A43E-D005E2F9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8686-903B-42D7-88F5-F7861C8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95EC-B219-4924-B2E1-E3BA214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ECE0-9324-4863-B8CF-BB989FC8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B627-A988-49AC-B985-52CDE2B4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A3779-7B32-4F9B-B1E4-C7388951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0B4FB-2410-4A1B-B7CD-5CBB77A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C83B4-E16A-4263-8C91-E63188B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623F-F138-46D4-857F-DAA000065A0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E327-0998-4A2A-BEF3-45C0928F30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E62-F56F-4A32-AE46-E9D5ADEA36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2096-7F0D-42ED-A704-DF3E251A1D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EEE-78C9-41A4-82DD-1FD19CAEDD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D077-2E77-41B2-8C63-6314E65DB83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52E-4485-4C77-923B-C94726985E0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F43-1946-428B-A5B4-9DAA91DBA5F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E52B-6992-47CE-9FF0-62B25F0FB81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C43-066B-47FB-8FF4-FDEB785E640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6DA-37A5-4031-B59F-31B5554F900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78E2-BA9F-48DA-950B-7AC131B6DC4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40BC-0201-4DE3-A2C9-7E1A9B259C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ADEE-C518-4D37-9478-EC820829304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B1B-1FA4-4638-8186-B92DB6A73F3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6144-BE07-4DA6-A8D7-51F6ED72A1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 as a person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sent job and pos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asons for leaving your present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vious job exper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trengths and weaknes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kills, talents, abilities to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expec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future pl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 to lear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amwork x individual 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ingness to tra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bstacles (long working hours, weekend work etc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alar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(compared to the present on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enef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eap housing lo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nuses paid in a „thirteenth month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ension sche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ee canteen me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ong holida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lexible working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ome good ad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be late for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lie at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ar appropriate clothes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ak slowly, politely, don´t use colloquial expressions and vulgaris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Be yourself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1. INTERVIEW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hov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typy pracovních pohovorů, očekávané oblasti otázek a podává rady, jak se připravit na pracovní pohovor při žádosti o míst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Job interview, applying for a j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TERVIEW FOR A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ying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 cover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urriculum vitae (résumé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for a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job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ne-to-one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nel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ep-end intervi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paration for an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 about your potential emplo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prepa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pplicant job interview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earching for some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ewspapers, magazi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om people who work (worked)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view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appea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Questions prepared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etting ready for unexpected qu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icant´s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ncerity, veracity, forcibi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27Z</dcterms:modified>
  <cp:revision>20</cp:revision>
  <dc:subject/>
  <dc:title>BUSINESS ENGLISH</dc:title>
</cp:coreProperties>
</file>