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E10-CD14-4CC9-9C75-E373DEE9CB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8E28-A650-4D65-B791-3C0028F8119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8CBE-5E30-4977-82BF-D55493CB000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45B5-8A82-42D1-98F0-DFE7431F4A8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A85-0AC0-4DD2-A4E0-91358BC6C5F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323D-866F-445C-BF32-8B89F8E9E85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B827-5CCF-48C2-8354-C95AA977E99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454-BC9F-4E12-9F7F-438FC6A8041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1464-3AD0-433C-90E1-A160D8758BA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B28-BDA0-4FD0-AFE8-CCBFB97A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F87-B1BE-44CC-8D9E-FF58535B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5D6CE-0D25-42D4-A818-41A31815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DA110-C978-4314-8D96-1E01662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F025A-0FA1-4931-9840-398BAB44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B23D8-62DA-44A3-81D5-B30D889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DCF13-DFA9-4D9B-B26F-977E76A0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08E6A-F39B-4EAE-BE7B-3FFC9AE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97D1E-7BC5-486B-9F1E-01BF61A4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D34D8-3542-4F90-B1A3-C20278BC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02AD2-821A-4B0C-8166-F56223F4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AB24C-1C33-4716-9F1C-314BE9C4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19D-E12B-4974-A44D-A2C9C490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B3E92-92C3-4AC0-B712-C7E5D9F1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E99EF-5C30-47DA-B215-533BC456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CF2E0-2A49-401E-A085-FEB6CC32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AF88A-E853-4C09-87EB-2DB0A21F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432B1-45A0-41C1-A14F-90545C0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63C4C-FB3F-4D92-BB0C-016A104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14110-6FD2-4A9B-9BC3-29427BB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E683E-530F-4A7E-8BB9-1D0FC594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63E5F-DBF5-407B-BE19-607CE90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7BA4B-9604-49B7-A3DB-E0EB9DF1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299-298E-4EC8-98B7-9234B203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EB8D9-C56B-46BC-91E5-6112070A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31B1-64C7-47CB-BD03-C9B8B7D8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DBE0-2F3C-4C3D-BB23-43D9DDD4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495B7-AF2A-4BBB-86B9-B04B66C3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5CBE2-B8EA-407F-B0FA-B7D1DB73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CE80-7EF6-4BB8-8530-7E00EAD4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2F91A-DA89-413F-B606-FF00DF08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E009A-5CB3-4256-8261-63F1863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B6405-585B-4226-8352-992D6EB0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E6835-2F15-483E-B99F-9CA3D28A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3C53-227A-454C-8838-F086CE1E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28A2F-D72E-467B-8CA0-D94BDF9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829E2-390B-4504-A381-8FFF626E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DF3A5-5386-4771-A6EC-B8608126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EB7F0-0D7C-465B-8728-55F37AAC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35671-DC71-4C59-BE33-C984E4A5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8521D-D159-45BB-B2AF-5AB6F677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31CF7-75DF-4215-A947-EC2F12A2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FF445-8AA4-4AE9-8F18-B0013DA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9FF66-09C9-4D77-930D-98EA41B5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0C878-B926-434C-A583-77AC16AF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A77-973A-4F8C-9F58-8077060B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A5C56-77B1-407F-BAA1-4C2FC2A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764CE-736E-4E22-95D5-A72DB81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0250D-3470-4711-B796-53E77E2D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AF7F8-EF76-406A-A6BF-BF3F1B47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FACAB-866B-4E7E-95E8-E72C9F2D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5DEA7-64D5-4477-ABC7-285221D9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52D4C-4D6A-470D-80A0-5C47F538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DC4B4-6B9D-4EAC-845E-FCD1B1A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518ED-71A8-4A9A-81B2-5CF798CA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DDDC1-87D4-444B-B3AB-AD44955D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8639-E25A-465A-AB04-C2A5CEE2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BF66C-247E-4705-B0B3-9560CF1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53391-F9F3-4522-9543-158AE636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78728-82F7-4056-98F8-2FC546B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883B0-FE3D-4038-B355-94659831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D4189-3DAC-4D70-8B8D-C00E4EE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AA1EB-49AE-426C-8C68-4A672775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62D31-1C77-4822-B4FB-D3092180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D5840-9200-48CC-9BFC-55B5FBED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A6EA9-7F28-43C2-8DF6-4DCAAA10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7076B-F761-4BDF-A8BE-67A1F391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079B-51D5-4F79-9109-F6E5A62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B3B56-28BF-4EB5-903E-3015F6D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387D99-7B64-4073-A1C4-2BE476D2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AE2CB-88B5-43DE-8CD5-0CF1EE36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0582A-3714-4AEA-9F0F-AB2C7996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7F9C8-3BBB-4B99-86A9-9C4BA05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06747-F0F0-4BCF-B484-F5B4B6D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8A321-DA99-42F6-9617-99CA0119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DE5F3-CD71-4473-866D-FA85D342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4E990-8436-4FDF-9E63-24888F96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49F09-20B9-4E83-8B54-789A65B7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16FD-155F-42BD-81AC-B0625EB7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8F747-8CD5-4CA2-9952-777AF338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B9666-6369-45D1-9BDE-3246E0B4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05C59-8F0D-461F-BEAA-C78238D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7D6DB-FCB6-4EB6-B585-AB676461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87296-9AA1-42FA-9489-D4987E7B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1BAB8-22F6-4B86-99E8-A2D7BDA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7F815-77C0-4668-888F-5ADA818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F6934-7AC3-46CF-B40B-40DE130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69D85-4CFF-4668-B53F-FCB7598D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64290-6B9A-4E72-8272-9F0DC69D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AF07-F629-4046-9B96-3DA3704B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B7050-2343-4E34-864D-EB084941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CDC70-8718-40A7-B08A-07CC0448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4FD00-7715-4252-BFFC-62F01543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992CC-F86E-44E2-AC49-ABC0C61D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B4E83-75DC-4CED-85A4-A1D13BAC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79613-0720-44FF-A99C-004080C7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C07AE-34E4-43D4-B247-D25AA567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4CBDF-4CE4-45ED-8A63-035FDCA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500A8-2834-4095-9E99-12585BB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E4C3D-80E5-4E34-875A-EBD7944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C4F-5E50-45A1-BF2F-307D97A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6B0F9-466C-473D-B9DD-BE7A89E0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F5E31-09EC-4787-A7DE-20D366F1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C93CE-CF48-46F7-83ED-742CC1D9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F5F-BBB7-4281-80BE-F25753F3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4A30-594D-4FC1-9CA0-194491D7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DC9D-6037-4604-ACD3-833CD14B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EF91-4978-4DE1-8D6C-1BB1BFD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7FFF-3868-4B4F-8E79-1F4D252D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823-B5EC-49B4-AAFC-6B85D0FF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C9E3-B442-4214-832B-7C1C37F5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728A-0073-428D-9532-2C2DDFAA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3E40-B910-4596-A7FD-37D4F736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1355-5C26-4DCE-8153-EEAC284B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FEB4-9D7A-4035-9296-BC9170B8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F68-BC77-4447-B745-7911E71F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9E8E-F0A9-4E0A-826A-F3B9E2F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B352-A215-4ADE-85F3-2E1B2FA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095D-B177-4704-8E23-E4C6E63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1AC4-2D40-4FDF-B1A6-AF347F1F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9880-9B44-4023-BAFB-EC0869FE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7008-E1D4-4288-B73C-4EE91E16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B4C0-AD3E-403A-AFBD-F58F749C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42AA-8EC9-478F-98A8-58A5917F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6532-905A-429A-9DFB-BB493775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8B4F-E0A9-48A7-832E-C7D5DA45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A36-D4BA-49E7-9B74-BCF071C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D9C0-ABE7-46B7-85FC-759BE1F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7FE1-EF47-4396-B008-C22BF72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5F25-B3BC-41BC-81BE-47D0E66A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B079-F705-48DA-905F-1E3F014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23AF-8360-4779-8691-095E35F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DC2A-2157-4D45-BA22-E286C4C4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857F-9408-4929-A1A1-A7755B82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8E46-F7F8-4058-AFFD-DDC8390D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B4A0A-3B81-42FF-B319-BFB25DA2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96AD-80E0-4495-A403-0D579D63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A3E-4330-451B-B8CC-E2E9576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13F2-4395-4C3C-93B9-4F943F70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F276-0898-4E18-97BA-3C027FEF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F415-7049-4BE6-8523-9206AC90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58D9-F8A9-43D6-A6EF-85547AF1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F4D96-E920-4DAC-97BB-E5AC5E98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7BD8-9804-4751-94D3-62E7F025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BC7A-1E4E-4BF7-B406-EAB440A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04271-B19B-430F-A23E-3A03150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589C9-98FF-4DAD-9AE8-BA881DBC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6BE08-ED92-449C-B40C-326125BF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36E-461B-4CC4-B5D5-EE64F879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DE60-B6AA-498E-9B40-D3A20FEF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D5183-ADDD-4D2A-A075-517183E9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3571C-7551-4191-B5B1-F8FF9E2B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258A-9874-417F-9849-DF338354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5123B-3EFD-4F73-B3E4-5EA5A03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5E03-4E94-4A84-804E-7D7A5C1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B6BB2-5343-420D-BEE1-939473A2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6CFB-FF4D-46BD-AD53-EE70E23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E9A8-D928-4E9B-A049-3F4738EE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856EE-546B-49AD-A5E4-E53D814C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996-DA21-4B2A-8BA9-FF444DF0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F9AA2-2CB1-48EE-A269-D23DCBA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77847-B887-46EB-BA69-33E1117F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D019F-D351-41DF-BD53-404C9C48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68E56-B1C3-4F2A-9EB4-D792E3B6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5C1A-0369-4828-8A14-72FB3CBA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6AFA4-1689-4D02-8275-FCA0EAC8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08F4A-ACFB-4616-A03E-9FE47FDC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90A5C-E9DA-4264-82A0-55777733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241F-ECC0-4543-9B89-831603A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3BC69-A730-4E4C-A3B9-8663FFD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9CF-783E-4203-850F-89107F63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76B6B-1C5C-4617-B980-F514309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67449-E798-4649-B7A2-46F4B7C4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78E0-3179-4BF3-AC8E-6339DA48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B7553-8277-4537-B4C6-02F79AA6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4248-4058-4A5E-95E0-6E671217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725E-A6EC-4BE1-9EF5-A6407478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4BED-51A9-4540-81EE-E7CBC0CA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196B2-767D-4C90-BA5B-21E73902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236FA-7347-4291-9B3D-D8D1787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C9673-7B37-4C08-AAFB-A005FFE2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E65-E3D2-472F-8657-FB4FB24C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78E07-4C9C-48BA-90E1-2DB6D36B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F524C-4315-4083-9CEC-DCDD8D8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E921F-89C9-4794-BE69-9D4DDDAC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46F49-0A31-4EF7-A286-8F57D61A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7A8BF-D8A4-4DE8-9CBC-54C0A1B9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2D51C-5930-4974-99C4-16BE6E13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CC1BD-68B7-40C3-8535-CD0FBFAB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A4E9-C8B8-492C-92C3-070C0986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739F9-291E-4A88-BAD2-04F246E5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19139-AEC8-41D2-B012-6E67A027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802-F6D3-4C7F-966E-8071A158A09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2230-CAB9-4997-A918-DE7A27FAA86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B04B-B583-43DE-9F37-021DFBB8626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E699-3680-4ECA-80CE-ADBB7304DAC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0B2-0E6F-498B-8363-E14BEA85D7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0CF-4CDE-405C-A899-BB3F9C2B284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B4C2-F956-4D21-B7FE-F99889FD5B7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7CD8-8ADF-4A90-8E35-6FEB00564C1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4F82-8D52-4047-8449-FE36B4C03F0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C3E2-3B41-4F58-8143-D55B3581F37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FE30-B53C-472F-910F-4175034E784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562D-F9FD-42CE-9B51-B5A1994BFEF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CE39-202E-4A7B-9B43-958E2AF4318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9F88-A395-418D-9DB7-AEE30E1D8CA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8574-6391-4D9D-90B6-CAB9C637DEF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9382-F0FA-46C2-A2C4-E57EF5F1726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insist on the time of delivery given in the order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lease arrange insurance against all risks for the above mentioned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see to the careful packing of the consign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ertificate must also contain the signature of an official of the bank who has inspected the goods before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serve the right to cancel this order if the delivery is delay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stress that the terms of delivery must be kep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you execute this trial order to our satisfaction, you may count on further orde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give our order your bes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 confirmation letter should conta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s for the 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details of the order (description of goods, quantity, price, payment, delivery terms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rance that the execution of the order will be given the best at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order of May 4, 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we have booked for execution in Ju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enclose our order confirmation and would appreciate if you returned one copy duly sign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preliminary order which we have no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ank you for your order No. 123 i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for 300 T-shirts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ank you for your open order to the value of EUR 3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000 and, in accordance with your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ishes, we shall employ 1/3 of this sum for writing materials and the the rest for toy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objedn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objedn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der, confirmation, trial order, repeat or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 order is a request to make, supply or deliver goods according to the customer´s particular requirement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 can often attach a letter in which you specify the details of your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ase a buyer wishes to introduce a new line of goods in his local market or to know for himself the quality of the goods, he giv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ial or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 can also buy the same goods on the same conditions as in the past, this is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peat or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cknowledge receipt of your offer o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enclose an order No...under the following term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the recommendation of Mr.... we would like to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your prices and terms meet our requirements, we order for delivery the following ite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fer to your offer of May 4, 20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13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nd ask you kindly to supply the goods according to the enclosed order fo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hank you for your offer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have pleasure in enclosing our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thank you for your offer of May 4, 20</a:t>
            </a:r>
            <a:r>
              <a:rPr b="0" lang="cs-CZ" sz="2800" spc="-1" strike="noStrike">
                <a:solidFill>
                  <a:srgbClr val="0070c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and request you to book the following order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refer to your quotation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ask you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suppl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29Z</dcterms:modified>
  <cp:revision>32</cp:revision>
  <dc:subject/>
  <dc:title>BUSINESS ENGLISH</dc:title>
</cp:coreProperties>
</file>