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B8C1-46E6-42E6-832C-50EAE5E8D1D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CCD5-BB10-4FF0-BC1E-665CF9ECDF9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D8D6-64AC-4691-B847-2B2D107AB2A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D01A-8C37-4F42-BE8A-E375B480116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6CD0-AE42-4C3D-B6FE-68420449147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E0EF-409B-4229-B33D-66A3B62EBCE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0142-3805-474F-BF5B-CDA68F9DCAC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3D66-B7C8-49E9-A51E-58181A65956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CE03-F0C3-4FCE-9549-55BF2E17225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F40D-787A-427B-ABAB-46F7803F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6412-183B-4A42-9F8D-594275D8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B8478-6036-4761-B7F9-956A5DC2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A37BC-04F7-420F-B9E6-7278F4D5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66A51-CF18-4B58-8E49-BF6E3DF0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DB09F-7BD6-4CDE-95CC-8E5EC90B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EFA78-3D7D-46B3-BE85-95F7068C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A5EF3-4314-428C-9A9F-60943056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D58EF-286D-46B9-9768-D98C7470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923ED-B3E9-4470-B63B-A45FAF469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687C9-4699-470F-ACC0-0DB97010D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9F384-D9D1-4AE8-93D3-00CA29C1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6ED4-7098-4B56-8C90-309D7CF4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90D9A-13EF-4855-A9F1-5F924CF1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9929C-5CAC-4CD9-AF85-CAD04671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0D1C4-6F73-402B-9EF8-636860F1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92634-17FD-4C23-9C75-793EDC0B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7A678-3D22-46B4-8065-7440E04D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A6381-05A4-402A-8D1A-E13C11B2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C6A0B-3061-4F82-B261-1B509FD2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48E0BA-69F5-4439-902B-DB26B944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7FD627-C954-489F-A857-5BB40936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EF016-47F4-45C7-A0A9-81258AF95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7D62-9E7F-4517-99AB-1E1F8C144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BF286-F21E-4A7D-83EC-3200EB15F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FC548-E43A-47E6-8728-B77979EA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8AA05-8847-4E2E-89A1-D9C7A941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CC5C1-5502-4DAE-B3B6-625213A9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BCA4B-BABE-45CE-81EC-F8DA906E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712E5-1795-4932-BC98-E09A2814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DA75A-32E5-4275-B449-415E790D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7FAA4-E19A-4982-BC3B-683EA734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77478-7E2C-4BD8-A999-F61D3D3E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AEA1E-4E54-4B93-9D5E-EC6C3311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7DC7-0E13-4F54-8F71-9C4E6D172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AE09F-3D6C-4A80-8D53-9C88C54E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554B8-7A9A-463E-AD10-6A8EAB74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3810D-74D5-420B-85B5-3B36B32A2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CC4D3-AD8D-43EF-A381-020D97CCF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0569F-A2D6-4ADB-96AA-341A235A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1DA7F-CDA4-42EA-80ED-5660D4E7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C9DCD-A172-4591-AF89-B9C6571B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4511C-CF82-44BA-80D9-6BEEB32A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9C1FAF-D20B-4BF9-B6F2-4889FED1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B862A-01F9-4C31-80FC-5FC4E330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C218-D941-4F7A-AD70-CDF326C5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82959-1324-43B0-B261-1A6C28D0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C7A67-8235-4970-BC48-A64197B4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25417-3D8E-4BE4-85FD-EC1C60F1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361F94-88F4-4A3D-A507-2D04F3ADC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49A018-9DFA-4036-B651-F2ACFC526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879DE7-B57A-4FB2-B335-CD515FFC1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EDFC1F-81CC-4353-8D45-211F75A8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175B20-5258-49DA-B15E-BFB9EE88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6BBD55-D26E-44D3-90E0-7E942182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36C3F8-05D2-4E6D-957D-B0225EE4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2196-3A6D-4448-8A47-E167919B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344046-1FE8-49FC-92D4-CBC2AF94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309DB8-289A-463C-ADA6-3DDC3269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583F37-F399-4D72-8022-A59C35DC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446321-3B1F-4B92-B40C-DCF2905C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0AA4CD-AB72-4F61-9125-A7F1469D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8C7443-842E-4A71-8CF3-1D5531BB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FDA34B-5E10-48E4-9FFB-37CD61D67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7B1CB4-7E20-4261-9BB8-4AA78E41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57A9DF-7272-4225-9412-0B59AD0E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956779-4B98-41B1-B1E3-2348E69B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F80F-4853-4879-9734-033A06AE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45CD32-0CEF-4916-8218-270CFD79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90AFF6-63C0-4C78-AABF-FCC41E7B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9D3FF5-9A48-4F02-AFF9-51997060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2DB253-404B-4112-88C4-411CD53F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797758-201F-4AD8-B973-350D9856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FCFEC9-079D-4D7B-9DB3-13FB5AB1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400060-4741-45E4-8F42-2639B2BD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D67DE9-2939-4D83-9FF1-2A4BAD22A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5483D3-9E4D-4F46-B685-B6A0EC4AC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8551DB-190A-4621-B17E-6443D51F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766A-C062-4151-ACCE-7DCD1BD4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DEE704-F67B-4CCF-8A45-059B940F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F17CD9-ABDA-4D47-B102-F8CBE418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64A013-4690-4837-935D-18CF346B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523796-9D53-4C78-92C3-96070215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5985EF-97C6-4CDA-A241-90FBA227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9411B6-15B3-4849-AAA4-5AC84C90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880EF7-301C-4ADF-B43F-E5164742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F71794-BC02-4DAB-B566-38E31A32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E7D28F-6BB7-425E-91F1-E1A58462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70E68B-E6C6-43AF-A3A1-515CB24B6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940E-1E7B-4739-B8F9-A127C764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B8050E-02DB-48F3-A847-DEE0CF2A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159956-0009-4740-BBB7-5D19F6AF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7971CB-7090-4F90-9B38-3550935C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AEC6D7-9543-402E-9C0D-DCE60E6E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FD92E7-2BAB-48E3-AE8D-B3627B30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EEB4E8-11A5-4571-9361-15B90965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7E073D-E70E-4C52-8208-33DE19CF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B2BE5E-4722-42E1-9B38-85F32B46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4E9E90-37CF-485E-B3A6-434BF1FB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117880-B584-44C1-875E-2653CA23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FBC7-EB68-4826-8962-EDB86130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7118FC-38FF-4200-8399-0CDDE0DF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A90D8F-F1AE-4AD8-BA77-01295273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A34FDE-398B-488A-9661-58D0354B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48BF-C749-4A11-9A40-2CF1AE0D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08C4-482E-43A7-8C6C-E2AC004A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691D-4F47-450A-AD4E-A7879AEC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4DF1-A0BF-41E3-8AE8-49B11039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721B-7169-4F61-8668-B2C30C160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EE96-D1FE-4056-B327-5BFA828B0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B3A58-8E92-4164-B33D-222D1B47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2459B-6DDC-4652-A4ED-AC48B78E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8BC5F-F4B6-4A4C-9328-0B60646A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379C5-BE98-473F-9654-1E4E1B1C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5CF41-D311-40B0-AA20-CD468DC7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052A-7E7F-4ACE-9947-BCBBBE53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809AD-4758-4465-B7DB-F91E9F38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2A093-3A52-4C8D-A84C-A89E5FFD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961D8-BA6F-4BF4-909C-144DEA23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88C4B-0756-4627-99A7-8AE71B19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FF544-1FEA-448C-BFFB-2D60E6DA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257A0-71F3-478F-A8E9-4FCE5CBF4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FC5A3-03C8-46BE-A321-6ACA6EE3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78569-7576-47F1-8DD9-2BBDA7A65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BF4EE-349E-474F-8BDD-9E51A3AB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9F522-4F34-4C5B-B727-11A0D5E8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9A5A-A63A-46C0-8607-0620D41F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C8F53-68E5-42F1-BA1B-D7B7F657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56E82-F6D5-4A68-8F9C-47072889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05F85-81B5-422E-88E1-FD5A147A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95E93-EE18-40D5-9F17-713EFAD5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E0EC4-D756-494E-9A4D-DC670B50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DA113-4223-4335-B50C-9B574839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18580-BCD4-462E-99D0-8A64B9FC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E9770-5C34-4D1C-881A-E0C3E82B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179FB-F52C-4350-BE14-B4376D3F9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69974-D341-48C2-BB71-6702DD398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DBE8-3CCF-49BE-899D-FC96AE1D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1EF7C-CB73-4AB5-B8A2-F105BBD9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F61A5-AE48-4B6B-8CF8-6E17F72C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493C9-7702-4523-94A8-AB4FFDF1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6FB13-B468-4CF6-82C4-66165614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4A9D7-76C0-48E3-B4FC-70A97FDB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9627A-67FC-430E-8E3E-474FEA30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F64F0-E64E-4884-B66C-A86F5984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CF3D2-B3D4-4CA8-A604-FAB8795B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0FF55-7CC2-41D7-8224-2991DBAB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DC849-67EB-45ED-A808-D83867E2B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29F4-8F16-4D2A-88D7-EE2E738B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794E7-80B5-4501-B15F-F049A79E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10859-C7BC-4743-B859-80CD6BD4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BC5A1-A2F9-4091-B595-E5A64879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B2876-FA0C-48B8-A106-2915E142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3D194-4E48-4FD9-9695-C9FF5C8B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52298-27BA-4840-BC63-01F76470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9261D-B68C-409E-9438-BBC49742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79BF6-9E64-439D-BED3-07D732DF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0CD07-D8CA-4745-A0FB-46DC4D5C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27FBC-D78C-4211-8C40-122A8F88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7B9F-303C-4009-B8A7-1A3FA341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D394E-9A7C-4E66-9C7F-627A32E2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62B06-4239-4579-A182-3D6A022D1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B9A74-899B-4EE6-AF04-BB5CD64CA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88766-B72C-45CB-BAD5-C040306B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BC1A4-04BF-40C0-9E5D-E5F46E23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04E2D-86E4-4A20-82E7-344F9371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93183-187A-4C06-B3E0-A18A3878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3CE51-4E26-4C75-8FEB-14F5BF68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74404-F035-492A-9BB3-1CA42FB8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BACFD-7313-4540-BE9B-38E6EA04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192B-FB76-4C41-9700-A8A1DC46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BD24F-CCCF-4176-862F-836EA9BC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D544F-F201-4E1B-BBB4-0571F1A2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A8A21-B908-4F98-B49D-E943DA0C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92626-0A4C-4C7F-9782-97DBC908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D3F7F-A555-4BFB-88D7-45C86D536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F2449-7178-4F8A-87A7-B23CF6EA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715EB-61DF-4E48-8FFD-1798FB06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8E63E-0394-40E8-A8E0-32BC7CB9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70B98-9381-4E48-A7FE-D5A4282B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D03C2-E352-4E0E-9002-AD8EF4CF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DD8C-F62D-43E7-B9A5-3ADCDCEA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929C5-09D7-4095-8284-372B4AF3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778E1-EF8A-4343-930C-F63D45E5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58C6F-A010-486F-9CED-F8A3384D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7D95D-02B1-4522-9038-E176A1EA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2AC8E-E08E-48CF-AEB3-1A6F4B8A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DD9A1-6529-4CA5-9C52-0A62784D9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C1B34-EAF1-417B-B400-62C0B5BF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85D51-16C6-4E8F-B273-4DE71623C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91E6FA-6ECD-4281-8A25-D4795615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0F1FE-3BDA-4101-B893-34592674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AA5E-BAFB-43B3-B0B2-8C463699EE59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9552-B79D-44FB-AC5C-C1E761C88A1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33DE-08ED-4862-BB6D-E91CAFDA2C1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5013-EC09-47F3-8951-6DC5A5106ED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36D4-797E-44DE-AC13-123D11E6235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C889-678D-473A-9E8D-6852C165058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36DA-A051-4ABA-9671-24AB1991F87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23F4-FE69-490A-B334-6C1AD587997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1244-F9F7-4067-A91D-A785619ABB93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1C1F-3B29-42CF-A4E4-BFBA1C066CB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FE8B-0A19-49EB-AA8A-BDD2FDA484D7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9BD8-4CEF-4AEC-A71A-3483B4D04F0E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AD68-650C-4655-A5EE-9D9180EA4CA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DC47-2A71-438D-820A-D96DB0B68E4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FC4C-B688-4600-B77F-E773E3191C2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AED6-FA3F-43C4-A0BA-2844629745C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9.12.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interne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earching for information, pictures, videos, new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ending and receiving e-mai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hatting with other people via messenger, skype, icq and other ways of communic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uying goods or flight ticke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interne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ooking hotel accommodation, sport or culture ticke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nternet bank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resentation of a fir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ersonal present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73" name="Obrázek 1" descr=""/>
          <p:cNvPicPr/>
          <p:nvPr/>
        </p:nvPicPr>
        <p:blipFill>
          <a:blip r:embed="rId1"/>
          <a:stretch/>
        </p:blipFill>
        <p:spPr>
          <a:xfrm>
            <a:off x="5724360" y="3716280"/>
            <a:ext cx="26197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-mai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Head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Greet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ody of an emai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losing lin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76" name="Obrázek 1" descr=""/>
          <p:cNvPicPr/>
          <p:nvPr/>
        </p:nvPicPr>
        <p:blipFill>
          <a:blip r:embed="rId1"/>
          <a:stretch/>
        </p:blipFill>
        <p:spPr>
          <a:xfrm>
            <a:off x="4859280" y="2924280"/>
            <a:ext cx="3791160" cy="22334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-mai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3366"/>
                </a:solidFill>
                <a:uFillTx/>
                <a:latin typeface="Arial"/>
              </a:rPr>
              <a:t>should b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PLET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NCIS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URTEOU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RREC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79" name="Obrázek 2" descr=""/>
          <p:cNvPicPr/>
          <p:nvPr/>
        </p:nvPicPr>
        <p:blipFill>
          <a:blip r:embed="rId1"/>
          <a:stretch/>
        </p:blipFill>
        <p:spPr>
          <a:xfrm>
            <a:off x="5940360" y="3411360"/>
            <a:ext cx="22478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1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Telephone, fax, interne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působy firemní komunikace prostřednictvím emailů, telefonních hovorů apod. a představuje základní fráze pro komunikaci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Telephone, fax, internet, telephone call, email, communic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43280" y="33573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TELEPHONE, FAX, INTER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6666"/>
                </a:solidFill>
                <a:latin typeface="Arial"/>
              </a:rPr>
              <a:t>Telephone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757" name="Diagram 2" descr=""/>
          <p:cNvPicPr/>
          <p:nvPr/>
        </p:nvPicPr>
        <p:blipFill>
          <a:blip r:embed="rId1"/>
          <a:stretch/>
        </p:blipFill>
        <p:spPr>
          <a:xfrm>
            <a:off x="841320" y="2352600"/>
            <a:ext cx="768672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ood ideas for telephon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Make sure you know the name of the person you are talking t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Make some notes in adva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Repeat any important inform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nfirm the main poi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ound interested, helpful and aler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eginning of a phone ca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Good morning, this is .... speaking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an I speak to Mr.Smith, please“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 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´d like to .......... please“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Good afternoon, this is .... from Whitefridges company, can I talk to someone from your  customer service, please“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ossible answ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es, of course, I will put you through“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´m afraid he is not in at the moment, could you call later, please“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´m afraid he is away, would you like to leave a message“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´m afraid he is busy at the moment, would you like me to.....“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eaving a messa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uld you tell him I called, please“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 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uld you please ask him to call me back? My extension is 231. He can reach me there until seven o´clock“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uld you take a message, please“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´ll try to call later again“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….. 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 telephone receiv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 dialing ton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n engaged ton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 transferred charge cal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n international cod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 hook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68" name="Obrázek 1" descr=""/>
          <p:cNvPicPr/>
          <p:nvPr/>
        </p:nvPicPr>
        <p:blipFill>
          <a:blip r:embed="rId1"/>
          <a:stretch/>
        </p:blipFill>
        <p:spPr>
          <a:xfrm>
            <a:off x="6156360" y="3213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11:18Z</dcterms:modified>
  <cp:revision>23</cp:revision>
  <dc:subject/>
  <dc:title>BUSINESS ENGLISH</dc:title>
</cp:coreProperties>
</file>