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15F5-FB3B-4FBF-9793-A8661F387C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36FC-2521-46DD-AD27-F387273AAC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D9A-E855-4515-8DCF-FF34BF68C74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D648-6402-46B6-85C1-27D0468E69D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05AC-7442-4149-B54E-76208D4238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D59E-ED4A-411F-9D36-43D29607CC6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0060-0A3E-4221-A2E5-482ABF4852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81F-025D-4F9D-83A3-7F57C75084D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E16-0B05-4B62-A7A0-425037E4DA6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FE3-A579-49B5-8982-A9E2E53C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B77-DCAF-45DD-AE6E-38A2107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485FA-3A51-4E0B-864C-BA2F93A4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DDF2-D1D6-438D-9AFB-98EE7B5E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DC98-9520-4C41-ACBE-6A2884D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71DCE-2DB4-42A6-821F-BEBAA4E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D3AEF-26CE-40E0-A9CD-80CFE39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C7B8B-36C4-40CF-9B54-67F8C2E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482E-2E05-45E5-ADE6-D30FB4F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66B23-65B2-4DCC-B377-0E8E6FC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93A39-7E26-464A-BCA5-FDE9891C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73AC2-2D7E-49D3-A197-A9CCBC3D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286-CB2B-458A-BB40-FD6B7EDA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055AF-4266-446F-8886-F53FE93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E7445-2719-41D5-9FB6-49FDAE88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343C-757A-4F60-80E3-2ACA49F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C7313-0A9C-4BDF-9EDE-FF276A5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5BA2F-F88B-45EE-8429-C616FC1A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B0C05-61F4-4CB7-9A16-61558E0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6E990-C801-4B59-B581-83DB76A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65BFC-5ED6-4500-BEB0-0835E3F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D0CDE-1CAD-4A60-BD74-733A8EB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84630-F28B-4BC5-8992-C52B2292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634-2EE3-462E-90E2-452EAF8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EA4B4-EFEF-4417-916B-59A5D7E1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1C496-04FA-4D1D-A3CD-22CB076F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9E56A-734E-4BE5-A54A-D030060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5771-6AAA-4A00-953E-8AE7A36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ED70-C2C2-417A-95F1-A2AE9F9C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142AE-527D-45E6-803C-CE6D37FD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EDBBB-D513-48AC-AD16-3D7A846D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8762-962A-4830-911A-7D4D5A2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A2CE4-D50B-4720-A9D8-E375424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4FD4-731D-41DE-9654-219D683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374E-8C50-40FB-AC44-D04EE5E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9F45-DC50-48C3-A3CE-15DF5927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3C81-1993-4ECD-B435-C69884C7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E231-4719-4C9F-B5B1-5FE6F893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420B2-E28F-4E4D-8596-1FFE13BA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E0405-ECBB-4EC2-BFB2-DF6BB3C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C7FB5-04ED-4BB0-879B-1044C95E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E0B7E-D49A-4673-B014-574D3625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F5D55-C8DD-45A0-AECD-5012F63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D8E71-FD34-4DB2-9947-83E45FEC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E2EC7-2D94-4C4D-B443-14F513F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2E5E-936C-4871-916A-BE02376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EEBE8-BF94-42BF-81CB-5D6AB8C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154B7-9433-4713-96E2-3451128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D462A-66E0-4F58-AD7E-8A4A945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1E04C-B961-4C54-B82F-2C9DCF11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0061E-018B-4ED9-B65A-A46D3418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30BF8-3BDE-4C9A-8DDF-E4CD8D90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95096-759F-4428-96CA-CEE69724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A3AA0-5057-470E-8CAA-471E71BA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3674E-6401-4CFF-A4BD-F063DB2F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BFF94-5DB5-401F-8472-7C8B733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46FB-4B14-45C1-97EF-B65D63FF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4FC05-C644-462C-82DE-AB6C20D2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179A3-61F5-4D3C-AEF4-955ED98E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A4CE-668F-475F-AD61-109CA94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D2B00-6C00-4C5D-A130-9834E78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6B791-F5EE-4887-8B23-B5449D63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6B04F-1DE3-4C05-8899-DABB0A3F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E8B01-907F-470C-9DEF-EB407FA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028-1855-4FD8-A743-93C1F6B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D748-55FE-4C74-99FF-0BDE524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D8B3-4E5C-4C25-9199-BD0FE7C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1A3F-5B29-4BB1-8EDF-F690484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4FC-87EF-488B-8704-914ABDBF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B69-8E8F-4A45-9B25-0A787054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589F-C647-4780-96EF-43D9911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6A8-3802-4F22-8B00-270441E5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7F8C-7368-4034-B483-D1F77A9A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66C9-4B0F-406F-8A9B-7F6EE4E7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EC49-4A19-4FA2-B1F3-8C6DAB0D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6560-491C-4766-92AF-205C1A90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D0E9-8510-438C-A18B-03980D14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A6A4-91A8-459F-B909-6F37CB5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A6CA-1F55-4928-A76B-011950B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2EF-7EF7-40D7-BE36-1277E39C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3572-7035-497A-837D-6C3730C9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39E8-F948-4CAB-83FA-8DD54F4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B5B9-07C5-445F-9739-5263284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2B8F-AE3D-43CA-AD3B-E140FE4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5B73-3B73-4449-94DF-D012DAA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4476-2C37-45D7-9785-7C77BC6A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6D22-96FF-4A47-AC40-03475A60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9562-4B8C-445B-B885-0B64DBB2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7D14-1E49-4DF6-9065-1C26C84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0C76-FD26-42C5-9051-BBFFEA1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3F0-AEBB-41A4-9371-3D57BD9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96F8-82B7-4556-8A7F-5C82A1F0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10A3-328D-402C-BF74-22B49085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88DE-23F8-4566-AF25-583348B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5370-D719-4261-B82B-0CB3B28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06B6-8423-442B-A415-999D2ED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A464-7A25-42C8-9021-055A8C7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9BE3-E761-4671-9295-6BADF75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4D10-91EA-47B9-8172-EB2E6399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B587-F6CC-4552-A90F-EA0F8758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C56C-7E55-43E9-A2C3-095D5DDA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CB8-DC55-4295-9827-516C309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EF0F-4C42-4AC2-BBD2-C4BD0FC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5FCA9-20E5-45F1-9406-F69FED06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A01E-2465-4976-8583-37C665FE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B1C2-50C0-4F1E-8495-AF134C9B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4290-8B3D-449D-93F4-F228BB6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353E-3EDB-4FAD-99EB-7D70E71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F67A-E280-467F-BD78-0A5980B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C91D-72DD-4E23-9477-71187A8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0AC2-71D8-49D4-856A-A9FE481E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3A71-B78D-4B58-8BFA-63012062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9DF-C98D-49F9-8737-4D5F8A67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A98F-7352-4AAC-931D-34879FA5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A374F-A750-46D7-BAE3-8DBE2AE8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341C1-868C-45CA-BC1A-E0385D5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519B-D5DC-483F-B118-BF8DFC9F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523E-ECC5-451E-A138-0ADCA1D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A01C-5495-4999-BDFE-DD777433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84E2-5BF9-44AB-96C9-FE63CD1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CDF6-F1D7-4201-82DB-1866634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63D7-7081-496D-AB11-B70511C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364B-5EF0-4B8F-988F-92436E5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4A7-44C0-4CDD-87A1-67577E9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AFD7-7CB4-4188-8D50-57ABA98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4EAC3-C954-4A2E-9F74-8B18831D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A57E-EF7C-4487-A59B-050B0EC8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66523-A17E-4F59-8700-C7CE859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980B-FEE2-490E-931F-66F19E8D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9CB5-64F3-4F66-8CFD-512313F8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78B93-437A-45D6-8CFC-7386E51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4D72-888E-4B98-B769-39B55E4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34CF8-9A94-43BA-8951-07A43EB8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0CFF-F76F-471D-9C4F-5E7F04F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C95-3BA1-4D50-9B17-7574404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FCC5-3D48-4D32-B8E3-1942EDF2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614AC-FF7C-4704-B044-B993A4A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38532-5E49-42C5-A896-A941CCA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0B0E-0708-489E-BA1A-44A39E45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208A0-B262-4F66-B4A4-AE8C5FE8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B36A-4A11-4CC3-B1AA-FFCD6407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79683-545C-4962-B4CD-4B28FDC0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CD7B-91BC-4AE1-84DE-3636CA46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9F6C-20D9-4360-A822-A8C5DE24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76F6-313F-4120-9FC1-A57ED2AA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FAD-FF15-4245-A1D5-3F56E1E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A931-7B41-4F25-9A02-81D6139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C68F-915A-45CF-B824-8A3AF020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14D4-E960-4021-A3AF-779D3FE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A2AFF-7978-4FCF-AA73-2C95468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A657-13CE-4356-9891-62129B6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E1D6-E96D-4AE4-A25E-4145BFBF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9967D-1D56-4880-A596-FC137148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8C776-13F0-4F11-8D60-A4F24F2D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79F4A-F174-4F53-9393-6E83A5A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D750F-0C76-45C5-AE64-6B60C8E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9F6-8A36-40F3-8265-DCB61375E7A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37B-32EE-46AB-B263-C854F47A82F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BF0-91D0-4B6D-B838-22773CEBFA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0264-0054-4AF6-9B79-167DE2CE64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FA7F-A586-457E-94BF-EE5CB408CFE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F48-BD55-49F8-912C-72EB9BAA0EE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A05-794C-4473-AE67-2227E7B1EA0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FF14-7021-4FC3-90FD-C11290A36D5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5AE1-CA1A-42F4-82E9-3BC1C7E841D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691-93C4-46DD-A2E5-429A9E54889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977-D78A-47F5-8487-ACBA474B213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99DF-40DE-4A20-A4F6-067CDFE6A45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E96-885E-4A32-B4CB-5F6FD631CF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your card carefully and visi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ep your card at a safe 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keep your card together with your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lend your card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er say PIN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any card data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the identification password for communication with your bank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sure that nobody is watching you to type the P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use your card when there is anything strange with the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the statements with card operations regul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yourself sure you have not lost your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bankovní karty a jejich typy, způsoby použití bankovních karet a pravidla bezpečného používání karet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, kreditní karta, debetní karta, bankomat, výběr peněz, PIN, výpis z bankovních kar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3" name="Obrázek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lastic card issued by the bank to help you to get to your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10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611" name="_s1028"/>
            <p:cNvCxnSpPr>
              <a:stCxn id="612" idx="0"/>
              <a:endCxn id="61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4" name="_s1029"/>
            <p:cNvCxnSpPr>
              <a:stCxn id="615" idx="0"/>
              <a:endCxn id="61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6" name="_s1030"/>
            <p:cNvCxnSpPr>
              <a:stCxn id="617" idx="0"/>
              <a:endCxn id="61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1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ATM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Deb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TM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marily for ATM u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nked to one or more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so called bank cards, client cards or cash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not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quire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ed with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 you to spend money on credit of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b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for paying at a merch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withdrawn from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designed exclusively for payments on the internet (no physical card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 withdrawing cash (like ATM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SING YOUR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in shops, restaurants, hotels, petrol station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purchases – hotel accommodation, flight tickets, purchase of various goods via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8:01Z</dcterms:modified>
  <cp:revision>23</cp:revision>
  <dc:subject/>
  <dc:title>BUSINESS ENGLISH</dc:title>
</cp:coreProperties>
</file>