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C8CB-C76E-4F00-A4DD-9B375F2EF6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0553-D75D-4696-BE3E-1004EEC465C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F673-8A5D-467A-A117-81A9D0DAB10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9359-CF13-4105-8791-46C1B7FF9BC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9613-16E9-4154-9A1E-DAEFC9EAF15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043E-C252-4782-931F-F007F0DE733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8B20-38F7-43C4-805A-EEA7187FD70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C593-C8D5-494F-9977-C33B254DCEC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9535-E3A7-4DA3-9F86-A23AFF69835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8DC-9EF9-464C-86B5-1562F8D1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375-6B1B-42A8-80CD-57D91321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4E952-99BE-4112-B93F-255216C9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2FB0F-BB5E-4B1E-BD43-A16AE348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EFDDE-2B14-4BB8-A953-6F926CF9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024ED-24E5-4068-9860-F309A46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1A6CE-023C-41C0-B00B-82261F59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0C7E3-ED21-459A-9AC0-D3485A1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0B1BB-D429-4850-89FD-CE5156D7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475DA-945D-4B1C-A210-805B69E8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5CD17-D0D0-47D7-9276-9424C70F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24393-A091-4B32-9D1C-FE6E990C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D85-D2C3-4928-ACE7-CF9B1A7E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6BBB6-C100-483D-B80D-FCC6BD32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9F2C5-EDEC-44E1-83D0-9CC12119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08447-503D-4766-A541-39AEEDFF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6AD0A-F86D-4C66-8910-EA75C6F4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60947-2A09-4440-AAE6-B7DA7E98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F4869-759D-429C-900B-8762E36A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A3CA1-53A1-4136-AF1C-5BF1EEC1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73D8B-0B35-4E65-A32B-3D8EC449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23923-0F4F-4AA1-B6C5-7BC64CD6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CBF52-0258-400A-9CE9-939E64EF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D9D-5725-40EF-8EFA-84FE02EB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889F8-845F-4022-BC68-85886DA1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7B8AB-25D7-4E09-9E98-793B6D46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35A23-1E53-44C7-96A4-999948EE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4C1C8-938F-4A88-816B-B85EC432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9367B-30F6-47B8-A338-165135DC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5332A-2882-4628-B48E-F0B73101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DA19F-17DF-442F-8E7F-9400B4BA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68AA3-F73F-4BB9-9230-F825BD6D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413E6-723C-4A75-B407-5FCB9A6D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D1FBA-7939-4966-8194-E4AB99BE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2F35-F1C2-45F2-8C3F-34EB2597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06188-A902-440F-9FB8-82D5F425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6F975-4E1E-4DFF-992F-7C922B46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4AC4B-4600-44D5-8F35-C88DC103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84FF1-1175-42F9-9BC5-3D5600C6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7613F-5C6A-4E2B-85CC-3CDE8FDB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73EC4-9C04-4CCB-A872-62BA211E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8D13E-5A0F-4B78-97C2-80D48B94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9AB71-D6DE-4998-8255-8C670106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0243A-3F56-4141-ACA0-BBE49716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14796-1611-481A-94B7-967F02DB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165E-0432-415D-B76B-70F834E9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C95FD-573C-40BD-994F-D9A60F4D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5EF1A-2A81-43D9-AFF7-0021B8E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52E0B-474D-49DA-930F-80507190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0E16E-5560-4FDE-93A9-5BA7BAC4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16938-5684-48DE-9403-CCE6207E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8F0BE-0C67-412A-8FB4-BC04A4B7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7C54C-37CD-4CDB-8402-C0677E38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76199-5429-456C-9C51-9CB91E21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51BFC-A397-42A4-8407-6E11FB26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79FBE-7736-4442-A5D2-6CD61D0A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EDE3-77A8-4693-B4AF-D28E329A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8BC41-03DF-49FD-BF88-EF944BD4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248E5-F608-4FC3-A579-939398D1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77B99-554E-4445-B594-F8725DFD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D4A9C-EEF5-4A1A-A2D3-7D7E55A2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536DC-EAB5-4B6F-BCAD-951C8178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605C8-1EBF-44FE-9646-F3745745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C8C76-2920-4D54-8FFF-A303C50E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A99CB-C8C7-4A89-9338-ACA80439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3BE7A-F5D9-448D-AF0A-BBCDEFC0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C8BC0-E9BB-4BA4-AF53-F5085234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A671-FA67-4580-B390-252BA25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7AE86-ED07-4015-8037-BE17B9BB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E2DC0-4DD2-447F-8AC2-123F04F9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A9225-9994-443C-AE0D-0E8D9B53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C800F-FCE6-4B87-8FCA-499F9354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DC90E-DC8E-4993-A209-6AD58183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C9509-09CD-4478-8109-C740A0F5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3146E-25B3-4F05-B048-83A87775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519C49-7B93-4EE9-90D0-658261F8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2DE65-745A-4E24-88B9-0A882483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C638A-456D-4B7F-8FB3-4077EC4E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28D3-9F6A-48FB-809B-16898F72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9A1EC-133D-4F8B-BE3E-5618E69E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30E14-63E0-4B5F-ABF5-48183AEC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341C4-16E7-4C76-A648-9385DD64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4B3D1-B543-4B03-91BC-1B9D3760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E253F7-EB86-40CF-8F3B-52EC4957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0FEDB-6407-487D-A2FF-A9987F3E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2BD94-E1D6-43E2-A5CC-490BE455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C115F-5622-448D-8F09-6163660A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D5597-B7B3-4F18-8886-D1A20EB8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EDC7C-7FF4-490F-AB63-B9C98223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17ED-8D9B-4F8B-94C9-A7D227CA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2B116-BAF5-45E8-92BC-949DC5B3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0653F-EB49-4B7F-BFEC-678C2349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D7B60-1597-416E-B20D-25865447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B2A9C-4C3A-4160-9F59-7913FFD6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EE1D9-92FC-46D4-88B0-9D36D211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57D90-4A0E-4A7B-9A09-66CF2014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3446E-B6E7-4496-9BFE-3B42078D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A92C81-0898-4F29-B704-77FDD48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0BFA3-518F-4D6F-A02C-C9746FA5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C2D401-8FED-4BA8-9C44-CC4E0AB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4ACC-4232-47AC-A065-3BA6EB93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6564D-C99A-4429-B9B6-FE5F046A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5A8D4-C589-4E9E-8930-FFDAB1F6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BA976A-3C8D-44CE-823B-601375CD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78CD3-7612-4FCC-AF81-71FD67C8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02C326-B260-4B92-A169-6C01CA9F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51B11-FE03-4ED6-AC26-0C55DA0C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78364-D2AE-4355-A831-86F96AA8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B5D62-4B10-46B2-B1FE-989D45E8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5DB64-50D2-43F1-82A3-8C5199AC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6BE4C-97B5-4B19-8DEB-F986078F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9CE-172D-4C46-888A-43ECB5FB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9D33-BBFE-4D1F-A367-35465266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FDFAF-04FD-44AC-95C7-F511DBAD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C5559-7DA9-42C7-B535-F521F1E6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88FF5A-B26A-48B9-91FD-B493EA6F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9E6C1-F708-42F0-9B1D-768D8FC4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91928-ABBD-41AA-95CB-1FBFD92B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1A33E-73D9-4828-87CC-2D126B4B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61E653-E4D0-449F-9692-03265DD2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83126A-FE9B-4319-89E5-46E6D149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E05E71-DC3C-44EA-8C4D-E2F7BA0C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16C57E-5E37-475D-9EDE-E6B6E633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197-8134-4D6F-BB97-240E511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AC78EB-5650-4E16-8F11-D08ACBA9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0147F0-EB41-4283-842B-E1AC7251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2B6D4-515B-4D0B-BF7C-B6798D25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E71EDB-6826-4802-92BB-058146CF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D8E6B-5F8A-42DF-9C2A-535CB2FB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6E162F-66A4-4CEF-ABE9-C344465C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6475B7-6F90-4E27-8979-9BBE39FF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8C63B2-3BB2-42C4-BD84-06AF1DAD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CBED6D-09F7-45D1-8EEE-69A42B7F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3B8793-E697-4E4C-8C4D-C211D205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1C3A-A1F4-4735-B847-7CD3BACF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E1C1D7-F396-4C1F-8747-8EDC1517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F42A9-5045-4975-9257-C4D83D90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A7CDD5-5333-4B6A-AE41-7DDFFD7E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FA6B8-2045-410C-8F5D-FABC501B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0DC8B-9934-48AB-9CF2-BE4E949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57B84A-F4B6-45DF-B04F-C24D1610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A99CA-34FD-4A2F-ACA0-2FA4AF6D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C47725-980D-4F4E-9289-E855CEB7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F139B-9999-43DE-8078-D93F9A0A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B8360-65DE-47C5-B1A9-BBD0E8F4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7B68-A20A-4B83-8412-6D420D4B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1428E-1BFD-4A7F-9C4C-6D490283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FCA958-F191-4100-A178-13D4D7E0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98BA0-7364-4C6D-97B4-7C679B64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51D872-53A3-4743-B07D-0068E3F6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B0E5D-F711-41A8-858E-C194C4BC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B52665-7385-4C8F-97AA-CCE12E61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1B1006-F319-47E9-934B-DA3889D0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3E39F3-5116-49F7-94BE-12636F8B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30C22-443B-480E-97A3-B053244A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36FDB8-0DAE-4F0B-B976-1175E309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84A7-98F7-4325-BA3E-D73DA352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F7B708-7164-48C2-AD05-9A427A4B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9423-582F-4B4F-B0F2-DB05D12B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E7F7-FE8A-4B70-819D-F14C5954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703EE-512D-49A1-9B0E-85BAD691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6CB36-4F0F-410D-9D19-AF71EACA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FAC2A-B7BA-4B39-A459-578E69C6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369-81B1-4CEF-8E5B-5AAB8EA2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6400-100E-4895-ACF1-5146F8A1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5231-8CB8-406F-9A22-D3C33C57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AA6E-B86B-4C60-80C7-A8713056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B058-101D-4877-8B94-6D9835C4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710A-7B7B-49A3-96FB-9E68B707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BE5C3-199A-48B8-A97B-B313143B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6E078-B2F7-45F2-83C3-0998E122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3ACBE-B6A1-4915-9EBA-A956ADE4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7027-B150-4E37-9D2F-A1709248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3643D-4A86-4D6D-AEC0-F02CC84C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505-492F-4A44-9A63-3A5E5963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70A9E-1ED3-4DAB-B5F2-790E57F6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6AE9-FF65-4C09-B09E-E28705C6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7C399-7968-44A5-BFDB-AE09A3D0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1B3F-B5D9-448C-893D-7C020780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0F4D7-A2C2-4B69-83A7-3E06F7E9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A72D-26DF-43F7-BD62-7CD50BEC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934A-10BB-4E25-9D91-45B681F5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24EE0-9E6B-4C8F-BAA3-41F2FE53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55A26-332E-4683-BE41-0A151C12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E514D-A22C-406E-86EA-97316D11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CFB-7534-4775-BCFF-39AEAD8B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E6250-C18D-4931-90B8-600FE432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578AC-1060-4EA2-A955-18CA1B97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9752F-3854-4740-96FE-0C79F2B8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945C7-27C8-4B7F-AB1B-7044ACF9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F8F08-5BF2-4902-A119-CDD2BDB4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AF606-2663-4E04-99E4-B49D93E7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31ED0-7A88-4D5D-9685-ACDFE785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94948-F465-468B-A9D2-366DF03D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EDD6-9F31-4DE1-953B-9A011672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848E7-952B-4C51-B889-C1F23115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71B-9604-406C-B4EE-2CA47145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D1673-DCB9-4E35-B86B-ED41F549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8286D-3428-40FC-8175-2BFC5570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F809C-5BE1-4F88-9E1F-3DE52514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C329B-5479-45EB-9907-D75F54DD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2B0EF-C43E-4500-9898-B411D0C9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50382-BAAB-41CC-871E-EF802140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C57F-2BCE-4979-B531-6D184FAA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DE5B5-CC5D-4C0A-9C38-C0ED5BD8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CFF40-7484-4133-9E27-BBF70833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515CD-8E53-4849-A75E-4B31CE71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F0C-0ED3-4B15-9733-0F2C6842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7F6C4-C7FD-4420-A245-25215A5B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FDACE-6FD3-4A0C-85CF-A9DD4203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E3A8F-3DEF-49EE-8B84-EC7D8395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0B880-904D-4E69-AA66-4A2B9D48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5E2C9-64AD-4E27-B48C-EC55F9D9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867FE-262A-4804-851C-9DDFF8A5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9D72E-E1E6-4A7B-947D-81E79C03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75B56-25F4-4FDF-9CF3-AC559FDD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67160-D930-46E9-9751-06FFD3C7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B722C-8FCC-4673-BFC1-D4E4F49A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D52-5D26-4591-A9AC-BB78E157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41490-8936-4932-B838-AC9D192A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46B64-B818-4F12-AC22-756BD261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37B69-1F09-4CDD-9676-B7551E9C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D7831-97C3-4C9D-A855-51BB8C3E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D6307-5A57-483A-8803-DDBF2763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0D951-ABEB-4E3E-A631-BE4624D3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C0174-6500-4C1D-84CD-2B1CAB2D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AE953-68B5-4D4F-95DD-6B5442F5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9A090-AC10-46B6-8F3B-110B589E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18E33-D091-41FF-BDA3-9BFD4476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B22-237B-4B1C-A35A-AE7B22FD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A6A99-A95B-48DA-B9A3-340C0CF8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48C3E-684D-4259-96CA-5C31EB2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A2FDB-E556-415D-A02E-4ED6DC2C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C3775-CA60-444E-8147-F0E700E0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E4737-6BAE-4E2D-89A0-9DDDF92A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4E016-CB19-49EB-BF2F-B7053551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F5F10-C826-4212-9035-F31D5208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F8E32-9D32-47A5-A7C1-1F2AAC5F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8F0B7-122F-4509-A864-DC03022C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99B90-C69A-4866-A5C3-66759929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59C6-00A9-4285-A2AF-25617D4C9C4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19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D475-2C16-4FC1-8810-B216D7D54DC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8457-A46F-45D6-B6E0-F4825148F6D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2E7B-BAAE-48D1-A2BE-0DF09D086C3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4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FE44-3E1C-4876-875F-FED6A375427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8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1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92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4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95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FE2B-C3F0-42B0-A823-B278743BA70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639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6FF8-1211-447B-9115-6C2F3B11F5F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68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4F82-69D0-4F3D-A767-808AC254AD1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561A-5C9B-4346-9A94-5975291EDE0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768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AB78-F83F-4CD3-8201-D5032F25BCD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2D0B-3E7A-48FF-BD06-CB8FAEBFC7E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CE8F-1DA7-49C8-A865-CE39F61BAC0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560E-3D9C-4DF9-8AB3-9F122534D48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9180-D9B7-45AB-A8F6-F258A748B42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F824-A458-47B3-AEED-63D898C1C65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9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863D-2AB6-4C4A-BDBD-1DF8FE97BDF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4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4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4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48E9-CDF0-42FC-B89E-3B02AB0C423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29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09B5-897B-4B34-81EF-E0703B43CA3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34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9A21-CA13-4C51-B754-FC57B9383DA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63FC-FDCA-4C81-8D23-CD004F4745C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3" name="Obrázek 1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eques usually cont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word „cheque“ in the language in which the cheque was issu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ccount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ce where the cheque will be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32" name="Organization Chart 3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933" name="_s2052"/>
            <p:cNvCxnSpPr>
              <a:stCxn id="934" idx="0"/>
              <a:endCxn id="935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36" name="_s2053"/>
            <p:cNvCxnSpPr>
              <a:stCxn id="937" idx="0"/>
              <a:endCxn id="935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38" name="_s2054"/>
            <p:cNvCxnSpPr>
              <a:stCxn id="939" idx="0"/>
              <a:endCxn id="935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935" name="_s2055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_s2056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ank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_s2057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Private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_s2058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Traveller´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k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by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request of a person for anothe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ork as a cashless pa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ivate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drawer is a person who has an account in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on forms which are parts of a cheque 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´s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ually issued by banks or financial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in most frequent world curr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travelling eas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dvantages x disadvanta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You´re always able to p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aying for goods, accommodations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 cheap way of pay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ank checks the identity of the drawe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F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Sometimes a long time before it is pa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You have to keep your cheque book with yo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4e3b30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4e3b30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1258920" y="1557360"/>
            <a:ext cx="7634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4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Šeky a šekové kníž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šeky a jejich typy, způsoby použití šeků, výhody a nevýhody používání šeků a představí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Šek, šeková knížka, vystavitel, cestovní šek, šek na doručitele, šek na řad, platnost šeku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5" name="Obrázek 3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HEQU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HEQUE BOO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HEQU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written order directing a bank to pay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rinted piece of paper you can sign and use instead of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10" name="Picture 7" descr="šek"/>
          <p:cNvPicPr/>
          <p:nvPr/>
        </p:nvPicPr>
        <p:blipFill>
          <a:blip r:embed="rId1"/>
          <a:stretch/>
        </p:blipFill>
        <p:spPr>
          <a:xfrm>
            <a:off x="5796000" y="3429000"/>
            <a:ext cx="2432160" cy="125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12" name="Organization Chart 15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913" name="_s1028"/>
            <p:cNvCxnSpPr>
              <a:stCxn id="914" idx="0"/>
              <a:endCxn id="915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16" name="_s1029"/>
            <p:cNvCxnSpPr>
              <a:stCxn id="917" idx="0"/>
              <a:endCxn id="915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18" name="_s1030"/>
            <p:cNvCxnSpPr>
              <a:stCxn id="919" idx="0"/>
              <a:endCxn id="915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915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Order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earer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ounter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only to the name of the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will find „pay to the order of…..“ on the che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ar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to anyone who is in possession of the che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re does not have to be any name of a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to the „bearer“, to „cash“ or „to the order of cash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unt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used for withdraw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usually left bl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n you run out of cheque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fore your cheques get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eques usually cont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que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ate of iss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ce of iss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mount of the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of the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ature of the dra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23Z</dcterms:modified>
  <cp:revision>20</cp:revision>
  <dc:subject/>
  <dc:title>BUSINESS ENGLISH</dc:title>
</cp:coreProperties>
</file>