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1B7E-86C3-467B-A7FD-AA7CE3E4E52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5FC0-7DAE-4F59-AF48-4FEB210FC22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B328-986A-4BA8-AFBF-90D997743B2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7A75-7C46-4061-9EC3-70D7A036323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EA13-D0FE-4514-B2FC-0CD7C0BCC79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6677-EFD6-4FF0-89E2-751C680F638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A2E6-4DE2-4CE7-914F-2F263DA1206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0171-43F9-46D9-8E43-5736B6EE9D4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364F-D999-41FC-9C6D-60FA33552E1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607-0F8D-4C7E-92C8-0FAB4687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5E1-B21B-4118-B1C8-A2840234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B16ED-B07B-4472-935B-B65C6204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8CD10-E9B1-49A1-917F-F3A9A927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51D6F-62C7-49B8-9084-F951CE56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B52B1-5A6B-4C02-AC62-C153BBF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EE243-2291-4F16-B505-CA3B9CC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A07F6-B3A9-45BB-8AA4-5579A9C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3E61F-DC7A-4497-AA52-7EDF5F3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BDFAD-6C89-4D6F-8F47-F3144D1F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DAFEE-848C-4EBB-8F62-ED8AFF6D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5D21D-3B36-41BE-8615-6124959F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1CA-8476-43E4-AEBF-E9253B34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BE334-0557-45A6-9855-ACDEF5EE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8988C-C69B-4914-88C1-F2D11BCA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1D79B-E4ED-45E4-A18A-F4FB9E5E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3F50F-D16E-45AE-B30D-441DABC4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778B7-F729-4618-8224-581F3D02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DD326-02EB-4022-871B-E304D67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4B23D-197B-4BBF-B150-26D936D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231FA-53D9-4993-A845-E01184EA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DBAF4-D9EE-4BA5-BC5C-E6450AB6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12665-9D6A-4C46-9E4D-DB4D771C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B76-F72F-4665-BBF7-7CEDEFA7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37DDF-2410-4D76-B5F3-07751958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DED54-E471-41D2-89D3-0DBED95A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A7A4C-BE28-4E85-AFFB-ECAA54FF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1B6A4-1DC3-4FC8-9D8C-9A67E2EE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92D5A-3767-4CC4-8144-AC0E14B0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9259A-79CB-4135-8D71-520FD4B5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9F29B-3EC3-4234-8F4A-B89B8364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95DD4-6666-480E-B0B7-866C3090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EA382-EC22-4E3E-A9EB-84973438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1ACAE-13CD-4FB2-B702-9A4BD34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7D44-BC63-4446-982B-E5E27C19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E3C3A-9AFE-4FB9-A412-725087DE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77622-E638-4ACF-B7B1-10CED26A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83FCF-30B6-4CF1-987A-1953B77B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71D21-B62E-4C0F-935E-D1912B79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9DF41-8AD8-472C-9105-C1A4717F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3C63C-1C21-4868-B0FE-24098B0F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79F10-87AF-45FD-B3B5-4A4C660B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BC40F-CF4A-45A9-8CBD-B3F77EA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35504-7E9F-49A3-9B8F-1DC70561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FCF7C-2123-482E-A9C8-F4968C8F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4AE4-733E-4766-8C05-34393911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C1E56-5013-4BC1-A2FE-FE73356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909F8-F99A-449F-97D1-DC3E25D7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A3139-C5AE-4BBB-B295-BFA6236A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A7796-5DE5-44DE-B103-06944E99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27A56-5F33-4DBB-BF30-5B32FF70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4FAC7-38E2-4827-AFC9-171F6336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34BA5-A953-47DD-8442-E4C95824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3D8EF-ECEA-4C26-8008-EBF74622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BDC46-1F32-401F-B728-F12E739D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233F7-E898-40BE-879F-2E2E6A55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25AB-0F6C-4AA4-BF90-C384DC84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85D6F-EACB-4AF2-BC86-51898426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AA0C6-E0CD-47B4-B054-CAF2B45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B18D6-FE02-4242-B6EA-F7053F40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BE922-5D14-4D7E-9BDC-4DED3D1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EBD73-2B4B-4AB2-A926-BC4DC4E3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2505B-5A2D-43D5-8339-D96334EA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E6F1A-CB1C-4F55-9CCA-07ACBAEF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84714-9916-436E-9E07-67533A19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E438D-31F2-406B-8C01-5D9DB129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544BC-6068-42E4-8ED2-A6B8BEF1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0FC4-0F94-4E0A-863C-3ADED36A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E9FF9-4F4E-4F9A-966C-F9BC452F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9BEBD-235A-42EE-9D11-6F23D56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2C52E-BDA9-4C41-98C5-D741963C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6AE68-1A0B-4B8A-8210-0573160A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5BDFE-D908-49EE-BA4B-384F08C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1C001-EBEB-4F14-8DEF-6243571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DDF4E-5203-4FD4-908F-47FEEDF8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58258-8BD6-4B08-AAF0-29AEE276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A2970-77D3-45C6-B362-BA79BBEB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E4BD1-0582-4C1E-9D26-4BA430AD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95D8-194B-49E6-AAC1-CFC757DC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5C483-C4AD-499E-9A8A-280AD620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217F1-D3BF-48A3-B5AD-B0C0A7B2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5723E-DFDC-4B5A-B753-DA026C5D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EBFF0-0186-4F82-A647-0C438DE7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30736-FBCC-49EF-AA6A-21A64D49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9F96B-AD8D-495C-9A3A-55B572B1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1AFBDA-141D-411A-9D62-48A97B25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24A28-13C3-40DD-B03F-6AB540D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DFE8C-DBF4-49E8-BF7F-B8A271B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EFD0D-9EF9-4F45-BDD5-AC76ACBD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FA2A-5685-4A28-A7B3-3329386C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1EEA7-E22E-4CF6-A634-6C8072D8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1479A-0CEE-4D46-B16B-1C7B9FEE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2A3E8-039B-40DA-BDB3-07ABA081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5BA43-7F2A-48D7-87DE-40A6B2B3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5D605-91E6-4D3D-8519-52F294E1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72E23-76F0-455E-9971-074C29BB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41636-CC39-49E0-802F-2007263C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F1953-3547-4D8B-8720-C1039F76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30E6C-AAC1-41D6-8628-8E1ED18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25B05-1936-4CAA-B91D-E1916876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D5BF-D625-4B53-AD6A-B5C67417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8CAC8-4CB3-43B0-AA14-8482B2C6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79C25-23D1-4DE8-A628-ACC3C269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14786-486A-48FD-A447-EE9D2EA7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28B-67EC-429B-BBF4-1EF3FDFB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BBE3-1470-4417-90FD-6CACF0DB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45D4-FDC0-4AC0-B089-58AD8680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0575-2D91-4179-8919-6FA331C8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2DDC-07D4-40C8-885F-C2EB9CD7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9DBE-3C84-40C5-801F-75B05CA3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1512-9EB0-42F5-8E4D-6524CF5C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F5E5-08A0-4E1A-97C9-E7B11210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D5E77-DE36-4892-B7FB-0C50E342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3DE5-7FDA-4D19-8F3B-4349B8CC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7B7A-DE5D-47CE-BD38-06B5BC96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2EB-F100-4BC0-8D79-209AADF4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8003-0AB3-412A-958B-A72C2EBA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CDB35-7FB8-459F-A8B8-682EDCD8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9F41-B135-4342-8A87-29965054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9406-BA15-4C1A-AB87-46E18B47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6DA9-9E2A-471B-AE6C-A78E227B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E87B6-F723-4833-B87C-9C794E75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A9CB-D19C-42D5-B6FF-09B39DCE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55172-6ED6-4FD8-91AC-7A017AF0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BEB38-B9DD-4929-80A4-AC4B5993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CABE0-0C71-4149-A3F5-0A410EDF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FD2-9F75-4871-B852-451EC83D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A68A-895A-4F41-9CD4-601571B6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AC32-375D-46A2-B389-FEF50294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A183-F930-43E7-8D72-FD3C4F8E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3A2F0-444B-4440-A51C-376E115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F521-5710-442B-A06D-22E519C2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273D-A9FE-41E9-B736-F0BECA7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9645-CD9C-428D-A37A-CD740C19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9281-694E-4FA0-A70C-D6AD6DC9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E6E61-2609-4B36-A06D-576EE40A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BF8DD-53C6-4DB4-A7B1-DCB31F5B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8AA-D4A7-4094-912B-502FEC3A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5F72-5D03-4732-A34A-BB33266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06A8F-EFC1-48E0-888D-5C8092E7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B5739-5307-469D-A0A9-F02F60EC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F87FA-8274-490E-87EF-357367FE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1FB3C-4FDA-422F-A498-E8683C20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37C0-3A29-462D-A547-D4669F7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7C134-B6E6-4C02-8D71-9B561D0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269E3-D7DF-49EE-AE50-B113F96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2659B-51AF-4F07-ACE6-2088D5E2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EE8A9-70E4-40F2-86FD-0F818E8D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6AC-8598-497B-A50B-4F1892C4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3BCB-F474-40F7-B913-23C94A49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A4130-E0E3-4676-B7D4-28024C1B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DFA87-294F-4A38-9E18-9E18DA3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4797D-CDD5-4BF8-AEA5-417A49AD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5E374-A6D1-4DF5-BBAC-CF1D6CAC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C10E7-50A4-412D-9AA0-A665E1DB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9217E-DD8F-4448-BD55-C2D7C8C0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5E08-A97A-45B9-95C2-B918EFDF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E8143-20E3-493E-8FF7-B8DF2081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67DC4-50EE-4B0D-AD84-ED3CB2AA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518-C38D-44B4-B1F6-F5304939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3F54-E548-4B6D-BA0F-02354651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69AB-C913-44F6-8853-B9A5DC60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9E6EE-69E0-414F-806B-ADEFF082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F4C58-0C65-4E33-8C4B-FF5ECD49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A3221-C0C9-4853-8E6D-E484A163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2AB84-1B64-4CFD-B5D0-FD2529CE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7A652-6525-4D0F-BE0D-3CF3A2F1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A3194-A64A-4917-9D9F-07E8F085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44C85-810A-434E-B8A2-23F864FE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64C6C-4563-4306-9F4B-CB2873A1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B00-5529-4DAE-8023-8B94322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E7A2F-56A0-4477-9373-C3F34249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3D930-7FDA-43B2-919E-6626AC2F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03F88-AAB0-4E9E-A124-B3420271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2AE76-2A3C-4C38-B5E9-D798FF2F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6CB8B-9028-4C0D-8F72-D32BE489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41823-5212-4BF5-97E5-3A44891C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7BF55-3999-4CA7-B6AA-397D4414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C74F9-AE4F-471C-A46A-DCB9385C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7D5D-E7D3-4208-AECD-34B8F7BE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58FC0-0F40-4A64-A543-754A1C9F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DDA-C5C5-4ADF-B43A-10A93EC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D556C-0564-44D4-94E3-68639064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9F171-92EE-47DC-B474-22E9AE5B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D36F6-3B47-4918-BF84-E3A254B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EBF5B-4B74-45E0-8383-4F1F7B30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597AA-10AF-4E68-8CA6-49FB49B6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A536E-F64A-4D1C-9606-8BDBC34E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A69A2-4D02-4E54-A866-3A015841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EEDB8-2F99-40C2-8E5E-2FF53F91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BCF51-EDF4-4D05-A65B-F2F63386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BE987-07CD-4C49-BE6F-3E00DAAC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FBF9-4C12-4C5F-94E2-CE666FC006B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D409-10A7-4F40-910B-4C4A36F7DEB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6348-FCA7-4330-A2D5-EB2A3466991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2612-034E-4060-B7AC-6459F9C1CCB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FCEE-F3BF-4958-AF5B-397585E5730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F17B-7911-439C-B1B9-B2BEBF9E3BE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74D4-36BA-429C-989A-B015D7C16AC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4FCC-62D6-455A-9CBF-AA484178959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B126-7D6D-4D27-9AA5-08101580A6B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DBE8-00A3-4D3A-93A9-A17A99931B4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5C23-ED56-41DD-84E8-3341B5CF869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A8C9-C95A-4586-B290-604A2A808C8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B454-4E85-4980-A013-B454226CC7F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13A-E34A-4DB6-B76B-ED0D6AB8675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969F-AB77-4E69-9D2F-E8EDDC639DE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99F7-BC30-4DC2-AEBD-FE6EC2988CB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.W.I.F.T. co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ode for international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8-11 charac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4 characters – bank code 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country code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location code (letters and digi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 characters – branch code (optional, letters and dig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ecurity which entitles the drawee or the holder to withdraw money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0" name="Zástupný symbol pro obsah 2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26080" cy="16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 must contai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s „traveller´s cheque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rder or promise to pay a certain amount of money to the drawee or the h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ame of the drawer or the company and their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měna, cestovní še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nejdůležitější zahraniční měny, vysvětluje směnný kurz, SWIFT kód, podrobněji se zabývá cestovními šeky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ěna, směnný kurz, SWIFT kód, cestovní šek,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3573360"/>
            <a:ext cx="40132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FOREIGN CURR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URRENC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urrenc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s a system or a type of money a particular country u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ne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n any form used as a medium of ex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ay in a foreign countr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0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761" name="_s1028"/>
            <p:cNvCxnSpPr>
              <a:stCxn id="762" idx="0"/>
              <a:endCxn id="76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4" name="_s1029"/>
            <p:cNvCxnSpPr>
              <a:stCxn id="765" idx="0"/>
              <a:endCxn id="76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30"/>
            <p:cNvCxnSpPr>
              <a:stCxn id="767" idx="0"/>
              <a:endCxn id="76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You can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ay by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3366"/>
                  </a:solidFill>
                  <a:latin typeface="Arial"/>
                </a:rPr>
                <a:t>Cash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s´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ustrali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ustral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anad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canad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Denmark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danish cr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6 countries of EU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U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1" name="Picture 4" descr="austrálie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2" name="Picture 5" descr="kanada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3" name="Picture 7" descr="dansko"/>
          <p:cNvPicPr/>
          <p:nvPr/>
        </p:nvPicPr>
        <p:blipFill>
          <a:blip r:embed="rId3"/>
          <a:stretch/>
        </p:blipFill>
        <p:spPr>
          <a:xfrm>
            <a:off x="4716360" y="400536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4" name="Picture 8" descr="evropska_unie"/>
          <p:cNvPicPr/>
          <p:nvPr/>
        </p:nvPicPr>
        <p:blipFill>
          <a:blip r:embed="rId4"/>
          <a:stretch/>
        </p:blipFill>
        <p:spPr>
          <a:xfrm>
            <a:off x="4716360" y="450864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Great Britai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british p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pa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japanese y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o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olish zlo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witzer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swiss fran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U.S.A.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meric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7" name="Picture 4" descr="spojene_kralovstvi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8" name="Picture 5" descr="japonsko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9" name="Picture 6" descr="polsko"/>
          <p:cNvPicPr/>
          <p:nvPr/>
        </p:nvPicPr>
        <p:blipFill>
          <a:blip r:embed="rId3"/>
          <a:stretch/>
        </p:blipFill>
        <p:spPr>
          <a:xfrm>
            <a:off x="4716360" y="393372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80" name="Picture 7" descr="švýcarsko"/>
          <p:cNvPicPr/>
          <p:nvPr/>
        </p:nvPicPr>
        <p:blipFill>
          <a:blip r:embed="rId4"/>
          <a:stretch/>
        </p:blipFill>
        <p:spPr>
          <a:xfrm>
            <a:off x="4788000" y="4508640"/>
            <a:ext cx="36036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1" name="Picture 8" descr="usa"/>
          <p:cNvPicPr/>
          <p:nvPr/>
        </p:nvPicPr>
        <p:blipFill>
          <a:blip r:embed="rId5"/>
          <a:stretch/>
        </p:blipFill>
        <p:spPr>
          <a:xfrm>
            <a:off x="4716360" y="501336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change r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hange every 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end on many different th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xed on the London FX market by dealers from over 200 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y be different in differ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ow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elling price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uying pr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nfluences exchange rat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onomic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itical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government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 t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09Z</dcterms:modified>
  <cp:revision>14</cp:revision>
  <dc:subject/>
  <dc:title>BUSINESS ENGLISH</dc:title>
</cp:coreProperties>
</file>