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17EC-2FF2-47FA-8FAC-75A6DAE713B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1642-91E5-4064-94E8-469B4680673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C8F3-930D-4325-B67D-79514F221CA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024B-C6AF-4867-B8B1-0C24C6AC683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E216-5164-48F6-ABF0-8A79B9E251A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A365-75A4-4901-A331-0D8B6AE9F6E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64E9-F87A-4BE3-85B4-278D60AF1AC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FAD3-EB72-48DB-A77B-5D7140C74CC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AF41-0E0D-47D8-AECF-481FC6C731A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A2F-DC47-4AE6-8385-15AEB889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854-0267-438D-8C9F-B5E88483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FE072-1B53-403A-A52E-AB796D97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54BAA-EF15-4F4A-A6BD-BBBD0802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C7590-E70E-45C2-A67A-AD4E0739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842B4-8AFF-4512-9029-127D8EC7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B4539-096F-4BDC-9A6A-1B2E5B37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C5130-8A1E-4537-B56A-82CCAA5A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64880-E7F6-4AAF-AFB4-1F983FE7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6DDE5-9862-47F8-BE1B-386F745D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D7922-621F-43E0-B8B2-44BFA8B2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95E58-A23D-4489-BBD6-88A8878B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32E-9C9B-4EB3-AAA7-5184783E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0DCF7-6DBF-4D11-9012-AEFC2EB1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43454-3978-4300-B47A-7240633F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B7134-B1CD-4553-A921-6403A66E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D701F-5E39-471B-9C52-BFB1B74F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28DCA-21EA-4746-9B76-2E4D10DD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5724E-920C-46D5-BCE8-B5061EB2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AB998-A822-4488-8E7D-4F43EC53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1B9A6-982D-4DBC-B8EA-43349565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8945A-8DF4-4F44-B692-15CB2C70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4AC49-EAAD-424A-887E-4C1767E1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EC9-4679-4F93-86D5-778F491B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E3C4F-FF59-44F0-AE97-374D632A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63A0D-484D-4336-B51A-E7F66EAB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1FDFE-00D9-419E-80F7-854B8A89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74712-3DBB-4BB4-ABE3-4DCD5C12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3179E-D124-49E8-9D8F-38AA989B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6B60C-4221-487C-B382-7D431827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BE26E-58E7-4527-B45B-3963B452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C1301-3B71-4AD8-9FB9-9C012A10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6616A-2EC0-4E3B-A657-97CA0FD5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A511A-86B7-455C-8BC9-AB98B401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1FA6-AFB6-4423-A4C8-FD7CF7D9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0B400-7F83-4BC9-A20D-DF6D0A33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5B0E4-4D73-4A86-AD05-23D3A83C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97498-F951-43AD-94C2-3A2F2AF9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3D10C-1B63-4C7E-8645-9B57448A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E1CB7-221D-4AA2-BB3B-F0F816BD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DCA73-AD5E-48C3-B9BC-4C1E93A8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CA3CD-574F-4BE8-8D4F-AA92B81B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C664B-134F-44A3-BCB2-3689FF15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6D6F3-7F81-4589-BA03-99924948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C207A-A327-4E16-A6E2-0E5A8BC3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0259-059F-40C7-B0F9-878C66E4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B6A66-3B57-48DE-88FB-543EEB47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1C27C-C61D-4334-A6E1-7F94FFB6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28BB1-47E3-4110-8B0B-21FF0EDA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ABA87-58D6-48E5-8349-B51C1B24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B447B-E027-4EFD-80AB-0CB8886C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5548C-80AD-418A-A479-9BE620F9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F6F7C-53F1-40C1-AE40-1C60AA2B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E3493-6674-4F4A-B8ED-5EAA0612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EDE3D-2BED-4F1B-B368-209F3768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6CEE5-D008-45BB-BE5B-59E04838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C6A2-9572-4F13-A12A-16832295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16906A-4D92-4C98-9B5A-70491B6A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C2484-9C75-4E36-BF29-760AB13C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4D992-2735-4E52-9586-CDA6738B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3C6FA-E9C5-4B6F-8A14-3DA582F2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85E96-1727-45B9-9857-D1AB110E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AAB60-0573-4224-AE77-F9305507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80192E-A884-42E5-8FBB-27E49958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8BA54-BD37-447D-BBD5-B2C5CF72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6187E0-64D8-48F4-AAA1-DDA8319E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1CF0B-4AE3-442B-9505-D56D8F02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1617-E96F-44D6-915A-0B7DEB90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94C509-FD41-4FEA-9817-B2791667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8FE48F-2C20-4B41-BA97-96A6FFD0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B8A65C-08A6-4C2E-BA1C-6D47334A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3B049B-91C5-4C63-9235-E36EEE9F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24265B-B4BA-4D4E-BB0E-84D63DDE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1D5FAD-6136-49A2-A3BB-9EFBA0AE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8D9A7-B0C0-4264-9DA5-5E3712C6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31FEFB-7664-4F10-B86D-7B379A13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17C0A4-A3CE-4F7A-B252-3481BBB3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F1BBE9-1994-4849-9C1E-506952FE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C066-5758-4A6C-A9E3-0FF577EC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A6234B-246D-4071-A562-4552C123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3BCEE-64A0-47E3-ABA3-90C6E93F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CA714-1ACB-44DE-87BC-092B14B3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EE6C16-3EBE-4FD0-8C0F-C47B535E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52C96C-257D-4DEE-BA50-DEFDBC4A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ACB829-ADFB-45F6-838E-EC1FC2D8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F2734A-3621-4C68-9051-CD929796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E65966-0E59-40BD-AE56-B5BF644F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2F4B5A-81E7-4AC3-8317-6EF69CBA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5BAEEC-8704-4E3D-9904-27A4B265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3271-958A-4A11-A95E-F37566F9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ED1DCD-61B0-408E-BFC1-6077639A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BB5649-F9D4-4381-9386-36F0F16D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3EE02-B34E-4CA3-A675-C56427F7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A4B432-6D0A-422F-9F47-BA3FD0EF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9FE1FF-17AB-4B7D-A6EE-78A71C9C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D782FE-1131-4885-A39A-7A9B58C4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DF9D7-3916-4595-88A4-76DE26D4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6515BA-8D62-406A-9160-EE5D0EEB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60484B-6167-475B-BC63-777F134A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661563-D21B-4A6F-974E-49AEB86B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3B96-C036-4EBD-A79B-A434362C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F3FF19-2B8D-4E62-AF86-0F6EB89E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2EA4CB-D7DE-4485-B6CF-E9979BBD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CA4235-21FC-4365-8AB7-5D553DB8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0A8-42CB-4705-A474-08FC2142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003E-1720-4B3E-992B-95A571C9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A9DE-D593-446E-98C8-9ECF489A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A25F-BE95-4902-B3CA-BCC06E2B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4C92-7550-4A08-A5A4-C581A45F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8CD3-B377-49BD-966E-9B250249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C8935-43EC-4988-B8E6-2B46F86B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2AB0F-9673-497A-B4B9-43745836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0882F-0CAD-44E3-BB03-A06199ED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D6BFD-1354-4315-8062-04829329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DB55D-7519-475D-8432-D2DCE173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6E8-65FF-4D06-A05E-BCB00CFE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D1B6C-CA62-433C-A358-6A689FC6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3931D-66A6-4345-A9A1-ECB5EA15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BCF12-4DA3-4D2E-A239-3C12CAAF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2ED10-9D2E-4CEF-B95F-B27C7E99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58656-5664-4C35-B10F-B492E204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6416E-75C0-4BE9-A6AD-6E0BBACE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F4EC2-86BD-4625-AF3A-14F7821A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DD689-72E1-46AB-B7A7-F9F0BB2A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52C6B-D468-4106-A902-4A7EF295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A00F6-458A-4297-87DD-E98279B2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6CB-A4A7-4B11-AA4D-4C12162B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CBCC4-13C1-424C-98C1-BF259A1F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58C52-2578-4967-BDF3-FC74A3F3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79BAF-7A64-4341-8E13-2C28FE68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DD11E-E4FC-4305-904D-E0621D6F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F7CEC-63A4-43EC-9CA0-195CCE12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919F2-9B85-4A59-92E2-5EA6848A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6433E-B268-4D40-BE0E-F025E2E7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22B7D-2A67-4E64-867B-96C5DDCB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C20A4-C2E4-4414-97F6-8DFBB289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F2C0E-86A9-4D96-86DB-E1F12DBB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A623-4510-4C00-8C21-A8C16FA7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B2281-00B3-4248-8807-BD73BB4A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EDCFE-DC56-4259-AB40-9F58A0A0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6ECDA-0177-43B7-8235-5631CF80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11E4E-FE6A-4271-B1C7-8E03DF96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6E4C9-0518-4F1D-8318-181B9F77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B4AA5-63CD-4035-8590-812AC74A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E9F65-790F-4DFC-9175-C04E451A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14650-FDC8-4450-B3E7-98B8BC24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841FA-B51A-4FED-848C-1BAE5F86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8D540-0894-4787-8331-8FA0B900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80C-3F3F-4975-9156-035B707A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57586-B303-41A3-9D87-E92A6F4E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E9765-2489-4711-BC1F-0729AC3E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934FA-9E58-4D96-81DD-B3CF3491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5ADBD-32C4-4839-9C67-6CEE1BB1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6B4A6-1306-461B-B26B-28A4F670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730C5-431D-4A8A-9320-A074CE44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77385-BBE5-4A54-9C87-F4F62F92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4DED9-6549-498E-99DA-E561584E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B0D22-DDC3-49D9-B413-685D8B02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32D1E-4137-435D-9212-81042A36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2019-0BA3-45EA-B77F-1199F27D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1F575-1F91-4C75-81B3-5656D300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D35E7-C8A9-45C6-B5C5-876388A1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1EA20-4E91-4305-A7FE-DF18A1FD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0F37C-2447-4E5A-9AEB-0259234B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79FED-0ACC-4F12-8B19-C7543126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D1C95-6675-4BEB-AB13-CC0D6AFA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081B4-ED91-4913-8E9D-0B6A6CC9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BB814-4FF9-4975-A9B1-A97433FE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A8914-1B8D-4541-B9A3-93C3C935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F36FE-56F1-4411-B6E9-B829FAE0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E0CA-C923-4BA7-BF7F-FDE4EA65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8706E-EBAF-42ED-A133-6EC45847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63542-A77E-4A41-AF24-A5C87747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03219-5233-46A9-B269-0DBB8820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F1619-0878-4D34-B051-E1CC9A21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DE00D-4053-4687-AA8E-58AE5C84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8402C-682E-4B11-B5AF-5CB70F53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B8C4F-23F6-475F-8883-6F3CEBF9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7F8FB-DE31-478C-AF23-1527A105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72A07-BE23-4FDB-9B29-66489ABD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687A2-2A0B-42CF-B673-D95713D1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EC0-F526-4BC7-B2FD-A4796B99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57CA5-C141-42F2-B7B3-C0BE37A1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4D4C4-134C-428D-8825-9ADAA4D5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669B4-D05D-41BB-8D9A-CA54E984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D3AA5-E90E-4637-93BF-51C0E576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C8AF5-8026-4842-B6C7-FAAA99DE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9369D-A601-43B4-8065-8471D28C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83047-12D2-4070-B825-79721CBD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9887B-257B-4E2C-A2C3-76FA14C8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5687D-3610-4119-874D-1E160475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1892E-2A11-43FB-A8FD-2E55F462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40BF-7035-4527-A1D0-3A4B0BF5B25E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6E42-4FCF-429E-9FA7-570E68AA2D8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D8B5-AF94-48B7-B9F3-D526B7B9682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077E-BCB7-42ED-B211-4C9D0BED16C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FA49-B355-4BEC-9C37-CC99B8800BA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F5EB-367D-4776-A3D8-D035859BE2C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FF4F-9D9D-4C3A-83C0-35DC25CC452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DED3-CEE5-4427-8972-593307B5272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EC1A-EF9C-4397-B9CC-E9CD209A7B5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6698-36D6-4884-BC9F-F624B192564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D3A6-67A3-4C24-B107-1414714B0978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9F59-3EF6-4ADB-A93A-2E2E3DBD47B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68B1-1F0A-4423-AD82-56FCCD5DC41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9F06-E1AB-42FF-AB47-92B55E4B807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2229-0E1B-4A24-893D-E5265F64BA7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ABE9-61A4-4F5A-B6D3-CC45FA8D846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2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stoc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ney market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ares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nds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ex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pecial investment strategies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uaranteed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pecial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mmov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ying a house, flat, piece of 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urchase through real estate agen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possess the immovable and can use it (house, flat, garden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can make further investments into the immov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her inves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s an individual you can buy many various things which can get a higher value in the fu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ld, silver, cut g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intings, ar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mpany inves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w technol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w mach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uman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investment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HIGHER RI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HIGHER PROFIT (OR LOS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Invest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pojmy investice, investiční příležitost a typy investic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Investment, profit, shares, bonds, valuables, stocks, immovabl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investmen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e money that people or organisations have put into a company, business or bank to get a prof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Something you buy or do because it will be useful for la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 opportuni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5821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osit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a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stoc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mmovabl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aluable things - paintings, g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0" name="Zástupný symbol pro obsah 2" descr=""/>
          <p:cNvPicPr/>
          <p:nvPr/>
        </p:nvPicPr>
        <p:blipFill>
          <a:blip r:embed="rId1"/>
          <a:stretch/>
        </p:blipFill>
        <p:spPr>
          <a:xfrm>
            <a:off x="5796000" y="3213000"/>
            <a:ext cx="2467080" cy="184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osit accou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afe inves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for a certain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renew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derate in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ha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ng-term 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become a shareholder of a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et regular dividends according to the prosperity of the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e risky inves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on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edium-term inves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afe way how to inv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derate in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at a fixed 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 stock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ifferent portfol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to invest into different companies at the same time which can keep a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unds are under control of the Comittee for secur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56Z</dcterms:modified>
  <cp:revision>18</cp:revision>
  <dc:subject/>
  <dc:title>BUSINESS ENGLISH</dc:title>
</cp:coreProperties>
</file>