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9A7-AD7B-45C0-9B1A-24F9A11942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320-94A7-4B62-AC88-2FE7E8F33B7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447-69AB-4189-8A2F-9F63A71BAFC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A6DB-289F-49CB-A7DD-42FBEE18466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680-932A-44F9-8C75-FF849EC62CF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6BF-11B7-4DD4-A9F9-173A34A9A10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1F6-8D87-498D-AE3C-1F55FB7A8D7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2BA-30BB-4F1C-9F49-E4A076A07B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552B-0B35-4B04-9ED7-2FFB8527109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E07-5607-4E53-914C-E60F30B8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D5E-8994-4810-930D-F6A907A9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6B4FC-015E-4AD4-9249-629BBBD6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81211-D731-4263-A7D2-04A7DEC1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84EC5-7839-4963-BB1D-8CC55B3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FE571-2C5B-4C48-8F47-5F95E28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FF6E2-2BF1-4A4F-9196-AF09986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DCA7B-113D-4BE2-B012-378821AA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F7E96-8500-4677-A4E9-F94180C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6260A-08F8-4C0F-9F7E-E3B6F9BB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7EE61-C834-4073-BBDF-7A734B0B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74008-8DAF-4405-9D90-D5FE95C6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54D-FD5B-40A8-963D-FEFBC234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F291F-126B-4102-9644-6038AC90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98F51-82A1-401E-9A0E-5DD7EF7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0337B-12CC-4296-81F5-135C64E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C99B0-03A7-4743-9AC7-FB0053A3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59D51-4ECE-4CD4-9AE4-5CB085A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DE9F4-3793-4501-B04A-061310C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56FF7-C17D-4F07-980C-05D960C9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E6A00-B8B3-48E3-939A-EBCDD509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C7926-B073-47E6-9235-6C4C7FC3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74E63-0DBC-4F2F-85B4-445BE51E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6AD-4965-4169-A215-BD466D3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F3245-22AB-4CD3-AD46-9726AF07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4FE17-78ED-4594-B0B4-C15A8C02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1F184-3947-44AC-9842-A18A65B4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E04FC-EDA2-43AC-80F5-F272BE89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89F82-6750-4B26-8028-BD6A674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562A-D1C2-4A8C-9108-D2A2876B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2990-CF0E-44B3-BA02-2B839BFA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1C22A-A3D8-49FA-A5A6-6CF96405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0E8B3-BB1D-49ED-8ACE-B681EB3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19B7F-AF27-4C52-9690-63F3945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4CE0-CC59-4F0A-A179-53E665D6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31821-9BB3-4665-8F17-F132144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5C8A-3797-47D4-9B36-69E84BF2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1F28-054D-43C2-9181-3A4C1602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D793F-C511-43FA-BC84-8FBB574A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8037F-C445-4552-8670-9E0183FC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D3D34-F1E6-4B60-9CE9-6B4B1448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DE3D7-558C-494C-AF9D-4B1BD7A0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29BB0-7440-48C2-AED9-4F45DDB3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0DF25-D215-4F17-A870-50CA05D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4AED1-3C84-406A-9A23-113A787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C131-36D2-4AF0-B33A-CF6580A2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D37C3-D7E3-4A34-BFAF-8A4A5DE9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B8D0B-9360-49C1-AFB9-E9E52237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32266-C060-47EE-9BD2-4A8FDCC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95ABB-57F9-4B11-B9BB-FB39C1AF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07410-7E30-4DDC-A3B5-03EDE6A1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5A658-9DD9-4E0F-B510-4492D308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951B9-2069-456A-93DC-D2E7FAFC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58D95-4EEA-4DFE-AFAF-39F84EF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A7351-B031-45F6-A7CA-544CDD7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F4226-64A3-435B-BF97-AA6F3A4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FB4-4D56-4F6A-8107-9B863237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4684F-4558-4EA0-B955-E9E89535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0E014-21E6-4269-9D5B-822C0CE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4929B-F587-4CA0-BF6C-4B458F2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C7562-4621-440C-B84A-38049781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AD0E5-3E5B-4440-95E7-9487931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B1FDE-E3AD-4191-A6FE-5417A277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30894-B5C9-469B-8A18-40B70CB8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B7241-0110-46B1-9EB6-9F38EF83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6E705-77DC-4FE4-9E31-75D21166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E8C59-71F8-4882-BCD7-5E6A8476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480C-C193-4911-BFD7-9068D9A2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A86E3-167B-4684-ADF1-BC39CCD5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1C057-0235-4CD1-8ED3-90FC4E52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7F5F2-CA43-48A5-9549-7DC9242F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1508F-D4F7-428F-8CD4-ED9D45B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6AE89-1B72-4E84-9271-D02FC52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FD2EE-56A0-43A5-A8D4-6EB8466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4D250-E742-44AF-B4B5-6D3F3F7C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ED235-37FC-4F0C-AC30-98C61B7C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F65D6-960C-411B-9776-4C3C42A4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6074D-D587-41D4-A1DF-F19308AC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B6DA-4FE0-4B8F-A183-8CD25794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0C2C3-0421-4045-9A18-B89B169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5968E-D4E4-4809-9DA0-E61863AE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399AC-E83C-42C7-9E0D-9D5CFE50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1271D-1455-4C6F-A3DB-3C1B5E99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16EF6-EC0B-49CC-A43F-68F8E094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06FB1-759C-420E-9911-E05F774E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76099-3EEA-4C2E-ADAA-C93138D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DF676-5933-4FE7-B08C-1A5892E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947A9-B32A-4586-AE8F-66CE8F5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9B600-6305-4AC4-9819-A62253ED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2188-4565-4C8C-8C7F-BA64CB87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21288-6E8E-4E89-80EB-09DA77B9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84730-C7D8-4CB6-8D9F-191CD196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AEB42-0991-4F84-9DC7-39AF360D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E8DF8-D87F-435E-8913-AB4ABE69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BA71B-7B91-4495-B4B4-8F119FB1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D8256-3DF3-4184-BC83-1126CA7D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B128A-8197-4AE5-9732-6B48D63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36584-53C8-47A4-8555-F8AB124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A9799-9E39-42A7-8FB2-FEC19E3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F3CF7-3C1D-4B05-ADE8-4D31401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406B-52F3-4426-BB12-549237B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2D2BF-4D3B-4563-B175-BF403444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FE1BA-B889-4C4F-A6C2-34501A8C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77C09-3613-44B5-BD8A-B85A9CB8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1E4-D507-4698-AF0A-4C55F7B5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724E-F272-486E-91DA-5F05D649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70D0-EDAB-400D-852F-6B037C1A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0F9A-EDD3-4F48-B2CE-9DC3C93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597E-DE54-4647-9746-56173C54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4C14-BEB7-4072-8EC2-5ABD34DB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F9CA-F7BC-44B7-B853-03095248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4889-3839-4196-B866-2B132C3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3E93-C998-4BB4-B95D-2DC96B2B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50D1-AD96-4308-9FEF-D2693F57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0BED-593D-4E7A-A4E3-8AFF0009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8BF-DAF8-44CA-BF46-0E23A672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FB3B-E3A6-43CA-84E3-2AB28C5E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0C9D-F670-4337-8E3E-7F322D1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29E8-FF52-45E1-AF8C-A276624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C115-9E01-4BF6-B93D-4040F78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4BA0-1A0D-4B4C-AB97-F3A6AA20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B5B4-F7A5-430B-98A8-DDEE715D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4C01-954E-40BA-9D66-73108C37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AD7D-3743-4C1B-8FA5-E7BF5FEE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C4C5-C0A0-49C6-A639-6F4B65C8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EF01-113E-47E0-827B-A78B42C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F3D-1A00-4E68-A979-218C39F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EA08-390B-4ED8-86E2-CFCED8F7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28AC-04FE-4E47-B9A3-1EC25FC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BED5-01A3-4E2F-981F-2D58059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1242-2F06-4078-BDF2-79B7C717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5EA7-EF2D-4FCA-9C93-043C3399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A9983-5FA1-4954-B907-62E40016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5EB0-BEFB-4FF5-8FC2-A0CFE6E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E8A7-9EC7-4A93-BAFA-CA924EED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D73B-D152-4479-99F0-EC8040CD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F2FA-EDCC-4119-97DC-242467E7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00D-DAA5-4231-AEF3-485E04B5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C459-20A5-46BA-BDA0-DECF2674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4CCE-57AE-4575-A570-C168DFE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8E697-41F6-4BBB-A27D-D4FEFF9F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9BD1-DBD5-4875-BE38-542EB0B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CF489-F285-4BAD-8A2E-7E758D13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CF129-C490-47F9-9E10-E608C68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B3A4-D59C-4B6F-8CA0-B56A77C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15BE-3604-452F-8E9B-AE3D23A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A5383-5C64-41DD-84EA-51E83276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3720-1732-4F0B-9270-AA25A441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555-4831-4FBA-B490-E20CEA02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5581-5660-4D02-BB23-AE4DE782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F55E-6AEE-4435-B57D-F0D8C620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D7C1-B298-4E2F-9BD6-D070487F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A138-77CA-4519-99C9-38857FF4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A768-502A-4058-A2DD-67254E93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14BA-6988-4FE8-8210-6FC6ECF2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AB5B0-1F73-49D6-811E-810F18A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002CF-C811-4D14-89C2-7AD20B5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3159-7591-4662-9973-B4E4F23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A4F4-C3BF-45DF-BDDD-C0B080D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9FC-09F5-4264-BB38-BF1724EE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FB8A-B1DF-438E-9932-8F57E787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A7BA-0FDD-4D8F-ADBA-63C24812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11DF2-2C0C-4D55-A20E-FC2B9E49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DE410-9CE0-42D3-AA55-03842BE5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88779-BB99-4C6D-953B-087937A4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78FB-C3D0-4626-B7B7-1B81BAD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5963B-A297-40B7-AAA5-407226A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0EDE8-5BE1-4F04-8C98-92B1C9C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6AAD-B512-49A4-80E1-C9B4289B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08E7-758C-412E-B34D-DBFA85F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271-7601-4F46-9858-4B23277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F314F-4459-4573-A135-ECF512C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535B-0875-4C5C-A327-D8F7E4FD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2B00C-61CE-4744-95E6-C667D152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B54E6-AC2D-4C80-ABD2-77E9A0CD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11A6A-863F-48F2-9747-4575F86B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CB4A-B78C-4B3D-AB2B-A2F4490E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70B16-678D-46F4-AA36-ED7F40D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F150-96D9-4319-9316-07FA8FD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6892-8E65-4BCD-892D-FA254A5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1C2E9-014C-4571-9C33-A3C0531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AD0-5F27-4A64-9058-E02D82D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B4970-8CF3-435D-B6C1-4F8E8F2F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24580-FEA6-4B3C-B82E-DCAF3A7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B9D9-AFBE-4DFA-95D8-A7995AAF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A263-EFCC-4A9D-9B06-1E25035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64D1-972B-47C9-B2F0-34725847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038E-9061-4B96-BE08-066F97D7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86DBE-0F41-439B-9C2C-9522DC18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9C0F7-BF0E-41F0-8AB5-2276AE2B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CEA5-1218-4FF8-B771-A1C405E5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85A87-6FB6-4FD3-A42D-A2CB1650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AB8-7E15-446E-8260-CE493919509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94A-C1D2-4F47-9917-D2F87A46BE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8D9-4354-4CB7-BC25-477E8A47257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FB03-122D-4192-A187-7F6F799FD6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C1BE-3058-4CD9-86CB-A79B4D31881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0F3-713B-48C9-ADF0-DA3D739ED08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7D5-6984-4ADF-A280-B0C0CF8E452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9EE2-671D-44C5-9169-8FE9E7A3C70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AB9-14CC-4C20-BB3D-3253ECE47BC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636C-9138-4D63-8026-659F813AA7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FCA5-5236-42E4-B95B-24E6E40EF68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7D12-11AC-40A9-8A64-24FC4D4030B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9A37-F27F-4732-9A3D-C2E53E22BB2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F48-7630-4E83-8876-46BCE08818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B90-1933-4C84-8268-D92E602B95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368-D711-45A3-B3D7-CB05BDB6FCF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portant things to think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ice environ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porate cul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boss and collea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lary, benefits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dmín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se zabývá tématem pracovních podmínek, vybavení kanceláře a benefitů, které společnost může nabíze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Working conditions, place of work, benefit, office, equip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a) Place of wor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b) Equip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c) Benefi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d) Other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Obrázek 1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343240" cy="195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of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Is your offi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mall or larg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ight or dar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fortable or uncomfortab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 one person or for more peop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qui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rniture (tables, chairs, shelves, wardrobes, filing cabinets, other furnitu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C, printer, scanner, fax machine, telephone, copy machine, internet acces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 supply ( files, stapler, punching machine, scissors, envelopes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onu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th salary or even 14th salary (summer holiday, Christma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 employer contributions (e.g.additional pension insuran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flat (or other accommoda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7" name="Obrázek 1" descr=""/>
          <p:cNvPicPr/>
          <p:nvPr/>
        </p:nvPicPr>
        <p:blipFill>
          <a:blip r:embed="rId1"/>
          <a:stretch/>
        </p:blipFill>
        <p:spPr>
          <a:xfrm>
            <a:off x="3338640" y="429264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nte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tudy trips, seminars, cour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nces of your promot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kindergart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42Z</dcterms:modified>
  <cp:revision>24</cp:revision>
  <dc:subject/>
  <dc:title>BUSINESS ENGLISH</dc:title>
</cp:coreProperties>
</file>