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139-47F7-4244-AE6B-A1D742AA24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44A-CC36-42C4-B487-7EC557989F0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F068-941E-47A3-97A1-7D26503271A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0F6C-4332-4FAF-B49A-DE0743463C5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4FFA-C6E3-4E68-9872-9C365652C57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0E8-04EB-4B42-A8F9-CD759EF40EC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8830-B92F-4166-A320-675D3C82C4F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124D-F722-4A41-A171-8BF5EE7DDB3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E34-A7B8-4774-A03D-616701DA36C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2F5-6045-4749-8BA7-BABC3F3C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A4B-8A97-4898-9E37-25591483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8D184-FE25-4469-A21A-255AE3B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1F100-3EEB-49FD-A20F-334FB517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7479A-3235-48CD-88C9-A726506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70D59-461C-46A2-BCCE-F7410A5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91309-F347-4E01-A567-9C079F9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33A51-7B4E-4BE3-A51C-162DFDCE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6FBB2-91AA-4CD4-BD92-C1A99480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64574-0C28-4F33-8D17-4C93AF51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63CFF-3047-42A1-BD55-84B7488A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67A53-2A81-4301-A1AD-FE483587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1D7-4A86-4295-B69C-CA4B9DEA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4D99B-3702-4D18-9173-21BE27A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1BE0-9300-4969-9849-957198CF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98F0C-6981-48E2-A932-7FC4AAF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84043-8FC9-4746-B2E8-EBF7BAF8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43AD6-B15C-43DC-A3DA-AD0E990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1479-235F-48FA-9412-C8CAD74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96DFB-16EC-4202-AE62-F7D29B5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50B56-8568-4763-844F-CAF70A6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775BD-3E11-4F7F-93F2-8F495A6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F3155-B660-4811-8D93-66640C48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3A8-D0D9-4092-AF68-D503EF51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FECF4-A10E-4FBC-839F-AB36898E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A2ED4-9CDF-4CE9-810E-06EBFC7C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B140D-9002-40BD-8685-941C6149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A0BA6-3402-4F6D-B3AE-9DFF1CB1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9BE4-545E-436D-9E4A-6ED2B76E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5DAE2-8BCF-4BB0-9563-5BC77A06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5335C-9604-4B0C-A75D-5124805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2BD44-0CDD-4842-9054-C35629F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6550-A3A0-45D3-9343-35168ED5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458CB-A3D4-4353-92BE-1F06A6F2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5726-570D-40FF-86A9-31B616DD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03301-73AE-4E91-A523-CA94B8F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C63D-D335-4205-AD73-20A23E31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8A958-7734-4066-AD2D-26BFFC2B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31FD1-97C6-458D-94F4-6B63DA63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CCD80-5700-4857-B5B8-B132552E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AEB7D-0EE0-4554-A831-D43FBDA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D1D8A-45DA-4D96-822D-A8B3386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EA9E1-137A-4D85-B543-D43362BD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BFE05-21F4-4A7C-B04E-6D3FC044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D6AA0-8670-4EE6-9AF1-81CDA52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694-677E-418E-947F-5F4C54C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839FC-D41E-445B-B575-3EA64A7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236AC-3E33-49DA-BB00-A478BC77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60B7C-1F8F-4278-BC26-810B54B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DDACF-ED4B-444B-B0DF-F040FB73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50F0E-8BB9-4D5A-88AB-A7EAED3B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81710-F480-4829-BCCF-9F7F6E1C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AF357-3AC7-4376-A16C-30C35B2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6A66E-89AC-4DC2-85EB-F6A12698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2CC3C-484D-4571-9905-2B5583B3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3AC1A-8582-4B0F-964E-9B724DC9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9BB-52EE-45F5-B58A-BF5DA404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C720B-4468-4FE7-BA35-6181334E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1B101-4FDB-4F7E-81BD-63E8E389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6B014-31A1-4F57-B389-B4751E35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E14BE-4815-4AE6-8041-C60DC48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99EBA-09A2-4C2F-B735-1169B8C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29C55-19D5-45CA-81DA-AAC63E00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3A797-F368-4C25-925C-5F66A94D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6C6A0-11E2-4154-9857-6DB5662A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63AA1-7D5A-42E3-8D25-5FEAF1F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8541A-64B1-4E0A-B805-FD9ADEB8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361E-E1E2-4E97-9F08-B549FF0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0A46B-6464-4E24-B527-8261D99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A6B22-6927-4E6A-B649-9DAAC910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8E158-9C16-4E9F-A27C-5F1A1AC0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6CB50-090C-4099-AB5C-A3B74233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919E8-E577-4EE6-98C9-E4FDF46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EAED9-6D68-4F2D-AE75-3DAA447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669E6-F6B5-4E3D-AB77-A7E3FB1E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EDCD7-47EF-4E7A-9523-82107BCB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11BA3-FBBE-4693-85C2-0096B5DD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7E519-D71A-43E3-8A15-CBA104EE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96C0-F65E-4A4E-BF4C-F2993EF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4EE81-A561-4617-BD60-AD22D5F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848C3-2EA4-4EAC-AB30-FCF11BA0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69696-5633-48A0-AFC8-4A568158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55870-775A-4566-99AB-29A158F0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7982B-44FE-4706-BB0D-6C5B62DF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1685C-E5D4-42A6-A70A-8CAC3E5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86E97-E3DD-4423-AD62-7138280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D9DAB-6919-4305-9AE9-27920BD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B72A5-2DD3-4BE9-A53A-BD453413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56693-871A-4A5F-AB61-57FF7C4F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89D2-403E-4D53-88B6-8039AEC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4B8E1-E69A-492F-8864-D270190F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F4567-A53B-4E5F-A3A6-1DDA560A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ECD7C-E62F-40F0-8BB6-8838EC0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0B214-7127-40B7-9794-B5F5B546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7C4FE-FB08-47B7-985C-E1FF6FA3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ABEE3-DDD0-4A1A-AA70-F351A928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7E3C0-A24F-496D-B320-28D9B92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150AA-46C7-4C2F-B02D-3FDD0A6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C784C-61A2-404A-9299-9767EE3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C955F-43F3-4587-BBD9-86F8AB3B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45EC-C375-4B19-B583-5A791FA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EC237-C040-465A-B009-BAC83FF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E2E64-CDDC-4D1A-BF49-CE625D4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48F78-429F-44FC-B1BA-BEFB9254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E528B-8925-4CB5-B40A-BF6C6825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F0B48D-6745-4361-8D76-0D913934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7B292-8D09-4127-A7BE-C29A07C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F0E4B-3F94-4DF2-8C43-C72883EB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85E78-428B-4325-9F8F-C3660AEE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834CD-7BE2-4371-B025-3AFA14B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D63CD-0E1A-4CAE-989F-0DBCC0D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BF4-E284-4D2A-B9CA-285964DB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1E64-1472-43FA-8D5F-FCF4F15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CB769-6418-4B05-9FE3-B0552A2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D4FCD-3685-4734-8A8E-A312EA10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0FE3F-D1A5-46DD-894D-D6898A0D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B504F-FC4B-4247-970B-720F76C5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3E363-E78F-4423-99F4-BDE4CE19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5D11E-A3FD-46B6-827E-08D4951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937AB-B13C-49D4-84EA-DAC09A8B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2A579-3142-452E-81C7-F1ABED87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F258B-4978-498A-844E-C581480E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22548-22FE-4F34-B1DF-CE527D3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3467-81F0-4A24-A5B3-0465832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33DBD-E86B-4374-9EE0-62BD2FD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6031D-6501-4432-98DC-6BF83C1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B4A38B-0717-452E-A9F7-DE98C6D8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F4265-F257-4B45-ABD6-F0493518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B086B-6EE8-4D1E-8676-5C1CDD19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E0515-DAB0-43CB-8085-8B32B746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3255D-5E03-4745-82E8-9F982000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58A4F-6FFF-4479-8EB6-FEC78B41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4AD43-5725-4F7C-B100-B3891CB9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75942-116E-4221-A278-33C5BDDA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DBF9-4DD8-45F0-B719-673117E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05829-3E7E-4395-A110-35755B6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E8659-CF18-4311-B5ED-1A472B5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09FD3-410A-4382-BDD7-A342D625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94E85-A884-43F4-B977-17A96BC6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2136E-DFC0-4A1B-8B27-EAC48F53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20C55-AD19-4047-8E6B-EE353E0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32629-3C26-4A0F-A587-91EB2FE6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A052F-37A3-4D13-9E97-987E1074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6811C-39F4-4D67-82DF-C77E60B9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D77B9-6BA4-4401-B081-E7CDAF86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11D8-3E7F-4C72-B4F8-38C37442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B399C-D93B-41EF-B88E-29206D7C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9D027-200C-4EFD-95CB-1F4A688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EFAA4-4479-48BA-BAF7-F05DEEE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B6272-D21A-4130-AAAB-1FC6D4FA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DFE57-30AD-4BE3-BE79-B6C1B8E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5273D-8E2C-40DC-9CAD-0A42DE2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D0D4B-1E4D-4297-981E-71D8F71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D82C1-3E06-4891-903A-2476E60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09B4A-716F-4FF8-832A-48A3AA6E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305F5-A37E-4F36-ACF5-059B356B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B3FB-12A4-4F26-A505-3698AC5A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CA6020-C3D7-491C-A215-9393BCF1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DF4ED-EAC5-46FA-8A30-45BE269E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FB6E6-C951-4E7D-8530-9353308F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ADE6F-829E-4DCD-85AE-A45E636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D15F8-5CD1-4F9A-B13D-2DDCD6D0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E0867-D5FB-4445-9150-40EB1637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E2111-31DB-41F8-B920-F026B9C0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422AE-25B1-43B6-B55E-F404D88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AFF8D-A954-42DA-8B76-2EEF2B4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8EDD4-E9CD-4C3C-9715-8EDB656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FB6D-019B-41A2-B5A9-383C9356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88BEA-2039-4D55-AA13-0C81DB6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5E52AA-4934-4271-9CA6-BD2B5570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DBD7A-E049-4E90-A93C-FAFF4CE5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F0DB1D-7A6E-4DF8-BA0D-F231074B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6376E-DC30-42C4-8D07-64F1604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336C98-59BA-464C-98FC-2D4AA701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8E9B7-A81B-43DD-9F38-866CB907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3BB5A-9878-4092-916E-BEE6AAEB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6CF7DE-E6F6-4576-A80D-CBAE17FC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3F9B8B-1DCE-460C-9582-D837E4E2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6F7CA-19E5-4E92-86FD-C3619BD4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4E0AAE-D81A-41F9-9716-9FA4B61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DD529D-BD78-4252-806E-A9AD553C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EBF4CA-D623-44E0-A3D0-6D60AC03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466D6D-901D-4DE1-80DA-86333FF6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42601-CAF5-471E-9F21-0C5010B0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A6849-BE4C-4207-8BC2-B45ECFF5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F6A2C-FD75-4A98-9879-F831841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7AB2C6-1B56-4A17-93B7-53DB6D8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DD504-C253-4DAE-96E2-81D99F6F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4C827D-D8CF-48F7-927F-6F9FA570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8575-1E89-4634-B395-B518ACC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FA524C-E923-4816-BBFA-AC62B42B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616338-FDDB-4805-B6D4-25DB41F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8DCF5-BEE6-4E4D-B21F-6083874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45CBFB-6762-4987-970B-6CEF912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3FAFFD-6397-45C2-8A0E-9855BA8B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26E7B-B49E-48F0-97A6-885CAB25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F05E0C-8A42-4564-A93B-357EB543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65D9E-3468-4F83-8E56-AF9490AC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4B2E6D-41BA-4FF1-817E-CDD920B4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A51353-C695-4212-A542-A5D66996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E91F-B163-4DD9-A8BC-1D1983E7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3D81D0-EDD5-4626-BA0F-4212D9B7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2D0866-3CF1-440E-8277-28D367D0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BBF92-E308-4102-86A2-B59EF82B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952312-9BAE-4A1B-BB4C-C1049E6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FC92FE-E390-4806-95E0-760D8D5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237532-F777-497E-A99D-4D59CE7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8A3757-FC3F-4671-91CC-3F82F8EB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0975CF-5EED-41F3-901A-755F8219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9DF8BF-E927-422D-924B-902D23FA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C1654-EE89-477B-99CD-93CDB7B0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1B29-FA80-4FCC-88D6-85CEE172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C94FCE-7451-4C85-99A6-38ADFF25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240CC2-2D82-436F-B168-9928F00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A3BFC7-B041-473E-84DB-4B81662D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DDA002-CD1A-41CB-A4E8-2B30796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69B8DF-FB0A-49F0-B89C-3ABAB0D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48303D-80A5-47FE-A7D3-B0636AF1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DE1AE1-D3DE-4D02-B95F-0EBA887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9FF213-0228-48B0-91EB-DCAE8257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D41952-32CE-47CD-AA9A-38EFB780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37263F-89B7-4694-A718-7B895843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7BD-DE94-4580-A37F-59D069F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BDC2-BE3E-4C75-AA8B-C1807393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3354F0-AD84-4C57-9D3F-1D737040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F50B5C-C70A-4294-A227-A4F7DD94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63AAE9-24BF-4C13-B5B6-01AFCA5A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5F3766-8CA3-4097-B476-5D7F8B69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BAA163-9F16-49AE-8A04-E0CD4D5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C8BF5F-2B91-4520-8E77-082BD06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496A60-C3C4-4C3D-8295-F772D992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E5277D-28C2-4B70-B11D-AAD66A8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6E79C0-4603-4993-9372-3A27BFB7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7E3343-5259-4B17-8001-8D3FA39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022C-53B9-4847-9D2A-7C4DC8D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2331AA-60E9-4192-86B0-5F7C706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7FCAC0-9597-4931-91AF-B4F38EF3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3BDDAE-2278-4097-BE77-34BDB95A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609629-12D2-489D-9F8E-F5C5D081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57D468-7698-42D6-9C0E-8B9D1E3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87764-5549-4BE3-9986-7DD084B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47C02C-ADD0-4F79-96B3-D3051C2E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125035-704F-447A-9786-C2B0727C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AE270C-E1C8-4945-A1A8-F715CDD2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085F77-BE8C-41A1-8CE1-0385D6F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CB18-C996-44C2-AE47-0C06E7A5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954058-CA88-482A-94D2-FA201FB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71C3B3-C86C-4DA4-8030-4558A03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9ECC75-26E1-4802-BD71-480D8AA2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B34CE4-489B-4AE2-9B6C-C5BFAB19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FD55F7-D626-4E56-8433-F4F28001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B9557A-D2C6-4FFF-9E2F-6BAB2AF6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090560-D55A-4B80-8D15-A3BF4571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8E685B-EEC0-4149-8DDA-E1685209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222095-8F55-4824-9E4E-2DF30543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873670-22B7-4F01-A249-CC5BA821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B43F-89F5-44EA-AA9C-DAF5DB82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98F2D9-A47E-45F7-AE6E-D76F65C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9CF174-05A0-48C6-ABDE-90AB874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2DBFE1-C695-4529-BF73-18B735D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CF5347-B544-4402-B92D-AA6AE11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8CF3D1-6944-4D9F-8AC5-A6E34FA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D8872A-1745-4B33-895D-210877C0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101980-3520-4D2D-A053-201D5413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0E54-7F50-4547-86BD-FB028FE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747D-D991-4143-A541-3C756137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1E88-D991-4386-8674-EFF2FCA9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538A7-A606-463F-9F1E-E5891443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8F4F-E8DD-4927-8820-93537C1D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89F3-942D-4B4A-97CA-6B762800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5BF-FDAA-4138-8846-ED2500C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BD97-A794-4B6D-AF89-802BAA21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C687-52F6-42F6-8D92-0993FF5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FB1D-12BB-475D-9755-CD3369D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160C-2002-42F5-91A6-CC30DEC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5FF2-AE5E-4574-B2CA-DD9DDD1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DA90C-818B-430C-A980-2B4FDD1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9F8D-1B4B-458A-BB1E-5FBE7857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157E-957E-4BAF-BE57-2CA5BCBD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2907-EEE3-40A0-9299-151A364A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656D-5AC9-4952-94B0-5C973A21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FE2-CE4F-408A-BB95-77B78175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2877-7780-43EE-81C9-559C30E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2FFF9-CA3A-471E-B406-4CC8CD66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4659-AD94-45D3-80C1-5B359436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D8D5-86CD-40C1-ADBE-9E05FCE0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43DD-03BD-4F7E-9EB0-6CBF8F1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1BD75-A8E8-4809-AF35-6754552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EC31C-3977-407C-8E99-46B833E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D07D-EFFE-4126-A12F-692BA24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4F4BE-C97A-4512-A49E-1878DEC4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C26B-34A2-4A12-A3AE-1B7F3515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263-A666-4BAD-A5D8-B04BD21E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4427-1DE9-4C7E-B8EE-BCF8F4C3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CDC88-956D-4986-96B2-2593F790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B6EE-6490-4E3A-9354-EE5214B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45AED-71F4-48E6-92F5-41E099B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3B42-EA08-45EF-845F-853B0B4C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670C-C944-4305-BB70-101B37D1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07B1-2159-4E39-99C9-E02D2700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B0EEB-9CCC-4D9C-A80E-793CD49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5C7C-A526-49E2-A44F-BC5E974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559F6-5760-4BFE-8472-0E0C275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44F-3835-4EBF-BF1E-470C26B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624E-20DF-42CE-95C2-325A8FAD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236B-CE06-4F9C-B629-53A9A719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AA25-0BED-4039-8C4A-FC1C80E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632E-FF2B-4792-B805-2DD4A7BA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16E6F-13D7-47D3-B374-ADC1E02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96CE8-7C81-4321-A581-3AE4B09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34CB-BC18-4254-AC3A-97349DA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8926-CF88-4F02-ADA2-A727E3DF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FFDF4-E6D6-462B-B506-B3405C1A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E0517-7E58-489A-821F-E41EB5F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19E-6ECD-4F75-9165-6FCF0F9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CF67-1199-473D-8AA7-7B047CCF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9D983-3731-4637-A9BF-45919B70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C0CFC-13B8-4A1B-9A10-C848A23F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392B-8595-43A4-9B97-E5890349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E92D-0880-4A41-8697-497B9FD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303C-ECC1-40A3-9903-128719A8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F6AE-C8A3-4EBD-9EF8-EA3056F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4C3AF-466D-4569-97D2-E0E9D6C2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AB5C7-ED7C-405E-B93C-9DFE4C32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730D4-37A2-4A3E-ADC3-E751CED9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16E-0CB5-4B3E-AD69-938E7CF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10E8-30A0-4D40-B258-469F230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8CEE1-2CD0-4E41-8D74-D2A6494E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7C63-716D-4549-B554-BC728C8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D8612-E4E4-4107-8910-5246672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B4D05-BC5E-4AFF-B9E1-1238F65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E09FD-89B5-4175-BD16-0FAC6717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0F87D-ED0F-4AC6-AAC1-C09CAD52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1F81B-A11B-4EE0-8D6E-59241D1D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CA5A-5ED3-4ABA-8C87-3FF7A65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CC569-C3E9-4B36-92E8-2E85341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369-DA0B-45E9-9119-F0E845B37DC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E5E4-771E-453E-8702-E52C6B64DB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9E0-2644-430A-AC58-91FC9CFC8C1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132C-41B6-4450-A333-EC9CC17B467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351D-DAC6-4190-8C00-6B13B249CD6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F387-B66F-421F-B147-3EC1CFC1062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B14-C7CB-4297-9287-AEB773ABF6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7A1D-1DA2-4B24-98C6-A5F546D288E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713-A009-45E9-8C92-D410D5B3F70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4AA8-86D9-4C34-9FC5-F485154E0C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722-7808-4AD8-9D8B-378BAF0B6FD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76E1-2097-43DB-9DA3-78F92180AEB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4FA5-6920-4ACB-887F-099B299E52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6859-7302-4933-89D5-7E917E9C24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C4CE-C27A-4CBD-AD3E-F02202DC5B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CF3-3B2C-4436-B690-53FBFCC61ED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A61D-49D4-4F07-8EB3-62F7814A8E9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727-96DF-4FBE-89FD-B87E09C39DB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47B-95E7-40E7-A616-B99540F041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F4F8-7BCD-41EE-948C-9640A63BF6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C7DF-5160-4521-980C-AE41A447B5D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7AE1-3186-4B0A-BAA8-FF40B550AB1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D4BD-8481-472A-8F80-BD86B14E4EA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52A-8CEE-4B66-B483-992D93AF920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1E1C-E216-48FE-97B2-DC668032D3A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13B-368B-47D4-836C-0B233C5679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95B2-DEC6-46F6-B1AE-28F626D1338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132-89D7-4946-A6C2-27018BC075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sultancy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surance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20" name="Organization Chart 10"/>
          <p:cNvGrpSpPr/>
          <p:nvPr/>
        </p:nvGrpSpPr>
        <p:grpSpPr>
          <a:xfrm>
            <a:off x="833400" y="2637000"/>
            <a:ext cx="7632360" cy="3023280"/>
            <a:chOff x="833400" y="2637000"/>
            <a:chExt cx="7632360" cy="3023280"/>
          </a:xfrm>
        </p:grpSpPr>
        <p:cxnSp>
          <p:nvCxnSpPr>
            <p:cNvPr id="1321" name="_s1028"/>
            <p:cNvCxnSpPr>
              <a:stCxn id="1322" idx="0"/>
              <a:endCxn id="1323" idx="2"/>
            </p:cNvCxnSpPr>
            <p:nvPr/>
          </p:nvCxnSpPr>
          <p:spPr>
            <a:xfrm flipV="1" rot="16200000">
              <a:off x="5918400" y="257616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4" name="_s1029"/>
            <p:cNvCxnSpPr>
              <a:stCxn id="1325" idx="0"/>
              <a:endCxn id="1323" idx="2"/>
            </p:cNvCxnSpPr>
            <p:nvPr/>
          </p:nvCxnSpPr>
          <p:spPr>
            <a:xfrm flipV="1" rot="16200000">
              <a:off x="51325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6" name="_s1030"/>
            <p:cNvCxnSpPr>
              <a:stCxn id="1327" idx="0"/>
              <a:endCxn id="1323" idx="2"/>
            </p:cNvCxnSpPr>
            <p:nvPr/>
          </p:nvCxnSpPr>
          <p:spPr>
            <a:xfrm flipV="1">
              <a:off x="4649760" y="3845520"/>
              <a:ext cx="2160" cy="605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8" name="_s1031"/>
            <p:cNvCxnSpPr>
              <a:stCxn id="1329" idx="0"/>
              <a:endCxn id="1323" idx="2"/>
            </p:cNvCxnSpPr>
            <p:nvPr/>
          </p:nvCxnSpPr>
          <p:spPr>
            <a:xfrm flipH="1" flipV="1" rot="5400000">
              <a:off x="35611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30" name="_s1032"/>
            <p:cNvCxnSpPr>
              <a:stCxn id="1331" idx="0"/>
              <a:endCxn id="1323" idx="2"/>
            </p:cNvCxnSpPr>
            <p:nvPr/>
          </p:nvCxnSpPr>
          <p:spPr>
            <a:xfrm flipH="1" flipV="1" rot="5400000">
              <a:off x="2775600" y="257652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23" name="_s1033"/>
            <p:cNvSpPr/>
            <p:nvPr/>
          </p:nvSpPr>
          <p:spPr>
            <a:xfrm>
              <a:off x="3976200" y="263700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1" name="_s1034"/>
            <p:cNvSpPr/>
            <p:nvPr/>
          </p:nvSpPr>
          <p:spPr>
            <a:xfrm>
              <a:off x="8334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LIF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S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9" name="_s1035"/>
            <p:cNvSpPr/>
            <p:nvPr/>
          </p:nvSpPr>
          <p:spPr>
            <a:xfrm>
              <a:off x="24048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NSIO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7" name="_s1036"/>
            <p:cNvSpPr/>
            <p:nvPr/>
          </p:nvSpPr>
          <p:spPr>
            <a:xfrm>
              <a:off x="39762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CCID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5" name="_s1037"/>
            <p:cNvSpPr/>
            <p:nvPr/>
          </p:nvSpPr>
          <p:spPr>
            <a:xfrm>
              <a:off x="55476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RAV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2" name="_s1038"/>
            <p:cNvSpPr/>
            <p:nvPr/>
          </p:nvSpPr>
          <p:spPr>
            <a:xfrm>
              <a:off x="71190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fe as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surance (usually over 20 ye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ertain amount of money would be paid to your family in case of your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accompanied with an insurance against serious ill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 be paid to you at the end of the con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back out of a contract under certain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nsion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saving with a state bene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gular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for the time you ret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usually cannot withdraw your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ccident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against acc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against damages caused by you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an accident (broken arm, leg etc.) you get som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before journeys abro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void high bills at doctors and hospitals in case of illnesses, accidents, car crash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your hospitalization abroad a member of your family can 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death the conveyance of your body will be paid from the 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ehold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burg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loods and other natural dis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rt of the loss is covered by this insurance and paid to yo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accounts, 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oderní bankovní služ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moderní bankovní služby a zavádí další pojmy bankovní angličtin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telephone banking, internet banking, insurance services, inves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ODERN BANK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BANK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ing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change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DER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sultancy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lephone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payment orders or check your balance via teleph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ferring money between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ing bills and invo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ing your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der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movements on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money transfers to other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a collecting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e-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-charge your telephone cred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 make a contract abo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rious types of insur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ing a bank card, credit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s and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es internet banking 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a contract in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an access to your account and a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 the web page, log in, sometimes you get a password via s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financial operations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firm the operation with your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 o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35Z</dcterms:modified>
  <cp:revision>17</cp:revision>
  <dc:subject/>
  <dc:title>BUSINESS ENGLISH</dc:title>
</cp:coreProperties>
</file>