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689D-FFE5-4D06-985C-1CB5387AB5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0024-2A2A-407D-8433-7B491ECCF5E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D094-B1B5-46D8-9B01-2726443AAE2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C742-EBAF-4382-A5C5-D76272EAEB8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EF5D-B8A2-494B-8F63-6D47FAA409A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52FF-A100-4AB7-94D5-662A0CD3C85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C511-5A4A-4334-A885-6884C459D5E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6A7A-9D22-4609-A63C-E28E87985D6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88E1-5915-4193-AE15-D65E1443990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F79-4260-426C-A1AB-CEAD4A8F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44F-99F8-41E8-A1E2-200DA653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F3E84-9F35-485E-A301-D3A1F274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2146D-A560-4FD2-AF57-F18576B8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DF9CB-996B-41B9-9582-DC3FEE55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48D99-5142-49E8-A54E-FE159EC7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C67D2-2EFA-440A-BB69-7BCFA791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4FC6C-9DB6-489F-A84C-D5FFA48A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CA226-B54B-43AE-8271-A17C230D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347F3-7F46-4779-8380-852BA6F4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D9311-D4B2-4FEB-9CF4-BDBA7235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6BF14-DE86-4CC3-898B-555E67B9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78B-AF43-40B5-8DF5-531052F1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B9D5C-9027-4B71-85FE-9581B7FC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307E4-2E04-4158-A9F9-EE1450F7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5E34F-A1E4-4D4B-9DF7-EFC78CB2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82282-7963-489C-B598-4F285B4E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B84F5-691D-42E9-9A30-0A250001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093CE-BCF5-48D1-927B-938F149B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8EC56-AD5D-4E52-87CE-C38B4BFD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1D1E4-C1CE-4B43-8135-F7974F78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0BE9C-B567-405A-A409-C1064BE3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39CE8-C5FD-4462-B297-21C1FBFC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58E-3668-42A6-AF5F-83A8F13E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6AB78-229A-46FE-9859-1606A741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94A13-FA29-472D-8FB6-A60CD54E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0A6BF-D38C-4ECB-BF28-03BCEA7B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5EDA7-30B8-4F39-9DB7-2E0E982B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37266-4C7E-4590-BEE4-A5B94849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E2150-B16C-410F-A6F0-8CB5AD69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8BE98-019A-4B71-A0FD-FD01C447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6E770-3EAD-446F-BBD1-44EC5895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C2A43-7314-4A73-9F63-E6DA537E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0E029-8D3B-4794-9051-1D3438BD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D6CE-A671-407B-8141-A5374071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EABDE-3C60-4453-A10F-E26F586F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E571C-64D6-4161-94EB-854DA969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A1598-4B8A-4837-AC46-DAAA4790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0EA96-D25B-4904-8487-9DD43589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236A0-40F4-449C-9E91-CE87610F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ECF45-F276-44A0-916C-9E983273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9AEDA-E4D3-460F-918B-79DDB888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1D49E-6542-49BF-A17A-7A774488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27393-1EF4-434E-BEC1-DB759841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B0484-088A-47F6-BFAC-EA96D7A4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E739-C604-4778-9A84-5DF9DFF3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073D4-CA4A-469A-A109-D06994E4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E32F9-9BE7-44F2-A3B8-A5943BAB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84A90-B249-4399-BB5C-0FA3B44B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06A99-5C93-4212-910C-8F1DCDB2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6A0D1-5282-4D3C-8E47-CD63C39E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DC5C9-0BE7-4B86-9A15-2B3D5FF8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995A7-E42C-4E5F-9949-804C9EC7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AB9A6-8B01-460E-99D9-08952375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05DBA-C7BA-430E-AAA8-12D05666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A3B27-BC72-4296-A0CE-2CE2698F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ED4F-C5C9-475A-9110-88446474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6C8E6-7483-4447-A226-61C5E80F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8D12C-CA98-4BC6-B796-09F69E5D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D4852-3265-4F66-A810-EE9E57DA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A808C-2A74-47A6-BB9E-E0350D2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9A929-7DAF-413E-AD66-A897381D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D2AB7-81DA-4E01-9C51-C2790864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7218C-C92D-4886-AEB2-EE9FA90D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A74B4-EAD5-49B8-9261-6F53CC21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32057-4588-4210-A1A1-226FD07C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44CC1-FEB1-4FC9-A9DC-749C5181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834D-F361-4AD6-AD73-30B01CB7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DF8DD-A383-4FB9-8E25-358D13DF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C5AFB-8DF9-4EC9-975C-13774B16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1477E-8B97-4879-B4ED-3DD40D01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A04D7-23F6-4835-9297-67019B2A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E5003-4CD3-40F6-BA41-5E49BC98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07E83-8DDC-4423-854A-E7899FDA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4D0B0-E7F0-4EAF-B70D-0778199B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35EA0-EE0F-40A5-9051-04908B88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69B31-22E7-44CA-AD04-F0B697BD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6A33DC-20C9-4CB2-A223-3A688504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2D90-AD0F-4230-9622-5E16A312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E8035-B801-4CEF-9F51-60560B4C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3D8681-8491-47A8-A85A-84704FF4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ED216-05D4-4B4E-AFA4-0A16FF0A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5A862-1E0E-4AFA-890B-5528D37B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B1D3D-04F2-4BA1-BED1-4D854B26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83A21-2DB9-4227-875B-1C86518B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90753-F4C5-4DFA-BFD6-56E94702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2BCC2-5498-4815-A1D2-6A2183F7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D12DC-69A6-49D0-88F5-4EA7C8FF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1DA3A-C426-4A76-8F41-52C083BB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4CCD-589D-4F4A-9C9E-47A0302B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7C82F-F2D4-4C73-B85A-496181BE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ECC20-E4C1-4836-B6AB-C5489129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1D039C-EAAB-497B-BD70-53DFCD9C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6A628-93A2-4300-A4FE-D4CE4A16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4676E-020C-4A5C-8CA8-0568A8D4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17BA9-2D58-49B1-AF36-46AF5460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1627C-92C6-4EF9-B5B2-0237E5E1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8DA42B-B535-4E2E-A6ED-EA94E1D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7B7FC-6067-4B92-925F-DE97340F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418CB-CF95-4660-849F-4A52D689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DEF6-9C0D-41A6-B52E-D448F875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0483D1-688B-4BEE-A3B7-97B5F900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1783D-E365-4DE6-8A3A-7B625FD6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75D0A-0EB7-4253-9217-A6AF0199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AF4-0DC9-4F62-ADE3-BCCC7BA5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4A81-F059-4DA1-98D7-9943E5A6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E05E-35B0-437B-BA60-96EB9164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D973-7F20-48EF-9A7B-1A4A99BA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0EDB-9798-40B6-8C91-6D8B2CC4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9FF9-F04E-4F68-807F-A1DC6E1B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531D-81B7-4F92-AEB5-93737D6A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8323-7091-47E8-9EE7-FEACD94C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2A54-E574-4438-ADD4-5353B638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A97F-DB25-4AB2-BECE-AA24C414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947CB-8D1C-4133-A3FB-021AA9D5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224-AEEA-457B-B8DB-BFD3379E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DB0C-57EB-44C7-A242-5A69096A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EFB81-9248-47F8-89B7-8B5038DC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01FDE-AC23-4F85-9994-22D4C482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CC2E5-4707-4DAD-9C83-125C488C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C4C5-8998-470B-8D62-7ADB8389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2F24-A352-4F95-8AE8-12E75439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B2ECB-574F-4248-A456-313B1CCE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3C248-0997-4B18-A8E7-A5B3CB4A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4FF1A-018B-4DDB-BAED-104FABB8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6CE62-817D-4410-AF05-1091B20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838-9583-4C1D-BC89-896D24E2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04CA4-2D07-47E1-9A27-1A442C17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EBC5D-ED64-417B-A026-2B79F264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CC81F-61E4-4142-BBC9-3916EED8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10C5F-0706-4D3F-8A68-BD26C0A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AD6D9-4E54-4452-B8D3-3CD11B0A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FE1E4-5A29-4115-8339-718AD1DA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3B64F-274F-4DD4-8D18-01E022AB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D71FC-F67D-4F43-9D0B-7B14D7E1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B9A97-F550-485E-95DE-1DDDA2BD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1F5C7-3A8F-40E0-AB20-40030308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4C5-5F2D-4566-A895-32557CD4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3F32C-B12C-49B3-B526-EDAC55E7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C1555-CAEC-4F5E-887B-C7E5C447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35D9A-E02D-4E1F-9981-0385330D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E6F42-304A-4C8E-B3E0-CC02736C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A6368-74B4-45B5-AFD6-BD272320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02BFD-15E0-4A25-944F-12857548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B45AD-5984-4F47-91DD-0F759AB8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908B3-D270-43B6-836E-63C2301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ABE66-ABA9-4A25-97FE-9BB6CADB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81A00-E90E-4533-881F-80DB3D46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D03-6E9B-47D6-B374-C7F3263D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30BAD-5583-4992-834E-836F273A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EAD1C-D5CF-46CD-A858-18E2C853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08B09-67A3-4F05-9C35-3F668D33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5AC83-A2B9-46CF-AD3E-8220D615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BA62A-CADA-47FE-BC0F-78034567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043B5-1912-4DEC-83FB-C2FEBE58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E7BFD-76B7-4F40-B8BA-F5E6F3B1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EC44C-1B86-4F3A-8CEA-A6E21610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B6155-9D57-4D77-97BB-AE837005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2AC07-DBD2-46E4-81B1-29F6BE85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611-B3DC-4F9F-B0CD-F928943A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FA456-326F-4A6E-AEB4-07FF3D72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C397-74CA-4217-B39D-F072C30C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7F8FA-09F9-4EE8-8554-CA00DDA3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A6603-FF7F-42FC-B416-3C1EA8DF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A0E62-2006-4A0A-8CF6-22316F88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2B55D-5139-4DA9-94A2-C7048ACF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B64BC-5151-4786-8303-2D1D71E0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FFF72-8E00-4003-8481-C1C3D636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2AA04-8C4B-45C3-84AE-C283624D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6D37D-DD6C-4BA3-BE25-E7FCE2E8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AE9-52F5-4AAC-9A03-F61CF350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55218-60C3-4069-8217-4D1CE916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BF6AF-F1C1-4B2E-8BE3-08D4CBB9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3A6C6-36AB-4CE9-9ADF-112015FD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91698-A0B5-410C-A6CC-C8019AF9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38CBB-B3AE-46DD-9F59-B2B10CC1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01E00-00CC-455D-AB87-7BD02259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28D89-62F3-41B4-98AF-1DBEBEF6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D9DEB-181E-485F-A66E-589BE00A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86C32-5210-4E1A-BE88-A12D50F1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2D012-1681-402E-BC6D-53EA4215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FD0-EBAA-4828-AC36-584C19CC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234A4-C570-462F-A9A0-BE5DAAD2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32815-E226-4E5D-B146-C77FA6D3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BEC4A-0FA0-4D64-9054-75AB76EB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E4C88-2356-480E-B769-13307855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ABD1D-DE36-4F99-981E-1A077F60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C3067-7F41-4101-8E34-0685E174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AD1A6-4F99-4BC5-A561-C63B00BC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C4617-7C26-4F5B-B9B0-F46B1BD1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2F2E8-7201-43AB-9911-A5A16CE4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04131-77C1-478C-A57B-FF5895A6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4169-1647-4E41-B13F-31002CDD33A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E73D-8B52-4073-9F0B-723E6ADCAFB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8B17-075B-4FEF-A7B5-7FCA2716FD4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104D-F592-47F0-A1D3-BA0142A7D15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8811-006F-4A53-A484-660716E9684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657E-66DC-4240-AC6D-589E536C3F2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52ED-8394-4448-9D8B-896B56BF59F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2CD2-36A1-4A64-8AA4-9C381E0A0A8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1CB0-1877-440E-8CB3-0753BA47CB0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572F-CFE0-4891-935A-32AD6DF9D6F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4215-86B7-4B1A-A008-1C38647D82F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FBD5-AD1A-4C2B-92BE-59E3DCBC458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4A7F-0406-4785-9D29-8381C141FD3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D9EC-68B9-4E6E-B279-652F2B8E2D3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F687-0782-46FE-B209-EC58F47AE54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1806-C880-4E4D-AED0-1C8757E63A4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What should you use in your presentatio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whitebo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video-recorder or a dvd play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cr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lide proj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overhead proj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extension l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What should you use in your presentatio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lms, pictures, sli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raphs, cha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mples of your produ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talogues, price l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it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f you have any questions, ask m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d now it´s time for your questions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 there anything you would like to ask me…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ease, feel free to ask any question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anking peo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your attentio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coming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your tim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t was my pleasure to have a talk with you here at the presentatio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ezentace společ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důvody prezentování společnosti nebo firmy, typy prezentací, jednotlivé části a uvádí typické fráze používané při prezentování firm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ezentace společ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 PRESENTATION OF A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y to present a compan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a company or a fi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a new produ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new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offer products, service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to present a compan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hort tal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tour of premi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film, video, dvd or a slidesh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present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450800" y="2362320"/>
            <a:ext cx="7693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2" name="Organization Chart 6"/>
          <p:cNvGrpSpPr/>
          <p:nvPr/>
        </p:nvGrpSpPr>
        <p:grpSpPr>
          <a:xfrm>
            <a:off x="833400" y="2343240"/>
            <a:ext cx="7632360" cy="3670560"/>
            <a:chOff x="833400" y="2343240"/>
            <a:chExt cx="7632360" cy="3670560"/>
          </a:xfrm>
        </p:grpSpPr>
        <p:cxnSp>
          <p:nvCxnSpPr>
            <p:cNvPr id="763" name="_s1028"/>
            <p:cNvCxnSpPr>
              <a:stCxn id="764" idx="0"/>
              <a:endCxn id="765" idx="2"/>
            </p:cNvCxnSpPr>
            <p:nvPr/>
          </p:nvCxnSpPr>
          <p:spPr>
            <a:xfrm flipV="1" rot="16200000">
              <a:off x="5853600" y="2606040"/>
              <a:ext cx="734760" cy="31435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29"/>
            <p:cNvCxnSpPr>
              <a:stCxn id="767" idx="0"/>
              <a:endCxn id="765" idx="2"/>
            </p:cNvCxnSpPr>
            <p:nvPr/>
          </p:nvCxnSpPr>
          <p:spPr>
            <a:xfrm flipV="1" rot="16200000">
              <a:off x="5067720" y="3391920"/>
              <a:ext cx="734760" cy="15721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8" name="_s1030"/>
            <p:cNvCxnSpPr>
              <a:stCxn id="769" idx="0"/>
              <a:endCxn id="765" idx="2"/>
            </p:cNvCxnSpPr>
            <p:nvPr/>
          </p:nvCxnSpPr>
          <p:spPr>
            <a:xfrm flipV="1">
              <a:off x="4649760" y="3810600"/>
              <a:ext cx="216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0" name="_s1031"/>
            <p:cNvCxnSpPr>
              <a:stCxn id="771" idx="0"/>
              <a:endCxn id="765" idx="2"/>
            </p:cNvCxnSpPr>
            <p:nvPr/>
          </p:nvCxnSpPr>
          <p:spPr>
            <a:xfrm flipH="1" flipV="1" rot="5400000">
              <a:off x="3496320" y="3391920"/>
              <a:ext cx="734760" cy="15721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2" name="_s1032"/>
            <p:cNvCxnSpPr>
              <a:stCxn id="773" idx="0"/>
              <a:endCxn id="765" idx="2"/>
            </p:cNvCxnSpPr>
            <p:nvPr/>
          </p:nvCxnSpPr>
          <p:spPr>
            <a:xfrm flipH="1" flipV="1" rot="5400000">
              <a:off x="2710800" y="2606400"/>
              <a:ext cx="734760" cy="31435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5" name="_s1033"/>
            <p:cNvSpPr/>
            <p:nvPr/>
          </p:nvSpPr>
          <p:spPr>
            <a:xfrm>
              <a:off x="3976200" y="234324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PARTS OF TH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PRESENTATIO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_s1034"/>
            <p:cNvSpPr/>
            <p:nvPr/>
          </p:nvSpPr>
          <p:spPr>
            <a:xfrm>
              <a:off x="8334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WELCOM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PEOPL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_s1035"/>
            <p:cNvSpPr/>
            <p:nvPr/>
          </p:nvSpPr>
          <p:spPr>
            <a:xfrm>
              <a:off x="24048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TRODUC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YOURSELF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_s1036"/>
            <p:cNvSpPr/>
            <p:nvPr/>
          </p:nvSpPr>
          <p:spPr>
            <a:xfrm>
              <a:off x="39762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PRESENTA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TSELF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7"/>
            <p:cNvSpPr/>
            <p:nvPr/>
          </p:nvSpPr>
          <p:spPr>
            <a:xfrm>
              <a:off x="55476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VIT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QUESTIONS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4" name="_s1038"/>
            <p:cNvSpPr/>
            <p:nvPr/>
          </p:nvSpPr>
          <p:spPr>
            <a:xfrm>
              <a:off x="71190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THANKING PEOPL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FOR LISTEN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lcoming peo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morning and welcome to our presentation…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afternoon, I am delighted to see you here at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evening, we are very pleased to be here and present our company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roducing your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o are yo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is your compan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is your position at the compan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y name is Neil Bradbury and I work in General Motors as a sale representative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sentation it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esentation of a company, firm, product or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7:10Z</dcterms:modified>
  <cp:revision>22</cp:revision>
  <dc:subject/>
  <dc:title>BUSINESS ENGLISH</dc:title>
</cp:coreProperties>
</file>