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59F5-F2B7-4BBE-A73A-8468240DCD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027E-5FB7-4D01-B753-07AAC45082B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59CB-20E2-4C3A-A3E2-3A7C5BD36BF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087-8592-4907-BF29-C9CF2AD38BE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3C3-0B38-41EB-AC67-1B4EF5C67AA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22BF-4C6C-4493-ADF9-BDCC4AA45F8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3EF6-22E8-48E5-87BB-7CF5E1D91B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C610-708B-485D-984A-1B9C349F702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2FF-8C04-4201-8FF7-01A1AA5B6D9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AE8-5905-443A-9C0D-A8CF0A9C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DF4-1DF6-43DB-813C-39A5A16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B9BED-6843-4622-A2DE-E23EA26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4333F-0127-453A-AF05-02FD440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5C775-8381-4FB3-8074-5123677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D69FA-A0B5-457F-AD09-28D7158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C824-B9B4-4532-9D34-D71CDA8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F61C-04FE-4AB6-A69B-8A67E497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07CF-0523-48CA-860A-F38E1A4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68157-EE47-4A81-BFBF-1489E712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8F489-E74C-45F8-89CD-2FBF3D02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B8088-0E34-415C-9F65-FCB6E9A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642-3FE3-42F4-B661-E16380EA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5373A-822D-4F8C-A912-1CA37B6D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1073B-F864-4470-9220-8C4F019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15180-F5E2-4400-8138-1E6FCD93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CD49D-F070-42EF-AA36-69D960C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80860-DBE1-424E-B948-825B210C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C476-9953-49AD-A7FA-B736D238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E3E06-9386-4CBA-B220-9D0FBAD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7ABA7-7698-4327-8BFA-EC75719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C0C15-9008-48E2-9BE0-4E32017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8C01A-D3A3-476E-8BDA-2D1E4F1C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36A-0070-410A-B51F-02F41B2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DE15B-BF2F-476A-A285-9930196B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767D4-2E57-4828-9345-4A6664ED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B0F4-7030-448C-A81D-0D23AED3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7EAF0-B56E-4F56-923F-F97D858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AEC86-991B-41DE-854E-DC2F0F42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35F2-3D57-4AC2-B9EC-08BD8950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8082-C75D-4E73-9774-E13FCD9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E1B3D-A3F0-4073-9D7C-B991DF9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2E996-4BB5-4E20-965E-8F373AE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40E7C-9F16-455B-8D55-48D92298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C122-5256-4CF0-B867-E12843ED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398FF-42CA-4369-B00F-BFA1168D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6644C-03E4-48D8-A671-06EF687E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CEDFB-697F-430C-A733-0041D616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64EB-CA59-46ED-972D-62EFA5F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52198-4CD1-4B54-8CA8-60CA677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D3C37-9D44-464F-ABE3-B034134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3F6F-3737-42C6-9F5B-C798193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4E5B6-6E1D-41D8-84D8-7B37D41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F8354-A599-4427-BA54-214B6E0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8001E-3D1A-470B-952F-7779676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546-A893-4528-8F65-A6BF85D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A11E2-05C8-4EB6-A875-E8CF3C7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1E1DF-949A-454B-B5C5-510B01B9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8B47C-0236-4661-848B-33C4CD3D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80FF7-E42C-4B38-8917-3FD3E55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EFEE-4D0A-445A-A2FD-1889129B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76014-DBBD-42E8-81FC-6DEA5240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879F2-D022-4223-8403-53E5F936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0349A-2293-43E0-9E1F-A7D3BA7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B2240-DAF8-4307-8C8A-54860A0B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F86F5-F7A1-480E-949C-8A76425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23A0-AD40-4C9A-A639-BFC21902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08E6B-AA3E-4FA7-B9A0-7A377DB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5EEE9-D0A9-41EB-A55F-AE69260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4FB51-AF34-40B7-9A08-C07EE8A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31547-9E2E-4980-B208-4D935D6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E31DA-CC7A-449C-A772-72D8723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06C55-FC6D-4D9D-9E82-49221E86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0034F-5767-49B2-B2ED-E878F324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887C9-5AF9-41E9-A385-6B39C9F3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713EF-B227-41CD-B76B-030237A2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BF57F-AE39-469D-A4C4-65A1B107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FDC-AD5F-4F76-994C-0EB9B7C0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12CA9-660E-41B6-A540-7E32E661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BAEB5-4E28-43BC-8372-82676B4F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9C5E8-4E71-4550-93E6-7C1A228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77522-1778-4EF7-A96A-C768952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D93A0-7285-4305-BA3B-71A03AE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A3E77-B913-49F8-B66E-F4C78158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D7164-C5C6-4E7C-9CB9-FC5C6D5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63B21-6CDC-471F-884E-742E5BD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A1A4E-04C4-43AF-AC56-873C85DA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4C16A-2905-46DC-9F61-E1D33B89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66B7-359D-41AC-8FFF-0463E8EE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6DC9C-2B45-4A74-A768-B3B38B7F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D12A2-8856-4B88-8B83-85D5E2D7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4E7DA-4155-4B22-99E2-0C33D83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CCFD6-A976-4FAB-95CF-D5D1A0B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89A38-01B8-40AE-A53B-698DFAE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A7BBA-F4C9-491C-9925-249B6A45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4468D-C656-45F3-901B-3F0B9C2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70745-B97B-4EF4-AFDD-14A867B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065CE-1A17-4D21-9EA6-40F94711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79DF5-739B-4DC6-855C-8506716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466B-6DD2-4211-A307-BC802E9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B7468-E78D-4305-B471-850134E4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327D4-91E6-4CBE-836A-91778378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9B779-D7F8-499F-9D7F-77906442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5015C-4B36-414A-A4DC-82EAE1A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A7E85-966D-45C6-A3DF-03D661E1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3ACEFB-95FD-4C5B-B2FA-7AFBDD8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9823C-38C4-4313-8058-E19BA834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94706-AC58-4687-858C-536E63E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52BBC-82C8-4AD2-9F60-7A9088F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228E-E6E4-4660-8705-8E7EC78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1C37-F5DE-41A5-8DE2-567026BA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1416C-1956-4322-A045-FC47F178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7AAEC-A9B6-4061-BD34-FDBBE79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25076-6C86-40C6-A736-D3758906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66C36-E16E-4C09-AF00-92D494A5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0D047-CEE9-4E3A-8459-632340E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69913-D1E3-4FC6-B887-B9671997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43E03-23E9-4E9A-BE0D-43AFF086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E3B17-33BB-4B70-B33F-95EC8749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94634-235B-406C-8878-94EDDC5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9B636-6ECB-47C0-9097-13F84D1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13F-47FD-4190-AB9C-37499B1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E624-807E-4E81-A68F-2F51E0C5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4D26F-3ACB-487B-B7F2-742846D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7DEBF-6625-496A-940F-8B1B20D5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C262EA-F134-49BD-9400-9D14B91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1644E-1763-4482-BCC6-2CDA4498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03594-7405-471D-A46E-D941D6DE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FA9F-C63D-4763-995F-70FE9AB6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05CE-7E75-4906-A246-4679614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DDAA-FAD4-4426-8405-E5C763B8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036-B9AB-424E-827D-4BE794A6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C569-AD23-4A99-AFFF-1F31E992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5B9A-2B73-4C78-812D-CC0FF1D0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9BD6-4C5C-4BD8-82B3-D11788E1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653D-063D-41D2-A7BA-9598BF8C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767F-37E0-4CDD-A658-A48A1719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81F-9739-4828-9D13-32118ED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81B9-1D6A-4471-B792-D3BAF4E4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0811-BEC7-4FC9-92B2-786AE8B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E957-5533-47EF-B004-146119B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3206-1306-4598-996D-6D2136B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BD1F-1F4F-4839-93D1-4D06997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9CAF-1E79-4577-9CF2-2C8A98CB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25A4-A41E-4C64-ADD1-87676B5C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AB9A-2342-4DF1-AA38-22997403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54AF-0333-4868-96CD-5C01F08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D626-A7B9-4D04-98BB-C7B62C3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FCB-3A6B-4A86-84A4-AF16B5DA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930A-4EB0-4EC1-A7CB-75BFD29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F5AC-D377-4D1C-BF2A-F307131E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064AB-9C31-4A8A-987A-CFD824D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042B-A945-4B23-B9F5-2E6AE33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3A1E-9480-442E-9FDB-9E02040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D27E-AB1C-4378-8060-CCEA577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7DEB-85CE-4EB3-ADE8-184F386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0D6C-66A9-4443-841E-4844AAD9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B2D3-13C6-4861-8353-BF191BCD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6F4D-2440-4BF2-89D4-E044BBB0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047-EB8A-4EF3-890F-54D437BB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4B33-188E-40ED-83AB-A57854B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7BD8-BD68-4864-8E26-A5FF351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2B52-EEAE-4B63-ABB1-FBF2274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9B23-7BE0-4915-8429-6BE1C509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5A8A3-930E-4DCE-B065-55752BF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6EA90-F11A-4759-B2F2-C4640D95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3849-80EB-4CB3-AADA-09F49F1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F2F56-B309-4F23-AD5E-EA23981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18C15-B78F-4E98-A8F2-9BC055D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51C2-4B32-4450-8228-35D6290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DE2-93F2-446F-AC33-E74033AD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0E48-6939-47E7-A6AE-7211BDA8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F40B-536C-4B70-8526-85BB232F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BC12-95BF-42CC-919F-52C9924D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5185-7D1A-4117-8B22-FE0C0E70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2690E-CEE0-4FF8-97CE-42AA63B2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1BC19-CCA9-4B9D-9540-FA787D6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A273-6DC5-4803-AAB9-3E71C20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8B36-787B-4A43-A86F-748B927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1945-6016-4CAD-96FC-3FBB0543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E50FE-01DE-4E1C-AC12-61502B3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CB5-C559-4225-B73F-0BE5D21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6CCC-4815-435F-8E5F-97B217B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9419-E74E-41E9-BF9D-6FC53E71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C823-AE4C-4E2C-A2A8-84C00D3F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99421-1FB0-499E-BCE9-4624FF47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FA6F1-1C16-4F74-BCF0-AACE87D0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2EFD-0385-4F36-95B4-F3431BE9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EA37-9B6F-4370-BB37-1B8A6F2A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4566E-9174-4506-A79F-3882F56F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BD1F-5330-4AC1-8AFC-239AFAFE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00B90-C384-4DD9-AB9F-72D6185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D72-6568-42BB-9119-B07B47D3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105F-0B23-47B9-8FD3-56B2571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5E61-B4BE-4BFB-BF28-4F25420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34666-839C-4833-A990-EDC8D4F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FA37E-43F1-4DCC-BCEE-386AFABD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03540-4FF2-42F1-A8F7-E3ABF03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B694-5B9C-48B7-94B4-04011DE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7C974-693E-49B2-9BF3-AD7E3228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0486-00FE-41B0-A23B-219895D4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2E74-3631-47AB-BD76-3E46FA88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34B24-C4D2-4E60-B8E2-6BD52AC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C47-4CEA-44A7-B94A-A13DA3E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AE0B4-A0E0-4DD8-9594-C76AF842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51EC2-DC8A-46EF-8141-1110392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7E983-6B41-41C2-B7B7-76214A3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7F29-CEE1-4A5B-BC39-A65211C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F76E-38FF-401E-8382-FFD760AE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43B9-C17A-43DF-AF78-6D52531E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E4C70-4382-4CD7-A42A-E522B4CE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CC32-18CD-42A3-A56B-2CCE97C1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6C0D-35E3-4C12-9870-B1E6B5E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68C5B-E9CA-4AEF-BFDB-834C782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19C3-5F77-446B-964C-2F4C5EF816C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2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554-9E9B-47D7-8386-58F193A1759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7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93F-5FAA-4166-8562-2B534563B64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2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4CF0-DC32-4A4B-84B2-432CEEDE48D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373E-B8CF-43DE-958B-A2BF2704E7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0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9033-A64C-46EC-ACC8-D0CA26840F3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4F6-3BB4-408F-B7CB-46573EC9733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9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FEA-E887-46A1-A5B0-4DC37738673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E3B6-27C4-4905-8141-E38D072DA45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4ACA-D379-4CC9-A182-05F8060E9F5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ECC-219C-4BFD-94E2-4E00F0E5FB4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DA3F-1626-4696-9CF1-1367B7E048F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EB5A-A0E3-4675-BC3B-FA1B43261D8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E1B8-33D9-4FFC-825A-E32CCAA9C12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8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41D4-5161-4826-BEB4-D267F86D918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8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1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4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85D-DC7A-4EBB-BF57-2E793FF4D4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7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603-4CB4-4DC3-BCC1-A6915B85FB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7 – 2008   Kalamity bank (tell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5 – 2007   Vodárna Troubky (accounta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2005   Mrazírny Eskimo, Orlová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personal assistan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gu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 (advanc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rman (upper intermedi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panese  (beginn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: English (actively), Hungarian (passive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kil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uter skills: MS Windows, MS Office, HTML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iving licence – group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writing, PC writing, shortwriting,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bies: sport, dancing, knitting, embroid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s: languages, econo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commendation: atta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VERING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y are you writ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did you see the adver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position would you like to apply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ing a personal me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os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ttachements (enclosu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složení profesního životopisu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, osobní informace, profesní informace, průvodní d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4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CURRICULUM VITA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and sur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and e-mail co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 and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rtificates and ex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ame and surnam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ny Wal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ate of birth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bruary 30, 19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dres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 lesa 123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IP cod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33 0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wn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rviná – Dolyw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ountry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ital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alth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ry g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lephone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+420 732 733 7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-mail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zonywolkr@email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ucation and cour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1999  Univerzita of Franta Vopička, Postoloprty, Economical faculty, branch Marketing and rac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9 – 1994  Obchodní akademie Karviná, branch Business academ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4 – 1982  Basic school ABC, Karvin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rtificates and exa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type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short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certifica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4:44Z</dcterms:created>
  <dc:creator>Ing. David Holzbauer</dc:creator>
  <dc:description/>
  <dc:language>en-US</dc:language>
  <cp:lastModifiedBy>Igor</cp:lastModifiedBy>
  <dcterms:modified xsi:type="dcterms:W3CDTF">2014-09-13T14:10:12Z</dcterms:modified>
  <cp:revision>10</cp:revision>
  <dc:subject/>
  <dc:title>CURRICULUM VITAE</dc:title>
</cp:coreProperties>
</file>