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9DC8-D6BB-43A8-8D80-9E685C2161E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83A8-7D70-4CD2-B4FA-E012DAA30BC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8762-D706-4FBB-8FC9-7AC34451E9F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F4B-7CC0-47F8-9C4F-3E0A0F779EC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A5B2-F082-42FA-A5E2-7391D2F8BE1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070D-6096-46BA-B288-2962F254845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503E-3067-453F-9E86-7070C46D792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A1DB-86B6-4BD3-9C4B-F1227705F2F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0DA-C511-4406-86FB-E08EBA94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CC7F-5899-41AA-ABF0-D6DAED11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733-2798-4BF6-9B41-DA7BCD09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11E-418A-4DA2-A394-A1D25615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C0C1-82C6-480F-86A2-955CACB5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4643-D1A7-477C-8233-E88118C7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E1FE-42CE-42CB-99CC-E5DE1041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D8F5-3939-4777-902D-171AF16E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999D-C5F3-453B-8B9F-1566EA6B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830E-7AB8-4614-A950-9730C33A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28CB-8015-4DC8-A848-5D96513B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BEE-0B44-420D-A4B6-F7962497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14B3-7176-4528-A65E-B29D1520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3FC9-60E2-4881-8A9C-FA2F9DB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62AE-7A6D-45E8-AF62-C01214C6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12C0-0E2D-4CDC-8711-01700D40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CF70-C30E-43E5-A7C7-6183FF48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4EF6-DDB5-4348-BF7C-D4FD71B7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B96E-B020-413A-896B-67CAAA3D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AD32F-8EB3-4C5D-8BF5-89B041DA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905B-BDFE-4509-A4E6-B9DBBF46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B017A-154B-4D81-9433-0670A061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583-D58B-4D7A-A828-4A0B0EAF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293E7-F1E6-42C8-AA63-3E1CE531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275E7-EDFA-46FE-86F5-8FB2A728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BA58-391F-4040-B96D-36104449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F8293-EBAC-4C0C-9882-44701782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E6B2-A4A0-4E2F-AE07-77396FE5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9D09-EAC9-45CE-9AA0-821DC332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F6DE-9212-42CF-A0F1-C680DEF6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3E3E-3770-4650-9783-808E78B0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FA2F0-0437-4BA2-8E05-A7B514C7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4E525-61D5-4E0A-882A-E3FB4552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E2D-B43C-42F3-9F8E-EDD45ADF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BD1DE-4AD1-4F86-9C73-4807E4CB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8771-8C25-4E16-A10B-9A2F3C22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8B4F-7917-4836-9DFB-56799F1D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19198-1EA9-4CD1-9293-0BEEF483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791F6-EE65-4B7E-AD80-14C4738E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7420F-09C6-4EC9-854B-6509CD92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5F046-36B6-449C-BF28-C2E121CA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60C26-4028-4100-AAAF-AFA25D8F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87CA-1653-405D-97D1-62C1A3B2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38E-731F-4144-9B39-5986E471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8A9-1189-454F-B1D2-B3F148ED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373-ADEE-44BA-A719-892E9DFD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2C7-37C2-4FFC-B5E7-5A15993A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7BE-2113-4E8B-96FE-5C170EBA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C378-93A5-432A-9875-AB35EB63C20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E0ED-B771-45AD-BCF6-B90C96E6DF9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CA74-5CF9-4B03-BEA9-F31E86850FB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CD68-EDA3-41AC-9854-2E78DE56BC1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26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OSTON TEA PAR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7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Americans dressed as Indians emptied chests of British tea to the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test against big taxes on t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England George I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3" descr=""/>
          <p:cNvPicPr/>
          <p:nvPr/>
        </p:nvPicPr>
        <p:blipFill>
          <a:blip r:embed="rId1"/>
          <a:stretch/>
        </p:blipFill>
        <p:spPr>
          <a:xfrm>
            <a:off x="5268960" y="3395520"/>
            <a:ext cx="3046320" cy="1833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R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75 - 178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war of independence on Engl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775 – The battle of Lexington, Conco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une 1775 – the battle of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unker H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5011560" y="3141720"/>
            <a:ext cx="32594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CLARATION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uly 4th, 1776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the Declaration of Indepen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hiladelph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ablishing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5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770280" cy="251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CLARATION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5" name="Zástupný symbol pro obsah 5" descr=""/>
          <p:cNvPicPr/>
          <p:nvPr/>
        </p:nvPicPr>
        <p:blipFill>
          <a:blip r:embed="rId1"/>
          <a:stretch/>
        </p:blipFill>
        <p:spPr>
          <a:xfrm>
            <a:off x="1890720" y="2362320"/>
            <a:ext cx="5587920" cy="37242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ND OF THE WAR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8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Paris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A recognised as a free and independ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nglish King and his heirs gave up any dem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Zástupný symbol pro obsah 2" descr=""/>
          <p:cNvPicPr/>
          <p:nvPr/>
        </p:nvPicPr>
        <p:blipFill>
          <a:blip r:embed="rId1"/>
          <a:stretch/>
        </p:blipFill>
        <p:spPr>
          <a:xfrm>
            <a:off x="5018040" y="3141720"/>
            <a:ext cx="3462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EORGE WASHING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89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George Washington elected the 1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9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re-elected a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esident until 1797, then returned to Virginia. Died in 17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5464080" y="2781360"/>
            <a:ext cx="2421000" cy="2955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 IMPORTANT LEAD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Adams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2nd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homas Jefferson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3rd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enjamin Frankl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Zástupný symbol pro obsah 2" descr=""/>
          <p:cNvPicPr/>
          <p:nvPr/>
        </p:nvPicPr>
        <p:blipFill>
          <a:blip r:embed="rId1"/>
          <a:stretch/>
        </p:blipFill>
        <p:spPr>
          <a:xfrm>
            <a:off x="5052960" y="3141720"/>
            <a:ext cx="3282840" cy="2232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UISIANA PURCH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03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USA bought from France the territory of 2,140,000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for 15 million doll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ousiana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cluded 15 today´s US and 2 Canadian sta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Zástupný symbol pro obsah 3" descr=""/>
          <p:cNvPicPr/>
          <p:nvPr/>
        </p:nvPicPr>
        <p:blipFill>
          <a:blip r:embed="rId1"/>
          <a:stretch/>
        </p:blipFill>
        <p:spPr>
          <a:xfrm>
            <a:off x="4879800" y="3141720"/>
            <a:ext cx="37576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1 - 1865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Civil War between North and South (Union x Confeder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lavery in the S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ustry in the N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Zástupný symbol pro obsah 2" descr=""/>
          <p:cNvPicPr/>
          <p:nvPr/>
        </p:nvPicPr>
        <p:blipFill>
          <a:blip r:embed="rId1"/>
          <a:stretch/>
        </p:blipFill>
        <p:spPr>
          <a:xfrm>
            <a:off x="5114880" y="3284640"/>
            <a:ext cx="29862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59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John Brown´s upri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0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Abraham Lincoln elected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0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South Carolina left U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3" name="Zástupný symbol pro obsah 3" descr=""/>
          <p:cNvPicPr/>
          <p:nvPr/>
        </p:nvPicPr>
        <p:blipFill>
          <a:blip r:embed="rId1"/>
          <a:stretch/>
        </p:blipFill>
        <p:spPr>
          <a:xfrm>
            <a:off x="5086440" y="3213000"/>
            <a:ext cx="3219480" cy="2087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merican histo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data z historie Spojených států až do 20.století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SA, history, battle, presid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onfederation establish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President Jefferson Dav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capital Montgomery, then Richmo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Zástupný symbol pro obsah 2" descr=""/>
          <p:cNvPicPr/>
          <p:nvPr/>
        </p:nvPicPr>
        <p:blipFill>
          <a:blip r:embed="rId1"/>
          <a:stretch/>
        </p:blipFill>
        <p:spPr>
          <a:xfrm>
            <a:off x="5297400" y="3376440"/>
            <a:ext cx="2695680" cy="1695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1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Confederation troops attacked Fort Sum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3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the Battle of Gettysbur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5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end of the war, the North w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9" name="Zástupný symbol pro obsah 3" descr=""/>
          <p:cNvPicPr/>
          <p:nvPr/>
        </p:nvPicPr>
        <p:blipFill>
          <a:blip r:embed="rId1"/>
          <a:stretch/>
        </p:blipFill>
        <p:spPr>
          <a:xfrm>
            <a:off x="5086440" y="3213000"/>
            <a:ext cx="321948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BRAHAM LINCOL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6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President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Leader of the N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bolished slav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ssasinated in 1865 in the Ford thea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2" name="Zástupný symbol pro obsah 3" descr=""/>
          <p:cNvPicPr/>
          <p:nvPr/>
        </p:nvPicPr>
        <p:blipFill>
          <a:blip r:embed="rId1"/>
          <a:stretch/>
        </p:blipFill>
        <p:spPr>
          <a:xfrm>
            <a:off x="5508720" y="2820960"/>
            <a:ext cx="2361960" cy="2911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Nevis A., Steele Commaner H. 1994. Dějiny Spojených Států. AMLYN Klatov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Tindall G.B., Shi D.E., 2008. Dějiny Spojených Států Amerických, Nakladatelství Lidové Novi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ějiny_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AMERICAN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MPORTANT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EUROP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Europeans came to North America from Green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ric the Red Head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a settlement in 98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001 his son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ei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5435640" y="2514600"/>
            <a:ext cx="2305080" cy="3255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EUROP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92 –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ristopher Columb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ilor from Ven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 thought he had landed in India and called native people the Indi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5464080" y="2708280"/>
            <a:ext cx="2276640" cy="2919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EUROP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Cabot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Giovanni Cabot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497 he landed in today´s Newfound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 spent a few weeks sailing along the coa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2" descr=""/>
          <p:cNvPicPr/>
          <p:nvPr/>
        </p:nvPicPr>
        <p:blipFill>
          <a:blip r:embed="rId1"/>
          <a:stretch/>
        </p:blipFill>
        <p:spPr>
          <a:xfrm>
            <a:off x="5510160" y="2781360"/>
            <a:ext cx="2301840" cy="2925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COLON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238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amestown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the first English colony (in Virginia) - 16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ptain John Smi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hn Rolfe - tobac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cahontas, Powhat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3" descr=""/>
          <p:cNvPicPr/>
          <p:nvPr/>
        </p:nvPicPr>
        <p:blipFill>
          <a:blip r:embed="rId1"/>
          <a:stretch/>
        </p:blipFill>
        <p:spPr>
          <a:xfrm>
            <a:off x="5295960" y="3213000"/>
            <a:ext cx="3076560" cy="2303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ILGRIM FATH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620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a group of 102 people landed in Plym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yfl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ly half of them survived (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Thanksgiving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4" descr=""/>
          <p:cNvPicPr/>
          <p:nvPr/>
        </p:nvPicPr>
        <p:blipFill>
          <a:blip r:embed="rId1"/>
          <a:stretch/>
        </p:blipFill>
        <p:spPr>
          <a:xfrm>
            <a:off x="5246640" y="3068640"/>
            <a:ext cx="2878200" cy="2376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3 coloni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long the Atlantic coast under the British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ench territories to the w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-north from Louisiana to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5378400" y="3324240"/>
            <a:ext cx="2884680" cy="2049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8:17Z</dcterms:modified>
  <cp:revision>58</cp:revision>
  <dc:subject/>
  <dc:title>EUROPEAN UNION</dc:title>
</cp:coreProperties>
</file>