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8902-A178-4DDA-BB75-10181FCEE9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48B1-D81F-4AE7-9F9D-182DFA2BA31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11E1-433F-477F-BCAD-3687F033D01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ABEB-78DE-4070-8311-7413F701FA8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83C8-B01D-4F70-AC77-4BB7F44FE52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41FB-9949-48E3-B681-820B66E0C69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21D4-BB5B-4D90-BBC8-91179C8DAD1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1DD4-9F07-4151-85C1-A4197794D65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0C6-10A2-4E83-96FF-6FCC3B9A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A55-C9CA-42A8-B5D9-455D9C1A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264-03C6-48E6-A2FA-3D4E7906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511-A387-4C2B-859C-05CA099E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4AF6-E32F-497B-AFDA-4B95D54E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155D-2FFB-42BD-8359-D366D8A2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2D45-2D6B-41C3-B95F-520AAC78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1EA5-2E30-4752-B20B-09226E64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FBAA-4995-4ABB-84DD-0F505AEA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3253-E5A5-4D1F-A1AE-1E145090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D398-059A-4CF7-8120-36E7C3D7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98C-FAB6-49E4-9BAF-6817B0E0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B433-64B9-45CF-858D-73BB01F2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A79E-0439-4540-BFA6-63A446B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65D2-18AF-40E2-A7D6-C1109A2B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8D4D-69F1-4D74-B6EA-38864E5E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5E08-7B3F-4586-A4C1-857DE752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094B-8185-47BE-AFFE-8C49DDB7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FCFF2-338F-46EC-BDD9-9FB78BB7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A1E59-2DCA-426A-8AE8-AF0F0D1D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3810-B279-4443-A266-4E0E38F9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3B14-ECDA-47F8-8DD0-68D32C50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DD2-C9A7-4816-9267-32E428D0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D8531-56F4-444F-ABEE-28750047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B515E-8679-41B7-9ED3-AEA8795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947EF-D949-490C-8763-1F91C4DB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C635-251C-46E6-8412-389DF171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E306C-2B6C-42F5-8073-680EDD6B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2C88-CD66-4EDA-BA95-759E99E3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24F91-BAA6-472F-B07C-6374B769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E6FC7-ED44-456C-AB00-C9E090E2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112D1-D7EB-4D25-BAF7-68882014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2BA1D-12A7-4652-A7CE-1413EFC7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041-D40D-48C5-BC34-76FFBFC5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6FBA6-E887-4CDB-A248-91FF5E69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90BA0-21B9-43F7-A4DD-6F1B5794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0B43-1976-45AB-A6A5-06DA58AC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03298-CC33-4AD4-9435-4449E28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A779C-2172-4150-B44E-1BD714FE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2A09-0641-43F1-8292-86AD1C0A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E90AE-9E0B-434A-8DA8-5914C60F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58EEC-B187-4EC9-9AD0-BD1C56E9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CEC5-65E8-46B6-81FD-CA69638C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FDA-F025-49C1-B773-CC2B3977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D40-6FC0-4A2C-B093-9A8247B9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C14-FF7B-4DC8-BE52-DC3B50E3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634-DB38-40FF-8743-72BDC40F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E66-E5A1-4067-8BCF-503B7F66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833D-1A63-4C81-90D0-8C2756B318B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137A-4874-4837-89CB-351352947C7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67DB-D66C-473A-9804-3CB1DF8FB3E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62DA-3C44-4256-9559-FB6AFFB8DEE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9080" y="61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ORO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in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banks of Ontario L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N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Zástupný symbol pro obsah 2" descr=""/>
          <p:cNvPicPr/>
          <p:nvPr/>
        </p:nvPicPr>
        <p:blipFill>
          <a:blip r:embed="rId1"/>
          <a:stretch/>
        </p:blipFill>
        <p:spPr>
          <a:xfrm>
            <a:off x="4692600" y="2924280"/>
            <a:ext cx="3787920" cy="2520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NTRE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of the province of Que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 millio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PO 196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Zástupný symbol pro obsah 2" descr=""/>
          <p:cNvPicPr/>
          <p:nvPr/>
        </p:nvPicPr>
        <p:blipFill>
          <a:blip r:embed="rId1"/>
          <a:stretch/>
        </p:blipFill>
        <p:spPr>
          <a:xfrm>
            <a:off x="4802040" y="2997360"/>
            <a:ext cx="346248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QUEBE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province of Que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ce 1985 on the UNESCO 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0,5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Zástupný symbol pro obsah 2" descr=""/>
          <p:cNvPicPr/>
          <p:nvPr/>
        </p:nvPicPr>
        <p:blipFill>
          <a:blip r:embed="rId1"/>
          <a:stretch/>
        </p:blipFill>
        <p:spPr>
          <a:xfrm>
            <a:off x="4716360" y="2940120"/>
            <a:ext cx="3764160" cy="25048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VANCOU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British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00,000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Fraser R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acific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Zástupný symbol pro obsah 4" descr=""/>
          <p:cNvPicPr/>
          <p:nvPr/>
        </p:nvPicPr>
        <p:blipFill>
          <a:blip r:embed="rId1"/>
          <a:stretch/>
        </p:blipFill>
        <p:spPr>
          <a:xfrm>
            <a:off x="5006880" y="2997360"/>
            <a:ext cx="3365640" cy="251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ALG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in the province of Alber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la-ghearraidh (the town on a meado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,2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Zástupný symbol pro obsah 3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365280" cy="2521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DMON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province of Alber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il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2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2684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VICTOR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capital of British Columb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tuated on the Vancouver Isl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town of garde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3384720" cy="228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NNIPE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Manit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fortress in 1738 by the Fren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Forks (the Red and Assiniboine riv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Zástupný symbol pro obsah 3" descr=""/>
          <p:cNvPicPr/>
          <p:nvPr/>
        </p:nvPicPr>
        <p:blipFill>
          <a:blip r:embed="rId1"/>
          <a:stretch/>
        </p:blipFill>
        <p:spPr>
          <a:xfrm>
            <a:off x="4788000" y="2987640"/>
            <a:ext cx="3584520" cy="2386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OCKY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Zástupný symbol pro obsah 2" descr=""/>
          <p:cNvPicPr/>
          <p:nvPr/>
        </p:nvPicPr>
        <p:blipFill>
          <a:blip r:embed="rId1"/>
          <a:stretch/>
        </p:blipFill>
        <p:spPr>
          <a:xfrm>
            <a:off x="2557440" y="2637000"/>
            <a:ext cx="4462560" cy="3330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JASPER NATIONAL PA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Zástupný symbol pro obsah 2" descr=""/>
          <p:cNvPicPr/>
          <p:nvPr/>
        </p:nvPicPr>
        <p:blipFill>
          <a:blip r:embed="rId1"/>
          <a:stretch/>
        </p:blipFill>
        <p:spPr>
          <a:xfrm>
            <a:off x="2411280" y="2698920"/>
            <a:ext cx="5043600" cy="33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Kanadě, nejzajímavější místa a města země. Prezentace slouží jako podpůrný materiál při výkladu učiva o reáliích anglicky mluvících zemí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nada, geography, population, citi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EAT BEAR LAK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Zástupný symbol pro obsah 2" descr=""/>
          <p:cNvPicPr/>
          <p:nvPr/>
        </p:nvPicPr>
        <p:blipFill>
          <a:blip r:embed="rId1"/>
          <a:stretch/>
        </p:blipFill>
        <p:spPr>
          <a:xfrm>
            <a:off x="2195640" y="2568600"/>
            <a:ext cx="5297400" cy="35244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UKON TERRI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Zástupný symbol pro obsah 2" descr=""/>
          <p:cNvPicPr/>
          <p:nvPr/>
        </p:nvPicPr>
        <p:blipFill>
          <a:blip r:embed="rId1"/>
          <a:stretch/>
        </p:blipFill>
        <p:spPr>
          <a:xfrm>
            <a:off x="2298600" y="2637000"/>
            <a:ext cx="5226120" cy="34765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ANADIAN ANIMALS - GRIZZ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7" name="Zástupný symbol pro obsah 2" descr=""/>
          <p:cNvPicPr/>
          <p:nvPr/>
        </p:nvPicPr>
        <p:blipFill>
          <a:blip r:embed="rId1"/>
          <a:stretch/>
        </p:blipFill>
        <p:spPr>
          <a:xfrm>
            <a:off x="2411280" y="2736720"/>
            <a:ext cx="5018400" cy="3284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258920" y="1557360"/>
            <a:ext cx="77007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Kana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Ottaw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Toro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Montr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Quebe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Vancouv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Calg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Edmon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Victoria_(Britská_Kolumb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innipe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CAN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9 984 670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3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TTA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2755800" cy="1377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VINCES AND TERRI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NT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QUE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RITISH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LBER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NIT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179440" cy="1089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VINCES AND TERRI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ASKATCHEW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SCOT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BRUNSW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FOUNDLAND AND LABRA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RINCE EDWARD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179440" cy="1089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VINCES AND TERRI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RTHWEST TERRI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YUK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UNAV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3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179440" cy="1089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CAN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0" name="Zástupný symbol pro obsah 2" descr=""/>
          <p:cNvPicPr/>
          <p:nvPr/>
        </p:nvPicPr>
        <p:blipFill>
          <a:blip r:embed="rId1"/>
          <a:stretch/>
        </p:blipFill>
        <p:spPr>
          <a:xfrm>
            <a:off x="2878200" y="2550960"/>
            <a:ext cx="3638520" cy="3181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TA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4th biggest town in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in Ont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Zástupný symbol pro obsah 3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286080" cy="2460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19Z</dcterms:modified>
  <cp:revision>31</cp:revision>
  <dc:subject/>
  <dc:title>EUROPEAN UNION</dc:title>
</cp:coreProperties>
</file>