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0871-7B21-4642-8CA0-AFA836F4630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E4A1-46EE-47CA-B1A2-B3463765506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A7B3-0606-4DAE-ADDB-E578E70902C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9693-DABA-4E5C-A122-F2359F14F96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5BB7-896D-4A64-85A3-EDCF80EF243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77F2-C5AA-4B9A-9E34-6FDABA6EB20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8E62-9682-44FD-917C-71E82312CE7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1F70-C0DE-47EA-8E11-5E9D821BE9F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B5F-33FF-4D80-AB32-054F2E6C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C3A-AB2A-4CA8-B334-209E8D43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8D0-D4FC-42FC-9775-D347F038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527-4769-4CA0-9C53-64DBBEE8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1B24-0FCC-4335-A502-D6B45A0B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7CD1-66C6-4FD6-BC54-E2C1211D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C4C3-701C-4AE7-8AD4-E713FC5B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5844-F438-47A9-856F-6543C464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5DE7-C7BA-4E93-ADFB-EB4887B7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8922-50E4-4684-B66F-9FAE81B8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FB50-8401-4EB0-B41E-634553C8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F35-4CD6-4E6B-8ADE-A1E756FB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0981-8DAE-47C9-AF78-0E36F801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F6B9-570A-4A3E-ADF4-37FAF850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EC91-A507-45FC-9DAA-4E6A29EC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47FA-F18E-4C4C-89A5-6DCC8EEA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523E-42D9-42EA-B0F7-CE50B7B6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0986-7605-4E67-8E02-8691969C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8900-B6DA-4903-BAE3-91C18934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056B-51B1-4F1E-B498-535AE9B8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71FF-96A5-4CF1-A2BB-2CE4EF1C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67C6-869A-4E32-826A-98B3B086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412-6299-4783-B1A1-EFCF2E32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28FF3-BE0C-43A4-A742-5798A7B1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E716-312D-43F3-B696-104695B3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1323-D015-4170-8DDA-094461E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C233-A15D-4B25-9559-093E3C5D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3520-22AD-474F-AF76-E4CBD660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4C98-DF5D-4A60-ABC3-89063039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5425-5DBB-4197-A6C6-E81C3D43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F6EB8-64B9-4647-9000-F839461C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5CA8-7911-4095-9E43-C4336F23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4ED89-9EFB-4F66-B177-934E0670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F10-2090-4C44-BF3C-A3C31516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67415-044A-4D21-A111-9F26A3DA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E4063-A63A-4FF1-B2FB-FFBDAD76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48D0-295B-4FB3-820D-29F9D15F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35A5-6C5D-4893-9FFF-8F9D520B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1A6B-E706-42AB-B850-799C6CD7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9F5A0-21E1-4A72-ADCF-D05D1023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27164-9AC4-4FE6-A5F4-D8EF70EF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523B-AB67-4072-90B9-C7288CA8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33921-563E-410C-BBBC-B3B8542F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C06-B6D4-4B17-8B7F-52C58055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B4F-933A-41F9-9D13-7610F162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E0C-869C-41FB-B026-1930BCF1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D43-EB84-4253-880A-B3A46956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D3D-01EA-4166-BC99-160C19DB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5D08-68AC-4FA5-9892-C413EE97775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D939-4835-4584-A99C-41198B356E5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D8E2-CB84-4E42-AECC-E33E0309566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76C4-B974-40E9-85D3-7AF51D7D382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T.PATRICK´S CATHED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3" name="Zástupný symbol pro obsah 2" descr=""/>
          <p:cNvPicPr/>
          <p:nvPr/>
        </p:nvPicPr>
        <p:blipFill>
          <a:blip r:embed="rId1"/>
          <a:stretch/>
        </p:blipFill>
        <p:spPr>
          <a:xfrm>
            <a:off x="2408400" y="2708280"/>
            <a:ext cx="4760640" cy="3168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RISTCHURCH CATHED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5" name="Zástupný symbol pro obsah 2" descr=""/>
          <p:cNvPicPr/>
          <p:nvPr/>
        </p:nvPicPr>
        <p:blipFill>
          <a:blip r:embed="rId1"/>
          <a:stretch/>
        </p:blipFill>
        <p:spPr>
          <a:xfrm>
            <a:off x="2411280" y="2698920"/>
            <a:ext cx="4681800" cy="314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INITY COLLE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7" name="Zástupný symbol pro obsah 2" descr=""/>
          <p:cNvPicPr/>
          <p:nvPr/>
        </p:nvPicPr>
        <p:blipFill>
          <a:blip r:embed="rId1"/>
          <a:stretch/>
        </p:blipFill>
        <p:spPr>
          <a:xfrm>
            <a:off x="2298600" y="2637000"/>
            <a:ext cx="4762440" cy="3168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TATUE OF MOLLY MAL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9" name="Zástupný symbol pro obsah 2" descr=""/>
          <p:cNvPicPr/>
          <p:nvPr/>
        </p:nvPicPr>
        <p:blipFill>
          <a:blip r:embed="rId1"/>
          <a:stretch/>
        </p:blipFill>
        <p:spPr>
          <a:xfrm>
            <a:off x="2843280" y="2517840"/>
            <a:ext cx="3701880" cy="34322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UI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Zástupný symbol pro obsah 2" descr=""/>
          <p:cNvPicPr/>
          <p:nvPr/>
        </p:nvPicPr>
        <p:blipFill>
          <a:blip r:embed="rId1"/>
          <a:stretch/>
        </p:blipFill>
        <p:spPr>
          <a:xfrm>
            <a:off x="1403280" y="2495520"/>
            <a:ext cx="3998880" cy="29955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32" name="Obrázek 3" descr=""/>
          <p:cNvPicPr/>
          <p:nvPr/>
        </p:nvPicPr>
        <p:blipFill>
          <a:blip r:embed="rId2"/>
          <a:stretch/>
        </p:blipFill>
        <p:spPr>
          <a:xfrm>
            <a:off x="5772240" y="2924280"/>
            <a:ext cx="2851200" cy="2136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MPLE B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4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2576520"/>
            <a:ext cx="4608720" cy="345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TOW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ALW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TERF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MER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Zástupný symbol pro obsah 3" descr=""/>
          <p:cNvPicPr/>
          <p:nvPr/>
        </p:nvPicPr>
        <p:blipFill>
          <a:blip r:embed="rId1"/>
          <a:stretch/>
        </p:blipFill>
        <p:spPr>
          <a:xfrm>
            <a:off x="6269040" y="3429000"/>
            <a:ext cx="1947960" cy="98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9" name="Zástupný symbol pro obsah 2" descr=""/>
          <p:cNvPicPr/>
          <p:nvPr/>
        </p:nvPicPr>
        <p:blipFill>
          <a:blip r:embed="rId1"/>
          <a:stretch/>
        </p:blipFill>
        <p:spPr>
          <a:xfrm>
            <a:off x="2732040" y="2781360"/>
            <a:ext cx="3895920" cy="2879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ALWA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2565360" y="2637000"/>
            <a:ext cx="4326120" cy="3240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TERFO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3" name="Zástupný symbol pro obsah 2" descr=""/>
          <p:cNvPicPr/>
          <p:nvPr/>
        </p:nvPicPr>
        <p:blipFill>
          <a:blip r:embed="rId1"/>
          <a:stretch/>
        </p:blipFill>
        <p:spPr>
          <a:xfrm>
            <a:off x="1603440" y="2852640"/>
            <a:ext cx="5921280" cy="26352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re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Irsku, nejzajímavější místa a města země. Prezentace slouží jako podpůrný materiál při výkladu učiva o reáliích anglicky mluvících zemí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reland, geography, population, cities, cultu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MERI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5" name="Zástupný symbol pro obsah 3" descr=""/>
          <p:cNvPicPr/>
          <p:nvPr/>
        </p:nvPicPr>
        <p:blipFill>
          <a:blip r:embed="rId1"/>
          <a:stretch/>
        </p:blipFill>
        <p:spPr>
          <a:xfrm>
            <a:off x="2487600" y="2781360"/>
            <a:ext cx="438480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CKLOW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Zástupný symbol pro obsah 2" descr=""/>
          <p:cNvPicPr/>
          <p:nvPr/>
        </p:nvPicPr>
        <p:blipFill>
          <a:blip r:embed="rId1"/>
          <a:stretch/>
        </p:blipFill>
        <p:spPr>
          <a:xfrm>
            <a:off x="2662200" y="2708280"/>
            <a:ext cx="4213440" cy="31575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CKLOW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Zástupný symbol pro obsah 3" descr=""/>
          <p:cNvPicPr/>
          <p:nvPr/>
        </p:nvPicPr>
        <p:blipFill>
          <a:blip r:embed="rId1"/>
          <a:stretch/>
        </p:blipFill>
        <p:spPr>
          <a:xfrm>
            <a:off x="1978200" y="2708280"/>
            <a:ext cx="5473440" cy="30654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LENDALOU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Zástupný symbol pro obsah 2" descr=""/>
          <p:cNvPicPr/>
          <p:nvPr/>
        </p:nvPicPr>
        <p:blipFill>
          <a:blip r:embed="rId1"/>
          <a:stretch/>
        </p:blipFill>
        <p:spPr>
          <a:xfrm>
            <a:off x="2565360" y="2637000"/>
            <a:ext cx="4238640" cy="3174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NEMA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Zástupný symbol pro obsah 2" descr=""/>
          <p:cNvPicPr/>
          <p:nvPr/>
        </p:nvPicPr>
        <p:blipFill>
          <a:blip r:embed="rId1"/>
          <a:stretch/>
        </p:blipFill>
        <p:spPr>
          <a:xfrm>
            <a:off x="2627280" y="2682720"/>
            <a:ext cx="4264200" cy="3194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NEMA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Zástupný symbol pro obsah 3" descr=""/>
          <p:cNvPicPr/>
          <p:nvPr/>
        </p:nvPicPr>
        <p:blipFill>
          <a:blip r:embed="rId1"/>
          <a:stretch/>
        </p:blipFill>
        <p:spPr>
          <a:xfrm>
            <a:off x="2662200" y="2708280"/>
            <a:ext cx="4229280" cy="3168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HER CLIFF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7" name="Zástupný symbol pro obsah 2" descr=""/>
          <p:cNvPicPr/>
          <p:nvPr/>
        </p:nvPicPr>
        <p:blipFill>
          <a:blip r:embed="rId1"/>
          <a:stretch/>
        </p:blipFill>
        <p:spPr>
          <a:xfrm>
            <a:off x="2662200" y="2708280"/>
            <a:ext cx="4037040" cy="3024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RAN ISLA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9" name="Zástupný symbol pro obsah 3" descr=""/>
          <p:cNvPicPr/>
          <p:nvPr/>
        </p:nvPicPr>
        <p:blipFill>
          <a:blip r:embed="rId1"/>
          <a:stretch/>
        </p:blipFill>
        <p:spPr>
          <a:xfrm>
            <a:off x="2556000" y="2629080"/>
            <a:ext cx="4143240" cy="3105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b050"/>
                </a:solidFill>
                <a:latin typeface="Arial"/>
              </a:rPr>
              <a:t>IRISH SYMBOLS</a:t>
            </a: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HAMROCK - LEPRECHAU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1" name="Zástupný symbol pro obsah 4" descr=""/>
          <p:cNvPicPr/>
          <p:nvPr/>
        </p:nvPicPr>
        <p:blipFill>
          <a:blip r:embed="rId1"/>
          <a:stretch/>
        </p:blipFill>
        <p:spPr>
          <a:xfrm>
            <a:off x="1690560" y="3119400"/>
            <a:ext cx="2067120" cy="2209680"/>
          </a:xfrm>
          <a:prstGeom prst="rect">
            <a:avLst/>
          </a:prstGeom>
          <a:ln w="0">
            <a:noFill/>
          </a:ln>
        </p:spPr>
      </p:pic>
      <p:pic>
        <p:nvPicPr>
          <p:cNvPr id="262" name="Zástupný symbol pro obsah 5" descr=""/>
          <p:cNvPicPr/>
          <p:nvPr/>
        </p:nvPicPr>
        <p:blipFill>
          <a:blip r:embed="rId2"/>
          <a:stretch/>
        </p:blipFill>
        <p:spPr>
          <a:xfrm>
            <a:off x="5722920" y="2990880"/>
            <a:ext cx="1847880" cy="2467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RISH SYMBOLS – CELTIC CRO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4" name="Zástupný symbol pro obsah 4" descr=""/>
          <p:cNvPicPr/>
          <p:nvPr/>
        </p:nvPicPr>
        <p:blipFill>
          <a:blip r:embed="rId1"/>
          <a:stretch/>
        </p:blipFill>
        <p:spPr>
          <a:xfrm>
            <a:off x="2556000" y="2629080"/>
            <a:ext cx="4248000" cy="31827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IRE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Irsk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ubl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RISH NAME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É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70,273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UBL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3" descr=""/>
          <p:cNvPicPr/>
          <p:nvPr/>
        </p:nvPicPr>
        <p:blipFill>
          <a:blip r:embed="rId1"/>
          <a:stretch/>
        </p:blipFill>
        <p:spPr>
          <a:xfrm>
            <a:off x="6269040" y="3429000"/>
            <a:ext cx="1947960" cy="98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hole Irish island is the 2nd biggest Britis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tlantic Ocean, Celtic Sea, Irish S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ickname: Emerald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6269040" y="3429000"/>
            <a:ext cx="1947960" cy="98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IRE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4" name="Zástupný symbol pro obsah 2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952720" cy="3753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UBL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New Ire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rish name: Báile Átha Cli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0,5 mil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Zástupný symbol pro obsah 3" descr=""/>
          <p:cNvPicPr/>
          <p:nvPr/>
        </p:nvPicPr>
        <p:blipFill>
          <a:blip r:embed="rId1"/>
          <a:stretch/>
        </p:blipFill>
        <p:spPr>
          <a:xfrm>
            <a:off x="5006880" y="2997360"/>
            <a:ext cx="3173400" cy="2376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AFTON STRE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9" name="Zástupný symbol pro obsah 2" descr=""/>
          <p:cNvPicPr/>
          <p:nvPr/>
        </p:nvPicPr>
        <p:blipFill>
          <a:blip r:embed="rId1"/>
          <a:stretch/>
        </p:blipFill>
        <p:spPr>
          <a:xfrm>
            <a:off x="2757600" y="2781360"/>
            <a:ext cx="4190760" cy="3138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UBLIN CAS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Zástupný symbol pro obsah 3" descr=""/>
          <p:cNvPicPr/>
          <p:nvPr/>
        </p:nvPicPr>
        <p:blipFill>
          <a:blip r:embed="rId1"/>
          <a:stretch/>
        </p:blipFill>
        <p:spPr>
          <a:xfrm>
            <a:off x="2757600" y="2781360"/>
            <a:ext cx="3975120" cy="2976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49Z</dcterms:modified>
  <cp:revision>39</cp:revision>
  <dc:subject/>
  <dc:title>EUROPEAN UNION</dc:title>
</cp:coreProperties>
</file>