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ED3-E127-449E-9A18-8F244F6E1D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4247-58DB-4766-9EA2-FF550A4D084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262-E72A-4F50-B607-7A4E327FDB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26A-4C4D-468D-9385-F95A7A27820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737-F3B5-4C13-9CA2-F2E5F36299C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4D9-740D-47B7-9F3C-CD4A2CC21CD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E10-4F39-4F21-A47A-AF7FB3503CE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7CCC-1EC0-478E-BB40-81A6BF6C771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2EC-5F17-4EA8-8E90-E9B3A11C340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BC5-F2C9-4170-A5A5-7A330310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9A7-4296-4DDB-B99B-7B9A2AE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F7A-1045-4678-A5AC-3EEAE951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C9F-83A4-4448-A720-1E57B420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EEB6-E164-49CC-9EED-91E7478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1DF-186B-4DA9-9ED9-D430E5D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024B-6924-4332-AF28-6944D1A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1205-AE58-4726-B2E5-52E86ADE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DA64-2171-4F3A-8B9B-975A36F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D51-857E-4372-9A88-3B03512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DEED-FF89-4D5A-93BB-0B9D595C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03C-4BAB-431B-B4CB-2E8A653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B645-4A2F-4649-8E5B-46F7A33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FCD2-B2DB-4551-9EF9-F83FB370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CAA2-EF84-43A9-8E4D-A4FE50E4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F1B-C1AF-47C8-850D-AFC1C0EC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575D-88C3-4733-98C3-B5F34C58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DD2D-4FFF-4156-9E55-8158C945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59A0-0B74-42B7-9C9E-7C3FDD3D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7531-140E-43DE-BC8A-79DEBAF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35A9-0433-445C-97E8-1B89D7D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0205-929B-4E9C-9973-E686ED7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E76-753B-47BC-B648-8C93BDE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51EC-F1D1-4693-B8DE-8F480C6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EC3E-3FB8-46A3-850A-25BCC5EF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0D28-DB32-4C62-AF43-30CC9B4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3EFE-03A6-4617-A54B-33434F6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7640-FCCA-4C63-B9E4-9D154ED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91C3-DDAA-4A61-95C3-143E10A3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07D6-6CE7-4896-88B8-6627881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0097-5E37-438A-B477-8DDE742E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C263-9942-440E-A465-FC30D67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C9C4-0AE1-4D39-81C2-01A0373A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CE1-D82B-44CD-931C-2C7CA17E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7B02-DFBB-4477-B0EC-38F51EA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C680-59FC-4227-94B5-2748EE9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1644-9B83-492B-9BD9-48A7C46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90EA-3C3C-463C-A01E-FEA3C11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C6E0-0D5E-4698-B9B3-D0A96B1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F574-4FEE-4BF2-8000-346B785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768A-2DF0-4CD5-98A0-3A45E65D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7EBB-1383-4861-A0ED-199410E6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119B-3E06-4056-A53F-F90462D9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B40-4274-4A70-A622-F62BD4E0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CBE-4D8A-4949-990A-0743AE5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AA8-EE0E-451F-87C1-3C740BEB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A15-EE66-42F4-A3EA-EAF7043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3A6-2B13-49BA-8130-C09AB5B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4EDF-89E2-4A3A-ABC9-6A89462CDA6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1BA-3D70-46D6-BA12-1E2F147158C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97F-13AC-4DC6-80B7-F6644AD0853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9BC-6A03-4784-A8CD-A50320A4658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shall respect fundamental rights, as guaranteed by the European Convention for the Protection of Human Rights and Fundamental Freedoms signed in Rome on 4 November 1950 and as they result from the constitutional traditions common to the Member States, as general principles of Community law…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Nice - 200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institutions of EU to be able to accept 10 new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ing the way of v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roducing the principle of double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force on February 1,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AK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ENI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7" descr="ceska_republika"/>
          <p:cNvPicPr/>
          <p:nvPr/>
        </p:nvPicPr>
        <p:blipFill>
          <a:blip r:embed="rId1"/>
          <a:stretch/>
        </p:blipFill>
        <p:spPr>
          <a:xfrm>
            <a:off x="550872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Picture 8" descr="polsko"/>
          <p:cNvPicPr/>
          <p:nvPr/>
        </p:nvPicPr>
        <p:blipFill>
          <a:blip r:embed="rId2"/>
          <a:stretch/>
        </p:blipFill>
        <p:spPr>
          <a:xfrm>
            <a:off x="5508720" y="3429000"/>
            <a:ext cx="57600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9" descr="slovensko"/>
          <p:cNvPicPr/>
          <p:nvPr/>
        </p:nvPicPr>
        <p:blipFill>
          <a:blip r:embed="rId3"/>
          <a:stretch/>
        </p:blipFill>
        <p:spPr>
          <a:xfrm>
            <a:off x="5508720" y="3933720"/>
            <a:ext cx="5713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10" descr="madarsko"/>
          <p:cNvPicPr/>
          <p:nvPr/>
        </p:nvPicPr>
        <p:blipFill>
          <a:blip r:embed="rId4"/>
          <a:stretch/>
        </p:blipFill>
        <p:spPr>
          <a:xfrm>
            <a:off x="5508720" y="443700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11" descr="slovinsko"/>
          <p:cNvPicPr/>
          <p:nvPr/>
        </p:nvPicPr>
        <p:blipFill>
          <a:blip r:embed="rId5"/>
          <a:stretch/>
        </p:blipFill>
        <p:spPr>
          <a:xfrm>
            <a:off x="5508720" y="494172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ONIA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THUAN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TV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YPRUS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estonsko"/>
          <p:cNvPicPr/>
          <p:nvPr/>
        </p:nvPicPr>
        <p:blipFill>
          <a:blip r:embed="rId1"/>
          <a:stretch/>
        </p:blipFill>
        <p:spPr>
          <a:xfrm>
            <a:off x="5580000" y="2924280"/>
            <a:ext cx="5907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8" descr="litva"/>
          <p:cNvPicPr/>
          <p:nvPr/>
        </p:nvPicPr>
        <p:blipFill>
          <a:blip r:embed="rId2"/>
          <a:stretch/>
        </p:blipFill>
        <p:spPr>
          <a:xfrm>
            <a:off x="5580000" y="3429000"/>
            <a:ext cx="5745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9" descr="lotyssko"/>
          <p:cNvPicPr/>
          <p:nvPr/>
        </p:nvPicPr>
        <p:blipFill>
          <a:blip r:embed="rId3"/>
          <a:stretch/>
        </p:blipFill>
        <p:spPr>
          <a:xfrm>
            <a:off x="5580000" y="393372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0" descr="kypr"/>
          <p:cNvPicPr/>
          <p:nvPr/>
        </p:nvPicPr>
        <p:blipFill>
          <a:blip r:embed="rId4"/>
          <a:stretch/>
        </p:blipFill>
        <p:spPr>
          <a:xfrm>
            <a:off x="5580000" y="443700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1" descr="malta"/>
          <p:cNvPicPr/>
          <p:nvPr/>
        </p:nvPicPr>
        <p:blipFill>
          <a:blip r:embed="rId5"/>
          <a:stretch/>
        </p:blipFill>
        <p:spPr>
          <a:xfrm>
            <a:off x="5580000" y="4941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Apri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democratic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ated a post of a European Foreign Min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7" descr="Single act"/>
          <p:cNvPicPr/>
          <p:nvPr/>
        </p:nvPicPr>
        <p:blipFill>
          <a:blip r:embed="rId1"/>
          <a:stretch/>
        </p:blipFill>
        <p:spPr>
          <a:xfrm>
            <a:off x="5867280" y="3141720"/>
            <a:ext cx="208764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and the Netherlands voted 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 leaders declared a period of ref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9" descr="book"/>
          <p:cNvPicPr/>
          <p:nvPr/>
        </p:nvPicPr>
        <p:blipFill>
          <a:blip r:embed="rId1"/>
          <a:stretch/>
        </p:blipFill>
        <p:spPr>
          <a:xfrm>
            <a:off x="5600880" y="3546360"/>
            <a:ext cx="2090520" cy="13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– 2007-2013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ANIA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OATIA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rumunsko"/>
          <p:cNvPicPr/>
          <p:nvPr/>
        </p:nvPicPr>
        <p:blipFill>
          <a:blip r:embed="rId1"/>
          <a:stretch/>
        </p:blipFill>
        <p:spPr>
          <a:xfrm>
            <a:off x="514836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5" descr="bulharsko"/>
          <p:cNvPicPr/>
          <p:nvPr/>
        </p:nvPicPr>
        <p:blipFill>
          <a:blip r:embed="rId2"/>
          <a:stretch/>
        </p:blipFill>
        <p:spPr>
          <a:xfrm>
            <a:off x="5148360" y="342900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Obrázek 1" descr=""/>
          <p:cNvPicPr/>
          <p:nvPr/>
        </p:nvPicPr>
        <p:blipFill>
          <a:blip r:embed="rId3"/>
          <a:stretch/>
        </p:blipFill>
        <p:spPr>
          <a:xfrm>
            <a:off x="5148360" y="3941640"/>
            <a:ext cx="573120" cy="3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sbon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previous treaties adopted so f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December 13, 2007 in Lisb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s recently come into for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ll 27 countries ratified the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voted „NO“ in the first referend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zech republic was the last to 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Historie Evropské Unie po roce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po roce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Euro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HISTORY OF EU AFTER MAASTRI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freedoms of „Single Market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 – important d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3 Maastricht Trea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5 Schengen agreement (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 countri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The treaty of Amsterd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Agenda 2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9 introdution of Euro for commercial and financial trans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 countries in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USTRIA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NLAND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WEDE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15" descr="rakousko"/>
          <p:cNvPicPr/>
          <p:nvPr/>
        </p:nvPicPr>
        <p:blipFill>
          <a:blip r:embed="rId1"/>
          <a:stretch/>
        </p:blipFill>
        <p:spPr>
          <a:xfrm>
            <a:off x="4716360" y="299736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16" descr="2"/>
          <p:cNvPicPr/>
          <p:nvPr/>
        </p:nvPicPr>
        <p:blipFill>
          <a:blip r:embed="rId2"/>
          <a:stretch/>
        </p:blipFill>
        <p:spPr>
          <a:xfrm>
            <a:off x="4716360" y="357336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17" descr="svedsko"/>
          <p:cNvPicPr/>
          <p:nvPr/>
        </p:nvPicPr>
        <p:blipFill>
          <a:blip r:embed="rId3"/>
          <a:stretch/>
        </p:blipFill>
        <p:spPr>
          <a:xfrm>
            <a:off x="4716360" y="4149720"/>
            <a:ext cx="60984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chengen agreement - 199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travel without having their passports check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study in other countries with EU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ok effect in 7 countries (GER, FRA, SPA, POR, BEL, LUX, N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Europe more pow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entrate more resources on employment and the rights of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is founded on the principles of liberty, democracy, respect for human rights and fundamental freedoms, and the rule of law, principles which are common to the member states“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45Z</dcterms:modified>
  <cp:revision>15</cp:revision>
  <dc:subject/>
  <dc:title>EUROPEAN UNION</dc:title>
</cp:coreProperties>
</file>