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8FB-07FA-4380-8AC1-4568C351C6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9B77-CEAD-4766-AE24-C8B43079F2D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4AEB-B944-4CC1-9F7C-1DD38DFA656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BB6-DE66-44D7-AEB4-DF4B7947F95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8927-7651-49C8-A7E0-61E81E7FD5D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5EF-CA94-40CB-B9DC-DF4ED232B57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8BC-E6C3-41E9-9654-555E4759669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9AE-3D23-4C1D-AA81-48701A0C91C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483-4ED8-4EE6-9541-022662BEF4B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D7E-6C0C-40E8-AD82-F63345D7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52-679B-4575-8640-860A218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1FC-108B-4397-8804-2F981793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026-D667-418C-85A7-3A6300E4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632-E1E7-423C-B6A0-41F1A399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9E4-21E1-4A04-8C2D-7DF4276A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5B2D-FF4A-478A-8E02-64A9B5E4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16B-6E72-4AA9-8093-FC9D745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DC0-5F03-4813-80D5-877055CE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BC6-4EE8-4121-ABD3-0926E63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295-A1F5-42C7-A4AE-8D9D1C2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735-E9EA-4311-8C06-A6F01CF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993-4738-47D6-A3B9-BC971098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53A-40C8-4C6C-9A29-6C7D2DB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D13E-1F0A-4EF3-8B0B-3B118089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A28-6F97-45F6-B9E9-13249669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4D2-3664-450B-975A-0857D48B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662A-1235-4F45-AD79-1F57B8D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FAEC-A878-4875-A099-F9BCDE6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2EB2-31AC-4E13-8C6F-211EE12E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F31B-ECB2-44D4-ABFF-AEB610B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4115-DA35-496B-82B8-9E6B26BF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3A6-C6B2-4F38-8943-907FF2CD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4495-C4C3-4ECE-9135-FED179F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4DB3-89EC-4365-9960-979C0F4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C73D-1861-47CF-B464-D449169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286C-3138-49A2-B9E0-B5BE4B8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88CA-09CB-4652-8A87-B5EE9AB7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72A1-2BF9-476D-9BF2-AC61E034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E68A-9E89-45BD-966F-26CCECB2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0C31-08B9-40E3-A82D-40A961C2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1084-CEA9-4AAF-AF3C-2502110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2BAB-FC6E-4E5D-9A3F-8DB0611F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839-76FB-46D2-8E20-19E0DE6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E446-D4EE-4CAB-B62A-725721D0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FD87-B7F9-4F5F-8863-E81820ED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1785-ECC1-4E3A-9588-B0BA39A7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0FFA-758E-4CB4-BAC2-84F8EFD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21CE-EF22-4446-81CE-0DE71BC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33AF-AA5B-4B37-A78B-FAE843D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9164-7B86-48F6-9983-806B4171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C3B8-D501-4E4C-A82F-EF41B7D7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B5B8-7CC5-4DCF-8DE6-420C2B2C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CEC-82FC-4B18-AA39-1DB0F354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97B-E158-4BD1-B0A9-DBE21B6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73E-BD44-4E34-BAF9-9D8F730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5BA-8A9E-4D41-9A35-E22AF8A9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8CD-4DCC-4CC3-9A18-ECFAD19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8EE0-59EE-4D6E-9628-57351BA6658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40B-5717-47B0-A204-B364398B912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C16-BDE7-43A9-A9F0-9A7540D9880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474-31F9-48B4-A86C-2D4A0947E3F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als of the EEC Trea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liminate trade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a common tariff for im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reate a common policy for managing and supporting agri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Establishing European Community</a:t>
            </a:r>
            <a:br>
              <a:rPr sz="3200"/>
            </a:b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196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2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8" name="_s1030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35" name="_s1031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_s1032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E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_s1033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al and Steel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CS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_s1034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Atomic Energ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uratom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197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nmark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ted Kingd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Picture 4" descr="dansko"/>
          <p:cNvPicPr/>
          <p:nvPr/>
        </p:nvPicPr>
        <p:blipFill>
          <a:blip r:embed="rId1"/>
          <a:stretch/>
        </p:blipFill>
        <p:spPr>
          <a:xfrm>
            <a:off x="471636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irsko"/>
          <p:cNvPicPr/>
          <p:nvPr/>
        </p:nvPicPr>
        <p:blipFill>
          <a:blip r:embed="rId2"/>
          <a:stretch/>
        </p:blipFill>
        <p:spPr>
          <a:xfrm>
            <a:off x="4716360" y="342900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6" descr="spojene_kralovstvi"/>
          <p:cNvPicPr/>
          <p:nvPr/>
        </p:nvPicPr>
        <p:blipFill>
          <a:blip r:embed="rId3"/>
          <a:stretch/>
        </p:blipFill>
        <p:spPr>
          <a:xfrm>
            <a:off x="471636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eece   (1981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ain     (1986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rtugal (1986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4" descr="recko"/>
          <p:cNvPicPr/>
          <p:nvPr/>
        </p:nvPicPr>
        <p:blipFill>
          <a:blip r:embed="rId1"/>
          <a:stretch/>
        </p:blipFill>
        <p:spPr>
          <a:xfrm>
            <a:off x="4643280" y="292428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5" descr="spanelsko"/>
          <p:cNvPicPr/>
          <p:nvPr/>
        </p:nvPicPr>
        <p:blipFill>
          <a:blip r:embed="rId2"/>
          <a:stretch/>
        </p:blipFill>
        <p:spPr>
          <a:xfrm>
            <a:off x="464328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6" descr="portugalsko"/>
          <p:cNvPicPr/>
          <p:nvPr/>
        </p:nvPicPr>
        <p:blipFill>
          <a:blip r:embed="rId3"/>
          <a:stretch/>
        </p:blipFill>
        <p:spPr>
          <a:xfrm>
            <a:off x="4643280" y="3933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ngle European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19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1st January 1993 as the date of establishing a full internal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7" descr="Single act"/>
          <p:cNvPicPr/>
          <p:nvPr/>
        </p:nvPicPr>
        <p:blipFill>
          <a:blip r:embed="rId1"/>
          <a:stretch/>
        </p:blipFill>
        <p:spPr>
          <a:xfrm>
            <a:off x="5580000" y="3141720"/>
            <a:ext cx="2087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 - 199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55" name="_s205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58" name="_s2053"/>
            <p:cNvCxnSpPr>
              <a:stCxn id="259" idx="0"/>
              <a:endCxn id="257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60" name="_s2054"/>
            <p:cNvCxnSpPr>
              <a:stCxn id="261" idx="0"/>
              <a:endCxn id="257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57" name="_s2055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MAASTRICH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_s2056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AR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_s2057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IES O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ROM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SING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AC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th February 19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EC into EUROPEAN UNION       since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7" descr="eu vlajka"/>
          <p:cNvPicPr/>
          <p:nvPr/>
        </p:nvPicPr>
        <p:blipFill>
          <a:blip r:embed="rId1"/>
          <a:stretch/>
        </p:blipFill>
        <p:spPr>
          <a:xfrm>
            <a:off x="6300720" y="350028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ed rule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jus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EXISTENCE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6" descr="eu vlajka"/>
          <p:cNvPicPr/>
          <p:nvPr/>
        </p:nvPicPr>
        <p:blipFill>
          <a:blip r:embed="rId1"/>
          <a:stretch/>
        </p:blipFill>
        <p:spPr>
          <a:xfrm>
            <a:off x="5796000" y="4149720"/>
            <a:ext cx="1625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MBER COUNTRIES -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2362320"/>
          <a:ext cx="7693200" cy="39304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NETHERLA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UXEMBOUR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Dějiny Evropské Unie do roku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do roku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Coal and Steel Community, Euratom, European Union, foundation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ST YOUR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6 countries that founded ECS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ther common organ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did UK enter the European Communi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know about Maastricht Trea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12 member countries of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1. ESTABLISHING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XPLAINING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Reasons for European integration after the World War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y was destroy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 lost its leading r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cessity to avoid any other f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desire to create free and more prosperous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6 Winston Churchil at the Zurich Universit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dea of a European family living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Churchil"/>
          <p:cNvPicPr/>
          <p:nvPr/>
        </p:nvPicPr>
        <p:blipFill>
          <a:blip r:embed="rId1"/>
          <a:stretch/>
        </p:blipFill>
        <p:spPr>
          <a:xfrm>
            <a:off x="5688000" y="2565360"/>
            <a:ext cx="274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bert Sc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ay 9, 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chuman´s plan of creation of a common authority in coal and steel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10" descr="schuman"/>
          <p:cNvPicPr/>
          <p:nvPr/>
        </p:nvPicPr>
        <p:blipFill>
          <a:blip r:embed="rId1"/>
          <a:stretch/>
        </p:blipFill>
        <p:spPr>
          <a:xfrm>
            <a:off x="6054840" y="2441520"/>
            <a:ext cx="1181160" cy="1625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ECSC"/>
          <p:cNvPicPr/>
          <p:nvPr/>
        </p:nvPicPr>
        <p:blipFill>
          <a:blip r:embed="rId2"/>
          <a:stretch/>
        </p:blipFill>
        <p:spPr>
          <a:xfrm>
            <a:off x="6012000" y="4762440"/>
            <a:ext cx="1224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is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ril 19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European Coal and Steel Community (EC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2 – the Treaty entered into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 appointed President of the High Auth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SC levy - the first European tax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CSC – member count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GERMA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A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LGIU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ETHERLAND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UXEMBOUR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Picture 9" descr="francie"/>
          <p:cNvPicPr/>
          <p:nvPr/>
        </p:nvPicPr>
        <p:blipFill>
          <a:blip r:embed="rId1"/>
          <a:stretch/>
        </p:blipFill>
        <p:spPr>
          <a:xfrm>
            <a:off x="5076720" y="2421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10" descr="nemecko"/>
          <p:cNvPicPr/>
          <p:nvPr/>
        </p:nvPicPr>
        <p:blipFill>
          <a:blip r:embed="rId2"/>
          <a:stretch/>
        </p:blipFill>
        <p:spPr>
          <a:xfrm>
            <a:off x="507672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Picture 11" descr="italie"/>
          <p:cNvPicPr/>
          <p:nvPr/>
        </p:nvPicPr>
        <p:blipFill>
          <a:blip r:embed="rId3"/>
          <a:stretch/>
        </p:blipFill>
        <p:spPr>
          <a:xfrm>
            <a:off x="507672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2" descr="belgie"/>
          <p:cNvPicPr/>
          <p:nvPr/>
        </p:nvPicPr>
        <p:blipFill>
          <a:blip r:embed="rId4"/>
          <a:stretch/>
        </p:blipFill>
        <p:spPr>
          <a:xfrm>
            <a:off x="507672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13" descr="nizozemsko"/>
          <p:cNvPicPr/>
          <p:nvPr/>
        </p:nvPicPr>
        <p:blipFill>
          <a:blip r:embed="rId5"/>
          <a:stretch/>
        </p:blipFill>
        <p:spPr>
          <a:xfrm>
            <a:off x="5076720" y="443700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14" descr="lucembursko"/>
          <p:cNvPicPr/>
          <p:nvPr/>
        </p:nvPicPr>
        <p:blipFill>
          <a:blip r:embed="rId6"/>
          <a:stretch/>
        </p:blipFill>
        <p:spPr>
          <a:xfrm>
            <a:off x="5076720" y="4941720"/>
            <a:ext cx="5749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x member countries signed treaties establish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ic Community (EE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Atomic Energy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Eurat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33Z</dcterms:modified>
  <cp:revision>13</cp:revision>
  <dc:subject/>
  <dc:title>EUROPEAN UNION</dc:title>
</cp:coreProperties>
</file>