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FA28-04DC-476E-A957-5D61E679903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67B5-0D67-4E1A-9D3A-F85CBBA900D4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0EA0-CD03-410A-A7D5-3F235D21328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B67B-59C0-4B32-BC20-433F6C5FCB7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D743-6C9C-480B-9476-BA8EE7F3B66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8DA1-4879-4882-8BCA-C013CF0EFF7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898D-2467-4CDC-BACA-64AF1A8E4DB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85A3-2CC5-4067-B8C8-E8703B104E6F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512-C74A-440A-87C3-E369AC80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11C7-C3D5-45ED-9675-0FFE0442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8A9-D716-4001-A3A8-5EA9C9BD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EAA-C11E-4549-98E4-FD6E581A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2059-101C-445E-9D97-84A366E8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AA43-9448-41DE-BB33-5D06624B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C8C9-5747-41D1-A952-B5B57CCE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FD39-E4DF-4C11-8F66-6B5BC686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7731-7B93-4D76-ADFB-63E5AB52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FCCE-17C0-4EF7-885A-3F599623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13B4-1912-4297-B87F-847353CD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9FD-090C-4DC6-A078-08A94140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DA0B-A479-423E-8C6D-A87FD4A1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5C22-142E-4C23-BEA1-02346DD8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32D1-A51B-4C34-A193-1B9AF3FB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D9F1-B0A1-46E8-B049-0A2F4E75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D3E5-7C52-42D9-941E-110B799C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4DD61-3DF8-4020-87A7-F3A0BD3F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1FB37-9429-4A50-9D5B-04A5A2A0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383F5-A0B7-400E-9451-B1042E32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6A12C-A95F-4021-BDBB-5DDED575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B4CC3-1A6E-41B4-BD14-5362AC2C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41D-C2B8-45ED-9E87-C93DE446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73F57-90A0-4A4A-BE44-D95ADF2C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0724A-4949-4A3B-8219-4CDB74E9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D6EBF-5C15-4D14-840C-E0CCD67E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47344-5D09-4693-9DC3-CF229823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44E02-0A64-4C5C-A618-92D6CF27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D4E17-8D7E-4BCB-8970-0729AE7A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7253F-7063-4175-82BB-87FFB5C6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88CE0-3E85-43D9-BB29-27BB5F84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193A8-F2A1-4093-BE7B-294142B0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8C52C-20AD-4584-A339-92CD0D13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FA5-49C0-440E-ADA5-A00DA01B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49A47-A4D7-46BD-B7AE-8CCFF1AD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1673C-E3D1-4F5B-9CFB-6A394B67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58582-3F64-47C9-B40B-7B0B74F2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4C203-CA0A-4312-A474-B71FC001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A874E-4244-48C0-8EF0-C0AF67B6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87E7B-E109-42E6-A718-E50A3481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2848F-1E9C-447B-81CC-D5B5769E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7F4AC-EF92-485B-8E5A-19DB5CE5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089BC-D0FC-4BB4-A80A-BE615FCF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018-7D53-4C43-8A20-3EA15B25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63EC-EF80-44DA-AA77-09B69119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DCC-3040-4406-B764-D79E3301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EDF-2413-47F9-A519-AB83B1FB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208-611A-41FC-A1DA-325F6FFE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BF00-C65D-43D1-804A-10A011A6A010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0BC2-5ED1-4554-B2E5-EDC45ED88E9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EEC9-D0C6-4218-828D-BA9C36113042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D169-8820-4C84-9194-CE0CA8EE4D72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IGHLAN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kes (loch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alleys (gle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n Nevis (1344 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unning na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arely settl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Zástupný symbol pro obsah 3" descr=""/>
          <p:cNvPicPr/>
          <p:nvPr/>
        </p:nvPicPr>
        <p:blipFill>
          <a:blip r:embed="rId1"/>
          <a:stretch/>
        </p:blipFill>
        <p:spPr>
          <a:xfrm>
            <a:off x="4794120" y="2997360"/>
            <a:ext cx="3584880" cy="2376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OCH LOMO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21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ch Laomain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rth-west of Glasg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1 km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2 m dee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n Lomond mount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most beautiful l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Zástupný symbol pro obsah 2" descr=""/>
          <p:cNvPicPr/>
          <p:nvPr/>
        </p:nvPicPr>
        <p:blipFill>
          <a:blip r:embed="rId1"/>
          <a:stretch/>
        </p:blipFill>
        <p:spPr>
          <a:xfrm>
            <a:off x="5022720" y="3213000"/>
            <a:ext cx="3467160" cy="2160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OCH N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21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ch 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ighl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56 km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30 m dee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mysterious l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ch Ness Mon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Zástupný symbol pro obsah 3" descr=""/>
          <p:cNvPicPr/>
          <p:nvPr/>
        </p:nvPicPr>
        <p:blipFill>
          <a:blip r:embed="rId1"/>
          <a:stretch/>
        </p:blipFill>
        <p:spPr>
          <a:xfrm>
            <a:off x="5122800" y="3008160"/>
            <a:ext cx="3152880" cy="2360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34" name="Obrázek 4" descr=""/>
          <p:cNvPicPr/>
          <p:nvPr/>
        </p:nvPicPr>
        <p:blipFill>
          <a:blip r:embed="rId2"/>
          <a:stretch/>
        </p:blipFill>
        <p:spPr>
          <a:xfrm>
            <a:off x="2597040" y="3008160"/>
            <a:ext cx="2175120" cy="1447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kotsk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berdeen_(Skotsk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unde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Loch_Lomo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Loch_N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otlan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fakta o Skotsku, nejdůležitější místa a památky. Prezentace slouží jako podpůrný materiál při výkladu učiva o skotských reáliích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otland, area, population, capital, sightseeing, city, town, lak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SCOT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78 772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5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EDINBURG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4" descr=""/>
          <p:cNvPicPr/>
          <p:nvPr/>
        </p:nvPicPr>
        <p:blipFill>
          <a:blip r:embed="rId1"/>
          <a:stretch/>
        </p:blipFill>
        <p:spPr>
          <a:xfrm>
            <a:off x="6084720" y="3284640"/>
            <a:ext cx="2094120" cy="12571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DINBURG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Scot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dinburgh Cas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lyrood Pa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cott Monu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2" descr=""/>
          <p:cNvPicPr/>
          <p:nvPr/>
        </p:nvPicPr>
        <p:blipFill>
          <a:blip r:embed="rId1"/>
          <a:stretch/>
        </p:blipFill>
        <p:spPr>
          <a:xfrm>
            <a:off x="4721400" y="3068640"/>
            <a:ext cx="3450960" cy="2071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LASG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Scottish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th of Clyde and Firth of F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ghthouse T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2" descr=""/>
          <p:cNvPicPr/>
          <p:nvPr/>
        </p:nvPicPr>
        <p:blipFill>
          <a:blip r:embed="rId1"/>
          <a:stretch/>
        </p:blipFill>
        <p:spPr>
          <a:xfrm>
            <a:off x="5219640" y="2924280"/>
            <a:ext cx="3141720" cy="2352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BERDE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ird biggest Scottish t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20,420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1319 Old and New Aberdeen were united by R.Bru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2" descr=""/>
          <p:cNvPicPr/>
          <p:nvPr/>
        </p:nvPicPr>
        <p:blipFill>
          <a:blip r:embed="rId1"/>
          <a:stretch/>
        </p:blipFill>
        <p:spPr>
          <a:xfrm>
            <a:off x="5103720" y="3068640"/>
            <a:ext cx="3140280" cy="2352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UNDE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ùn Dèag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3500 years old (Alec-tu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cottish Dance Thea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ishart G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Zástupný symbol pro obsah 3" descr=""/>
          <p:cNvPicPr/>
          <p:nvPr/>
        </p:nvPicPr>
        <p:blipFill>
          <a:blip r:embed="rId1"/>
          <a:stretch/>
        </p:blipFill>
        <p:spPr>
          <a:xfrm>
            <a:off x="5006880" y="2997360"/>
            <a:ext cx="3021120" cy="2261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RN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High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ld Gaelig Chu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ar Loch 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Zástupný symbol pro obsah 3" descr=""/>
          <p:cNvPicPr/>
          <p:nvPr/>
        </p:nvPicPr>
        <p:blipFill>
          <a:blip r:embed="rId1"/>
          <a:stretch/>
        </p:blipFill>
        <p:spPr>
          <a:xfrm>
            <a:off x="4932360" y="2917800"/>
            <a:ext cx="2936880" cy="2239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4:29Z</dcterms:modified>
  <cp:revision>24</cp:revision>
  <dc:subject/>
  <dc:title>EUROPEAN UNION</dc:title>
</cp:coreProperties>
</file>