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3E7A-4CB2-49E1-BA8F-27B1971FCEC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5CE0-2424-4196-B470-59DA6EB65F5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8242-E13C-42F6-8812-6DBC4F1775A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B332-6FFA-42BC-A786-99A7937938F0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03D9-7903-4617-B1BC-391E4662108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1578-1971-4C36-AE2F-03E3DFD1CFD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6B94-BAEF-4BAD-9F75-0A5D0ED4098F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FAC8-3065-44A3-8E5B-DD7F7339AA5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48B-BD30-4E2C-91CB-93F04DE6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62E-A86B-4F3A-8059-0D7B5761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E29-08F5-48C5-9817-5ED73239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0C2E-26A7-4AA2-A33E-B86F3D70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8E62-C8F8-4BB5-9B5F-561A49D6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11AB-90A1-4B08-A312-BDC3D8B9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EDD3-7D76-463B-AAA8-CC2E8BA1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0559-B15F-4B15-8230-BDC5321F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E3AA-56F3-4EDC-B2CF-381B9072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F9FF-138E-4D5B-9277-04ECB4D2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F58E-68D1-4244-9DE5-58C46FF8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7D9-9246-4048-B69D-C9DB900A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234F-D850-4019-92CD-A9C3AD2A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EBE5-D514-40A4-A59E-7524FBDB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3B48-884D-4F7C-BCCB-D36BB13A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652F-F65A-4570-9A69-6B940A1B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2FAB-363B-408F-817B-0C2526A0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700E1-8D33-489F-A677-830871D8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C3523-677C-4381-8179-B2973D71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6E00B-5175-46A3-87B9-4B11686C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6CDB6-C807-47A7-89DF-08D5ED54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BA9AB-9DCD-474B-B918-FDA70E5F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1E6-7786-4EF4-8BD0-D4362894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3B497-FF6E-415E-B707-3E96E0F2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D9D85-7792-4D18-9CAB-3556D5C6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3E500-C0BB-4572-BAF3-2BF996DE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B6460-F746-4DF2-8119-2AD525FD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EFD3F-A3E1-4668-A156-9DEB9D94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1961D-D8C8-4161-B9AD-DF602F29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E747-E510-4A31-ACD6-15206D3F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0CE32-5B9E-4388-BFE2-B39C018C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B40D0-6E14-4BAF-B87C-623E6C49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B481E-374E-4E36-9C1B-141D9E8F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0ED-BEAE-4633-83A2-FB52B723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9FA3A-3886-49B2-A7B4-16E14CED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2E970-BF3B-4478-9491-CF243CBF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F6D73-2B9E-4EBE-BCEF-6B9F8683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0400E-F381-4183-9252-A36C4B57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6AF09-B484-48F9-B2A8-81737C67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16661-E20D-485D-91FE-B4DFBE67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EC252-0561-4E3D-BB42-EDB20E95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E44A7-CED1-45F8-8E8B-A67028FF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0B571-78E7-4F49-8B0A-5CB2B20D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99D-26C3-4C88-9834-E29973C7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0AC-8FAA-4962-A295-ECA10048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2F11-3A85-4E02-A41B-4483FB63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C64-A129-4821-9A08-75773F6B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BDC-3386-4DF1-9018-1B2D24AC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FE6A-6C6E-4198-9B44-C06A33B77757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6BCA-5D4C-4064-B6B2-5A6C6434691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EE11-8623-442E-9276-0756F8747F07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8A4B-60D9-4F3B-9F64-EE9F5296F42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3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86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hn Lackland (1199-121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n 1204 he lost control of Norman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Mocking name „soft sword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Magna Carta (king´s rights were limit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Zástupný symbol pro obsah 3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2928960" cy="1947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3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86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III (1216-127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enry III became king at the age of 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 lot of uprising and civil wars during his re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2" descr=""/>
          <p:cNvPicPr/>
          <p:nvPr/>
        </p:nvPicPr>
        <p:blipFill>
          <a:blip r:embed="rId1"/>
          <a:stretch/>
        </p:blipFill>
        <p:spPr>
          <a:xfrm>
            <a:off x="5421240" y="3290760"/>
            <a:ext cx="2679840" cy="2043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3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86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I (1272-130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ammer of the Sco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alled first Parlia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298 defeated the Scots at the Battle of Falki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illiam Wallace, Robert Bru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3" descr=""/>
          <p:cNvPicPr/>
          <p:nvPr/>
        </p:nvPicPr>
        <p:blipFill>
          <a:blip r:embed="rId1"/>
          <a:stretch/>
        </p:blipFill>
        <p:spPr>
          <a:xfrm>
            <a:off x="5724360" y="2781360"/>
            <a:ext cx="2160720" cy="3024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4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10228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II (1307-132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e married Isabela, the daughter of King Philip IV of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ffected for Gavestone, a Gascon kn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14 Robert Bruce crushed English arm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6" name="Zástupný symbol pro obsah 2" descr=""/>
          <p:cNvPicPr/>
          <p:nvPr/>
        </p:nvPicPr>
        <p:blipFill>
          <a:blip r:embed="rId1"/>
          <a:stretch/>
        </p:blipFill>
        <p:spPr>
          <a:xfrm>
            <a:off x="6012000" y="2852640"/>
            <a:ext cx="2411280" cy="2919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4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10228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III (1327-137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40 he proclaimed himself King of France which started Hundred Years´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46 – the Battle of Crécy (Calais      English colon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48 – 1349 Black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9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2924280"/>
            <a:ext cx="2232360" cy="29271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40" name="Šipka doprava 4"/>
          <p:cNvSpPr/>
          <p:nvPr/>
        </p:nvSpPr>
        <p:spPr>
          <a:xfrm>
            <a:off x="2411280" y="5133960"/>
            <a:ext cx="505080" cy="2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4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Richard II (1377-1399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 youngest son of Edward the Black Prince and Joan of K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82 – Ann of Bohem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Fights against the Lancas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mprisoned, died in 14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Zástupný symbol pro obsah 3" descr=""/>
          <p:cNvPicPr/>
          <p:nvPr/>
        </p:nvPicPr>
        <p:blipFill>
          <a:blip r:embed="rId1"/>
          <a:stretch/>
        </p:blipFill>
        <p:spPr>
          <a:xfrm>
            <a:off x="6443640" y="3068640"/>
            <a:ext cx="2016000" cy="2668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4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IV (1399-141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Debatable claim to the thr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05 – uprising in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Fearful of assasination, ill and troubled but rather success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Zástupný symbol pro obsah 3" descr=""/>
          <p:cNvPicPr/>
          <p:nvPr/>
        </p:nvPicPr>
        <p:blipFill>
          <a:blip r:embed="rId1"/>
          <a:stretch/>
        </p:blipFill>
        <p:spPr>
          <a:xfrm>
            <a:off x="6300720" y="2637000"/>
            <a:ext cx="2032200" cy="2663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V (1413-142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nteligent, musical, able to read and write in Engl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e led two great expeditions to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20 – the Treaty of Troyes recognised him as King of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Zástupný symbol pro obsah 2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087640" cy="2913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VI (1422-1461 and 1470-147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Founded Eton College and King´s College in Cambri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Lost his father´s conquests in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ars of Ro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2" name="Zástupný symbol pro obsah 3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200320" cy="2808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ARS OF RO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538956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House of Y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House of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ancas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455 – 1485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485 - The Battle of Bosw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5" name="Zástupný symbol pro obsah 2" descr=""/>
          <p:cNvPicPr/>
          <p:nvPr/>
        </p:nvPicPr>
        <p:blipFill>
          <a:blip r:embed="rId1"/>
          <a:stretch/>
        </p:blipFill>
        <p:spPr>
          <a:xfrm>
            <a:off x="2916360" y="4653000"/>
            <a:ext cx="30765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ritish histo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data z historie Británie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ngland, history, king, queen, bat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49360" y="115920"/>
            <a:ext cx="529776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IV (1461-1470 and 1471-148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upported by Richard Neville, the Earl of Warwi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70 – flee to Burgun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71 – The Battle of Tewkesbury (Bloody Meadow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Zástupný symbol pro obsah 3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200320" cy="2808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V (148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ever crowned, is remembered as one of the two „Princes in the Tower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Richard III (1483-148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85 – The Battle of Bosw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1" name="Zástupný symbol pro obsah 2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2840040" cy="1873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VII (1485-1509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enry Tu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o adventures in foreign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24 years of pe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4" name="Zástupný symbol pro obsah 3" descr=""/>
          <p:cNvPicPr/>
          <p:nvPr/>
        </p:nvPicPr>
        <p:blipFill>
          <a:blip r:embed="rId1"/>
          <a:stretch/>
        </p:blipFill>
        <p:spPr>
          <a:xfrm>
            <a:off x="5773680" y="2781360"/>
            <a:ext cx="2327400" cy="30114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6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VIII (1509-154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ix w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is break with Rome paved the way for England to become a Protestant 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ir Thomas Mo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7" name="Zástupný symbol pro obsah 2" descr=""/>
          <p:cNvPicPr/>
          <p:nvPr/>
        </p:nvPicPr>
        <p:blipFill>
          <a:blip r:embed="rId1"/>
          <a:stretch/>
        </p:blipFill>
        <p:spPr>
          <a:xfrm>
            <a:off x="5985000" y="2781360"/>
            <a:ext cx="2333520" cy="2951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IX WIVES OF HENRY VI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therine of Arag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nne Boley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Jane Seymo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nne of Cle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therine How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therine Par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Zástupný symbol pro obsah 2" descr=""/>
          <p:cNvPicPr/>
          <p:nvPr/>
        </p:nvPicPr>
        <p:blipFill>
          <a:blip r:embed="rId1"/>
          <a:stretch/>
        </p:blipFill>
        <p:spPr>
          <a:xfrm>
            <a:off x="5464080" y="2708280"/>
            <a:ext cx="2421000" cy="3105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6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VI (1547-155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ecame King at the age of 10, died of tuberculousis in 155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ady Jane Grey (155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ine-days´queen, th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ehea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3" name="Zástupný symbol pro obsah 3" descr=""/>
          <p:cNvPicPr/>
          <p:nvPr/>
        </p:nvPicPr>
        <p:blipFill>
          <a:blip r:embed="rId1"/>
          <a:stretch/>
        </p:blipFill>
        <p:spPr>
          <a:xfrm>
            <a:off x="6227640" y="2924280"/>
            <a:ext cx="2163960" cy="2952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6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Mary I (1553-1558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he most severe Catholic ruler called „Bloody Mary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he believed her task was to restore England to Catholic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6" name="Zástupný symbol pro obsah 2" descr=""/>
          <p:cNvPicPr/>
          <p:nvPr/>
        </p:nvPicPr>
        <p:blipFill>
          <a:blip r:embed="rId1"/>
          <a:stretch/>
        </p:blipFill>
        <p:spPr>
          <a:xfrm>
            <a:off x="5940360" y="2708280"/>
            <a:ext cx="2274840" cy="30099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6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lizabeth I (1558-160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Virgin Queen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verseas explo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587 Mary Stuart behea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rancis Drake, Robert Cecil, the Arm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9" name="Zástupný symbol pro obsah 3" descr=""/>
          <p:cNvPicPr/>
          <p:nvPr/>
        </p:nvPicPr>
        <p:blipFill>
          <a:blip r:embed="rId1"/>
          <a:stretch/>
        </p:blipFill>
        <p:spPr>
          <a:xfrm>
            <a:off x="5761080" y="2938320"/>
            <a:ext cx="2195640" cy="3187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ames I (1603-162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on of Henry Stuart and Mary, Queen of Sco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e became King of England and Scot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05 Guy Fawk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2" name="Zástupný symbol pro obsah 2" descr=""/>
          <p:cNvPicPr/>
          <p:nvPr/>
        </p:nvPicPr>
        <p:blipFill>
          <a:blip r:embed="rId1"/>
          <a:stretch/>
        </p:blipFill>
        <p:spPr>
          <a:xfrm>
            <a:off x="5651640" y="2708280"/>
            <a:ext cx="2401920" cy="3178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harles I (1625-1649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ights with the parlia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Expensive wars with France and Sp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ivil war in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49 behead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5" name="Zástupný symbol pro obsah 2" descr=""/>
          <p:cNvPicPr/>
          <p:nvPr/>
        </p:nvPicPr>
        <p:blipFill>
          <a:blip r:embed="rId1"/>
          <a:stretch/>
        </p:blipFill>
        <p:spPr>
          <a:xfrm>
            <a:off x="5600880" y="2924280"/>
            <a:ext cx="2355840" cy="29304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BRITISH HI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MPORTANT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Oliver Crom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49 – Execution of Charles 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53 – Cromwell becam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Lord Prote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60 – Monarchy was resto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8" name="Zástupný symbol pro obsah 3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2176560" cy="3325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harles II (1660-168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ounded Greenwich Observatory and Royal Socie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65 – Great Plague (100,000 people di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66 – Great Fire of Lond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1" name="Zástupný symbol pro obsah 3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2176560" cy="3325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ames II (1685-1688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During Civil War, in 1648 he escaped to Holland dressed as a gir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ither English people nor the Parliament liked hi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he throne offered to William of Oran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4" name="Zástupný symbol pro obsah 2" descr=""/>
          <p:cNvPicPr/>
          <p:nvPr/>
        </p:nvPicPr>
        <p:blipFill>
          <a:blip r:embed="rId1"/>
          <a:stretch/>
        </p:blipFill>
        <p:spPr>
          <a:xfrm>
            <a:off x="5678640" y="3038400"/>
            <a:ext cx="2349360" cy="2881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William III (1689-1702) </a:t>
            </a:r>
            <a:r>
              <a:rPr b="0" i="1" lang="cs-CZ" sz="2400" spc="-1" strike="noStrike">
                <a:solidFill>
                  <a:srgbClr val="002060"/>
                </a:solidFill>
                <a:latin typeface="Arial"/>
              </a:rPr>
              <a:t>(jointly Mary II (1689-1694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on of William II, Prince of Orange and Mary, daughter of Charles 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Dutch ru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Glorious Revol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7" name="Zástupný symbol pro obsah 3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2351160" cy="2935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Anne (1702-1714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duly inherited throne at the age of 3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rried Prince George of Denma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ad 17 children, all died in infancy or early childh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0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3068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I (1714-172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rotestant of German orig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annover dynas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ut his trust in Walpole´s Whig Par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3" name="Zástupný symbol pro obsah 3" descr=""/>
          <p:cNvPicPr/>
          <p:nvPr/>
        </p:nvPicPr>
        <p:blipFill>
          <a:blip r:embed="rId1"/>
          <a:stretch/>
        </p:blipFill>
        <p:spPr>
          <a:xfrm>
            <a:off x="5724360" y="2781360"/>
            <a:ext cx="2310120" cy="3057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II (1727-176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lled self-important, fussy, hardworking, skirt-cha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743 – the Battle of Dettin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745 - Jacobite rebell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6" name="Zástupný symbol pro obsah 2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2344680" cy="2890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III (1760-182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776 – Declaration of Independence (US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789 – French revol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805 – The Battle of Trafalg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815 – The Battle of Waterlo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9" name="Zástupný symbol pro obsah 3" descr=""/>
          <p:cNvPicPr/>
          <p:nvPr/>
        </p:nvPicPr>
        <p:blipFill>
          <a:blip r:embed="rId1"/>
          <a:stretch/>
        </p:blipFill>
        <p:spPr>
          <a:xfrm>
            <a:off x="5533920" y="2852640"/>
            <a:ext cx="2422800" cy="29862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IV (1821-183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Liked fashionable clothes and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de Brighton and Bath places to see and be se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William IV (1830-183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illy Billy“, the sailor 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2" name="Zástupný symbol pro obsah 2" descr=""/>
          <p:cNvPicPr/>
          <p:nvPr/>
        </p:nvPicPr>
        <p:blipFill>
          <a:blip r:embed="rId1"/>
          <a:stretch/>
        </p:blipFill>
        <p:spPr>
          <a:xfrm>
            <a:off x="5796000" y="2924280"/>
            <a:ext cx="2430360" cy="2917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ictoria (1837-190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Victorian e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ig political and economical role of Brit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ustralia, Egypt, South Africa, Cyprus, Hongko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rince Albe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5" name="Zástupný symbol pro obsah 3" descr=""/>
          <p:cNvPicPr/>
          <p:nvPr/>
        </p:nvPicPr>
        <p:blipFill>
          <a:blip r:embed="rId1"/>
          <a:stretch/>
        </p:blipFill>
        <p:spPr>
          <a:xfrm>
            <a:off x="5724360" y="2708280"/>
            <a:ext cx="2354400" cy="3327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SETTL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3,000 BC settlers from Eur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y introduced farming, pottery and stone too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tonehen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vebu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3" descr=""/>
          <p:cNvPicPr/>
          <p:nvPr/>
        </p:nvPicPr>
        <p:blipFill>
          <a:blip r:embed="rId1"/>
          <a:stretch/>
        </p:blipFill>
        <p:spPr>
          <a:xfrm>
            <a:off x="5199120" y="3141720"/>
            <a:ext cx="3076560" cy="2303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VII (1901-191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ad to wait almost 60 years to become 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irst old-age pensions and National Insurance 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got the title „Peacemaker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8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2637000"/>
            <a:ext cx="2138400" cy="3020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V (1910-193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is reign was overshadowed by World War 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911 - first British emperor to visit In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912 - Titan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1" name="Zástupný symbol pro obsah 3" descr=""/>
          <p:cNvPicPr/>
          <p:nvPr/>
        </p:nvPicPr>
        <p:blipFill>
          <a:blip r:embed="rId1"/>
          <a:stretch/>
        </p:blipFill>
        <p:spPr>
          <a:xfrm>
            <a:off x="5724360" y="2924280"/>
            <a:ext cx="2286000" cy="2744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VIII (193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he only British sovereign to resign the throne of his own will (he decided for twice-divorced Mrs Wallis Simps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e was made Duke of Windsor and lived abro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4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2637000"/>
            <a:ext cx="2149560" cy="35035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VI (1936-195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George V´s second son Albert („Bertie“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orld War 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tayed in London during Blit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 trusted ally for Church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7" name="Zástupný symbol pro obsah 3" descr=""/>
          <p:cNvPicPr/>
          <p:nvPr/>
        </p:nvPicPr>
        <p:blipFill>
          <a:blip r:embed="rId1"/>
          <a:stretch/>
        </p:blipFill>
        <p:spPr>
          <a:xfrm>
            <a:off x="5370480" y="3328920"/>
            <a:ext cx="2913120" cy="2044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454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lizabeth II (1952-  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orn in 192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n the World War I she joined the Auxiliary Transport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rried Philip in 194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irst son Prince Char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0" name="Zástupný symbol pro obsah 2" descr=""/>
          <p:cNvPicPr/>
          <p:nvPr/>
        </p:nvPicPr>
        <p:blipFill>
          <a:blip r:embed="rId1"/>
          <a:stretch/>
        </p:blipFill>
        <p:spPr>
          <a:xfrm>
            <a:off x="5724360" y="2724120"/>
            <a:ext cx="2511720" cy="3081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Williams B., Williams B. 2004. Kings and Queens, Pitkin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ěijny_Angl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SETTL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0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century BC the Ce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One of their tribes was called Brit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55 BC – 5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century AD the Rom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Britan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2" descr=""/>
          <p:cNvPicPr/>
          <p:nvPr/>
        </p:nvPicPr>
        <p:blipFill>
          <a:blip r:embed="rId1"/>
          <a:stretch/>
        </p:blipFill>
        <p:spPr>
          <a:xfrm>
            <a:off x="5508720" y="2705040"/>
            <a:ext cx="2448000" cy="3268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NGLES AND SAX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5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century AD – the Angles and Sax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y came from Germany, Denmark and the Netherl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ngle - 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3" descr=""/>
          <p:cNvPicPr/>
          <p:nvPr/>
        </p:nvPicPr>
        <p:blipFill>
          <a:blip r:embed="rId1"/>
          <a:stretch/>
        </p:blipFill>
        <p:spPr>
          <a:xfrm>
            <a:off x="5413320" y="2637000"/>
            <a:ext cx="2405160" cy="3095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NORM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9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century AD – the Vik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 Normans invaded from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066 The battle of Hast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illiam the Conquer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5364000" y="2685960"/>
            <a:ext cx="2664000" cy="31971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ILLIAM THE CONQUER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Only four visits to Engl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Domesday B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ndholdings were listed, described and assessed for tax and 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2" descr=""/>
          <p:cNvPicPr/>
          <p:nvPr/>
        </p:nvPicPr>
        <p:blipFill>
          <a:blip r:embed="rId1"/>
          <a:stretch/>
        </p:blipFill>
        <p:spPr>
          <a:xfrm>
            <a:off x="5364000" y="2685960"/>
            <a:ext cx="2664000" cy="31971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EDIEVAL ENG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ivil w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nternational confli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Political plots between nobles and k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Richard I (the Lion heart) - Crus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2" descr=""/>
          <p:cNvPicPr/>
          <p:nvPr/>
        </p:nvPicPr>
        <p:blipFill>
          <a:blip r:embed="rId1"/>
          <a:stretch/>
        </p:blipFill>
        <p:spPr>
          <a:xfrm>
            <a:off x="4941720" y="2924280"/>
            <a:ext cx="3210120" cy="2449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8:03Z</dcterms:modified>
  <cp:revision>79</cp:revision>
  <dc:subject/>
  <dc:title>EUROPEAN UNION</dc:title>
</cp:coreProperties>
</file>