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1D6-4FCB-42E4-A2EF-520DFD62B4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5389-DBDD-4809-BBAD-3252671ABC4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F4F9-442E-485A-920A-81D933E2ADD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E290-3E78-4848-8E07-2B78E44F6D2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3C4E-C84C-4362-A365-EE5DF1FE02C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766-2163-4BB4-988F-5DB7A5F2C11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5B7F-528B-467D-BA29-23A55F71698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5E83-D495-48F0-9B96-A16A9719E52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1CC-22D8-421A-A077-5A875D53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9E7-316D-41D2-8C17-CE32D7CB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821-B828-4ED3-B8BA-50D74E22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624-402B-44B4-B635-9FDCD307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93CD-5077-408D-A337-07B7B155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4F4D-1967-4F3D-984C-987E3C2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9FC5-1ADE-47C5-82EE-0D27B963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29E1-CDB2-4E4A-B0F2-299F8C91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9DE1-ECB0-4322-B176-CE781164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3C20-EDD6-49C1-9660-8AA979C3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BA30-50D6-493A-B5A2-A1D3DB3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BEF-60E3-43A8-A7FC-0783341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4088-BE20-4D12-A5F0-9888CEB6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E600-F883-45BC-A294-571955BD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5E04-56FA-4192-84ED-F11BF62A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F3B9-86C8-404C-ADF4-2EC8FDA1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3C25-EF27-4289-B3B7-E0978972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DD8D-9F32-4555-809A-A01CA0D8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5409-A79E-4835-AC4A-CDF74CA3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17AB-A2A1-4F5C-B4C7-0E763AAC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4487-D210-411A-8787-517970B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352C-B0BA-410A-BA61-C5AE1156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EC7-42D7-40A5-8354-2942503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565E-4664-4664-A24A-82CA50AF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2FF9-1F8C-4A90-8678-9E58BE88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A1BA-87F9-4F10-8DF0-D08DA7AE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DBDD-FB2B-4A47-96E8-B6E793E5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A189-A811-4AA9-9CB3-AC47E40B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A8BC-273C-41F8-BDDA-9DC3234D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B908-DA43-437C-95B3-99C01B8C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5C96-0EAC-4E96-992F-9834C516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0AD08-5219-4FE3-90B4-AC2CD230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AB9E-0F87-4D82-AC64-C8E7BF1C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7A7-4DBD-424E-85A3-D48116B8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F41B4-5310-461F-B8E4-5F357E68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960D3-A47D-4180-82DF-DAE0F73D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FDE9-34CE-4EB4-86D2-AE5ABED3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BADE-6CAE-4F43-9DC1-7FA057A3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100C5-B56D-4D42-B2A8-9912C29F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7BA1-DD84-4FB7-BFC2-F4425DE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45D4-ADE6-47C9-9275-8664F9E8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9BFAF-38DE-4E83-AA2B-47F57880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8CC4-E3B1-49F1-B042-B1EF8046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2CE-D344-4A6E-8AC6-9D1E8FFD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2E8-10BD-4DEC-87E9-088CC1C9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0F2-B18A-42ED-BDD4-0B1ED38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4FF-7D1C-4EB9-87FC-07CC312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CCD-5F92-494A-90FA-A10BBFC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957D-0423-4372-87FB-1FE779412E3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EAAB-F1F1-4CA6-9ED8-E06801BDFEE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5FFB-EE0F-4E55-876C-59B38743184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5777-8F82-4D79-B0DD-AB44F8FF677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TORU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1805040" y="3068640"/>
            <a:ext cx="5923080" cy="2376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AKE TAUP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6" name="Zástupný symbol pro obsah 3" descr=""/>
          <p:cNvPicPr/>
          <p:nvPr/>
        </p:nvPicPr>
        <p:blipFill>
          <a:blip r:embed="rId1"/>
          <a:stretch/>
        </p:blipFill>
        <p:spPr>
          <a:xfrm>
            <a:off x="2627280" y="2682720"/>
            <a:ext cx="4608720" cy="34531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UAPEHU VOLC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8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2765520"/>
            <a:ext cx="4608720" cy="305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UNT COO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Zástupný symbol pro obsah 3" descr=""/>
          <p:cNvPicPr/>
          <p:nvPr/>
        </p:nvPicPr>
        <p:blipFill>
          <a:blip r:embed="rId1"/>
          <a:stretch/>
        </p:blipFill>
        <p:spPr>
          <a:xfrm>
            <a:off x="2616120" y="2852640"/>
            <a:ext cx="4403880" cy="2919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ONGARIRO NATIONAL PA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2182680" y="2997360"/>
            <a:ext cx="5268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IW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Zástupný symbol pro obsah 3" descr=""/>
          <p:cNvPicPr/>
          <p:nvPr/>
        </p:nvPicPr>
        <p:blipFill>
          <a:blip r:embed="rId1"/>
          <a:stretch/>
        </p:blipFill>
        <p:spPr>
          <a:xfrm>
            <a:off x="2516040" y="2781360"/>
            <a:ext cx="4143600" cy="275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ORI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755960" cy="3165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ORI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8" name="Zástupný symbol pro obsah 3" descr=""/>
          <p:cNvPicPr/>
          <p:nvPr/>
        </p:nvPicPr>
        <p:blipFill>
          <a:blip r:embed="rId1"/>
          <a:stretch/>
        </p:blipFill>
        <p:spPr>
          <a:xfrm>
            <a:off x="2368440" y="2781360"/>
            <a:ext cx="4737240" cy="2951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ový_Zé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elling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uck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Zea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Novém Zélandu, nejzajímavější místa a města země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Zealand, geography, population, cities, culture, Mao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EW ZEA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68,68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4,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WELL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ORI NAME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OTEARO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756160" cy="1378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OU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2756160" cy="1377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NEW ZEA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Zástupný symbol pro obsah 3" descr=""/>
          <p:cNvPicPr/>
          <p:nvPr/>
        </p:nvPicPr>
        <p:blipFill>
          <a:blip r:embed="rId1"/>
          <a:stretch/>
        </p:blipFill>
        <p:spPr>
          <a:xfrm>
            <a:off x="3203640" y="2492280"/>
            <a:ext cx="2952720" cy="372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LL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Zea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ori name: Te Whanganui-á-Ta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2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UCK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New Zea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40 by the Brit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Zástupný symbol pro obsah 3" descr=""/>
          <p:cNvPicPr/>
          <p:nvPr/>
        </p:nvPicPr>
        <p:blipFill>
          <a:blip r:embed="rId1"/>
          <a:stretch/>
        </p:blipFill>
        <p:spPr>
          <a:xfrm>
            <a:off x="4519440" y="3141720"/>
            <a:ext cx="3957840" cy="2016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RISTCHUR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2" name="Zástupný symbol pro obsah 3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6624720" cy="21528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32Z</dcterms:modified>
  <cp:revision>34</cp:revision>
  <dc:subject/>
  <dc:title>EUROPEAN UNION</dc:title>
</cp:coreProperties>
</file>