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74C9-82CF-4134-918C-62E8619ADD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B0F-0F5C-454A-A29A-2B6B292C885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9C3D-BB5A-411D-BD2A-3566488FE09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76C9-45AA-4E22-8FCD-93879E9A29C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A6F1-5767-4F4C-A0A7-0BDD2FDCE5D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6188-760B-4E80-8308-E84CD6AA360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C5B-48E2-42C1-800B-C06CA4BF392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679-4420-4670-BE2B-33FE71C0536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B75-938C-47A7-82D8-2E54B7AF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828-23C1-4FAA-AB5A-2AB3585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899-A100-4773-B32F-C473FDE7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5E6-379B-4F4F-A1F1-2496AE9E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A22B-25A9-43BC-BAAD-C3DB8127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B60-CF68-46B7-A4CD-08C0190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7AB4-CEB2-4A66-B22F-D85EEF5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F67D-7765-45E4-A4A3-8A3AA6B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8E53-EA3F-4F32-B117-DCB1D35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96A-F111-4B90-A1DA-0E789D0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FE8A-8578-4480-BF5D-5BFDB9F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AAA-28CC-48EA-A63F-EC13D09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0D7F-620A-4637-B165-77FB193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E940-69E0-4FF9-AF3F-4BC812E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F2A7-7E3F-4E3D-B857-216C902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1A1-BA6C-4B37-954B-565EDC13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C7A-8E4E-4A4F-A193-8951F20B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0127-BCE0-48D7-944C-CCF717E5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0AE6-35A3-4704-9CAA-9BD5464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233F-A66B-4871-9035-7E26F5F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66CA-1F81-4DB7-B9CB-A7DE0E4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D206-90ED-4399-8644-2A4DF5B9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F02-FA18-45D0-8C74-6DECCA9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1EC1-910B-462E-9115-E0E97E7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D6AD-21A3-45F6-8EE9-AF0F07F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16FA-8754-46B4-861C-59FC282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5367-6634-4685-A461-3C77A8B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3DC2-AB56-49C6-8953-62ACDA8E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8319-DABB-457D-917D-CFACA6C2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7835-7E7F-4C84-833A-ED31D39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5D93-402D-4BBC-9499-EFA1356E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1A13-4598-497B-8457-5E40568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FFE5-D9C0-4B57-8658-1B20873A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4EF-E499-4993-AF92-AA6B131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72E8-E183-4848-8B41-5779E387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9DA1-80D1-4B2E-B70D-F5BF0DB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C551-CA71-4106-ACC7-3A125BD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24E7-499B-410B-B363-FBBC08A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44E5-671A-4297-9701-74A11F6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F435-5F92-47F2-8820-D5A9A66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3ED1-1D7F-400C-B0D3-91A28B5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A5E2-4C14-491D-A0AC-52806E81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D9C1-2064-421D-AB78-250F2C3A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0F2-53C7-4187-8C08-D69792C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C2F-CBDD-4C0F-A7C1-F8AF2BD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076-6923-4A0B-BC8D-B966289D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2DC-969E-43B9-AB14-DA23671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838-D33B-48F7-8E2E-4052F14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7E0-153F-4797-BD92-894857137F6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F4C-F67C-4F6D-B3C8-013EFCF5688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A09D-1D46-4448-AB81-6E6B90C029A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83E-A14C-48CE-B1C5-11FD97304F8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116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 minster (gothic cathedr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fford´s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ham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5560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CASTLE UPON TY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ea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by the Roman emperor Hadr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dria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4" name="Picture 2" descr="http://upload.wikimedia.org/wikipedia/commons/thumb/b/b7/Hadrian%27s_wall_at_Greenhead_Lough.jpg/220px-Hadrian%27s_wall_at_Greenhead_Lough.jpg"/>
          <p:cNvPicPr/>
          <p:nvPr/>
        </p:nvPicPr>
        <p:blipFill>
          <a:blip r:embed="rId2"/>
          <a:stretch/>
        </p:blipFill>
        <p:spPr>
          <a:xfrm>
            <a:off x="2050920" y="4508640"/>
            <a:ext cx="2095560" cy="1571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GH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coast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ighton P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v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Nicholas´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552760" cy="1790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8" name="Obrázek 4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538720" cy="190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RATFORD UPON AV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rwic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Birmingh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kespeare´s birth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 Trinity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yal Shakespear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gh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Anglii, nejdůležitější města a památky. Prezentace slouží jako podpůrný materiál při výkladu učiva o angl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area, population, capital, sightseeing, c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30 395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095560" cy="12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ND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we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ver Th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4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IRMINGH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Mid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 1 million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lfridg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6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VERP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ity of Beat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bert D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verpool cathed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04344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19" name="Obrázek 3" descr=""/>
          <p:cNvPicPr/>
          <p:nvPr/>
        </p:nvPicPr>
        <p:blipFill>
          <a:blip r:embed="rId2"/>
          <a:stretch/>
        </p:blipFill>
        <p:spPr>
          <a:xfrm>
            <a:off x="6156360" y="2386080"/>
            <a:ext cx="1584360" cy="157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upload.wikimedia.org/wikipedia/commons/thumb/9/91/Liverpool_Anglican_Cathedral_North_elevation.jpg/220px-Liverpool_Anglican_Cathedral_North_elevation.jpg"/>
          <p:cNvPicPr/>
          <p:nvPr/>
        </p:nvPicPr>
        <p:blipFill>
          <a:blip r:embed="rId3"/>
          <a:stretch/>
        </p:blipFill>
        <p:spPr>
          <a:xfrm>
            <a:off x="1619280" y="4149720"/>
            <a:ext cx="2949480" cy="2036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ite cl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4 km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nt cou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NCHE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6496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27" name="Picture 6" descr=" "/>
          <p:cNvPicPr/>
          <p:nvPr/>
        </p:nvPicPr>
        <p:blipFill>
          <a:blip r:embed="rId2"/>
          <a:stretch/>
        </p:blipFill>
        <p:spPr>
          <a:xfrm>
            <a:off x="2484360" y="4724280"/>
            <a:ext cx="11908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7-16T14:35:28Z</dcterms:modified>
  <cp:revision>20</cp:revision>
  <dc:subject/>
  <dc:title>EUROPEAN UNION</dc:title>
</cp:coreProperties>
</file>