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596-D3E5-483D-8E79-E18254EFC6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DFB-E53E-489C-92DE-ACEC6B31AC9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475-5744-44DA-A7AA-D04DFEDCDF4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373-F178-4E05-B492-894D994F372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A35-20A9-4055-8F9A-289C024A081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753-2060-4697-95F9-F9C38755226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462-B051-4B56-8B0F-A0F3523C346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80D-9C8B-42A0-874F-A2354239956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7AB-3164-4B2E-A4D2-FB18632A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889-6DBC-47E5-A60E-84BEF15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A79-23DB-47A3-9EC3-A8CF54BF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D0E-2D25-4C24-B4F7-DB2F25A6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E9F-B4BF-4036-B431-B25EDE88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C86-911D-4CE3-87F2-809C1089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4598-DF23-470D-B5B4-E88380B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D8C-50A5-420E-970B-47A3E8E2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65E-663C-4BEF-B04B-A5BAA3C5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E184-4E5F-4EBC-8E35-C922B7D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DE2-B0CC-44BF-B33D-78572C4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913-0503-4543-AD95-4459F63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457-BD70-4C77-92D3-C3443DE4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426-8215-4304-8A5E-1A7F5B15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F0BE-33A7-49FD-86B4-54973C0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5EC-4C65-4407-805B-88C9F790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9A7A-FC39-4550-B4EB-D39D0F83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EC90-0D91-421C-985F-7645E78B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CD4B-D5E2-43DD-9126-BF5F7D6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A3E5-9744-40F9-817E-AF11F752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2AE5-59B5-42C4-BC68-07CA889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C9BC-559A-4964-BED3-759A5680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57B-57A4-4496-BD7E-9A53428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363D-852C-4553-A6CB-EA84FD0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2A07-78B6-42D5-86AD-3272BA9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2FB7-E8E4-46FE-ABA2-9C9A4D3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80F8-04F6-454D-9D79-AEE7F57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D119-126E-44B5-A09F-E4F3687C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8E96-894F-4D2B-A8A8-F1F529B0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11E3-D878-4719-A103-316E6380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75CE-80A8-4578-9624-619E1E25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399B-A764-4B7F-A41D-D32F830D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308E-B1D1-4C84-BD63-9F5743A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A0E-1C7B-4EC6-88C3-94044F9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2A46-C292-48E0-B9D9-910EA7A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D9D5-BDF9-40D3-A827-619653CB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3535-40F9-4538-8F85-9A4806F0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7160-A2D0-45B3-B316-DCC8AA1E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B811-F1F4-4588-9D49-7A6D0CA7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B5F9-B37F-4DBE-9DD5-659139D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251F-2FC4-46FD-84E8-01E94652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3ED3-00CB-4C66-B999-7824337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0632-44BF-4834-99CF-4CD04F3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C86-28A9-4950-A920-B0677178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F1-E149-4EBF-AF15-E8FA6C4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A39-F27C-4E9F-814B-92D8F38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42C-8CE1-434C-AABF-1E786F2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69F-2DE4-4F94-9430-3F0589BA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F163-65B0-48DC-A46B-08636C36338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0A6-18B3-4EAF-AD7F-17394EB4B60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73AE-CC2D-40F6-BEA2-9233FADDDC8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1930-004C-454A-BE3B-4ECFD4B4C8F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5" descr=""/>
          <p:cNvPicPr/>
          <p:nvPr/>
        </p:nvPicPr>
        <p:blipFill>
          <a:blip r:embed="rId1"/>
          <a:stretch/>
        </p:blipFill>
        <p:spPr>
          <a:xfrm>
            <a:off x="4438800" y="3141720"/>
            <a:ext cx="410832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ELA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th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5003640" y="2994120"/>
            <a:ext cx="30765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RW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69 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lmers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ern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3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2997360" cy="2244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YERS R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lur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 the Outbac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600 mil. years o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,6 km lo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,4 km w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48 m hig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3" descr=""/>
          <p:cNvPicPr/>
          <p:nvPr/>
        </p:nvPicPr>
        <p:blipFill>
          <a:blip r:embed="rId1"/>
          <a:stretch/>
        </p:blipFill>
        <p:spPr>
          <a:xfrm>
            <a:off x="4888080" y="3068640"/>
            <a:ext cx="35067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and an Australia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40 km from the southern co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8,40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art (the capit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4718160" y="2924280"/>
            <a:ext cx="36320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ARRIER REE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oral reef in the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,000 km l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 is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h eco-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 types of corals, 4,000 fish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ANGARO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22600"/>
            <a:ext cx="5040360" cy="334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PLATYP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4" descr=""/>
          <p:cNvPicPr/>
          <p:nvPr/>
        </p:nvPicPr>
        <p:blipFill>
          <a:blip r:embed="rId1"/>
          <a:stretch/>
        </p:blipFill>
        <p:spPr>
          <a:xfrm>
            <a:off x="2252520" y="2708280"/>
            <a:ext cx="5127840" cy="319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N DEV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2190600" y="2565360"/>
            <a:ext cx="5118120" cy="3405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DIN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971960" cy="3309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Austrálii, nejzajímavější místa a jedinečné druhy fauny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, outback, geography, unique anima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WOMB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4" descr=""/>
          <p:cNvPicPr/>
          <p:nvPr/>
        </p:nvPicPr>
        <p:blipFill>
          <a:blip r:embed="rId1"/>
          <a:stretch/>
        </p:blipFill>
        <p:spPr>
          <a:xfrm>
            <a:off x="2340000" y="2468520"/>
            <a:ext cx="5040360" cy="377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O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16120"/>
            <a:ext cx="5008680" cy="3333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7007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stral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yd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elbour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sb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dela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rwin_(Austr%C3%A1l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yers_Ro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elký_bariérový_ú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asmán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 747 40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NBER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2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5" descr=""/>
          <p:cNvPicPr/>
          <p:nvPr/>
        </p:nvPicPr>
        <p:blipFill>
          <a:blip r:embed="rId1"/>
          <a:stretch/>
        </p:blipFill>
        <p:spPr>
          <a:xfrm>
            <a:off x="2422440" y="2362320"/>
            <a:ext cx="452448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argest city of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South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4708440" y="2852640"/>
            <a:ext cx="3662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ra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rbou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dney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4759200" y="3141720"/>
            <a:ext cx="3629160" cy="2082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LBOUR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state of Vic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SB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Queens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ial, financial and transport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27600" y="2924280"/>
            <a:ext cx="32241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00Z</dcterms:modified>
  <cp:revision>26</cp:revision>
  <dc:subject/>
  <dc:title>EUROPEAN UNION</dc:title>
</cp:coreProperties>
</file>