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DD745-8F7B-4E7F-9E30-AFF856D0F72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04104-88A3-4FA2-A513-F4ED2CD2F95D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D9139-5BDE-4020-9A80-5680158112CD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F173D-90E3-45A5-9D44-9DFE9F92CD78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BE33E-4DD0-4EF8-B897-3080AE5F18C5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50285-83B8-4FEE-AA3F-F8EA8A4BB97C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283FB-8B1B-4E41-82ED-AB30A5686032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EC919-9228-4B3E-9239-0065EE35CF8F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3EB9-A179-4892-8DE6-CDF872F3E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699F-7B51-4B63-9567-CD0F4DD0D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B818-F81C-441C-87AF-FA05AA1A5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7D33-5940-4930-B5CE-C610F1E03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E2C50-1832-4C5F-8209-48871CB28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A5AF3-20AF-4240-869C-2EB1DF4D4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B0117-A830-49A6-8EA1-B30131C8C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55389-B706-47E0-8688-19BC7660E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EB8D5-A26C-455F-A804-BD49044A7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95925-6EB8-4E97-9D9A-153A496E5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64176-2C85-4552-9852-CFC725559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5E0F-24CC-4B0E-B3E5-5BDFF414E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CE09E-9599-4D8B-8730-FAF4CAF3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36292-19DC-402C-B592-97C8D554E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3EEC0-A50C-4250-ACE0-B56E6B0E4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B2EFC-04B2-437A-B0A9-19CE14C6D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BA22B-C729-495A-99AB-2E11037F5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28F26-D97D-4604-8EFE-FDDA79739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BFD5F-6669-4D78-A19F-D515D56B5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F5585-282B-4B08-A89C-9DE03E482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F9836-C41A-4553-8AD6-1DE076A73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4EC0F-53BB-4DCD-A220-4414040B0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1470-31AC-4C7C-B435-261223FCC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5A50F-064D-40E8-9BD2-357A4CA3B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58F63-A1F9-4F1C-9870-175685F45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8C91D-245D-4332-AB1D-4550BF14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46EA8-18C4-46C8-A2F1-D51C87E2F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B29F3-4AD6-43B1-95AB-87A303394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90F38-722D-4082-9B00-F35C597A4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3D5AA-2247-45DB-BF74-EE4A63D28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28EC4-566B-463F-9DA9-5F9B90027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9C50F-A473-4DC6-8F14-B6E52448F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2B371-5B32-4C4A-A4F1-D7E7A1EFA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3749-2989-4EC1-8C78-1C27F471D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A2A8B-0AB3-4B29-AD57-395357076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8ABD8-A320-4DE5-A38E-54F32EFA9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AA42C-6B30-4103-B6CE-FA6B7D0B3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9AAD7-72F4-43A2-9016-98164921C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BCC1C-ED4B-4884-8685-5DB63228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06B07-043C-43C6-B1E3-110A88EE3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1E29B-0317-46E0-BF83-2DA61B06B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46A85-EE21-4B46-A05F-8A7A12185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BA3E0-B5A1-419E-A0C3-0EA90B9B5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3723-4C2D-4123-8738-F09C98169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3678-AEEF-4321-8DED-90CE73DF5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B5C1-5790-4BE7-A1D7-F6202DC75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44FC-0B64-4B5D-8179-465FA392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CF51-870F-43A6-B7ED-7B8E7ECE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AEE77-234D-490C-94BA-F80A964A3156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A4BB0-58C4-4799-A557-E3B4BC77FC0D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62118-4E77-4ED0-BA4A-B823709C85E2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4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4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4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88BE3-92DF-42EA-9629-B8D3D56BE2A8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2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čtvrtý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1 / 201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2354400" y="11592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IGHTSEE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43815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 lot of old neolit grav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irst written reports from the Roman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410 AD German trib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Edward I  (13th century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1536 united with Engl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8" name="Zástupný symbol pro obsah 2" descr=""/>
          <p:cNvPicPr/>
          <p:nvPr/>
        </p:nvPicPr>
        <p:blipFill>
          <a:blip r:embed="rId1"/>
          <a:stretch/>
        </p:blipFill>
        <p:spPr>
          <a:xfrm>
            <a:off x="5508720" y="2852640"/>
            <a:ext cx="3082680" cy="212400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  <p:sp>
        <p:nvSpPr>
          <p:cNvPr id="229" name="TextovéPole 3"/>
          <p:cNvSpPr/>
          <p:nvPr/>
        </p:nvSpPr>
        <p:spPr>
          <a:xfrm>
            <a:off x="5796000" y="518328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Bryn Celli Dd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NOWDON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ational park in the North of Wa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2170 km</a:t>
            </a:r>
            <a:r>
              <a:rPr b="0" lang="cs-CZ" sz="2800" spc="-1" strike="noStrike" baseline="30000">
                <a:solidFill>
                  <a:srgbClr val="0033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nowdon (1085 m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26,000 people (63% speak Welsh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2" name="Zástupný symbol pro obsah 2" descr=""/>
          <p:cNvPicPr/>
          <p:nvPr/>
        </p:nvPicPr>
        <p:blipFill>
          <a:blip r:embed="rId1"/>
          <a:stretch/>
        </p:blipFill>
        <p:spPr>
          <a:xfrm>
            <a:off x="5292720" y="3141720"/>
            <a:ext cx="3137040" cy="208764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  <a:ea typeface="Arial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1258920" y="1557360"/>
            <a:ext cx="77007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Wal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Cardif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Swanse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Newpor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Anglese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Bangor_(Wale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Snowdoni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Obrázk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search.creativecommons.org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1258920" y="1700280"/>
          <a:ext cx="7416720" cy="46940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Reálie anglicky mluvících zemí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Konverzace z anglického jazyk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Wale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ukazuje základní fakta o Walesu, nejdůležitější místa a přírodní zajímavosti. Prezentace slouží jako podpůrný materiál při výkladu učiva o britských reáliích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Wales, area, population, capital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4" name="Picture 3" descr=""/>
          <p:cNvPicPr/>
          <p:nvPr/>
        </p:nvPicPr>
        <p:blipFill>
          <a:blip r:embed="rId1"/>
          <a:stretch/>
        </p:blipFill>
        <p:spPr>
          <a:xfrm>
            <a:off x="2354400" y="11592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3366"/>
                </a:solidFill>
                <a:latin typeface="Arial"/>
              </a:rPr>
              <a:t>WALES</a:t>
            </a:r>
            <a:br>
              <a:rPr sz="4400"/>
            </a:br>
            <a:br>
              <a:rPr sz="1000"/>
            </a:b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(Tywysogaeth Cymru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BASIC FAC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SIGHTSEE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ASIC FAC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5246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REA: 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20 779 km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OPULATION: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2 mi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CAPITAL: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CARDIFF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9" name="Zástupný symbol pro obsah 2" descr=""/>
          <p:cNvPicPr/>
          <p:nvPr/>
        </p:nvPicPr>
        <p:blipFill>
          <a:blip r:embed="rId1"/>
          <a:srcRect l="1316" t="1281" r="1316" b="1281"/>
          <a:stretch/>
        </p:blipFill>
        <p:spPr>
          <a:xfrm>
            <a:off x="5651640" y="3141720"/>
            <a:ext cx="2881080" cy="17272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ARDIFF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431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capital of Wa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elsh name: Caerdyd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320,000 inhabita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astel Caerdyd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t.John´s Chur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2" name="Zástupný symbol pro obsah 2" descr=""/>
          <p:cNvPicPr/>
          <p:nvPr/>
        </p:nvPicPr>
        <p:blipFill>
          <a:blip r:embed="rId1"/>
          <a:stretch/>
        </p:blipFill>
        <p:spPr>
          <a:xfrm>
            <a:off x="5435640" y="2997360"/>
            <a:ext cx="3124080" cy="233964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WANSE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431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2</a:t>
            </a:r>
            <a:r>
              <a:rPr b="0" lang="cs-CZ" sz="2800" spc="-1" strike="noStrike" baseline="30000">
                <a:solidFill>
                  <a:srgbClr val="003366"/>
                </a:solidFill>
                <a:latin typeface="Arial"/>
              </a:rPr>
              <a:t>nd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biggest town of Wa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elsh name: Abertaw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weyn´s E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n Gower peninsul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ystermouth cast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5" name="Zástupný symbol pro obsah 3" descr=""/>
          <p:cNvPicPr/>
          <p:nvPr/>
        </p:nvPicPr>
        <p:blipFill>
          <a:blip r:embed="rId1"/>
          <a:stretch/>
        </p:blipFill>
        <p:spPr>
          <a:xfrm>
            <a:off x="5508720" y="2997360"/>
            <a:ext cx="2787480" cy="20872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NEWPOR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431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3</a:t>
            </a:r>
            <a:r>
              <a:rPr b="0" lang="cs-CZ" sz="2800" spc="-1" strike="noStrike" baseline="30000">
                <a:solidFill>
                  <a:srgbClr val="003366"/>
                </a:solidFill>
                <a:latin typeface="Arial"/>
              </a:rPr>
              <a:t>rd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biggest town of Wa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elsh name: Casnewydd-ar-Wys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145,736 peop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mportant por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8" name="Zástupný symbol pro obsah 2" descr=""/>
          <p:cNvPicPr/>
          <p:nvPr/>
        </p:nvPicPr>
        <p:blipFill>
          <a:blip r:embed="rId1"/>
          <a:stretch/>
        </p:blipFill>
        <p:spPr>
          <a:xfrm>
            <a:off x="5508720" y="3284640"/>
            <a:ext cx="2835360" cy="212400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ANGLESE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431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n island in the north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elsh name: Ynys Mô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langefni, Holyhe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lanfairpwllgwyngyllgogerychwyrndrobwllllantysiliogogogoch </a:t>
            </a:r>
            <a:r>
              <a:rPr b="0" lang="cs-CZ" sz="2800" spc="-1" strike="noStrike">
                <a:solidFill>
                  <a:srgbClr val="003366"/>
                </a:solidFill>
                <a:latin typeface="Wingdings"/>
                <a:ea typeface="Wingdings"/>
              </a:rPr>
              <a:t>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1" name="Zástupný symbol pro obsah 2" descr=""/>
          <p:cNvPicPr/>
          <p:nvPr/>
        </p:nvPicPr>
        <p:blipFill>
          <a:blip r:embed="rId1"/>
          <a:stretch/>
        </p:blipFill>
        <p:spPr>
          <a:xfrm>
            <a:off x="5508720" y="3284640"/>
            <a:ext cx="2835360" cy="212400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ANGO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431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 Gwynedd county in the North of Wa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17,998 inhabitant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(1/3 speaks Wels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athedral        city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Bangor Univers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4" name="Zástupný symbol pro obsah 2" descr=""/>
          <p:cNvPicPr/>
          <p:nvPr/>
        </p:nvPicPr>
        <p:blipFill>
          <a:blip r:embed="rId1"/>
          <a:stretch/>
        </p:blipFill>
        <p:spPr>
          <a:xfrm>
            <a:off x="5411880" y="3300480"/>
            <a:ext cx="2787480" cy="208764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  <p:sp>
        <p:nvSpPr>
          <p:cNvPr id="225" name="Šipka doprava 4"/>
          <p:cNvSpPr/>
          <p:nvPr/>
        </p:nvSpPr>
        <p:spPr>
          <a:xfrm>
            <a:off x="2984400" y="5013360"/>
            <a:ext cx="488880" cy="24300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20:36:03Z</dcterms:created>
  <dc:creator>Mgr.Martin Frolík</dc:creator>
  <dc:description/>
  <dc:language>en-US</dc:language>
  <cp:lastModifiedBy>Igor</cp:lastModifiedBy>
  <dcterms:modified xsi:type="dcterms:W3CDTF">2014-09-13T14:14:41Z</dcterms:modified>
  <cp:revision>29</cp:revision>
  <dc:subject/>
  <dc:title>EUROPEAN UNION</dc:title>
</cp:coreProperties>
</file>