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57FD-25D6-44C9-B5E4-46967375FA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37F1-4551-4452-A5B3-C1D55BA32F1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4689-541D-4B2F-AF3B-8B55D0E70A4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B573-D6CF-4EE2-B0F9-228FA19A123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6E68-F7A1-4439-95F4-2AEF1D4D586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F96D-394B-4DFE-8668-E073E51FB3B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9694-5B37-4768-98CB-AC2BE92E3B4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9850-0846-496C-A4B1-DE7B2CB1C45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87B-7847-4477-9D68-1F4782B7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158-781D-4E7E-8908-0945F074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AF7-B80F-4995-898F-0D7246FB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0C9-184B-4702-8D05-A6772D26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D81A-B9A1-4DE4-A392-A696E92C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20C4-34D9-40C4-A338-925B3ADB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05AD-E69F-45EA-AEB3-4E6DCF5D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82CA-11C2-462D-BBA7-6CA972D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DE0F-3FED-4A08-998E-6E9858D7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1EA5-49B6-4DC6-9702-939233E1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4FCF-6671-4D8B-834A-585EE5A4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0DC-EF32-41BD-BD65-98E4E5F1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348C-12CA-4BF1-96B7-E8FAE4F7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D550-1D80-4D50-B99A-4D30F4AD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00C6-8AB7-49C4-A3AA-5939E39F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391C-702B-4AD0-90AC-B3231278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A7F7-0A8A-4512-AEFF-44ABDCEE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79AB-CC38-462A-8FCC-B80BA793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AB210-2105-450A-9246-DC3139B5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BB37-8326-4955-AF5A-B8112048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1122-15C0-4DFF-80EA-7CFBB5D1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CC6C-0DE0-4067-8894-25C6519F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767-9A2A-4D0D-997C-DC28E3A2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B29D-BDA9-4CAB-99BF-08C59298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501F-52E8-4F2D-836D-CDAD42A8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4627-4F09-484D-988D-EF4F6DD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214B-19B6-40F1-BD74-01656C34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02D3-CE2E-4A21-86E6-10CB9CBD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7EC84-A399-477F-AEE3-A5829F16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8705-04E8-4416-B9FC-5563C74F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1521-5F22-438F-B2B1-938AE037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36F7F-B5DA-4BB7-B12B-1703E0D5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7CAF6-7F7B-4D9E-92C1-0E7BDC17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74B-5A3D-4DD1-8710-303CEDE8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0A17-AA1D-42B9-B470-3B319546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2A797-3B75-4FC2-B701-82C42642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4909-9A08-4C7D-9EBE-5767A80D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6FDD-724C-47F0-8C95-803ECDE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B463-ED94-48F9-B270-82459B8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05CA-2BEB-4BD7-9BCD-EDD37C5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A8C9-4D98-4439-ABCC-23A12585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F641-3ABB-46A6-8CE7-3ED354E3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4FAA-25B2-40A2-B473-3AFBAD8D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CBE-3D0D-4CDC-B5EA-89C931C9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D80-8DB5-427C-ACA0-783841B9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3FD-CA2B-4BD9-A2D0-C097A2D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A64-0FD4-47A1-937B-2CA73EB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077-370B-42DC-9F2C-D8510368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9433-A5EC-4EB1-8023-13B19C45F19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40E9-0F48-415F-8365-34BD39864C1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DE2D-DA16-4427-995C-CA1E5758CA0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7CCB-D98A-4FE9-B772-A7864779052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4792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CHIG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NES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SSISSIPP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SSO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ONT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BRAS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V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HAMP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JERS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MEX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 CAROL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 DAK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H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KLAHO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RE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RHODE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UTH CAROL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UTH DAK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ENNESS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UTA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ERM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RGI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ISCONS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YO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EST VIRGI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4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SH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Potomac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.C. – district of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2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Y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city in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 mil. inhabitants (with aglom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al centre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Zástupný symbol pro obsah 3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S ANGE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8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with aglom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lm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4476600" y="2781360"/>
            <a:ext cx="389592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IC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Illino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0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llis Tower (formerly Sears Tow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N FRANCIS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 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7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lden Gate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catr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amo Squ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4902120" y="2997360"/>
            <a:ext cx="3478320" cy="244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N DIE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 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Europeans in 154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the USA-Mexico border (Tijua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lboa Pa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116160" cy="2334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he U.S.A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USA, nejzajímavější místa a města země. Prezentace slouží jako podpůrný materiál při výkladu učiva o amer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geography, population, cities, sightsee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684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AS VEG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ntre of gamb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ight life, high crimin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tr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5121360" y="2637000"/>
            <a:ext cx="3043080" cy="3168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S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assachuset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5th biggest c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unded in 163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ston Tea Party (1773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Zástupný symbol pro obsah 3" descr="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8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HILADELPH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90-1800 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pendence H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iberty b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Zástupný symbol pro obsah 2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ITTSBUR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ed to be known as the „steel capital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d after William Pit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Zástupný symbol pro obsah 3" descr=""/>
          <p:cNvPicPr/>
          <p:nvPr/>
        </p:nvPicPr>
        <p:blipFill>
          <a:blip r:embed="rId1"/>
          <a:stretch/>
        </p:blipFill>
        <p:spPr>
          <a:xfrm>
            <a:off x="4719600" y="2781360"/>
            <a:ext cx="33638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I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ami B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iday res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137040"/>
            <a:ext cx="3409920" cy="2163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US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yndon B.Johnson Spac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Zástupný symbol pro obsah 3" descr=""/>
          <p:cNvPicPr/>
          <p:nvPr/>
        </p:nvPicPr>
        <p:blipFill>
          <a:blip r:embed="rId1"/>
          <a:stretch/>
        </p:blipFill>
        <p:spPr>
          <a:xfrm>
            <a:off x="4692600" y="2924280"/>
            <a:ext cx="346392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ALL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9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il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Zástupný symbol pro obsah 3" descr=""/>
          <p:cNvPicPr/>
          <p:nvPr/>
        </p:nvPicPr>
        <p:blipFill>
          <a:blip r:embed="rId1"/>
          <a:stretch/>
        </p:blipFill>
        <p:spPr>
          <a:xfrm>
            <a:off x="4791240" y="2852640"/>
            <a:ext cx="3311280" cy="2448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ORL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uis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raddle of jaz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2005 hit by hurric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Zástupný symbol pro obsah 3" descr=""/>
          <p:cNvPicPr/>
          <p:nvPr/>
        </p:nvPicPr>
        <p:blipFill>
          <a:blip r:embed="rId1"/>
          <a:stretch/>
        </p:blipFill>
        <p:spPr>
          <a:xfrm>
            <a:off x="4719600" y="278136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N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lor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ile high city (approx. 1600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Rocky Mount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Queen city of pl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063600" cy="2295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LT LAKE C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ta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fore Europeans there lived Shoshone trib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mon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2 Olympic G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263760"/>
            <a:ext cx="3384720" cy="18957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THE UNITED STATES OF AME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.LOU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sso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63 by the Fre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d after the French king Louis 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ateway 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Zástupný symbol pro obsah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3382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CHOR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ask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tled 5,000 years ago by Eskim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964 enormous earthqu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8" name="Zástupný symbol pro obsah 2" descr=""/>
          <p:cNvPicPr/>
          <p:nvPr/>
        </p:nvPicPr>
        <p:blipFill>
          <a:blip r:embed="rId1"/>
          <a:stretch/>
        </p:blipFill>
        <p:spPr>
          <a:xfrm>
            <a:off x="4816440" y="3213000"/>
            <a:ext cx="377676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NOLU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wa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ahu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in 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1" name="Zástupný symbol pro obsah 3" descr=""/>
          <p:cNvPicPr/>
          <p:nvPr/>
        </p:nvPicPr>
        <p:blipFill>
          <a:blip r:embed="rId1"/>
          <a:stretch/>
        </p:blipFill>
        <p:spPr>
          <a:xfrm>
            <a:off x="4910040" y="3068640"/>
            <a:ext cx="346248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CKY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3" name="Zástupný symbol pro obsah 2" descr=""/>
          <p:cNvPicPr/>
          <p:nvPr/>
        </p:nvPicPr>
        <p:blipFill>
          <a:blip r:embed="rId1"/>
          <a:stretch/>
        </p:blipFill>
        <p:spPr>
          <a:xfrm>
            <a:off x="2557440" y="2637000"/>
            <a:ext cx="4462560" cy="3330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ELLOWST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5" name="Zástupný symbol pro obsah 2" descr=""/>
          <p:cNvPicPr/>
          <p:nvPr/>
        </p:nvPicPr>
        <p:blipFill>
          <a:blip r:embed="rId1"/>
          <a:stretch/>
        </p:blipFill>
        <p:spPr>
          <a:xfrm>
            <a:off x="2257560" y="2565360"/>
            <a:ext cx="4906800" cy="3354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VERGL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7" name="Zástupný symbol pro obsah 3" descr=""/>
          <p:cNvPicPr/>
          <p:nvPr/>
        </p:nvPicPr>
        <p:blipFill>
          <a:blip r:embed="rId1"/>
          <a:stretch/>
        </p:blipFill>
        <p:spPr>
          <a:xfrm>
            <a:off x="1835280" y="2533680"/>
            <a:ext cx="428940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98" name="Obrázek 4" descr=""/>
          <p:cNvPicPr/>
          <p:nvPr/>
        </p:nvPicPr>
        <p:blipFill>
          <a:blip r:embed="rId2"/>
          <a:stretch/>
        </p:blipFill>
        <p:spPr>
          <a:xfrm>
            <a:off x="5796000" y="4581360"/>
            <a:ext cx="2657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SEM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0" name="Zástupný symbol pro obsah 3" descr=""/>
          <p:cNvPicPr/>
          <p:nvPr/>
        </p:nvPicPr>
        <p:blipFill>
          <a:blip r:embed="rId1"/>
          <a:stretch/>
        </p:blipFill>
        <p:spPr>
          <a:xfrm>
            <a:off x="2398680" y="2708280"/>
            <a:ext cx="4452840" cy="2952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AND CANY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2" name="Zástupný symbol pro obsah 3" descr=""/>
          <p:cNvPicPr/>
          <p:nvPr/>
        </p:nvPicPr>
        <p:blipFill>
          <a:blip r:embed="rId1"/>
          <a:stretch/>
        </p:blipFill>
        <p:spPr>
          <a:xfrm>
            <a:off x="1743120" y="2781360"/>
            <a:ext cx="587052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UNT RUSHMO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4" name="Zástupný symbol pro obsah 2" descr=""/>
          <p:cNvPicPr/>
          <p:nvPr/>
        </p:nvPicPr>
        <p:blipFill>
          <a:blip r:embed="rId1"/>
          <a:stretch/>
        </p:blipFill>
        <p:spPr>
          <a:xfrm>
            <a:off x="2505240" y="2708280"/>
            <a:ext cx="43495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258920" y="1557360"/>
            <a:ext cx="7700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shington,_D.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ew_Y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s_Ange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hica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an_Francis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an_Diego_(Kaliforn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all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env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74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9 631 214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30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3590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THE U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Zástupný symbol pro obsah 3" descr=""/>
          <p:cNvPicPr/>
          <p:nvPr/>
        </p:nvPicPr>
        <p:blipFill>
          <a:blip r:embed="rId1"/>
          <a:stretch/>
        </p:blipFill>
        <p:spPr>
          <a:xfrm>
            <a:off x="2360520" y="2781360"/>
            <a:ext cx="4659480" cy="28940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THE U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3" name="Zástupný symbol pro obsah 2" descr=""/>
          <p:cNvPicPr/>
          <p:nvPr/>
        </p:nvPicPr>
        <p:blipFill>
          <a:blip r:embed="rId1"/>
          <a:stretch/>
        </p:blipFill>
        <p:spPr>
          <a:xfrm>
            <a:off x="2556000" y="2697120"/>
            <a:ext cx="4319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ABA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AS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RIZO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RKAN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OLOR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ONNECTIC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ELA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EOR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WA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DAH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LLINO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ND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O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KAN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KENTUC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OUIS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Y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SSACHUSET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6:05Z</dcterms:modified>
  <cp:revision>42</cp:revision>
  <dc:subject/>
  <dc:title>EUROPEAN UNION</dc:title>
</cp:coreProperties>
</file>