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2751-4364-476F-BD83-CCBDCB8219C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45C0-5936-485D-908C-C8122BF0EE78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9179-A148-454C-B1C4-D93232608C44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8C7E-B58E-4CC5-9F82-DCBDC9F14D17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B7D4-FE1F-4F73-AF69-B6E10428069A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AD4E-802C-4485-BA61-FCFBCB52A9A9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41AB-01DB-43F7-A1AF-36C0457F7C65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E4C1-961D-4B88-A43D-F84592EDAA6C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B8C8-3D6A-4807-80A1-662E705B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4DE7-EA8C-4726-A14C-CC4B7293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1C06-3C35-4D00-AABE-89F7ED84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0892-FF64-40A2-BF86-67E4927B6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BC86-CE69-4C66-91F5-B8C7D0F7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B85A-8B23-463C-95A5-9F88AA6B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3B17-436A-4A4E-A50C-D82615D6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26FE-1594-442C-99EA-853D2627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5216-0C13-464D-8DD9-4B0B28FB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364A-3BEC-4C37-A70D-E68226C3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3447-4867-4848-B012-6B8C3010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67EE-7A24-4044-B9B5-C4853742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9D37-08E1-4E70-99A9-45C36907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A966-7BDE-4F55-9E71-987AE527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4BF4-32CF-48F4-8D7F-99334F1B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C1C5-C0DA-4CA9-81A2-59DCAF5E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9994-2725-4C73-A5D5-2E648DB4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5B74F-19E5-48B1-8E6D-EFF16C73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B0C6A-563C-4E0F-BF00-C0A94EC4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7A28E-1A9D-4218-9152-86EBE9B7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CF594-E6D9-40FC-BFA0-2BEC0BC2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18B8A-3DCB-4D2E-874D-C56FC539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3735-95A0-4391-9761-111C0F4E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9678D-5790-43CB-AF1D-330647E9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C3B0A-449E-4AD1-A8DF-020CDBE3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AE8E5-F2DC-492C-AC13-34743A86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0A9E6-7894-4AF1-92AA-0471458E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5FB59-E3AD-415F-9EFF-E01294E7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700F0-B0B8-4C2C-BC8E-77F088FD4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BF2D6-F41E-4BCB-A2FA-3D4CF20E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83C86-7F7C-4B22-979A-EFD0843F1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C2CA1-C27E-4C88-8CCA-A2179983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02F87-3BC2-46B9-992B-D8B23B92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7714-43DF-4724-9C47-CA735F07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E3D7C-BA79-4017-BE6A-7983D1EC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E0650-A67D-4BBB-B3BC-ABD6B8B7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0F57A-496B-479D-8691-17DF7DCD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F738C-3C7A-41E3-B63A-2C478AE0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57E83-75B3-4F03-9715-FE190E3C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31EBB-4540-4263-A7E7-150B4D31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2B240-6B32-474E-B56D-863D3678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73FDE-EC77-4EEF-8C12-1284C44A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E5E0A-D408-4EFF-A69B-8C8255805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42A9-9047-4131-93CE-CAB6713E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A6CB-BA2B-44B2-8460-0ADCA8BA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F04B-CC0D-4B36-8611-DCBCF588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BF70-14EE-44CF-8615-0EBFF101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9C4D-0A7A-40E8-A51E-DF985301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4FF7-5589-4816-B812-2C6AD440F4DB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F5AE-E6CD-41A1-91AC-804D9C5990F5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FAEC-7BD1-45BC-9737-58AC125D4B49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7F85-038D-445A-9E60-6E4AFFBDA7C6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3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3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970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23864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Richard Nixon </a:t>
            </a: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- Watergate Affair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(Nixon had to resig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Gerald F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Jimmy Car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(in 2002 award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Nobel Prize for Peace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7" name="Zástupný symbol pro obsah 2" descr=""/>
          <p:cNvPicPr/>
          <p:nvPr/>
        </p:nvPicPr>
        <p:blipFill>
          <a:blip r:embed="rId1"/>
          <a:stretch/>
        </p:blipFill>
        <p:spPr>
          <a:xfrm>
            <a:off x="5468760" y="2781360"/>
            <a:ext cx="2347920" cy="2879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980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23864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Ronald Reag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Cold W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Soviet Union proclaimed the Empire of Ev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Since 1989 G.Bus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0" name="Zástupný symbol pro obsah 3" descr=""/>
          <p:cNvPicPr/>
          <p:nvPr/>
        </p:nvPicPr>
        <p:blipFill>
          <a:blip r:embed="rId1"/>
          <a:stretch/>
        </p:blipFill>
        <p:spPr>
          <a:xfrm>
            <a:off x="5435640" y="2712960"/>
            <a:ext cx="2449440" cy="30574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990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238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George Bush S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Panama Inva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Gulf W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The end of Cold W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Bill Clint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NATO operations in Yugoslav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3" name="Zástupný symbol pro obsah 3" descr=""/>
          <p:cNvPicPr/>
          <p:nvPr/>
        </p:nvPicPr>
        <p:blipFill>
          <a:blip r:embed="rId1"/>
          <a:stretch/>
        </p:blipFill>
        <p:spPr>
          <a:xfrm>
            <a:off x="5435640" y="2712960"/>
            <a:ext cx="2449440" cy="30574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2000 - no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238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264d"/>
                </a:solidFill>
                <a:latin typeface="Arial"/>
              </a:rPr>
              <a:t>What do you know about the US history in the last 15 years?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6" name="Zástupný symbol pro obsah 2" descr=""/>
          <p:cNvPicPr/>
          <p:nvPr/>
        </p:nvPicPr>
        <p:blipFill>
          <a:blip r:embed="rId1"/>
          <a:stretch/>
        </p:blipFill>
        <p:spPr>
          <a:xfrm>
            <a:off x="5375160" y="2637000"/>
            <a:ext cx="2421000" cy="3024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Nevis A., Steele Commaner H. 1994. Dějiny Spojených Států. AMLYN Klatov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Tindall G.B., Shi D.E., 2008. Dějiny Spojených Států Amerických, Nakladatelství Lidové Novin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Dějiny_US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merican history – 20th centur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data z historie Spojených států 20.století. Prezentace slouží jako podpůrný materiál při výkladu vyučujícího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USA, history, preside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AMERICAN HISTO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IMPORTANT EV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ORLD WAR 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Woodrow Wilson proclaimed neutra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Since 1917 USA involved in the World War 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Wilson helped to establish Czechoslovak Republ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2" descr=""/>
          <p:cNvPicPr/>
          <p:nvPr/>
        </p:nvPicPr>
        <p:blipFill>
          <a:blip r:embed="rId1"/>
          <a:stretch/>
        </p:blipFill>
        <p:spPr>
          <a:xfrm>
            <a:off x="5510160" y="2708280"/>
            <a:ext cx="2301840" cy="30733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ETWEEN THE WA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After the war prohib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929 – Black Thursday (started on October 24 at the Stock Exchange, big economic crises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New Deal – economic plan 1933-193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Zástupný symbol pro obsah 3" descr=""/>
          <p:cNvPicPr/>
          <p:nvPr/>
        </p:nvPicPr>
        <p:blipFill>
          <a:blip r:embed="rId1"/>
          <a:stretch/>
        </p:blipFill>
        <p:spPr>
          <a:xfrm>
            <a:off x="5251320" y="3141720"/>
            <a:ext cx="2967120" cy="2303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ORLD WAR I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941 – Japanese attacked Pearl Harb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USA involved in the World War I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Norman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Hiroshima, Nagasak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Liberation of Plzeň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Zástupný symbol pro obsah 3" descr=""/>
          <p:cNvPicPr/>
          <p:nvPr/>
        </p:nvPicPr>
        <p:blipFill>
          <a:blip r:embed="rId1"/>
          <a:stretch/>
        </p:blipFill>
        <p:spPr>
          <a:xfrm>
            <a:off x="5113440" y="2997360"/>
            <a:ext cx="3147840" cy="2519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RSHALL 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67064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948 – European Recovery Program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Announced by the minister of foreign affairs Marshall in 194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948-1952 (13 bil.dolla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zechoslovakia refus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8" name="Zástupný symbol pro obsah 2" descr=""/>
          <p:cNvPicPr/>
          <p:nvPr/>
        </p:nvPicPr>
        <p:blipFill>
          <a:blip r:embed="rId1"/>
          <a:stretch/>
        </p:blipFill>
        <p:spPr>
          <a:xfrm>
            <a:off x="5665680" y="3062160"/>
            <a:ext cx="19623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950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950 – 1953 Korean w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33,000 American soldiers di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General MacArth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1" name="Zástupný symbol pro obsah 5" descr=""/>
          <p:cNvPicPr/>
          <p:nvPr/>
        </p:nvPicPr>
        <p:blipFill>
          <a:blip r:embed="rId1"/>
          <a:stretch/>
        </p:blipFill>
        <p:spPr>
          <a:xfrm>
            <a:off x="4986360" y="2997360"/>
            <a:ext cx="3116160" cy="2303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960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67064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John Fitzgerald Kenne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961 – Cuba (an attempt to capture Castr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962 – Cuba cri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Martin Luther 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ietnam w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4" name="Zástupný symbol pro obsah 3" descr=""/>
          <p:cNvPicPr/>
          <p:nvPr/>
        </p:nvPicPr>
        <p:blipFill>
          <a:blip r:embed="rId1"/>
          <a:stretch/>
        </p:blipFill>
        <p:spPr>
          <a:xfrm>
            <a:off x="5627520" y="2924280"/>
            <a:ext cx="2184480" cy="2789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9:20Z</dcterms:modified>
  <cp:revision>57</cp:revision>
  <dc:subject/>
  <dc:title>EUROPEAN UNION</dc:title>
</cp:coreProperties>
</file>