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CE0-CFB2-4677-988C-314D60AF6F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2FF-FB50-4B5B-AED9-E12D4C03831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370B-0121-43C7-B8E7-2BE3438C4FC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408-ADAF-4BF7-868A-DCB47C38890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F49E-63A8-4088-8E24-348ECB6F7AA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CA9-7756-4165-A692-65BCD939BE9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B9E-72BB-4794-B413-C62BFF81440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B37-AB91-406D-B271-74BAB0FE2E8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A79-7C2C-46C3-8A2B-00FD8DB3C1E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3A8-E17A-4E21-97F7-F9EAC979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153-C85A-4E42-B456-D4CC50FF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A91-7FD6-4006-891C-929A970F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214-193C-4640-8C9E-06E7CD6B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4870-24DC-400E-9B58-D1A1963A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8A96-FFFA-40A0-A88B-A4D6F44E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28EA-5552-439D-A93A-826BD95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E4AD-0FC3-45FA-B245-66A8F7E7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3933-BF94-4E6D-A302-E1EF19BF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0C4F-4EF6-4F36-B64F-98C8D15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964B-7AF2-435A-A984-28A8D7E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F55-EA49-4374-B4F5-C9973897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6EF-59A6-4DDB-A934-8DCC984A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1F6F-29FB-4CDE-8F70-329AA31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55B4-5144-4CF5-9558-2AAEB84B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CB2E-446A-4855-AB7C-946C7C97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94B6-B2B4-45A6-85F8-D06772CE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016D-683F-44EC-AF08-6040B057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D113-AD25-43B5-8123-71AA0BF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61B7-1D3D-4C3A-AFAA-F684CFDF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C566-CF77-4CAD-935E-5215F43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1F31-6554-4B02-8EF0-E9C0F2C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D54-5067-4AAA-AA19-71D4B52E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9BCD-C7AF-4B3D-9A3D-C5D10733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1D8F-A4F3-4E38-B9FB-FF34049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8955-B8A3-4D21-ACD9-40D94D3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A346-A8E5-45DF-B55A-A7448EE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5808-8E01-4449-B558-134E67AF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E37A-8CE2-4AF8-A3C1-3784D506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59F2-CDE4-40F2-A6F3-09D404BB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936D-292F-4C50-A2BD-FB16D41B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1FA2-DCF8-41C1-91EF-0D0BAC3C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9DB6-2C6F-461D-B4BF-BEC25A7E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2B8-8432-41A1-B439-504BD4C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EF421-3FE1-4D3B-A52C-0157756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6946-54C4-4A86-970F-E9D45A64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696A-894D-4271-978B-A224A777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B82F-E1BC-49C4-9630-469F694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474D-F201-4353-BF41-4365959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604A-D047-41E7-AA7F-ED05598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33B8-1973-42FD-A70B-EB06B28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7796-E346-45EB-95A2-7E38031D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0498-7692-4E6D-9E6D-1E895F96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473-4D07-4705-B6A3-275FA84A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932-3A19-4248-A08E-EB8564D4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925-FFE6-42BE-94F6-B97B164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91F-F9A0-47A6-808B-25B2D53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66C-4A6B-48A7-8376-C34513B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DEE-A2D0-4728-B1DC-FAA8B045C1A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615-E887-492E-B315-3F64762DBFA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6EFA-7EA3-42C6-83DB-FCB2E896932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9519-2B0B-414F-8BD7-88F39BD7B30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4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ass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economic policies in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lude international agreements between the EU and other countries and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pprove the EU´s budget together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common foreign affairs and 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cooperation between the national courts and police fo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neral affairs and external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and financial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stice and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mployment, social policy, health and consumer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eti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port, telecommunications and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riculture and fishe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, youth and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t on national government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the interests of EU as a wh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ecutive EU´s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lements the decision of Parliament and the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s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pointed for 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sé Manuel Barroso –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Štefan Fül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Czech commissio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13" descr="fule"/>
          <p:cNvPicPr/>
          <p:nvPr/>
        </p:nvPicPr>
        <p:blipFill>
          <a:blip r:embed="rId1"/>
          <a:stretch/>
        </p:blipFill>
        <p:spPr>
          <a:xfrm>
            <a:off x="5076720" y="2781360"/>
            <a:ext cx="34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 of the Commi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ropose legislation to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nage and implement EU policies and the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nforce European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present the EU on the international s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judge for each member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7 judges and 8 general attorn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sure that EU legislation is interpreted and applied in the same way in all EU member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ssilios Skouris – the chairm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ří Malenovský – the Czech ju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up in 1975, has its seat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heck that EU funds are properly collected and spent legally, economically and for the intended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00 staff including translators and administrators and aud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ganizace Evropské Un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jak funguje Evropská Unie, jaké má organizace a jaká je jejich rol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organisation, Parliament, council, committee, law, budg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are divided into audit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pare draft reports, the Court takes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go on tours of inspections to the other EU institutions, the member states and any country receiving EU ai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itor Manuel da Silva Caldeir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n Kinš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Czech aud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CHANGES AFTER LISBON TREA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sbon Treaty established two new important position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inister of Foreign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IDENT OF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Herman van Rompu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9" descr="rompuy 2"/>
          <p:cNvPicPr/>
          <p:nvPr/>
        </p:nvPicPr>
        <p:blipFill>
          <a:blip r:embed="rId1"/>
          <a:stretch/>
        </p:blipFill>
        <p:spPr>
          <a:xfrm>
            <a:off x="5508720" y="2708280"/>
            <a:ext cx="2736720" cy="2373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NISTER OF FOREIGN AFFAI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therine ASH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5" name="Picture 6" descr="ashton"/>
          <p:cNvPicPr/>
          <p:nvPr/>
        </p:nvPicPr>
        <p:blipFill>
          <a:blip r:embed="rId1"/>
          <a:stretch/>
        </p:blipFill>
        <p:spPr>
          <a:xfrm>
            <a:off x="5508720" y="3095640"/>
            <a:ext cx="2808360" cy="2133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4. ORGANISING THE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GANISING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ganising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833400" y="2637000"/>
            <a:ext cx="7632360" cy="3376800"/>
            <a:chOff x="833400" y="2637000"/>
            <a:chExt cx="7632360" cy="3376800"/>
          </a:xfrm>
        </p:grpSpPr>
        <p:cxnSp>
          <p:nvCxnSpPr>
            <p:cNvPr id="210" name="_s1028"/>
            <p:cNvCxnSpPr>
              <a:stCxn id="211" idx="0"/>
              <a:endCxn id="212" idx="2"/>
            </p:cNvCxnSpPr>
            <p:nvPr/>
          </p:nvCxnSpPr>
          <p:spPr>
            <a:xfrm flipH="1" flipV="1" rot="5400000">
              <a:off x="352548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3" name="_s1029"/>
            <p:cNvCxnSpPr>
              <a:stCxn id="214" idx="0"/>
              <a:endCxn id="212" idx="2"/>
            </p:cNvCxnSpPr>
            <p:nvPr/>
          </p:nvCxnSpPr>
          <p:spPr>
            <a:xfrm flipV="1">
              <a:off x="4649760" y="3987360"/>
              <a:ext cx="2160" cy="6760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5" name="_s1030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5883120" y="275328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7" name="_s1031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509724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9" name="_s1032"/>
            <p:cNvCxnSpPr>
              <a:stCxn id="220" idx="0"/>
              <a:endCxn id="212" idx="2"/>
            </p:cNvCxnSpPr>
            <p:nvPr/>
          </p:nvCxnSpPr>
          <p:spPr>
            <a:xfrm flipH="1" flipV="1" rot="5400000">
              <a:off x="2739960" y="275364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12" name="_s1033"/>
            <p:cNvSpPr/>
            <p:nvPr/>
          </p:nvSpPr>
          <p:spPr>
            <a:xfrm>
              <a:off x="3976200" y="263700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TITU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_s1034"/>
            <p:cNvSpPr/>
            <p:nvPr/>
          </p:nvSpPr>
          <p:spPr>
            <a:xfrm>
              <a:off x="8334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RLIAM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_s1035"/>
            <p:cNvSpPr/>
            <p:nvPr/>
          </p:nvSpPr>
          <p:spPr>
            <a:xfrm>
              <a:off x="55476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RT O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71190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COURT OF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AUDITORS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_s1037"/>
            <p:cNvSpPr/>
            <p:nvPr/>
          </p:nvSpPr>
          <p:spPr>
            <a:xfrm>
              <a:off x="39762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EUROPEAN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COMMISSIO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_s1038"/>
            <p:cNvSpPr/>
            <p:nvPr/>
          </p:nvSpPr>
          <p:spPr>
            <a:xfrm>
              <a:off x="24048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NCIL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F EU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79 the members are elected directly for five-year te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54 members from 27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 Czech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umbers was slightly changed according to the Lisbon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national but political bl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uxembourg (administrative offices - the General Secretaria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ussels and Strasbourg (meeting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Jerzy Buzek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– the Presid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ssing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mocratic supervision over the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power (shares together with the Council the authority over the budg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ain decision-making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etings are attended by one minister from each EU nation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rmanent national team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 has 12 votes out of 3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ower of veto / qualified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cy rotates every 6 mon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orbjørn Jagla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Secretary-General of the Counc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59Z</dcterms:modified>
  <cp:revision>20</cp:revision>
  <dc:subject/>
  <dc:title>EUROPEAN UNION</dc:title>
</cp:coreProperties>
</file>