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EEC5-F205-40AE-A9D2-B17D1FE305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DF3-39B7-47AB-8CB3-C5A07ACC3C2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195B-3400-4578-8D71-E70C78EB80F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D52-C122-41DE-B43E-B6E284F3925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CB74-0838-4FF5-90CF-B830D08EB00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BCD-7F12-4339-8248-B0E1BC4ABDC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6B8-B54F-4962-9048-070C3CA3AC9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787-EFAC-4DA5-8804-1E11B446D50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D97-CE7B-4536-B771-B0BDA14E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F02-896F-49A8-BB99-749C80C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FC1-4556-4258-BBC0-3B629978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089-C90C-4490-912B-0AAE9D5B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7CE0-64FA-4D8E-86C0-7DA65249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5965-58D7-486E-BDC2-DA2D57A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9DF4-1E7E-4F86-880E-E1098410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A63-5CD4-47F9-8B49-CB1CFB0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EACB-EE04-4C30-AD35-B4633039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2A9-111F-433C-AF44-E7FBDA96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024-A352-471A-B5B2-70690A9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1B0-71BB-4F23-84A0-B7B5EB5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217E-0C94-4F7E-A994-509E126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FEE-B3EA-4B03-B44D-CD63780F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1382-A266-4CDD-8644-34056F19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C2D-D922-4DB9-A43A-D2CAD5BF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7F5E-3E4E-4256-81C7-930F6E1C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3660-7FE8-4072-BD0F-891139FF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0DEC-9EEC-4545-8272-2664C00C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E389-04B7-46CE-8A06-E9F3FC2E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2F18-8CFA-4C32-AB32-BE48990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0579-2DBC-400B-B547-22E9A26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0B2-F42A-4A19-A936-33FA4AE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FB1D-726D-4F1D-8C0C-0FA343C1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77C3-3B04-4CEC-93F5-D2E8468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8F7E-39F7-4B8C-AD1B-B037AB2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9D44-77CD-42D1-A176-7778C9AF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1BD1-FA1A-4F92-8554-9983C47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248E-D896-4675-83B1-C777F58F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2F37-528C-44DE-BBA0-45C76E56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A90D-FBF9-48AD-80EC-77D74D8D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0A08-93EF-4A67-A904-50115DA1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B8C2-49AC-4EBF-94AB-4CD1BBD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FB6-9BCD-4CEB-8A7E-82E3A1F2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8FB6-1023-40AE-A8E9-CB76D3D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C275-9D63-417A-AF47-7D9E495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5DD2-15B6-4FD6-8E33-7C841AD3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73C8-28E7-4365-AA8E-D4D74005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BA1E-5D07-40A9-8A1B-28EFDA18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8916-89DA-4D8A-82A1-A75D700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7B43-F207-4D86-939F-E7C7FFC5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2F23-61AF-4F7C-8C43-5CD2415E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46430-0D7F-48CF-9C2F-B6ECA641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53CC-66E0-4296-97CC-69DD585E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82E-AD2B-4649-9848-E022B07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44FE-D40B-493B-B50A-E371C7E2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A280-753D-4D74-A190-7D5762CF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A460-D545-4264-A8DF-A0F4719D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99BC-7BCD-4AF3-9DB8-FB1DB53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758C-7CBE-4C7F-A4DB-48E29DA3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A2CD-C399-40BF-93D2-E3231996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9E072-E888-4DA4-A8AE-E3824DB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55D4-7420-4563-BD1D-7A3901B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6620-F55B-496A-8B82-37EE7AD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EC09-FE44-4AD1-B67E-2D31CE46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82A-6A0A-42E1-A62A-950E2EAC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0074-2CAB-4A5E-AC04-5FC89D60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AD0E-0280-425B-BFB7-3F490CCB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2A5B9-8449-4D73-8CA8-AC10DAE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F501-259B-4C25-833C-0BB5AAF2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8D41A-1E1A-4786-A8A8-E899F2F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A052-8B2A-4C3E-9128-985B77E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67C90-361F-4C55-BF1F-8C4F692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DC22-520E-4592-B3B4-2FDA2AE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44FB-2445-4665-9751-D8BE7BEA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E1FF-1906-442A-810B-49C3BF3A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1AC-1F52-4D76-9108-C2C3B87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8338-D4B3-4698-A200-3D3F3895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057F-F485-41EF-A09B-31528E75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AD63-5C3B-4AFF-8590-476058E4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BFEC6-7879-45C5-B0EA-00629F9F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69ED-6512-41E1-B54A-A7892F7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B0AD-046D-48CD-BA20-FB31D642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A97E-8719-4F56-ADB4-BA1FC559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FE69-7C91-43D5-A2ED-501A3500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D949-4A51-4D3D-87B6-652A85B0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7526-E222-4489-AE56-D6486A0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34F-E8A1-4E9B-8DBF-EFEE7DC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B06E-911E-4DF2-92E3-CE1682F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DE94-0742-45D9-873E-BEE6039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DBF12-B686-43CE-8A84-09E3160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C8FF-AF2A-4BD3-86F1-C85BEDF9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F570-DB3F-47CE-A2D3-B2FBF3B1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44AA7-4B00-4847-A8AB-1F5B6450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613F-BB74-4970-AA16-DB323FB9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E48D4-C948-4E10-9CC8-855F6935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E1FDB-59D3-40DF-8AE1-BF00B15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68F21-521B-4C50-98B9-D73A501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EF2-3D3B-41B9-9E53-9F397D2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E93E6-FFB3-4A5A-A461-C2FD7740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DAAF0-6BE3-474E-9090-C393FA1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D432-35F8-4844-8281-2D3B718C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BA39-7BB5-4BC8-9F8A-AADA243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5408-8074-44ED-9D89-35E71C4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DDD4-3877-4506-8ADF-39B7ABC1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4151-598F-42AF-B23B-E0D7D3C0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FDB-CC2C-4DF2-8F36-729EF5C354D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67F-D6D0-4DEF-8892-AF342F18606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1EB9-6A1E-41BE-B2B5-F2998A8AC9CD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9CC-1BE6-4116-903C-30CF67F1354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7173-8DAC-4053-8E9B-0E32EAAC112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555-C1A0-44E4-847E-D3BF6D7FDA27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1678-05E0-41F5-96A8-A87B94B51791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31F1-ECC4-427E-AC6B-B94A23653D12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6" name="Zástupný symbol pro obsah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8" name="Zástupný symbol pro obsah 2" descr=""/>
          <p:cNvPicPr/>
          <p:nvPr/>
        </p:nvPicPr>
        <p:blipFill>
          <a:blip r:embed="rId1"/>
          <a:stretch/>
        </p:blipFill>
        <p:spPr>
          <a:xfrm>
            <a:off x="1994040" y="2421000"/>
            <a:ext cx="5025960" cy="33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APIT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0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JEFFERSO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Zástupný symbol pro obsah 3" descr=""/>
          <p:cNvPicPr/>
          <p:nvPr/>
        </p:nvPicPr>
        <p:blipFill>
          <a:blip r:embed="rId1"/>
          <a:stretch/>
        </p:blipFill>
        <p:spPr>
          <a:xfrm>
            <a:off x="2257560" y="2276640"/>
            <a:ext cx="490680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ARLINGTON CEMET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Zástupný symbol pro obsah 2" descr=""/>
          <p:cNvPicPr/>
          <p:nvPr/>
        </p:nvPicPr>
        <p:blipFill>
          <a:blip r:embed="rId1"/>
          <a:stretch/>
        </p:blipFill>
        <p:spPr>
          <a:xfrm>
            <a:off x="1944720" y="2205000"/>
            <a:ext cx="5291280" cy="38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Fotografie z Washington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M.Frolí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Washingtonu, nejzajímavější místa a památky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, sightseeing, D.C.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SHINGT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IN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6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=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4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376360" cy="1251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6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0" name="Zástupný symbol pro obsah 5" descr=""/>
          <p:cNvPicPr/>
          <p:nvPr/>
        </p:nvPicPr>
        <p:blipFill>
          <a:blip r:embed="rId1"/>
          <a:stretch/>
        </p:blipFill>
        <p:spPr>
          <a:xfrm>
            <a:off x="1871640" y="2133720"/>
            <a:ext cx="543708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 - TREAS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ASHINGTON MONU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4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47Z</dcterms:modified>
  <cp:revision>43</cp:revision>
  <dc:subject/>
  <dc:title>EUROPEAN UNION</dc:title>
</cp:coreProperties>
</file>