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F2B5-85BF-4D09-9B5A-C8FF5A16A2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9078-32ED-4E3B-AEE5-F4A5A2D2CC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D7F-C631-49B3-9D3B-49B223ED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115-D536-4157-830D-2354EC6B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7F5-AB80-4BF1-A14E-166BDBC1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373-E598-499B-9DA0-E4005003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4EB-130F-48EB-B081-31DF137D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959-2726-4A99-BF50-A9C28595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869-E243-41B7-85A4-155B2971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FF5-37F3-4216-AD84-A1308F87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51A-AE0E-4240-AE4B-9575B1D1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954-33C5-46B7-A8C5-32A27298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C73-C4F3-4B1D-B9FC-9B84D9E3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0DC-3DA5-4C93-980E-F60240EB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C42E-7FF1-431D-88E3-20FAA9BFCAB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366920"/>
                <a:gridCol w="1513080"/>
                <a:gridCol w="180000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 9. 2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0"/>
            <a:ext cx="822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ře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nanční veřejnost – banky, pojišťovny, investoři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ělovací prostředky – TV, rozhlas, tisk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áda a vládní org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ístní veřejnost – obyvatelé žijící v blízkosti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á veře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řní veřejnost – zaměstn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Uveďte konkrétní situace, jak může veřejnost ovlivnit fir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ní trhy – zaměřené na domá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yslové trhy – zaměřené na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hodní trhy – MO, 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tní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národní trhy – všechny dříve jmenované trhy v zahrani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akr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onom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inflace, nezaměstnanost, cla, daně, hospodářská politika státu,výše minimální mzdy, úroková mír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Na internetu zjistěte, jaká je výše inflace, nezaměstnanosti, průměrné a minimální m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ograf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počet obyvatel, hustota obyvatel, pohlaví, věk, počet členů domácností, porodnost, úmrtnosti, migrace obyvatel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rod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klimatické podmínky, půdní poměry, nerostné bohatství, ochrana životního prostředí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8226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olog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vědeckotechnický pokrok, nové technologie, genetické inženýrství,stále nové požadavky zákazníků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t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legislativa, politika státu, mezinárodní politická situace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Které zákony musíte znát a dodržovat, pokud chcete podnik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ě-kultur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hodnoty a postoje lidí, životní styl, náboženství, vzdělanost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24000" y="1341360"/>
          <a:ext cx="7920000" cy="5453280"/>
        </p:xfrm>
        <a:graphic>
          <a:graphicData uri="http://schemas.openxmlformats.org/drawingml/2006/table">
            <a:tbl>
              <a:tblPr/>
              <a:tblGrid>
                <a:gridCol w="3960720"/>
                <a:gridCol w="395928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učebního materiál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ýza prostředí z pohledu marketing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vysvětlení vlivů prostředí na firmu, objasní vzájemné ovlivňování jednotlivých částí prostředí a firm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é mikroprostředí, marketingové mezoprostředí, marketingové makroprostředí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 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Arial"/>
              </a:rPr>
              <a:t>Analýza prostředí firmy z pohledu marketing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8200" y="402840"/>
            <a:ext cx="753912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chéma marketingového prostřed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2" descr="Marketing"/>
          <p:cNvPicPr/>
          <p:nvPr/>
        </p:nvPicPr>
        <p:blipFill>
          <a:blip r:embed="rId1"/>
          <a:stretch/>
        </p:blipFill>
        <p:spPr>
          <a:xfrm>
            <a:off x="911160" y="1600200"/>
            <a:ext cx="7318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ikr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ční struktura a personální vzta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ční struk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cion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Organization Chart 47"/>
          <p:cNvGrpSpPr/>
          <p:nvPr/>
        </p:nvGrpSpPr>
        <p:grpSpPr>
          <a:xfrm>
            <a:off x="1042920" y="2133720"/>
            <a:ext cx="7921440" cy="4462560"/>
            <a:chOff x="1042920" y="2133720"/>
            <a:chExt cx="7921440" cy="4462560"/>
          </a:xfrm>
        </p:grpSpPr>
        <p:cxnSp>
          <p:nvCxnSpPr>
            <p:cNvPr id="61" name="_s1028"/>
            <p:cNvCxnSpPr>
              <a:stCxn id="62" idx="0"/>
              <a:endCxn id="63" idx="2"/>
            </p:cNvCxnSpPr>
            <p:nvPr/>
          </p:nvCxnSpPr>
          <p:spPr>
            <a:xfrm flipH="1" flipV="1" rot="5400000">
              <a:off x="4044240" y="3850560"/>
              <a:ext cx="893160" cy="1027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29"/>
            <p:cNvCxnSpPr>
              <a:stCxn id="65" idx="0"/>
              <a:endCxn id="63" idx="2"/>
            </p:cNvCxnSpPr>
            <p:nvPr/>
          </p:nvCxnSpPr>
          <p:spPr>
            <a:xfrm flipV="1" rot="16200000">
              <a:off x="6097320" y="2824560"/>
              <a:ext cx="893160" cy="3079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0"/>
            <p:cNvCxnSpPr>
              <a:stCxn id="67" idx="0"/>
              <a:endCxn id="63" idx="2"/>
            </p:cNvCxnSpPr>
            <p:nvPr/>
          </p:nvCxnSpPr>
          <p:spPr>
            <a:xfrm flipV="1" rot="16200000">
              <a:off x="5070240" y="3851640"/>
              <a:ext cx="893160" cy="10256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1"/>
            <p:cNvCxnSpPr>
              <a:stCxn id="69" idx="0"/>
              <a:endCxn id="63" idx="2"/>
            </p:cNvCxnSpPr>
            <p:nvPr/>
          </p:nvCxnSpPr>
          <p:spPr>
            <a:xfrm flipH="1" flipV="1" rot="5400000">
              <a:off x="3018240" y="2824560"/>
              <a:ext cx="893160" cy="3079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1032"/>
            <p:cNvSpPr/>
            <p:nvPr/>
          </p:nvSpPr>
          <p:spPr>
            <a:xfrm>
              <a:off x="4122360" y="213372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Ředite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3"/>
            <p:cNvSpPr/>
            <p:nvPr/>
          </p:nvSpPr>
          <p:spPr>
            <a:xfrm>
              <a:off x="104292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4"/>
            <p:cNvSpPr/>
            <p:nvPr/>
          </p:nvSpPr>
          <p:spPr>
            <a:xfrm>
              <a:off x="514944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5"/>
            <p:cNvSpPr/>
            <p:nvPr/>
          </p:nvSpPr>
          <p:spPr>
            <a:xfrm>
              <a:off x="720360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keting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odby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6"/>
            <p:cNvSpPr/>
            <p:nvPr/>
          </p:nvSpPr>
          <p:spPr>
            <a:xfrm>
              <a:off x="3097080" y="4811400"/>
              <a:ext cx="1758600" cy="1784880"/>
            </a:xfrm>
            <a:custGeom>
              <a:avLst/>
              <a:gdLst>
                <a:gd name="textAreaLeft" fmla="*/ 85680 w 1758600"/>
                <a:gd name="textAreaRight" fmla="*/ 1672920 w 175860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923">
                  <a:moveTo>
                    <a:pt x="3600" y="0"/>
                  </a:moveTo>
                  <a:arcTo wR="3600" hR="3600" stAng="16200000" swAng="-5400000"/>
                  <a:lnTo>
                    <a:pt x="0" y="18323"/>
                  </a:lnTo>
                  <a:arcTo wR="3600" hR="3600" stAng="10800000" swAng="-5400000"/>
                  <a:lnTo>
                    <a:pt x="18000" y="219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272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rob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míšená – kombinace předcházejí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Organization Chart 4"/>
          <p:cNvGrpSpPr/>
          <p:nvPr/>
        </p:nvGrpSpPr>
        <p:grpSpPr>
          <a:xfrm>
            <a:off x="684360" y="692280"/>
            <a:ext cx="8135280" cy="4599720"/>
            <a:chOff x="684360" y="692280"/>
            <a:chExt cx="8135280" cy="4599720"/>
          </a:xfrm>
        </p:grpSpPr>
        <p:cxnSp>
          <p:nvCxnSpPr>
            <p:cNvPr id="73" name="_s2052"/>
            <p:cNvCxnSpPr>
              <a:stCxn id="74" idx="0"/>
              <a:endCxn id="75" idx="2"/>
            </p:cNvCxnSpPr>
            <p:nvPr/>
          </p:nvCxnSpPr>
          <p:spPr>
            <a:xfrm flipV="1" rot="16200000">
              <a:off x="5715360" y="1567440"/>
              <a:ext cx="920520" cy="2848320"/>
            </a:xfrm>
            <a:prstGeom prst="bentConnector3">
              <a:avLst>
                <a:gd name="adj1" fmla="val 20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053"/>
            <p:cNvCxnSpPr>
              <a:stCxn id="77" idx="0"/>
              <a:endCxn id="75" idx="2"/>
            </p:cNvCxnSpPr>
            <p:nvPr/>
          </p:nvCxnSpPr>
          <p:spPr>
            <a:xfrm flipV="1">
              <a:off x="4751640" y="2531520"/>
              <a:ext cx="1800" cy="920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054"/>
            <p:cNvCxnSpPr>
              <a:stCxn id="79" idx="0"/>
              <a:endCxn id="75" idx="2"/>
            </p:cNvCxnSpPr>
            <p:nvPr/>
          </p:nvCxnSpPr>
          <p:spPr>
            <a:xfrm flipH="1" flipV="1" rot="5400000">
              <a:off x="2868120" y="1567800"/>
              <a:ext cx="920520" cy="2847960"/>
            </a:xfrm>
            <a:prstGeom prst="bentConnector3">
              <a:avLst>
                <a:gd name="adj1" fmla="val 20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" name="_s2055"/>
            <p:cNvSpPr/>
            <p:nvPr/>
          </p:nvSpPr>
          <p:spPr>
            <a:xfrm>
              <a:off x="3531960" y="69228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Ředitel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56"/>
            <p:cNvSpPr/>
            <p:nvPr/>
          </p:nvSpPr>
          <p:spPr>
            <a:xfrm>
              <a:off x="68436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353196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8"/>
            <p:cNvSpPr/>
            <p:nvPr/>
          </p:nvSpPr>
          <p:spPr>
            <a:xfrm>
              <a:off x="637920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4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13744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unikace ve fir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ní a motivace lidí – finanční motivace, soutěže prodejců, zaměstnanecké výhody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Jaké zaměstnanecké výhody byste si představovali ve svém budoucím zaměstná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ologické vl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roveň vybavenosti firmy – kvalita vybavení, jeho úroveň, užité informační technologie, opotřebení majetk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270720"/>
            <a:ext cx="8226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3640" y="47592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konomické vl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etek firmy – množství a sl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 krytí – množství a sl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bor ukazatelů z finanční analýzy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Vyjmenujte druhy majetku a zdrojů kry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Jaké znáte ukazatele, které hodnotí ekonomickou situaci ve firmě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ístění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age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rie firm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ez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26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rtnerské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avatelé – faktory výběru,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alizované ag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nky, pojišťovn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Podle jakých kritérií byste si vybírali partnerskou firmu – dodavatele, banku, pojišťovn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u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Odkud získáte informace o konkurenci a proč jsou pro nás tak důležit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7:44:28Z</dcterms:created>
  <dc:creator>Ing. Bohuslava Klapuchová</dc:creator>
  <dc:description/>
  <dc:language>en-US</dc:language>
  <cp:lastModifiedBy>Igor</cp:lastModifiedBy>
  <dcterms:modified xsi:type="dcterms:W3CDTF">2014-09-13T14:54:49Z</dcterms:modified>
  <cp:revision>125</cp:revision>
  <dc:subject/>
  <dc:title>Analýzy prostředí firmy z pohledu marketingu a managementu</dc:title>
</cp:coreProperties>
</file>