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49D4-C5B3-4E65-AF92-9C440AB2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7670-F4D9-4402-BBCD-0E092E60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06B0-70C8-4855-A6C6-253F1A77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F5092-7E1F-494E-A1AB-35030A93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D81A-7154-4B81-9580-00FCA0EF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1B5D-335A-43AA-BCBA-191AE1E8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BE7C-3CE6-4506-9E08-8E485264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4E91-A6B6-4F1A-8B57-5E5C7C56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3BD8-4E64-4C0C-B57A-828495CA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8E53-C1B5-4640-B39A-FDBB0E89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6DA8-5BF8-49E1-BC5B-C65DC35F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7E939-5674-4187-9495-1BF4A21D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7739-0CE7-4DE6-BED1-64D06519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2F93-6E18-4E4E-9868-4D5CE681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5FF0-0268-4A0C-BE5A-3E66EEDA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2332-28B8-49BF-866E-0F209FA2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AE65-60DA-4D2B-80CE-C7615DDB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007E5-A0B0-4C9A-8BAC-EB7214A6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E7D69-9703-4A63-A737-07B54914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10094-2FB3-45AC-B4D4-30E8EAB7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0352F-30AF-4BFA-946D-D2ECAAD1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EDF03-7B90-4F88-B394-9B06E356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C93E-5495-4F56-A823-08A564D6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521C-9E34-4DE7-BE3B-83A58366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0007-AC7E-4E66-A11E-BC69964A5C9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C7C9-57D3-4D65-8444-C53B01FA1EF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727280"/>
                <a:gridCol w="1512720"/>
                <a:gridCol w="273708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1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4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Dotazo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V jakých případech byste dotazování použil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ými způsoby můžete kontaktovat dotazované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é jsou výhody a nevýhod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otazování se uskutečňuje prostřednictvím dotazní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Respondenty můžeme kontaktovat 3 způsob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Písemně</a:t>
            </a: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 – poštou nebo vhazováním do schránek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nízké náklad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alá návratnost – je nutné ji zvyšovat např. soutěžemi, dárky, urgenčními dopisy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Telefonicky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vyšší návratn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vyšší náklady, nutnost klást jednoduché otáz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Osobně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velká návratnost dotazní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vysoké náklady, nutnost vyškolit tazate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Druhy dotazování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strukturované – dotazník je pro všechny respondenty stejný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polostrukturované – v dotazníku se připouští odchylky podle reakcí respondentů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nestrukturované – je stanoven pouze cíl dotazování a tazatel se může ptát každého respondenta jinak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Dotazník – nástroj marketingového výzkumu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Části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slovení, vysvětlení výzkum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ázky k témat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Klasifikační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oděková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42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za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ichotonick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ícevýběrov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jadřující stupeň souhlasu nebo nesouhla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jadřující stupeň důležit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cházející ze slovního rozliše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Bodové hodno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e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Úplně ote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lovní asoci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stupní 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evřený příbě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bráz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olně komentovaný obráz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Ke každému typu otázky vytvořte příkl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e5e5ff"/>
                </a:solidFill>
                <a:uFillTx/>
                <a:latin typeface="Garamond"/>
              </a:rPr>
              <a:t>Pravidla při sestavování dotazníku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vádět všechny možnosti odpověd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ázky musí být jednoduch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užívat cizí slo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klást otázky do daleké budoucn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kládat vícenásob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klást otázky na prestižní a intimní tém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užívat slova denně, pravidelně, nyní,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rovést pilotáž dotazník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57200" y="1905120"/>
          <a:ext cx="8229600" cy="4816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udenti poznávají důležitost informací a způsoby jejich získávání, diskutují o svých zkušenostech s marketingovými výzkumy, kterých se zúčastni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S, marketingový výzkum, dotaz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e5e5ff"/>
                </a:solidFill>
                <a:latin typeface="Garamond"/>
              </a:rPr>
              <a:t>Marketingový výzkum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5153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Proč jsou v podnikání důležité inform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é požadavky na informace kladem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Z jakých zdrojů informace můžeme získa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Marketingový informační systé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62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MIS</a:t>
            </a: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 – zahrnuje pracovníky, zařízení a informační technologie pro sběr, třídění, analýzy, vyhodnocování a distribuci informací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ffffff"/>
                </a:solidFill>
                <a:uFillTx/>
                <a:latin typeface="Garamond"/>
              </a:rPr>
              <a:t>Požadavky na informace:</a:t>
            </a: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 potřebné, včasné, přesné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ffffff"/>
                </a:solidFill>
                <a:uFillTx/>
                <a:latin typeface="Garamond"/>
              </a:rPr>
              <a:t>Zdroje informací MI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interní podnikové zdroje – informace z účetnictví, podnikových statistik, databází,… Poskytují informace o nákladech, výnosech, výsledku hospodaření,…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marketingová inteligence – poskytuje informace o marketingovém prostředí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vlastní zaměstnanci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prodejní článk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konkur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specializované agentu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marketingový výzkum – poskytuje informace o trhu, konkurenci, prostředí a hlavně o zákaznících, o jejich potřebách a reakcích na marketingový mix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Marketingový výzkumný proces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Etap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říprava výzkum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efinování problému a orientační analýza situace včetně stanovení hypotéz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lán výzkumu – obsahuje druh a zdroje informací, výběr vzorku (náhodný, výběrový, typický), stanovení metody výzkumu, způsob analýzy, rozpočet, časový harmon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Realizace výzkum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Sběr informac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Zpracování a analýza informací (úprava, klasifikování, kódování, technické zpracování informací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Interpretace výsledků, závěry (potvrzení nebo vyvrácení hypotézy), doporuč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Metody marketingového výzkumu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29600" cy="27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Základní metod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Pozoro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V jakých případech byste pozorování použil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é jsou výhody a nevýhody pozorování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ři pozorování se zaznamenává, jak se spotřebitelé chovají při nákupu, a to buď osobně, nebo prostřednictvím kamer. Používá se, pokud nám zákazník nechce nebo nemůže poskytnout požadované informace. Musí být nenápadné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ruhy pozorování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Standardizované – pozorovatel má přesně určeno co, jak, kdy, kde má pozorovat a jak má zaznamenat výsledk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Nestandardizované – pozorovatel má stanoven pouze cíl pozorování a všechno ostatní si určuje sá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+ nezávislost na ochotě zákazníků spolupracov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- velmi vysoké nároky na pozorovatele, časově náročn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4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Experi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Informace jsou čerpány ze skutečností, které jsou z důvodů výzkumu schválně přichystá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ruhy experimentů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Laboratorní – test párového srovnává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 terénu – v prodejnách změníme např. umístění výrobků a sledujeme reakci zákazník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0:11:23Z</dcterms:created>
  <dc:creator>kabek</dc:creator>
  <dc:description/>
  <dc:language>en-US</dc:language>
  <cp:lastModifiedBy>Igor</cp:lastModifiedBy>
  <dcterms:modified xsi:type="dcterms:W3CDTF">2014-09-13T15:04:41Z</dcterms:modified>
  <cp:revision>19</cp:revision>
  <dc:subject/>
  <dc:title>Marketingový výzkum a segmentace trhu</dc:title>
</cp:coreProperties>
</file>