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9B34-AB1D-4300-8334-C31A62D80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A6C7-9854-4FC3-A474-8A13BD0C0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F560-F63F-4A47-AC1C-6FEDC463B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B939-2395-4713-8FA4-B2AE8B105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CB366-331B-446B-BABA-961D2DEAA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00AD8-BB08-471C-8EAA-8AB7486C4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188A8-839C-4878-8BBC-87EAE4FD3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6C23E-98BB-47B2-9B87-0AA3FD0F9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B591E-C734-426E-AF2B-440CA80F0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23A2E-1FE3-412C-8C49-6FD48D4A0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D61CA-AF36-4284-96AE-DB383499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9873-DD3E-41C7-8FE0-4359447D2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5EFFE-A309-4BA6-948D-F58CEFA6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13014-CBC8-4388-881A-0FF5F05F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0F404-3E5D-4A02-86D1-BCB641775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FAB43-1BF4-4C52-9A7D-74ADC17E4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D3654-19C6-40DD-8CFF-5D8DBCDE6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368B-28DC-4A8D-BC26-D82CF6AF4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09BB-2D51-48E8-A965-403B2EC53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9311-721F-4696-AEB7-4E29C9505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BAAF-2162-4410-A4FF-FE8C8C867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A31E-CEEA-4D07-873A-A92B81D68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835C-9A24-4418-B679-C26D87CE6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E40E-7A76-4EFA-991B-8B85EFFB0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4f4f4f"/>
                </a:gs>
                <a:gs pos="100000">
                  <a:srgbClr val="54545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646464"/>
                </a:gs>
                <a:gs pos="100000">
                  <a:srgbClr val="54545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ce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dc4d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8dc4d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1FCE7-B7F6-4EF6-A5EC-90DFECA0CA2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474747"/>
                </a:gs>
                <a:gs pos="100000">
                  <a:srgbClr val="54545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646464"/>
                </a:gs>
                <a:gs pos="100000">
                  <a:srgbClr val="54545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ce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dc4d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8dc4d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F8392-4E55-4E80-AA40-21E6721BCB13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Výukový materiál zpracován v rámci projektu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EU peníze školá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1420920"/>
                <a:gridCol w="1584360"/>
                <a:gridCol w="2665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9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Bohuslava Klapuch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9. 11. 20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403848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ahoma"/>
              </a:rPr>
              <a:t>Příležitost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Získávání nových zákazník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znik nových trh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Odstranění bariér na zahraničních trzí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yužití nových technologií,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8320" y="333000"/>
            <a:ext cx="403848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ahoma"/>
              </a:rPr>
              <a:t>Hrozb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stup nové konkurence na tr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Ekonomická kriz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Rychle se měnící potřeby zákazník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estabilní politická situace,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900000" y="530064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ff"/>
                </a:solidFill>
                <a:latin typeface="Tahoma"/>
              </a:rPr>
              <a:t>Charakterizujte silné stránky, slabé stránky, příležitosti a hrozby vaší ško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droj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ŠVARCOVÁ, J. </a:t>
            </a:r>
            <a:r>
              <a:rPr b="0" i="1" lang="cs-CZ" sz="3200" spc="-1" strike="noStrike">
                <a:solidFill>
                  <a:srgbClr val="ffffff"/>
                </a:solidFill>
                <a:latin typeface="Tahoma"/>
              </a:rPr>
              <a:t>Ekonomie – stručný přehled,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ydání</a:t>
            </a:r>
            <a:r>
              <a:rPr b="0" i="1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ro rok</a:t>
            </a:r>
            <a:r>
              <a:rPr b="0" i="1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2012/2013 Zlín : Nakladatelství a vydavatelství Ing. Jena Švarcová, Ph. D., CEED, 2012. ISBN 987-80-87301-16-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VĚTLÍK, J. </a:t>
            </a:r>
            <a:r>
              <a:rPr b="0" i="1" lang="cs-CZ" sz="3200" spc="-1" strike="noStrike">
                <a:solidFill>
                  <a:srgbClr val="ffffff"/>
                </a:solidFill>
                <a:latin typeface="Tahoma"/>
              </a:rPr>
              <a:t>Marketing – cesta k trhu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, Zlín: EKKA, 1994. ISBN 80-900015-8-0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739880" y="274680"/>
            <a:ext cx="566424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539640" y="1495440"/>
          <a:ext cx="8229600" cy="53211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dnikání a podnikové činnost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ostředí podnik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rketing a manage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nalýza prostředí z pohledu management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udenti se seznamují s nutností zkoumat prostředí z různých úhlů pohledů, nalézat tržní výhody a způsoby jejich využití, odhalovat své silné a slabé stránky, příležitosti a hrozby trh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onkurence, tržní výhody, SWOT analýz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3640" y="1557000"/>
            <a:ext cx="8281800" cy="33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ahoma"/>
              </a:rPr>
              <a:t>Analýza prostředí z pohledu managementu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8720" y="4964040"/>
            <a:ext cx="699300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3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00"/>
                </a:solidFill>
                <a:latin typeface="Tahoma"/>
              </a:rPr>
              <a:t>Prostředí zkoumáme podle těchto vybraných analýz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orterova analýz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nalýza STE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nalýza tržních výh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WOT analýz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ahoma"/>
              </a:rPr>
              <a:t>Porterova analýza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grpSp>
        <p:nvGrpSpPr>
          <p:cNvPr id="99" name="Zástupný symbol pro obsah 5122"/>
          <p:cNvGrpSpPr/>
          <p:nvPr/>
        </p:nvGrpSpPr>
        <p:grpSpPr>
          <a:xfrm>
            <a:off x="1288440" y="1299240"/>
            <a:ext cx="6585480" cy="2097000"/>
            <a:chOff x="1288440" y="1299240"/>
            <a:chExt cx="6585480" cy="2097000"/>
          </a:xfrm>
        </p:grpSpPr>
        <p:sp>
          <p:nvSpPr>
            <p:cNvPr id="100" name="_s1028"/>
            <p:cNvSpPr/>
            <p:nvPr/>
          </p:nvSpPr>
          <p:spPr>
            <a:xfrm flipH="1">
              <a:off x="1576800" y="2344320"/>
              <a:ext cx="3022920" cy="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_s1029"/>
            <p:cNvSpPr/>
            <p:nvPr/>
          </p:nvSpPr>
          <p:spPr>
            <a:xfrm>
              <a:off x="1288440" y="2090160"/>
              <a:ext cx="1799640" cy="527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cc3300"/>
                  </a:solidFill>
                  <a:latin typeface="Arial"/>
                </a:rPr>
                <a:t>Dodavatelé</a:t>
              </a:r>
              <a:endParaRPr b="0" lang="en-US" sz="17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_s1030"/>
            <p:cNvSpPr/>
            <p:nvPr/>
          </p:nvSpPr>
          <p:spPr>
            <a:xfrm>
              <a:off x="4671720" y="2344320"/>
              <a:ext cx="2735640" cy="36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_s1031"/>
            <p:cNvSpPr/>
            <p:nvPr/>
          </p:nvSpPr>
          <p:spPr>
            <a:xfrm>
              <a:off x="6111000" y="2126160"/>
              <a:ext cx="1762920" cy="527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cc3300"/>
                  </a:solidFill>
                  <a:latin typeface="Arial"/>
                </a:rPr>
                <a:t>Odběratelé</a:t>
              </a:r>
              <a:endParaRPr b="0" lang="en-US" sz="17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_s1032"/>
            <p:cNvSpPr/>
            <p:nvPr/>
          </p:nvSpPr>
          <p:spPr>
            <a:xfrm flipV="1">
              <a:off x="4600440" y="1834200"/>
              <a:ext cx="1080" cy="264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_s1033"/>
            <p:cNvSpPr/>
            <p:nvPr/>
          </p:nvSpPr>
          <p:spPr>
            <a:xfrm>
              <a:off x="3448080" y="1299240"/>
              <a:ext cx="2302560" cy="527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cc3300"/>
                  </a:solidFill>
                  <a:latin typeface="Arial"/>
                </a:rPr>
                <a:t>Nové vstupy</a:t>
              </a:r>
              <a:endParaRPr b="0" lang="en-US" sz="17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_s1034"/>
            <p:cNvSpPr/>
            <p:nvPr/>
          </p:nvSpPr>
          <p:spPr>
            <a:xfrm>
              <a:off x="3213000" y="2056320"/>
              <a:ext cx="2645280" cy="603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cc3300"/>
                  </a:solidFill>
                  <a:latin typeface="Arial"/>
                </a:rPr>
                <a:t>Podniky v odvětví</a:t>
              </a:r>
              <a:endParaRPr b="0" lang="en-US" sz="17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cc3300"/>
                  </a:solidFill>
                  <a:latin typeface="Arial"/>
                </a:rPr>
                <a:t>(i náš podnik)</a:t>
              </a:r>
              <a:endParaRPr b="0" lang="en-US" sz="17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Oval 12"/>
            <p:cNvSpPr/>
            <p:nvPr/>
          </p:nvSpPr>
          <p:spPr>
            <a:xfrm>
              <a:off x="3448080" y="2841840"/>
              <a:ext cx="2302560" cy="5544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Arial"/>
                </a:rPr>
                <a:t>Možné substituty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Line 13"/>
            <p:cNvSpPr/>
            <p:nvPr/>
          </p:nvSpPr>
          <p:spPr>
            <a:xfrm flipH="1" flipV="1">
              <a:off x="4581000" y="2643480"/>
              <a:ext cx="1080" cy="219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-360" y="3860640"/>
            <a:ext cx="8893080" cy="25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dc4d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ff"/>
                </a:solidFill>
                <a:latin typeface="Tahoma"/>
              </a:rPr>
              <a:t>Co může být novým vstupem v odvětví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dc4d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ff"/>
                </a:solidFill>
                <a:latin typeface="Tahoma"/>
              </a:rPr>
              <a:t>Co to jsou substituty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dc4d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ff"/>
                </a:solidFill>
                <a:latin typeface="Tahoma"/>
              </a:rPr>
              <a:t>Podle jakých kritérií volíme dodavatele a z jakých zdrojů o nich získáváme informac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dc4d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ff"/>
                </a:solidFill>
                <a:latin typeface="Tahoma"/>
              </a:rPr>
              <a:t>Co nás bude zajímat u našich odběratelů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Tahoma"/>
              </a:rPr>
              <a:t>Nové vstup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ové firmy, které vstupují do odvětví, nové výrobky, služby, nové technologie, postupy suroviny atp. Pro vstup nových prvků na trh jsou důležité tyto faktory – náklady na výroby, značka, situace ekonomik, rozdíly výrobků vlastních a konkurenčních, vládní politika, 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Tahoma"/>
              </a:rPr>
              <a:t>Odběratel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nalýza vztahů s odběrateli, jejich počet, síla, odebírané množství, podmínky jejich nákupu atp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Tahoma"/>
              </a:rPr>
              <a:t>Dodavatel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nalýza vztahů s dodavateli, jejich dodací podmínky, možnost dodávek od jiných dodavatelů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Tahoma"/>
              </a:rPr>
              <a:t>Možné substitu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jsou výrobky, které mohou funkčně nahradit výrobky podniku na trhu (gramofon.desky x CD…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2636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ahoma"/>
              </a:rPr>
              <a:t>Analýza STEP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496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ffff00"/>
                </a:solidFill>
                <a:latin typeface="Tahoma"/>
              </a:rPr>
              <a:t>Tato analýza hodnotí silné a slabé stránky podniku z těchto hledisek: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S – sociálníh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T – technickéh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E – ekonomickéh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P – politickéh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Tahoma"/>
              </a:rPr>
              <a:t>Tato analýza se v poslední době velmi často doplňuje ještě o jedno hledisko – vzniká analýza SWTEP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S – sociální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00"/>
                </a:solidFill>
                <a:latin typeface="Tahoma"/>
              </a:rPr>
              <a:t>W – počasí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T – technické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E – ekonomické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P – politické hledisk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ff"/>
                </a:solidFill>
                <a:latin typeface="Tahoma"/>
              </a:rPr>
              <a:t>U jakých firem nás bude zajímat hledisko počasí a proč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2636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ahoma"/>
              </a:rPr>
              <a:t>Analýza tržních výhod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9944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ffffff"/>
                </a:solidFill>
                <a:uFillTx/>
                <a:latin typeface="Tahoma"/>
              </a:rPr>
              <a:t>Cíl:</a:t>
            </a:r>
            <a:r>
              <a:rPr b="0" lang="cs-CZ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cs-CZ" sz="2600" spc="-1" strike="noStrike">
                <a:solidFill>
                  <a:srgbClr val="ffff00"/>
                </a:solidFill>
                <a:latin typeface="Tahoma"/>
              </a:rPr>
              <a:t>Nalezení a vybudování tržních konkurenčních výhod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ffffff"/>
                </a:solidFill>
                <a:uFillTx/>
                <a:latin typeface="Tahoma"/>
              </a:rPr>
              <a:t>Postup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Zjištění potřeb cílové skupiny zákazníků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Ohodnocení potřeb zákazníků podle důležitost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Každé dílčí potřebě přiřazujeme očekávání zákazníka, porovnáváme ho s vlastní nabídkou a specifikujeme výhody a nevýhody vůči konkurenc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Zjišťujeme, které potřeby zákazníků lze uspokojit lépe a stanovujeme nutná opatření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Zjišťujeme, zda realizace těchto opatření bude mít vliv na rozhodovací proces zákazníků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Zjišťujeme, které nové konkurenční výhody můžeme vybudova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Stanovujeme opatření nutná k uchování současných výhod a k vybudování nových výho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8dc4d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ffff"/>
                </a:solidFill>
                <a:latin typeface="Tahoma"/>
              </a:rPr>
              <a:t>Proč je pro firmu důležité analyzovat tržní výhody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ahoma"/>
              </a:rPr>
              <a:t>SWOT analýza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3848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Silné stránk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Finanční síl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ízké náklad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ysoká ziskovo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Dobré jmén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Inovační schopnost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Mezilidské vztah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Dobrá organizační struktu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Moderní technické vybavení ,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8320" y="1484280"/>
            <a:ext cx="403848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Slabé stránk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ysoké náklad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odprůměrná ziskovo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evyjasněná strateg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astaralé zaříze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oruchovost vybave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Špatná dostupno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edostatečný výzkum a vývoj,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3T11:25:29Z</dcterms:created>
  <dc:creator>klapuchova</dc:creator>
  <dc:description/>
  <dc:language>en-US</dc:language>
  <cp:lastModifiedBy>Igor</cp:lastModifiedBy>
  <dcterms:modified xsi:type="dcterms:W3CDTF">2014-09-13T14:55:06Z</dcterms:modified>
  <cp:revision>20</cp:revision>
  <dc:subject/>
  <dc:title>Analýza prostředí z pohledu managementu</dc:title>
</cp:coreProperties>
</file>