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6F1-B973-4D70-9180-068AC377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0FC-AF7B-4707-A918-7230DCE2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9C4-9BD8-4783-B6C4-4CF95103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E89-3DCC-4F39-B604-EDACD3D0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2989-BA46-47AA-8D90-3EFCC7E4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CA93-A67F-43FE-A86C-879C0A31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B1C4-C7A1-4604-91A1-3C1E93B0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4CF-D2EA-42B3-AC08-430C7E15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0B52-03AE-463C-BDC0-0AD5D261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EE1A-7E89-40E9-91F3-FAE6DA1D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6927-DBFB-424B-856A-084748F7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2C2-1198-4C5E-8EBA-584FF907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809D-822B-48A8-BD5F-C7C7325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C717-183D-482E-A2E5-A6D85479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58B4-4469-4BB5-BC12-B79EBDA4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B839-863D-44CA-B37D-017278FF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CAE3-60D1-4B66-A668-B0C7F98F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A1A-F44B-45F6-8F21-C366673C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64D-7BEF-4FD7-8F5E-68834158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FFB-EB20-4976-A7E1-AF2216E7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2E8-3E81-4C18-A9D6-EF388DB3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8C9-3BA7-47D7-BB02-862A3126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429-0AA8-438F-808D-77376DC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9D0-E423-4396-A399-9B1C543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E5C0-5C73-457B-9972-27E6DD469A8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928E-BF9A-4BAF-9EC0-1E0AE2203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133640"/>
                <a:gridCol w="165564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12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uste najít další silné a slabé stránky, příležitosti i hrozby pro ZOO Krále Jelim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457200" y="1905120"/>
          <a:ext cx="8229600" cy="4830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hledají silné a slabé stránky, příležitosti a hrozby dané firmy, navrhují jak využít příležitosti v konkurenčním bo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é stránky, slabé stránky, příležitosti, hroz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17000" cy="15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Zoo Krále Jelimán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82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Základní in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oo je zaměřená na africký kontinent, tamní faunu a flóru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štěvníci mohou vidět speciálně upravené obrovské výběhy pro všechna zvířata, přizpůsobené jejich přírodnímu prostředí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zde několik vysokých rozhleden a každý návštěvník dostane při vstupu dalekohled, aby mu ze světa zvířat neunikl ani jeden moment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zájemce jsou zde zařízeny přednášky našich zoologů z cest do Afriky, případně se mohou zapojit do akcí jako jsou Den africké kuchyně, Festival africké hudby apod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movka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ské Budějo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27 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28828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SWOT analýz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iln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iginalita v zaměře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me jedinou Zoo v České republice, která je dopodrobna zaměřena na jeden kontinent, milovníci Afriky ocení, že se mohou plně soustředit jen na toto prostředí, nejsou rozptylováni a pleteni jinými kontin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jímavos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jišťujeme různé zájmové kurzy a přednášky, na které mohou přijít všichni zájemci, o všech akcích jsou předem informováni letáky a informacemi na našich internetových strán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klam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še firma je dobře reprezentována v zahraničí, naše jméno se objevuje na seznamech mezinárodních organizacích,  z masmédií využíváme reklamu v rádiích, TV, internetu, máme billboardy, letáky, brožury, vizitky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ag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ý důraz klademe na image celého areálu, výběhu jsou vystaveny co nejpřirozeněji, nacházejí se zde vodopády, vodotrysky, jezírka, bambusové ploty, chatr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stup k zákazníků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nažíme se, aby zákazníci měli přístup k veškerým informacím, což řešíme pomocí informačních počítačů s dotykovou obrazovkou rozmístěných v areálu a také naši zaměstnanci jsou pověřeni vždy pomoci a poradit, budou-li požádá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mezené zaměření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ím, že jsme zaměřeni pouze na Afriku, lidem zajímajícím se o Asii, Ameriku, Evropu, nemáme v podstatě co nabídnout a připravujeme se o potenciální zákazní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soké provozní náklad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e snaze zajistit co nejpřirozenější prostředí pro zvířata a zkrášlení celého areálu, musíme vynakládat vysoké náklady, a přesto vstupné necháváme s poměrně nízkou cenou, takže hrozí, že při menším množství zákazníků se dostane naše firma do ztrá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klady na vzdělání zaměstnanc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aměstnance se snažíme motivovat vzdělávacími kurzy z oblasti zoologie. Při výjezdech do Afriky si hradí co možná nejmenší náklady, což je velkou finanční zátěží pro naši fir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lab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4619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Příležit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ové technologie, poznatk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me vybavení moderními technologiemi pro snadný přístup zákazníků k informacím. Moderní techniku využíváme také například ve Vodním světě nebo Světě rostlin, kde máme speciální zavlažovací systémy a klimatizace nastavované k přesné simulaci přirozeného prostředí. Speciální zaměstnanci se také věnují vědě a výzkumu o chování zvířat, jejich prostředí, úspěšném rozmnožování v zajetí apod. Úspěšné práce mohou předkládat mezinárodním organizacím a získat případné paten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ost zachraňovat ohrožené druh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ky vědě dokážeme odchovat mláďata ohroženým druhům zvíř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oživotní vzdělávání zajišťuje pracovité a snažící se zaměstnan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 nabízeným možnostem je poptávka po práci v naší Zoo vysoká, máme tedy možnost výběru vhodných uchazečů, kteří se chtějí vzděláva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Hroz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rozba úhynu a šíření nemoc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ní možné zajistit, aby se zvířata nedostala do kontaktu s nemocnou osobou nebo úplně zamezit krmení zvířat nežádoucí potravou. Může to vést k onemocnění či dokonce úhynu zvíř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padek v technické oblasti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e-li se, že budeme dočasně odloučeni z důvodů závady od elektřiny, hrozí velké nebezpečí narušení normální chodu Zoo a ohrožení života některých zvířat (například vysazení filtrů ve Vodním světě). Snažíme se proto zajistit alternativní řešení v nouzových situacích, ale nemůžeme být zabezpečeni na 10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ychle se měnící potřeby zákazníků, jejich stálos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jsme již zmínili, zaměření naší firmy je výhodou i nevýhodou. Hrozbou se stává v tom případě, že návštěvník nemá k africkému kontinentu natolik vyvinutý vztah, aby byl ochoten naši Zoo vícekrát navštívit. Jelikož není možné každý den upoutávat jejich pozornost akcemi, návštěvnost může být ohrožena nedostatečným záj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kuren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še Zoo sice sídlí ve velkém městě, ale blízkost Prahy je ohrožující, vezmeme-li v úvahu, že je hlavním městem a má široké zaměření. Také Zoo Dvůr Králové je velmi konkurence schopná, jejich Africké safari je celorepublikově znám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7:23:15Z</dcterms:created>
  <dc:creator>morcinkova</dc:creator>
  <dc:description/>
  <dc:language>en-US</dc:language>
  <cp:lastModifiedBy>Igor</cp:lastModifiedBy>
  <dcterms:modified xsi:type="dcterms:W3CDTF">2014-09-13T15:26:00Z</dcterms:modified>
  <cp:revision>22</cp:revision>
  <dc:subject/>
  <dc:title>Zoo Krále Jelimána</dc:title>
</cp:coreProperties>
</file>