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C4A-347E-4705-AA2A-2E249C28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652-F611-4013-A3F8-D2D2B605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822-F1C0-469E-ACBE-C3565518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628-9564-4848-A2B8-50A417DF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ED1-0C0E-4392-9277-2613EC84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8E6-7A12-45A0-A04C-7A62E82F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668-AB17-45FA-B6BB-CBE01BFD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162-22C8-4544-9070-4B55071C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59F-02FF-4473-BAFA-023111D1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0B7-5453-4904-B4DD-22ADD5CF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635-362B-487A-A52E-4E74047F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9DD-D181-48B9-A8D2-8ADE9F7B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8291-61D6-49CC-B2EE-CBC63E462C2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78000"/>
                <a:gridCol w="1584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9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lenění oběžného majet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oby – věcná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riá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materiál a surov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ný materi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onné hmo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obné nářa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celářské potře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stící prostřed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končená výroba – nedokončené výrobky v takovém stupni zpracování, že nejsou prodej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tovary – rozpracované výrobky, které by se už daly prodá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tové výrobky – určeny k prode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oží – vše, co je zakoupeno za účelem dalšího prod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ířata – zásoby pro zemědělskou výro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něžní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átkodobý finanční maj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v poklad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na běžném ú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n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átkodobé cenné papí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ledáv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rob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užívá se déle než 1 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á pořizovací cenu menší než 40 000,-, popř. 60 000,-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robn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Ne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66ff"/>
                </a:solidFill>
                <a:latin typeface="Arial"/>
              </a:rPr>
              <a:t>Uveďte příklady drobného hmotného a nehmotného majetk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droje krytí majet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66ff"/>
                </a:solidFill>
                <a:latin typeface="Arial"/>
              </a:rPr>
              <a:t>Jaké znáte zdroje krytí majetk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last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ndy tvořené ze zi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ff"/>
                </a:solidFill>
                <a:latin typeface="Arial"/>
              </a:rPr>
              <a:t>Jak můžeme použít disponibilní zi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Cizí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ankovní úvě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statní závaz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dodavat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aměstnanc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OS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dravotním pojišťovnám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ff"/>
                </a:solidFill>
                <a:latin typeface="Arial"/>
              </a:rPr>
              <a:t>S jakými hospodářskými operacemi je spjat vznik závazků vůči uvedeným institucí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Co je to rozvaha a kdy ji sestav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vaha 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jetek = Aktiv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oje krytí = Pa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lastn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klad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o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inanč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Oběžn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Ciz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s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ankovní ú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KF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Ostatní záva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hledá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učet aktiv = součet pas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Arial"/>
              </a:rPr>
              <a:t>Příkla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Sestavte přehled aktiv a pasiv, pokud víte, že podnik měl k 31. 12. tento stav majetku a zdrojů krytí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. závazky vůči dodavatel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1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. pohledáv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3. dlouhodobý majetek celke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50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4. peníze v pokladn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5. materiál na sklad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1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6. krátkodobý bankovní úvěr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4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7. výrob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8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8. peníze na BÚ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62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9. závazky vůči zaměstnanc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76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0. ZK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619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395280" y="0"/>
            <a:ext cx="8066160" cy="12528360"/>
            <a:chOff x="395280" y="0"/>
            <a:chExt cx="8066160" cy="12528360"/>
          </a:xfrm>
        </p:grpSpPr>
        <p:sp>
          <p:nvSpPr>
            <p:cNvPr id="91" name="AutoShape 21"/>
            <p:cNvSpPr/>
            <p:nvPr/>
          </p:nvSpPr>
          <p:spPr>
            <a:xfrm>
              <a:off x="395280" y="0"/>
              <a:ext cx="8066160" cy="125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2"/>
            <p:cNvSpPr/>
            <p:nvPr/>
          </p:nvSpPr>
          <p:spPr>
            <a:xfrm>
              <a:off x="556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Ak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3"/>
            <p:cNvSpPr/>
            <p:nvPr/>
          </p:nvSpPr>
          <p:spPr>
            <a:xfrm>
              <a:off x="3299040" y="835200"/>
              <a:ext cx="20970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Rozvaha k 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4"/>
            <p:cNvSpPr/>
            <p:nvPr/>
          </p:nvSpPr>
          <p:spPr>
            <a:xfrm>
              <a:off x="7009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Pas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>
              <a:off x="556560" y="2088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6"/>
            <p:cNvSpPr/>
            <p:nvPr/>
          </p:nvSpPr>
          <p:spPr>
            <a:xfrm>
              <a:off x="3952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DM celkem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3 50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OM – materiál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21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výrob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8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eníze v pokl.          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BÚ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62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ohledáv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42670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VK – ZK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619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K – bank. Úvěr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45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dodavatelé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110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zaměstnanci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76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>
              <a:off x="556560" y="4176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9"/>
            <p:cNvSpPr/>
            <p:nvPr/>
          </p:nvSpPr>
          <p:spPr>
            <a:xfrm>
              <a:off x="395280" y="4593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A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3 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0"/>
            <p:cNvSpPr/>
            <p:nvPr/>
          </p:nvSpPr>
          <p:spPr>
            <a:xfrm>
              <a:off x="4267080" y="4593600"/>
              <a:ext cx="403308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P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1"/>
            <p:cNvSpPr/>
            <p:nvPr/>
          </p:nvSpPr>
          <p:spPr>
            <a:xfrm>
              <a:off x="4267080" y="2088000"/>
              <a:ext cx="0" cy="37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ouhodobý majetek, oběžný majetek, vlastní zdroje krytí, cizí zdroje krytí, rozva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ajetek pod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Definujte majetek podni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etek, který podnikatel vloží do podnikání se nazývá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bchodní maj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476360" y="1844640"/>
            <a:ext cx="7201080" cy="4321080"/>
            <a:chOff x="1476360" y="1844640"/>
            <a:chExt cx="7201080" cy="4321080"/>
          </a:xfrm>
        </p:grpSpPr>
        <p:sp>
          <p:nvSpPr>
            <p:cNvPr id="54" name="AutoShape 5"/>
            <p:cNvSpPr/>
            <p:nvPr/>
          </p:nvSpPr>
          <p:spPr>
            <a:xfrm>
              <a:off x="1476360" y="1844640"/>
              <a:ext cx="720108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3924720" y="2420640"/>
              <a:ext cx="1440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chodní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1476360" y="4293000"/>
              <a:ext cx="1584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louhodob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6229080" y="4293000"/>
              <a:ext cx="1728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ěž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4068720" y="4293000"/>
              <a:ext cx="1152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rob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 flipH="1">
              <a:off x="2052360" y="3141000"/>
              <a:ext cx="2016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>
              <a:off x="5220720" y="3141000"/>
              <a:ext cx="1872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2"/>
            <p:cNvSpPr/>
            <p:nvPr/>
          </p:nvSpPr>
          <p:spPr>
            <a:xfrm>
              <a:off x="4644720" y="314100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Čím se liší majetek dlouhodobý a oběž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louhodob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je del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stá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třebovává se ve výrobě najednou, ale opotřebovává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louhodob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hmotný majetek (DH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movitý majetek – pozemky a budovy bez ohledu na jejich pořizovací c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ovitý majetek – majetek, který má dobu použitelnosti nejméně 1 rok a pořizovací cenu větší než 40 000,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nehmotný majetek (DNM) – doba použitelnosti je delší než 1 rok a pořizovací cena větší než 60 000,- (licence, autorská práva, software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finanční majetek (DFM) – na dobu delší než 1 rok (dlouhodobé cenné papíry, dlouhodobé půjčky poskytnuté jiným podnikatelům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běž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krat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ní svoji podst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robě se spotřebová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5:54:33Z</dcterms:created>
  <dc:creator>klapuchova</dc:creator>
  <dc:description/>
  <dc:language>en-US</dc:language>
  <cp:lastModifiedBy>Igor</cp:lastModifiedBy>
  <dcterms:modified xsi:type="dcterms:W3CDTF">2014-09-13T15:02:16Z</dcterms:modified>
  <cp:revision>19</cp:revision>
  <dc:subject/>
  <dc:title>Majetek podniku</dc:title>
</cp:coreProperties>
</file>