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236-A01F-4CED-98C6-526EDE8A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2EA-EB6E-4460-915F-CD8B9DCF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169-1C32-486B-89AB-D54E3469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39F-3440-411E-8928-457EF1B2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348A-45E9-45F8-B457-0285DCBB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5E9A-FD4E-43AB-99D3-16BFEC65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1789-0860-4536-9AC1-A49FEBEE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B7A-19CD-4893-94E2-1622C56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598E-48A0-471A-880A-0064234D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B1BF-3BE0-4D09-8EF9-2A4E23F1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85CA-6A69-4072-95B4-C8EC733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5CC-4A42-4E32-80F1-0A59E926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BDAE-4619-4B3F-94FD-FA8559C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0B84-1182-4CEC-8F00-7D4D931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4993-413F-4E85-8BB1-3385DEC1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C04A-4DC8-4FD0-9B20-3B946970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0672-E717-48F3-B7C5-DED58247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C70-86C9-4345-A933-51338CC5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EAF-A43A-4086-84AE-95CFB5AC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61F-AC36-4020-91E0-7F5CFBC9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9F3-4D7D-4F83-BC06-F1747CD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DD2-2349-4EA7-AECC-3AAAC63D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D97-13F7-44E8-A097-7213D3E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3BF-3B09-4C65-BBF9-4AEBC65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C10-DC01-4864-B50D-A1764814388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DBD0-2215-4B94-93AA-3B1A70479AD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11280"/>
                <a:gridCol w="1441440"/>
                <a:gridCol w="1656000"/>
                <a:gridCol w="2952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14716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Daňové odpis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řídí se zákonem o dani z příj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jadřují opotřebení majetku v průměrných podmínká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yto odpisy ovlivňují daň z příjmu, metody výpočtu jsou závazně stanoveny stá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etod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rovnoměr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zrychle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 případě technického zhodnocení (přestavba, rekonstrukce, modernizace, …) dražšího než 40 000,- Kč ročně se zvyšuje hodnota dlouhodobého majetku a odpisy se provádí ze zvýšené ce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89080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je to technické zhodnocení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daje na nástavby, přístavby, stavební úpravy, rekonstrukce a modernizace majetku, pokud převýšily u jednotlivého DHM nebo DNM v úhrnu za rok částku 40 000,- Kč. 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Z zvyšuje PC majetku, při odepisování je nutné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výšit PC (V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užít sazby (koeficienty) pro zvýšenou 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iza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rozšíření vybavenosti nebo použitelnosti majetk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onstruk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zásahy do majetku, které mají za následek změnu jeho účelu nebo technických parametr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yšuje PC majetku, projeví se v nákladech postupně pomocí vyšších odpis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y na odpis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 lednu 2008 si firma koupila auto, PC 200 000,- Kč. Odpisujte rovnoměr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rma koupila v únoru 2008 traktor, jehož PC je 1 600 000,- Kč. Odpisujte zrychle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2492280"/>
          <a:ext cx="8964720" cy="3819600"/>
        </p:xfrm>
        <a:graphic>
          <a:graphicData uri="http://schemas.openxmlformats.org/drawingml/2006/table">
            <a:tbl>
              <a:tblPr/>
              <a:tblGrid>
                <a:gridCol w="1793880"/>
                <a:gridCol w="1792440"/>
                <a:gridCol w="1792080"/>
                <a:gridCol w="1893960"/>
                <a:gridCol w="169236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6280"/>
            <a:ext cx="380988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rak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484280"/>
          <a:ext cx="8785440" cy="4751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5720"/>
                <a:gridCol w="175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7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na odpisy s technickým zhodnocení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pořídila v roce 2008 budovu v PC 1 300 000,- Kč, v roce 2009 provedla technické zhodnocení za 900 000,- Kč. Odpisová skupina 6, vypočítejte odpisy v prvních 5 letech rovnoměr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koupila v lednu 2008 stroj, PC 700 000,- Kč. V roce 2010 byla provedena modernizace v hodnotě 100 000,- Kč. Odpisová skupina 2, odpisujte zrychle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dov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65360"/>
          <a:ext cx="9144000" cy="40147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6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42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98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54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9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0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o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413000"/>
          <a:ext cx="8748720" cy="4800600"/>
        </p:xfrm>
        <a:graphic>
          <a:graphicData uri="http://schemas.openxmlformats.org/drawingml/2006/table">
            <a:tbl>
              <a:tblPr/>
              <a:tblGrid>
                <a:gridCol w="1749600"/>
                <a:gridCol w="1749240"/>
                <a:gridCol w="1751040"/>
                <a:gridCol w="1749600"/>
                <a:gridCol w="1749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*)ŠTOHL, P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Učebnice účetnictví pro střední školy a veřejnost II. Dí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ojmo 2009. ISBN 978-80-87237-13-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98640" y="609480"/>
            <a:ext cx="53467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1905120"/>
          <a:ext cx="8229600" cy="490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 dlouhodobého majet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, oprávky, zůstatková cena, technické zhodnoc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bcbcb"/>
                </a:solidFill>
                <a:latin typeface="Times New Roman"/>
              </a:rPr>
              <a:t>Odpisy dlouhodobého majetk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5562000"/>
            <a:ext cx="64008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to jsou odpisy a proč majetek odpisuje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275400"/>
            <a:ext cx="6870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ouhodobý majetek se opotřebovává postupně, a proto se jeho hodnota postupně přenáší do nákladů firm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otřebení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Fyzické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opotřebení používá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orál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majetek technicky zaostá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Definujte základní pojm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dpis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právk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Z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peněžní vyjádření opotřebení majetku za určité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rávk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souhrn všech odpisů za dobu užívání majet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ůstatková ce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= pořizovací cena – opráv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97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Jaké znáte druhy odpisů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Druhy odpi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Účetní 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jsou upraveny zákonem 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yto odpisy vyjadřují skutečné opotřebení dlouhodobého majetku v konkrétních podmínká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toda výpočtu odpisu závisí na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21:45Z</dcterms:created>
  <dc:creator>klapuchova</dc:creator>
  <dc:description/>
  <dc:language>en-US</dc:language>
  <cp:lastModifiedBy>Igor</cp:lastModifiedBy>
  <dcterms:modified xsi:type="dcterms:W3CDTF">2014-09-13T15:05:14Z</dcterms:modified>
  <cp:revision>23</cp:revision>
  <dc:subject/>
  <dc:title>Odpisy dlouhodobého majetku</dc:title>
</cp:coreProperties>
</file>