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D42A-D578-4755-A7AB-344F5BC5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4DB54-BCE3-41B4-98E4-136888A9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7A8BC-B5CB-495E-9902-23910CC6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EADBD-19F2-4CED-9506-E58ACD16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6BB8-BDD7-4E52-9B58-55B07FDE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7A7F-3E67-4B72-90D1-50D6EB1B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F4E3-7066-458A-B4A5-2905B364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1499-79D2-48C4-B72E-AA6D5FE4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1E73-7471-4A50-867B-48D6F8DD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C779-D730-400B-A114-F98CBE0C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B7BE-83A0-4C84-83F9-F845A86F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1338-1F1C-44D5-97CB-288B01D5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244C-A6AD-4742-AFAE-F98DBEE2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2865-5E4E-49E7-BE52-3D3DCE49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8C57-A44F-47DF-ADAB-181B7E9E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6BA7-4D26-4C92-AA3B-93A12B11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4ED6-BE1C-4C86-98CE-D231F6A1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84E94-AFFF-4742-8706-23D7B811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C0D13-A1B5-4390-B80D-84589F3E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FBBB-6FC2-4157-9C2A-6F4F51E0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D413-6FF5-491F-A19B-18E47FC5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0E30-6CA2-4BC4-9408-260E7295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034DA-176F-46D1-B870-0E38FA0D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E9501-D8E8-4EAC-8B53-733FDF3F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7A19-19EE-42E5-A52F-63385FEEC4E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1AB4-5C68-484D-9D5A-312BB21A611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420920"/>
                <a:gridCol w="1584360"/>
                <a:gridCol w="2665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1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Rozhodovací pro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0071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Poznání potřeb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potřeby mohou být vyvolány vnitřním prostředím (poruchové stroje, nekvalitní materiál,…) nebo vnějším prostředím (změněné potřeby zákazníků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Specifikace výrobk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u opakovaného nákupu jsou podmínky známé, u nových nákupů je třeba určit požadovanou kvalitu, spolehlivost, cenu, množství,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Poznání dodavatelů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zjišťuje, jaké výrobky a služby a za jakých podmínek na trhu existují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Jaké informace o dodavateli vás musí zajímat a kde je můžete získa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Vyhodnocení a výběr dodavate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– podle zvolených kritérií vybíráme nejvhodnějšího dodavatele a uzavíráme s ním kupní smlouv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Jaká kritéria jsou podle vás rozhodující při výběru dodavate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Vyhodnocení nákup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– zhodnocení spokojenosti s nákup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Typy nákupního chován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Nový náku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nakupuje výrobek poprvé, chce maximum informací, zvažuje rizik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Modifikovaný náku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už jednou nebo vícekrát výrobek koupila, při dalším nákupu už nepotřebuje tolik informací. Zvažuje riziko spojené s vyšší ceno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Přímý náku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už dodavatele zná, nakupuje často, riziko je minimální, nežádá už proto nové inform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Zkuste najít konkrétní případy nového nákupu, modifikovaného nákupu i přímého nákup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1495440"/>
          <a:ext cx="8229600" cy="4948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ázev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vání spotřebitele na trh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 k seznámení studentů s chováním domácností a firem na trhu, s jejich rozhodovacím procesem. Možná diskuze o rozhodovacím procesu při různých nákupech v jejich domácnostech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zhodovací proces, typy nákupního chov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e5e5ff"/>
                </a:solidFill>
                <a:latin typeface="Garamond"/>
              </a:rPr>
              <a:t>Chování spotřebitele na trhu</a:t>
            </a:r>
            <a:r>
              <a:rPr b="1" lang="cs-CZ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5224320"/>
            <a:ext cx="640080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e5e5ff"/>
                </a:solidFill>
                <a:uFillTx/>
                <a:latin typeface="Garamond"/>
              </a:rPr>
              <a:t>Chování individuálních kupujících a domácností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0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Spotřebitel může při rozhodování o koupi vystupovat v 5 rolích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Iniciátor – ten, kdo dává podnět k nákup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vlivňovatel – ten, kdo svými připomínkami, návrhy,… koupi ovlivňu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Rozhodovatel – ten, kdo rozhodne o nákup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Kupující – ten, kdo uskuteční náku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Uživatel, spotřebitel – ten, kdo předmět užív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V jaké roli vystupujete doma Vy při nákupu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a/ potrav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b/ elektroni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e5e5ff"/>
                </a:solidFill>
                <a:latin typeface="Garamond"/>
              </a:rPr>
              <a:t>Rozhodovací proc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0074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Poznání problému</a:t>
            </a:r>
            <a:r>
              <a:rPr b="0" i="1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– člověk si uvědomuje potřebu, která může vycházet z vnitřních nebo vnějších pohnut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Zjišťování informací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kupující může zjišťovat informac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Aktivn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asivn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Zdroje informací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dělovací prostřed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sobní zdro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Jiné zdro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Které zdroje informací jsou pro vás nejdůvěryhodnější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Jaké zdroje informací doma používáte při nákupu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a/ potrav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b/ elektroni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Zhodnocení alternativ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kupující hodnotí informace, které získal a rozhoduje se o druhu a značce výrob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Rozhodnutí o nákup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rozhodnutí  také o tom, kdy a kde výrobek koupí. V této fázi ještě může kupující od svého rozhodnutí o nákupu ustoupi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Vyhodnocení nákup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chování spojené s činnostmi po nákupu, má 2 etapy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upní uspokoje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upní činn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 se chováte v případě, ž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ste s výrobkem spokojen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Nejste s výrobkem spokojen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Typy nákupního chován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1312560"/>
            <a:ext cx="800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Automatické chování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jedná se o častý nákup, kupující výrobek dobře zná, věnuje nákupu méně času a pozornosti, nepotřebuje hledat další informace. Např. potravi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Řešení omezeného problému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jedná se o nákup, kdy zákazník je celkem dobře obeznámen se sortimentem, nezná ale všechny značky, podmínky koupě atd. Nákup provádí občas, např. oblečení, kosmeti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Řešení extenzivního problému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jedná se o nákup neznámého zboží, výrobek je drahý, zákazník potřebuje mnoho informací, čas na rozmyšlení, zhodnocení alternativ a rozhodnutí o nákupu, např. auto, byt, vybavení domácn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e5e5ff"/>
                </a:solidFill>
                <a:uFillTx/>
                <a:latin typeface="Garamond"/>
              </a:rPr>
              <a:t>Chování firem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7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hování firem jako kupujících je složitější než u individuálního kupujícíh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Zkuste najít dův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lavní důvod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o procesu nákupu je zapojeno více oso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ozhodnutí o nákupu trvá delší dob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soby, které o nákupu rozhodují, jsou ovlivňovány různými motivy (racionálními, emocionálním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akupované výrobky jsou často technicky náročné a osoby, které je nakupují, musí mít určité technické a obchodní znal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7:14:57Z</dcterms:created>
  <dc:creator>kabek</dc:creator>
  <dc:description/>
  <dc:language>en-US</dc:language>
  <cp:lastModifiedBy>Igor</cp:lastModifiedBy>
  <dcterms:modified xsi:type="dcterms:W3CDTF">2014-09-13T14:55:23Z</dcterms:modified>
  <cp:revision>17</cp:revision>
  <dc:subject/>
  <dc:title>Chování spotřebitele na trhu</dc:title>
</cp:coreProperties>
</file>