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2FF-01B2-4B92-9222-8B9BFE61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70E-2D6F-4E71-8D07-F6286836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400-3D50-427D-BDAE-D8E4B0B7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22B8-313C-42B5-9784-9FF831EF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A7A2-62EB-41E3-BC8B-0818E8EA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8FB9-2299-4055-AB63-D3914436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D017-107F-42D7-9AC8-E895AE74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9C57-1B2E-4B3F-856D-ACDBDB9B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C191-245B-4193-8C91-550980FE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ABFD-B26C-447A-A3E6-9431A406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7C85-D607-4AE7-8E94-9A6EB0A0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A20-FB0A-405B-8D76-24E69B7A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673C-ACF4-4961-B8C8-BBAA7B4A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44EF-FEA9-4DC9-9172-4647CA79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28D0-8C98-4181-97B5-ADFA76A0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1FED-78D1-49C5-A331-632125BB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9E09-7556-4EA7-856D-45360144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4DE-3C6E-44CC-8AEF-F42157C5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631-BD36-4B06-8C7E-060CF375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368-0492-4776-BF9B-7C60FAB4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764-C1D7-475B-9BC7-2819C3C9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883-069B-4E69-8A40-A5271003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4AF-137F-4C6B-8ED0-AD7332D9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3396-D2C2-4ADB-A0EE-A0B9BB97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3DC9-6016-423D-BC26-EDDC07CC25A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EAAA-469C-4E41-9247-DB091876043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2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eklamní plán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cílů rekla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s informativní fun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s přesvědčovací fun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s připomínací fun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vorbu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stavení rozpočtu zdola – pomocí kalku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stavení rozpočtu shora – určení celkové částky na reklamu, tato částka se pak rozpočítá na jednotlivé projek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vorbu reklamního s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lastnosti sdělen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čel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ůvěryhod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isti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tvorbě reklamního sdělení je třeba správně zvolit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lov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logany by měly být snadno zapamatovatelné),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rmá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harmonogram – kdy bude reklama zveřejň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běr méd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Jaká znáte reklamní méd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Která z nich na vás působí nejvíce a proč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klamní mé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Tele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 z nejmladších, nejsledovanější a vysoce účinné mé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nutné věnovat pozornost typu programu, jeho sledovanosti a struktuře div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je závislá na času vysílání a sledovanosti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Zhodnoťte výhody a nevýhody tele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televize je vizuální médium – vhodné pro demonstraci výrob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působí na zrak i sl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široké pokrytí tr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elká část diváků při reklamě přepíná na jiný program nebo odchází od tele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informační zma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ysoké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ozh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á stanice má svůj okruh posluchačů – proto je důležitá správná volba stanice a doby vysíl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Jaké vidíte výhody a nevýhody rozhlasu jako reklamního méd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relativně nižší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velká sledova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možnost demografického i geografického za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ůsobí jen na sl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Exteriérová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remní štíty, billboardy, poutače, reklamy na dopravních prostředcích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duchý, snadno zapamatovatelný text doplněný atraktivní fotografií, obráz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Jaké jsou výhody a nevýhody jednotlivých exteriérových médi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pohotový nástroj rekla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nízk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vysoká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skytují málo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je obtížné provést segmentaci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ěkteří lidé je zcela odmítají (např. kvůli ekologii, bezpečnosti na silnicích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ov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černobílém provedení, na levnějším novinovém papíře, jsou většinou vydávány den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a reklamy je závislá na popularitě novin, počtu výtisků, na velikosti a umístění reklamy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široký do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neobvyklé velikosti reklamy, barevné pro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lidé čtou noviny rychle a pak je vyha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epřehlednost reklam v případě, že jich je na stránce mno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rší kvalita fotografií a ti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915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aso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 určeny pro volný čas, lidé je čtou pomale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ou mít všeobecné nebo úzce specializované za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lepší tisk i kvalita papíru, barevné pro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mohou být využívány pro distribuci nástrojů podpory prodeje (např. vzor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dobrý image časopisu může působit na image výrob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mezená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šší náklady vzhledem k novin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Vymyslete příklad reklamy, kterou byste otiskli v novinách a příklad reklamy, kterou by bylo vhodné otisknout v časop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ublici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: vytvoření příznivých představ o firmě na veřej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y: - důvěryhodnost, nižší náklady, delší s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stroje publi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sk,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skový mluvč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skové materi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ční z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nzor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troje publicity vytváří tz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orporativní identitu podni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je vytvářena např. firemním logem, nápisy, vizitkami zaměstnanců, firemními uniformami,… Při jejich zhlédnutí jsou vyvolány asociace spojené s firmou. Jde o snahu podniku se jednotně prezentovat na veřej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římý marketing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komunikace se zákazníky zaměřená na prodej zboží a založený na reklam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stroje přímého marketing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odej pošto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uskutečňuje se na základě zaslané nabídky, obsahuje všechny údaje k uskutečnění prodeje, výhodou je přesné zacílení. Forma – obálka s jednoduchým nabídkovým listem, brožurou, katalogem, videokazetou, disketou a s objednáv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elevize a rozhla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vysílání  reklamy s uvedením podmínek pro nákup zboží (nejčastěji potřeby pro domácnost, CD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elemarketing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jde o využívání telefonu. Výhodou je osobní kontakt, možnost zodpovědět otázky, přesvědčování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Nakupovali jste už někdy prostřednictvím přímého marketing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Jaký výrobek to by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41320" y="277920"/>
            <a:ext cx="566136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68360" y="1413000"/>
          <a:ext cx="8229600" cy="5319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ový m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 k seznámení studentů s marketingovou komunikací a nástroji propagace, s reklamou a reklamními médii, publicitou a přímým marketing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unikace, komunikační model, reklama, publicita, přímý marke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pag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Co je to komunik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V čem je podle vás podstata marketingové komunik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omunikace podnik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informování konečných spotřebitelů, odběratelů, veřejnosti,… o existenci podniku a o jeho výrob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stata marketingové komun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řenos sdělení mezi zdrojem a příjemcem. Charakter sdělení závisí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s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íli s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ormě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ákladní model komunikačního proce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1"/>
          <p:cNvGrpSpPr/>
          <p:nvPr/>
        </p:nvGrpSpPr>
        <p:grpSpPr>
          <a:xfrm>
            <a:off x="360360" y="333360"/>
            <a:ext cx="8388360" cy="6524640"/>
            <a:chOff x="360360" y="333360"/>
            <a:chExt cx="8388360" cy="6524640"/>
          </a:xfrm>
        </p:grpSpPr>
        <p:sp>
          <p:nvSpPr>
            <p:cNvPr id="110" name="AutoShape 32"/>
            <p:cNvSpPr/>
            <p:nvPr/>
          </p:nvSpPr>
          <p:spPr>
            <a:xfrm>
              <a:off x="360360" y="333360"/>
              <a:ext cx="8388360" cy="65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3"/>
            <p:cNvSpPr/>
            <p:nvPr/>
          </p:nvSpPr>
          <p:spPr>
            <a:xfrm>
              <a:off x="528120" y="3377880"/>
              <a:ext cx="134208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Zdro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4"/>
            <p:cNvSpPr/>
            <p:nvPr/>
          </p:nvSpPr>
          <p:spPr>
            <a:xfrm>
              <a:off x="7238880" y="3369240"/>
              <a:ext cx="1509840" cy="6415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Příjem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5"/>
            <p:cNvSpPr/>
            <p:nvPr/>
          </p:nvSpPr>
          <p:spPr>
            <a:xfrm>
              <a:off x="863640" y="1855440"/>
              <a:ext cx="134208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Sděle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6"/>
            <p:cNvSpPr/>
            <p:nvPr/>
          </p:nvSpPr>
          <p:spPr>
            <a:xfrm>
              <a:off x="2541240" y="1855440"/>
              <a:ext cx="184536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Zakódová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7"/>
            <p:cNvSpPr/>
            <p:nvPr/>
          </p:nvSpPr>
          <p:spPr>
            <a:xfrm>
              <a:off x="4722120" y="1855440"/>
              <a:ext cx="134208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Pře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8"/>
            <p:cNvSpPr/>
            <p:nvPr/>
          </p:nvSpPr>
          <p:spPr>
            <a:xfrm>
              <a:off x="6399720" y="1855440"/>
              <a:ext cx="184536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Dekódová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39"/>
            <p:cNvSpPr/>
            <p:nvPr/>
          </p:nvSpPr>
          <p:spPr>
            <a:xfrm>
              <a:off x="3883320" y="3377880"/>
              <a:ext cx="1342080" cy="8697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Šum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0"/>
            <p:cNvSpPr/>
            <p:nvPr/>
          </p:nvSpPr>
          <p:spPr>
            <a:xfrm>
              <a:off x="3547800" y="5326560"/>
              <a:ext cx="2180880" cy="859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Zpětná vazb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1"/>
            <p:cNvSpPr/>
            <p:nvPr/>
          </p:nvSpPr>
          <p:spPr>
            <a:xfrm flipV="1">
              <a:off x="1199160" y="2508120"/>
              <a:ext cx="33552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2"/>
            <p:cNvSpPr/>
            <p:nvPr/>
          </p:nvSpPr>
          <p:spPr>
            <a:xfrm>
              <a:off x="2205720" y="2290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3"/>
            <p:cNvSpPr/>
            <p:nvPr/>
          </p:nvSpPr>
          <p:spPr>
            <a:xfrm>
              <a:off x="2205720" y="2073240"/>
              <a:ext cx="335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4"/>
            <p:cNvSpPr/>
            <p:nvPr/>
          </p:nvSpPr>
          <p:spPr>
            <a:xfrm>
              <a:off x="4386600" y="2073240"/>
              <a:ext cx="33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5"/>
            <p:cNvSpPr/>
            <p:nvPr/>
          </p:nvSpPr>
          <p:spPr>
            <a:xfrm>
              <a:off x="6064200" y="2073240"/>
              <a:ext cx="33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6"/>
            <p:cNvSpPr/>
            <p:nvPr/>
          </p:nvSpPr>
          <p:spPr>
            <a:xfrm>
              <a:off x="7238880" y="2508120"/>
              <a:ext cx="67104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7"/>
            <p:cNvSpPr/>
            <p:nvPr/>
          </p:nvSpPr>
          <p:spPr>
            <a:xfrm flipH="1">
              <a:off x="5728680" y="4030560"/>
              <a:ext cx="2180880" cy="17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8"/>
            <p:cNvSpPr/>
            <p:nvPr/>
          </p:nvSpPr>
          <p:spPr>
            <a:xfrm flipH="1" flipV="1">
              <a:off x="1199160" y="4030200"/>
              <a:ext cx="2348640" cy="17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9"/>
            <p:cNvSpPr/>
            <p:nvPr/>
          </p:nvSpPr>
          <p:spPr>
            <a:xfrm flipH="1">
              <a:off x="1870200" y="3813120"/>
              <a:ext cx="201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0"/>
            <p:cNvSpPr/>
            <p:nvPr/>
          </p:nvSpPr>
          <p:spPr>
            <a:xfrm flipH="1" flipV="1">
              <a:off x="1870200" y="2508120"/>
              <a:ext cx="218088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51"/>
            <p:cNvSpPr/>
            <p:nvPr/>
          </p:nvSpPr>
          <p:spPr>
            <a:xfrm flipV="1">
              <a:off x="4218840" y="2508120"/>
              <a:ext cx="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2"/>
            <p:cNvSpPr/>
            <p:nvPr/>
          </p:nvSpPr>
          <p:spPr>
            <a:xfrm flipV="1">
              <a:off x="4889880" y="2508120"/>
              <a:ext cx="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3"/>
            <p:cNvSpPr/>
            <p:nvPr/>
          </p:nvSpPr>
          <p:spPr>
            <a:xfrm flipV="1">
              <a:off x="5057640" y="2508120"/>
              <a:ext cx="150984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4"/>
            <p:cNvSpPr/>
            <p:nvPr/>
          </p:nvSpPr>
          <p:spPr>
            <a:xfrm>
              <a:off x="5225400" y="3813120"/>
              <a:ext cx="201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5"/>
            <p:cNvSpPr/>
            <p:nvPr/>
          </p:nvSpPr>
          <p:spPr>
            <a:xfrm>
              <a:off x="5057640" y="4248000"/>
              <a:ext cx="0" cy="10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6"/>
            <p:cNvSpPr/>
            <p:nvPr/>
          </p:nvSpPr>
          <p:spPr>
            <a:xfrm>
              <a:off x="4554360" y="4248000"/>
              <a:ext cx="0" cy="10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7"/>
            <p:cNvSpPr/>
            <p:nvPr/>
          </p:nvSpPr>
          <p:spPr>
            <a:xfrm>
              <a:off x="4051080" y="4248000"/>
              <a:ext cx="0" cy="10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činnost sdě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Účinné sděl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má vyjadřovat cíle podniku a informace, která je sdělována, by měla mít na příjemce očekávaný efe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99"/>
                </a:solidFill>
                <a:latin typeface="Arial"/>
              </a:rPr>
              <a:t>Jakými způsoby lze zvýšit účinnost sděle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99"/>
                </a:solidFill>
                <a:latin typeface="Arial"/>
              </a:rPr>
              <a:t>Jakými argumenty můžeme působit na příjem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Na příjemce lze působ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racionálními moti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emocionálními moti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morálními moti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Arial"/>
              </a:rPr>
              <a:t>Nástroje propaga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Reklam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lacená forma neosobní, masové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íl: informování spotřebitelů a ovlivnění jejich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rma, která se rozhodne pro reklamu, by měla zpracovat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reklamní plá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0:04:14Z</dcterms:created>
  <dc:creator>kabek</dc:creator>
  <dc:description/>
  <dc:language>en-US</dc:language>
  <cp:lastModifiedBy>Igor</cp:lastModifiedBy>
  <dcterms:modified xsi:type="dcterms:W3CDTF">2014-09-13T15:03:52Z</dcterms:modified>
  <cp:revision>28</cp:revision>
  <dc:subject/>
  <dc:title>Propagace</dc:title>
</cp:coreProperties>
</file>