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C06-192D-40BD-9BC9-310B1204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1BB-F32A-4714-9A99-CBCF62D8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F826-4C84-4B39-9337-5F12671F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8CE-CD7B-4316-BE3E-494D2670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5AA6-F6C9-4748-A506-215EB40E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119D-D0E0-47FC-BA30-49850421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4A11-E8E5-40A3-A823-B17CAACB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1796-B1AF-4381-B860-6E7156BE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78CF-4A5C-4BC6-B6D7-9E4257F2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DE5D-7A2D-4D6F-908B-A3EDFA59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28A4-8A1C-4FB7-9DAC-946A7E04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C51A-2ECE-4096-BD74-42873497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74F4-422E-4191-95E5-3A163B30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4ABC-695C-46D4-93D3-2CFCAB3F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22E4-F0E8-497B-B2AB-2AC2DB6D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8CC2-8B78-46FB-B5FE-589E37E1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48B0-B28B-4D32-9287-73B5E1FB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E35-0623-44B1-918B-74559E33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717-E14B-4602-83C8-A9F17AF4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568-E33A-4924-9466-03BFCD2B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748-05F5-430B-817E-B6AD7880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E78-8FAC-4A1C-A0F2-50BC3A70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7D3-1EA2-4DC9-9816-024586F3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EE9-49C7-42FF-983E-8F7401F7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48A7-9FD4-450D-9AE9-840496DAD3C4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9273-6DDF-4AD0-BDED-C3B2D289C1F1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062000"/>
                <a:gridCol w="180036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 1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Zařaďte do správné položky typového kalkulačního vzorce tyto náklad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Prémie děl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světlení ve výrobních hal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Reklama v televi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Kancelářské potře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dměny pracovníků ve správ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světlení v kanceláří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oba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dměny pracovníků zásob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energie výrobních lin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pomocného materiá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57200" y="190512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e shrnutí a zopakování kalkulací, poukázání na návaznost učiva ekonomiky a marketing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lkulace, kalkulační jednice, typový kalkulační vzor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b2b2b2"/>
                </a:solidFill>
                <a:latin typeface="Arial"/>
              </a:rPr>
              <a:t>Kalkulac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– výsledek kalkulování, rozpočet nákladů na jednici výkon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Kalkulační jedn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např. jeden výrob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Cíle kalkulací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 správnou c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, o kolik můžeme cenu snižovat nebo zvyšovat, aniž bychom měli ztrá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 možné úspory v náklad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K čemu se využívají kalkul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yužití kalkulací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stanovení ceny výrobků a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kontrole hospodaření podn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 porovnání plnění plán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zjištění ziskovosti jednotlivých odděl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Členění kalkulac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le doby sestaven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dběžná – sestavuje se před zahájením výroby, sestavuje se na základě plán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sledná – sestavuje se po dokončení výroby, sestavuje se na základě skutečných nákladů zjištěných v účetnic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le struktu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ůběžná – všechny výkony se započítávají průběžně včetně nedokončené výroby a polotovar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á – polotovary a nedokončená výroba se započítávají zvláš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Metody výpočtu kalkul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lkulace dělení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 poměrovými čí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irážk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ýpočet kalkul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áklady rozdělíme na přímé a nepřím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řím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dají se určit na 1 jednici (ks, kg,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Nepřím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edají se určit na jednici, jsou to tzv. režijní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Uveďte příklady přímých a nepřímých náklad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2b2b2"/>
                </a:solidFill>
                <a:latin typeface="Arial"/>
              </a:rPr>
              <a:t>Typový kalkulační vzorec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Přímý materiál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veškerý materiál, který se stává součástí výrobku, dá se stanovit na jednici. Např.: spotřeba základního materiálu, pomocného materiálu, obalů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Přímé mz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mzdy lidí, kteří přímo souvisí s výrobou, např. mzdy výrobních dělníků, jejich prémie, odměny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Ostatní přímé nákla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souvisí s výrobou a dají se určit na jednici. Např.: spotřeba provozní energie, náklady na opravy a udržování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ýrobn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výrobu, které se nedají určit na jednici. Např.: nájemné, mzdy THP pracovníků ve výrobě, odpisy, cestovné, náklady na osvětlení výrobní haly, daně, pojištění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 položek: 1+2+3+4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lastní náklady výrob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zásobovac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zásobování podniku, např. mzdy zásobovačů, skladníků, nájemné skladů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rávn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řízení a vedení podniku, např. platy THP pracovníků ve správě, nájem kancelářských prostor, telefonní poplatky, kancelářské potřeby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vlastních nákladů výroby + 5+6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lastní náklady výk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odbytová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všechny náklady spojené s odbytem, např. reklama, mzdy a odměny pracovníků v odbytu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vlastní náklady výkonu + 7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úplné vlastní náklady výk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úplné vlastní náklady výkonu + zisk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cen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bez 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5:55:32Z</dcterms:created>
  <dc:creator>Administrator</dc:creator>
  <dc:description/>
  <dc:language>en-US</dc:language>
  <cp:lastModifiedBy>Igor</cp:lastModifiedBy>
  <dcterms:modified xsi:type="dcterms:W3CDTF">2014-09-13T15:01:59Z</dcterms:modified>
  <cp:revision>12</cp:revision>
  <dc:subject/>
  <dc:title>Kalkulace</dc:title>
</cp:coreProperties>
</file>