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5A3C-3573-4019-AA22-5331358C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775F-5182-46BE-8DC4-DE25740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6A37-ED19-4DFE-B9DF-8226C80B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7499-FC54-420F-9FD8-F0669139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0C19-B192-429F-BC40-AF5375C0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58C-E917-4401-8029-F14109C3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5579-6E7F-49EE-A436-A2850BC1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5B86-2081-4C97-B6D3-D0BFAA5D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808D-B7A9-4A87-AE26-F0BB64F2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A3A8-5426-4909-A312-16065DB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257B-01F8-4EF4-AA47-F2EC95F8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25AD-82F6-409C-B639-709B21A5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FDF7-FF1C-4A6B-A60C-D439394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2797-FB87-4F2E-A29A-5652662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838F-F285-4418-A19C-4031A63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345-DAAB-41EC-BEFE-DAAA2E66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3139-F18B-4F12-9868-CEAE98E6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97ED-8C99-4F6D-9C13-F8EB8219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C761-227E-4672-8033-11E5718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C327-CCDA-4BC1-90D3-964C10F9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EAE5-8676-4FF3-A1DE-2A078654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4FC6-0A86-46C6-A05C-5B9BA6A6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5C1E-C798-4053-8676-3EA5EF6B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7EC5-A123-4416-AF36-4A67259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8D4C-9C1D-4A31-AA3D-8D8A7BA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187C-53D1-46D2-97E5-623E50DB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C29B-33B4-4A5B-B8D7-A939E644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1587-C5BA-415E-951F-BF8500CA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E791-01BB-4793-8FBD-A7424A0E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0A6B-A622-4125-930E-65546310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FFA6-B831-4DD9-9655-5D60799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BB33-F93B-4266-BC97-763A4678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6A84-265F-4FE0-8C3D-1913044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51CA-9113-4677-9551-5E8F781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4BFF-DEFC-4F52-AB52-4ACE83F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363F-51A6-47AC-B67A-2ABAFCE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54EC-E50D-4EB5-BAEB-F2A81E0B331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F18-C9EE-4B9E-A0B3-51BC0F7E9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CC23-8392-4357-85F1-678665AC0FC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1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metodu stanovení ceny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ealkoholického ná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Počít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Značkové sportovní obu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rategie u nových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imming price (smetánková cena) – jde o stanovení vysoké ceny, jejím cílem je vytvoření image kvality a ojedinělosti výrobku, po vstupu konkurence na trh se cena snižuje. Zisk je dosahován okamžitě. Uplatňuje se v případě, že výrobek je na trhu jedinečný, kvalitní a zákazník je ochotný ho za vysokou cenu koup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netration price (cena proniknutí) – jde o stanovení nízké ceny, jejím cílem je získat co nejvíce zákazníků a odradit konkurenci. Později se cena zvyšuje. Zisk je dosahován později. Uplatňuje se v případě, že na trhu existují podobné výrobky a zákazník je citlivý na c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sychologický přístup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ťovsk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cena vyvolává dojem vysoké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ístění běžných výrobků mezi výrobky luxus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 některých výrobků za velmi snížené ceny přiláká do obchodu zákazníky, kteří pak nakupují i zboží s vyšší ce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s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iskriminační stanovení ceny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de o stanovení různé ceny pro různé tržní segmenty (ceny jízdného, vstupné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cenovou strategii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Vstupného do 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 příchuti čoko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ho mobilního telef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U zakázky na zavedení nové firemní počítačov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vní příčiny změ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vání konku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pší využití výrobní kapacity, růst objemu výr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tržního pod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oulad mezi nabídkou a popt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st nákladů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ruhy sl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ážka při platbě – při dřívějším proplacení fa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srá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ónní sl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ční srážka – poskytuje se obchodním člán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ej na protiúč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520f0"/>
                </a:solidFill>
                <a:latin typeface="Arial"/>
              </a:rPr>
              <a:t>S jakými sleva se nejčastěji setkáváte při svých nákupe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57200" y="19051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metodami a strategiemi stanovení ceny a s důvody změn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a, metody stanovení ceny, strategie stanovení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8560" y="2349360"/>
            <a:ext cx="734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Marketingový mix - ce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C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991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520f0"/>
                </a:solidFill>
                <a:latin typeface="Arial"/>
              </a:rPr>
              <a:t>Pokuste se definovat co je to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výše peněžní úhrady zaplacená na trhu za prodávaný výrobek nebo poskytovanou 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íle podniku při stanovení ce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alizace z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žní pod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objemu prod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osti inv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ičková kvalita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cíle – udržení dosavadního postavení, získání nových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kladově orientovaná metoda (cena stanovená kalk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= náklady +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: - jasná pravidla pro stanovení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nik má zaručenu určitou míru zisku u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y: - cena neodráží reálnou situaci na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konkur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 stanovuje cenu podle konkurence (nejčastěji nižší než konkurence), používá se, pokud je výrobek podobný konkurenčním výrob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jednoduc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nepřihlíží se ke skutečným nákladům na výro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ůže dojít k cenové vá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ignorování skutečné ceny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usí se brát v úvahu i značka, kvalita, styl, servis,…kterými se výrobek může lišit od konkuren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se z marketingového výzkumu, kterým se zjistí potřeby, přání a představy zákazníka o výrobku i o ceně a podle toho se pak podnik řídí při stanovení c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: - reá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a: - časová a finanční náročnost při provedení výzk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berou se v úvahu náklady na výrobu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poptá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z cenové elasticity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ová elasticita =  % změna poptávaného množství / % změna ceny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á změna ceny vyvolá velkou změnu poptávaného množství, E je men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málo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elká změna ceny vyvolá jen malou změnu poptávaného množství, E je vět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v praxi zajišťuje velký z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kurzní a smluvní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kurz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upující vyhlašuje konkurz a vybírá si firmu, která nejlépe vyhovuje jeho požadav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mluv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dohoda prodávajícího a kupujícího o ceně (např. aukce, prodej nemovitostí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 – velice výhodné pro kupujícího (může si vybír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29:03Z</dcterms:created>
  <dc:creator>kabek</dc:creator>
  <dc:description/>
  <dc:language>en-US</dc:language>
  <cp:lastModifiedBy>Igor</cp:lastModifiedBy>
  <dcterms:modified xsi:type="dcterms:W3CDTF">2014-09-13T15:03:10Z</dcterms:modified>
  <cp:revision>18</cp:revision>
  <dc:subject/>
  <dc:title>Marketingový mix - cena</dc:title>
</cp:coreProperties>
</file>