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1C63-C0AA-4DE0-A9DB-824980D9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154D-7A1E-4CFD-A868-11973E28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46EB-6ADB-4B0D-9836-1260E0B0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F623-A6A9-43A5-A30C-AD5B9EF4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21A0-8986-43C8-AA04-DC417601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8A4A-379C-4B62-8B99-0E3AB2C4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D294-24CC-4BDF-8F8F-9728650F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D2CC-5F1A-4F24-9C55-3830E83C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9518-756D-4022-A4E9-6C2A159F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CC45-F2BB-4383-B4A2-C0E871DE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39C6-E271-4327-BE95-88AD9C2B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2503-B491-4960-BA25-EF6C07B9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1A56-5B11-4852-A9AF-78419B0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CB8C-AD7E-4425-A136-6DA9C7C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718B-F322-46B9-9322-46D2F857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BFA6-BF2B-4953-B9C3-CA8D9858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D4C7-C55E-48F0-9EE6-BB014C3E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5725-DA91-4E14-8F6B-07F94C0C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DAAD-F1F4-403A-9B7F-780F2E94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3622-E6B1-4CB6-A9D0-74B55259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E9A85-F0A6-4CAC-A09E-7FD05293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DA95-A789-4C93-B824-2140D193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8ED8-4E98-422D-B4B3-3749D4BB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FFE5-3007-4035-B444-C8E5528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83CB-0391-4367-BC6C-E64B616EC9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FF52-2F9C-452A-9A4F-E3422BD12B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. 3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sobním prodej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roky v osobním prodeji, personální řízení osobního prode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7239240" cy="19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 u="sng">
                <a:solidFill>
                  <a:srgbClr val="000000"/>
                </a:solidFill>
                <a:uFillTx/>
                <a:latin typeface="Garamond"/>
              </a:rPr>
              <a:t>Osobní prodej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jde o osobní formu komunikace s jedním nebo více zákazníky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cíl: dosažení prodeje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ff"/>
                </a:solidFill>
                <a:latin typeface="Garamond"/>
              </a:rPr>
              <a:t>Jaké funkce  mají osobní prodejci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racovníci, kteří provádějí osobní prodej, mají tyto funkce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vlivňují kupujícího v procesu rozhodování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zprostředkovávají inform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oskytují servis, zajišťují dodání zboží, 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6600ff"/>
                </a:solidFill>
                <a:latin typeface="Garamond"/>
              </a:rPr>
              <a:t>Jaké vlastnosti by měl mít pracovník v osobním prodeji?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ožadavky na pracovníky v osobním prodeji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schopnost vcítění se do myšlení zákazníků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nadšení a důvěra ve výrob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ružnost, schopnost adaptovat se na požadavky zákazníků, komunikační schopnosti, dobrá organizace času,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Kroky v osobním prodeji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ůzkum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prodejce hledá vhodné potenciální zákazníky, na které se pak zaměří. Zdroje informací: dopisy, telefonáty, informace od prodejců, databáze zákazníků,…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a základě průzkumu se prodejce musí rozhodnout, jak zákazníky kontaktovat. Nejčastější postup – úvodní dopis, telefonát, osobní schůz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ezentace 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– prodejce sděluje zákazníkovi potřebné informace o výrobku včetně jeho předvedení. Zdůrazňuje při tom vlastnosti výrobku, které jsou pro zákazníka nejdůležitější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řešení připomínek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odpovědi na otázky zákazní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závěr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dohoda o všech náležitostech kupní smlouv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další 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ezbytný pro plné uspokojení zákazníka, jde o poskytování služeb spojených s užíváním. Tím roste spokojenost zákazníka a roste image firm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Máte nějaké zkušenosti s osobním prodejem? 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U jakých výrobků se s tímto způsobem prodeje můžeme setkat?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aramond"/>
              </a:rPr>
              <a:t>Personální řízení osobního prodeje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Výběr osob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z odpovědí na inzeráty, z Úřadu práce, studenti končící školu,…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kritéria pro výběr: dotazník a životopis, ústní pohovor, písemné testy. Kritéria vychází z požadavků na osobního prodejce (komunikativnost, schopnost organizovat čas, řešit problémy, kreativita,…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Příprava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má splnit tyto úkoly: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firmy a její histor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výrobků firm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konkurenčních výrobků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trh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V přípravě by se měl prodejce naučit zvládnout celý proces osobního prodeje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Motivac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Morál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Finanč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ýhody – služební auto, mobil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Soutěže mezi prodejc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ff"/>
                </a:solidFill>
                <a:latin typeface="Garamond"/>
              </a:rPr>
              <a:t>Pokud byste byli osobní prodejci, jaké motivační faktory by pro Vás byly nejsilnější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yhodnoce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základem jsou prodejní kvóty – ty se stanovují na základě konkrétních podmínek, ve kterých prodejce působ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alší podklady – zprávy ze služebních cest, informace od zákazníků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Prodejci by měli znát kritéria, podle kterých budou hodnoce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7:04:56Z</dcterms:created>
  <dc:creator>Guest</dc:creator>
  <dc:description/>
  <dc:language>en-US</dc:language>
  <cp:lastModifiedBy>Igor</cp:lastModifiedBy>
  <dcterms:modified xsi:type="dcterms:W3CDTF">2014-09-13T15:05:50Z</dcterms:modified>
  <cp:revision>13</cp:revision>
  <dc:subject/>
  <dc:title>Osobní prodej</dc:title>
</cp:coreProperties>
</file>