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4192-0036-43A1-8E57-F60B12B0F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B5A8-7FEE-434B-BA75-3934A2AFE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FA0B-8B8E-4BAD-94BE-0B72CB7E0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342F-C01B-481F-8491-C1149033A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E679D-FC84-45B7-BEE7-3E41A04DE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6516D-CCC4-4E62-93CF-6ED1F08FF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03F70-B749-4525-8515-3BCFB83B9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13AF2-794B-45B1-A983-B00013D16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73C39-1C88-42DB-9D82-1DDEE52FD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96EC0-2BD4-45CF-B545-DD7BA2FD3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9543F-B08B-4333-89F2-33E649393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631C-EE21-40A1-8024-FA7DFC18D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6E041-C246-4909-AAD8-1889376F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F8191-F76B-4D16-BA83-8CEE5408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CF5DD-DA47-447D-86B3-CE2D8B0B6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D37AF-4083-4D44-A739-8FBC9E79D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35C44-EC49-424B-A9D1-2383236C0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2E75-6750-444B-B110-AD4FF322E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16F2-B82C-46B0-804C-F26D109EA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25B2-924E-4B9D-903D-878ECD0B7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AABF-5665-4BC3-898E-5F9E59CE0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39BE-C000-4C1E-9204-EC1BC372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98BE-AF6A-4A35-B936-FD447833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B385-725B-4E80-A8F9-3AA0B15B2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110045"/>
                </a:gs>
                <a:gs pos="100000">
                  <a:srgbClr val="1a00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3e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140052"/>
                </a:gs>
                <a:gs pos="100000">
                  <a:srgbClr val="1a00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5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808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38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110048"/>
                </a:gs>
                <a:gs pos="100000">
                  <a:srgbClr val="1a00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f0f6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2f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34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40055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1717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1a0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10048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12004b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1a0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41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3e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56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32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6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140055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3b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50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4a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1717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9A8E1-5CA5-400D-8E14-89627D47B513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110045"/>
                </a:gs>
                <a:gs pos="100000">
                  <a:srgbClr val="1a00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3e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140052"/>
                </a:gs>
                <a:gs pos="100000">
                  <a:srgbClr val="1a00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5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808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38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110048"/>
                </a:gs>
                <a:gs pos="100000">
                  <a:srgbClr val="1a00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f0f6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2f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34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40055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1717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1a0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10048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12004b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1a0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41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3e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56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32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6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140055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3b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50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4a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1717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E5367-3C6B-46BA-90F8-406D3572137A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Výukový materiál zpracován v rámci projektu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EU peníze školá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Registrační číslo projektu: CZ.1.07/1.5.00/34.020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4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Y_32_INOVACE_21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g. Bohuslava Klapuch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. 3. 20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1741320" y="27792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7" name=""/>
          <p:cNvGraphicFramePr/>
          <p:nvPr/>
        </p:nvGraphicFramePr>
        <p:xfrm>
          <a:off x="468360" y="1413000"/>
          <a:ext cx="7991280" cy="540864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dnikání a podnikové činnost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ingový mi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ing a manage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zentace k seznámení studentů s podporou prodeje a jejími nástroj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8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zorky, cenové stimuly, prémie, kupony, vystavení zboží, soutěže a loterie, dárky, věrnostní prémie, společná reklam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 u="sng">
                <a:solidFill>
                  <a:srgbClr val="ccccff"/>
                </a:solidFill>
                <a:uFillTx/>
                <a:latin typeface="Arial"/>
              </a:rPr>
              <a:t>Podpora prodeje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000" y="2205000"/>
            <a:ext cx="835164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cíl: stimulovat prodej výrobků a služeb prostřednictvím dodatečných podnětů, je zaměřená n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konečné spotřebite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distribuční člán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cccc"/>
                </a:solidFill>
                <a:latin typeface="Arial"/>
              </a:rPr>
              <a:t>Jaké znáte nástroje podpory prodeje u konečných spotřebitel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ccff"/>
                </a:solidFill>
                <a:latin typeface="Arial"/>
              </a:rPr>
              <a:t>Nástroje podpory prodeje spotřebitelům</a:t>
            </a:r>
            <a:endParaRPr b="0" lang="en-US" sz="4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Vzorky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zákazník dostává zdarma, a to prostřednictvím pošty, v časopisech, v obchodech, jako součást jiného výrobku,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Cenové stimuly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cenově výhodná balení, akce 2+1 zdar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Prémie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zvyšují atraktivnost výrobku, např. vkládání drobných hraček do obalu, kupony na obalu, drobný dárek při nákup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68000" y="691920"/>
            <a:ext cx="828036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Kupony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poukázky, které umožňují zákazníkům získat při nákupu určitého zboží výhodu – slevu, dárek,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Vystavení zboží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u pokladen, na konci regálů, upoutání pozornosti zákazníků plakátem, neobvyklým dekorativním předmětem,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Soutěže a loterie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soutěže – zákazníci odpovídají na určitou otázku a při úspěšné odpovědi mohou vyhrát cenu, loterie – slosování s možností výh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Dárky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– reklamní dárky jsou předměty se jménem firmy, které zákazník dostává zdarma (propisky, tašky, trička,…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Věrnostní prémie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forma peněžité nebo nepeněžité odměny, kterou získává stálý zákazní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cccc"/>
                </a:solidFill>
                <a:latin typeface="Arial"/>
              </a:rPr>
              <a:t>S jakými nástroji podpory prodeje jste se setkali a u jakých výrobků to byl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ccff"/>
                </a:solidFill>
                <a:latin typeface="Arial"/>
              </a:rPr>
              <a:t>Nástroje podpory prodeje v distribuční síti </a:t>
            </a:r>
            <a:endParaRPr b="0" lang="en-US" sz="4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Společná reklama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na základě vzájemné dohody poskytne výrobce prostředky a informace k reklamě a právo prodeje jeho výrobků v MO. Maloobchodník odebere výrobky a jejich prodej podporuje. Výrobce maloobchodníkovi část nákladů na reklamu uhradí nebo poskytne funkční slev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Obchodní slevy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obchodníkům, kteří nakoupí větší množství, zboží vystaví na výhodném místě, ap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Veletrhy a výstavy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umožňují výrobky předvést, poskytnout informace, zodpovědět otázky, porovnávat s konkurencí, získat informace o konkurenci,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53964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ŠVARCOVÁ, J. </a:t>
            </a:r>
            <a:r>
              <a:rPr b="0" i="1" lang="cs-CZ" sz="3200" spc="-1" strike="noStrike">
                <a:solidFill>
                  <a:srgbClr val="ffffff"/>
                </a:solidFill>
                <a:latin typeface="Arial"/>
              </a:rPr>
              <a:t>Ekonomie – stručný přehled,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ydání</a:t>
            </a:r>
            <a:r>
              <a:rPr b="0" i="1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o rok</a:t>
            </a:r>
            <a:r>
              <a:rPr b="0" i="1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2012/2013 Zlín : Nakladatelství a vydavatelství Ing. Jena Švarcová, Ph. D., CEED, 2012. ISBN 987-80-87301-16-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VĚTLÍK, J. </a:t>
            </a:r>
            <a:r>
              <a:rPr b="0" i="1" lang="cs-CZ" sz="3200" spc="-1" strike="noStrike">
                <a:solidFill>
                  <a:srgbClr val="ffffff"/>
                </a:solidFill>
                <a:latin typeface="Arial"/>
              </a:rPr>
              <a:t>Marketing – cesta k trhu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, Zlín: EKKA, 1994. ISBN 80-900015-8-0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6:52Z</dcterms:created>
  <dc:creator>Guest</dc:creator>
  <dc:description/>
  <dc:language>en-US</dc:language>
  <cp:lastModifiedBy>Igor</cp:lastModifiedBy>
  <dcterms:modified xsi:type="dcterms:W3CDTF">2014-09-13T15:08:17Z</dcterms:modified>
  <cp:revision>15</cp:revision>
  <dc:subject/>
  <dc:title>Podpora prodeje</dc:title>
</cp:coreProperties>
</file>